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</p:sldIdLst>
  <p:sldSz cx="12193588" cy="6858000"/>
  <p:notesSz cx="672465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78269-B8D5-4AD9-9FAE-8A1295721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4E6A6-AC20-48AE-BE59-A1A752B8E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6ADC2-D757-4FB7-A518-AEACE04B9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AD5B6-500A-4FFF-8FDB-7CEE25354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6282C-A84E-4A69-BCB3-2B53A36BE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E27BE-9BC0-43D3-B954-70939F12A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3D9A0-F0D8-491D-B6CF-D29869258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82128-4390-46F0-906C-F97836481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DDC5E-4878-495E-BFB1-DA34DA96D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24511-14D9-4D15-AD27-8169010E7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287F2-6D6B-4875-ACD8-E10849DCE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B501C-FCC9-4A81-B39A-C2821704A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0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1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48886-CDA8-45FF-9ED5-F6924C16B1E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2" descr=""/>
          <p:cNvPicPr/>
          <p:nvPr/>
        </p:nvPicPr>
        <p:blipFill>
          <a:blip r:embed="rId2"/>
          <a:stretch/>
        </p:blipFill>
        <p:spPr>
          <a:xfrm rot="20700000">
            <a:off x="10217160" y="-601560"/>
            <a:ext cx="2421000" cy="298440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1" descr=""/>
          <p:cNvPicPr/>
          <p:nvPr/>
        </p:nvPicPr>
        <p:blipFill>
          <a:blip r:embed="rId2"/>
          <a:stretch/>
        </p:blipFill>
        <p:spPr>
          <a:xfrm>
            <a:off x="10377360" y="139680"/>
            <a:ext cx="3241800" cy="277344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Picture 2" descr=""/>
          <p:cNvPicPr/>
          <p:nvPr/>
        </p:nvPicPr>
        <p:blipFill>
          <a:blip r:embed="rId2"/>
          <a:stretch/>
        </p:blipFill>
        <p:spPr>
          <a:xfrm>
            <a:off x="10745640" y="-112680"/>
            <a:ext cx="2892600" cy="227952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1" descr=""/>
          <p:cNvPicPr/>
          <p:nvPr/>
        </p:nvPicPr>
        <p:blipFill>
          <a:blip r:embed="rId2"/>
          <a:stretch/>
        </p:blipFill>
        <p:spPr>
          <a:xfrm>
            <a:off x="9968040" y="108000"/>
            <a:ext cx="2695320" cy="215244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Picture 8" descr=""/>
          <p:cNvPicPr/>
          <p:nvPr/>
        </p:nvPicPr>
        <p:blipFill>
          <a:blip r:embed="rId2"/>
          <a:stretch/>
        </p:blipFill>
        <p:spPr>
          <a:xfrm>
            <a:off x="943596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9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8" descr=""/>
          <p:cNvPicPr/>
          <p:nvPr/>
        </p:nvPicPr>
        <p:blipFill>
          <a:blip r:embed="rId2"/>
          <a:stretch/>
        </p:blipFill>
        <p:spPr>
          <a:xfrm>
            <a:off x="943596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9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1" descr=""/>
          <p:cNvPicPr/>
          <p:nvPr/>
        </p:nvPicPr>
        <p:blipFill>
          <a:blip r:embed="rId4"/>
          <a:stretch/>
        </p:blipFill>
        <p:spPr>
          <a:xfrm>
            <a:off x="0" y="2004840"/>
            <a:ext cx="12192120" cy="3483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2"/>
          <p:cNvSpPr/>
          <p:nvPr/>
        </p:nvSpPr>
        <p:spPr>
          <a:xfrm>
            <a:off x="9821880" y="1336680"/>
            <a:ext cx="19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ww.eu-skladi.s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6" descr=""/>
          <p:cNvPicPr/>
          <p:nvPr/>
        </p:nvPicPr>
        <p:blipFill>
          <a:blip r:embed="rId2"/>
          <a:stretch/>
        </p:blipFill>
        <p:spPr>
          <a:xfrm rot="20700000">
            <a:off x="11091960" y="-12600"/>
            <a:ext cx="1787400" cy="28065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1" descr=""/>
          <p:cNvPicPr/>
          <p:nvPr/>
        </p:nvPicPr>
        <p:blipFill>
          <a:blip r:embed="rId2"/>
          <a:stretch/>
        </p:blipFill>
        <p:spPr>
          <a:xfrm>
            <a:off x="10250640" y="54000"/>
            <a:ext cx="3801960" cy="2394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"/>
          <p:cNvPicPr/>
          <p:nvPr/>
        </p:nvPicPr>
        <p:blipFill>
          <a:blip r:embed="rId2"/>
          <a:stretch/>
        </p:blipFill>
        <p:spPr>
          <a:xfrm>
            <a:off x="10007640" y="38160"/>
            <a:ext cx="5675400" cy="28591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1" descr=""/>
          <p:cNvPicPr/>
          <p:nvPr/>
        </p:nvPicPr>
        <p:blipFill>
          <a:blip r:embed="rId2"/>
          <a:stretch/>
        </p:blipFill>
        <p:spPr>
          <a:xfrm rot="20700000">
            <a:off x="10651680" y="47160"/>
            <a:ext cx="2610000" cy="27910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1" descr=""/>
          <p:cNvPicPr/>
          <p:nvPr/>
        </p:nvPicPr>
        <p:blipFill>
          <a:blip r:embed="rId2"/>
          <a:stretch/>
        </p:blipFill>
        <p:spPr>
          <a:xfrm rot="12600000">
            <a:off x="9807120" y="447120"/>
            <a:ext cx="3503880" cy="184932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1" descr=""/>
          <p:cNvPicPr/>
          <p:nvPr/>
        </p:nvPicPr>
        <p:blipFill>
          <a:blip r:embed="rId2"/>
          <a:stretch/>
        </p:blipFill>
        <p:spPr>
          <a:xfrm rot="20700000">
            <a:off x="10433160" y="137880"/>
            <a:ext cx="2741400" cy="246528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1" descr=""/>
          <p:cNvPicPr/>
          <p:nvPr/>
        </p:nvPicPr>
        <p:blipFill>
          <a:blip r:embed="rId2"/>
          <a:stretch/>
        </p:blipFill>
        <p:spPr>
          <a:xfrm>
            <a:off x="10499760" y="-447840"/>
            <a:ext cx="3160800" cy="314676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71320" y="309600"/>
            <a:ext cx="8267400" cy="127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Predhodne pogojenosti</a:t>
            </a:r>
            <a:br>
              <a:rPr sz="3600"/>
            </a:b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Predstavitev stanja izpolnjevanja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837720" y="365040"/>
            <a:ext cx="93092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Kaj je predhodna pogojenost?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763560" y="1517400"/>
            <a:ext cx="10174320" cy="471780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txBody>
          <a:bodyPr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konkreten in natančno vnaprej opredeljen ključni dejavnik, ki je pogoj za uspešno in učinkovito doseganje posebnega cilja naložbene prednostne naloge Unij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je neposredno in resnično povezan z doseganjem tega cilja ter nanj neposredno vpliv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splošni predhodni pogoji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so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povezani s 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</a:rPr>
              <a:t>horizontalnimi vidiki izvajanja programa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in se jih uporablja za vse evropske strukturne in investicijske skla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tematski predhodni pogoji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so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povezani s 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</a:rPr>
              <a:t>tematskimi cilji in prednostnimi naložbami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kohezijske politike ter se jih uporablja v povezavi z naložbami v 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</a:rPr>
              <a:t>specifično tematsko področj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837720" y="365040"/>
            <a:ext cx="93092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Kaj je predhodna pogojenost?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728280" y="2006280"/>
            <a:ext cx="10093320" cy="427356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txBody>
          <a:bodyPr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za Operativni program za izvajanje Evropske kohezijske politike za obdobje 2014-2020 je relevantnih 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7 splošnih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hodnih pogojenosti in 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21 tematskih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hodnih pogojenost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za pogojenosti, ki ob oddaji programskega dokumenta niso bile v celoti izpolnjene, so bili pripravljeni akcijski načrti z jasno opredeljenimi ukrepi in rokom za izpolnitev ter odgovornimi organ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skrajni rok za izpolnitev predhodnih pogojenosti je 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31. 12. 201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837720" y="365040"/>
            <a:ext cx="93092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Splošne pogojenosti - stanje izpolnjevanja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639360" y="1482840"/>
            <a:ext cx="9969480" cy="480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izpolnjene: Boj proti diskriminaciji; Enakost spolov; Invalidnost; Državne pomoč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neizpolnjene: Javno naročanje; Okoljska zakonodaja; Statistični sistem in kazalniki rezultatov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71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70" name=""/>
          <p:cNvGraphicFramePr/>
          <p:nvPr/>
        </p:nvGraphicFramePr>
        <p:xfrm>
          <a:off x="568440" y="3382920"/>
          <a:ext cx="10155240" cy="3044880"/>
        </p:xfrm>
        <a:graphic>
          <a:graphicData uri="http://schemas.openxmlformats.org/drawingml/2006/table">
            <a:tbl>
              <a:tblPr/>
              <a:tblGrid>
                <a:gridCol w="2290680"/>
                <a:gridCol w="4011480"/>
                <a:gridCol w="1944720"/>
                <a:gridCol w="1908360"/>
              </a:tblGrid>
              <a:tr h="70380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lošne pogojenosti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dviden ukre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dgovorni orga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k za izpolnit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</a:tr>
              <a:tr h="119124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avno naročan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aliza praks javnega naročan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gram usposabljanj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iročnik za izvedbo postopkov javnih naroči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VRK, MJ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 3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64260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koljska zakonodaj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zobraževalni program za vsebine s področja okoljske zakonoda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. 6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64260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atistični sistem in kazalniki rezultatov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črt sistema spremljan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oločitev metodologije za 2 kazalnik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VR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 12. 2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837720" y="365040"/>
            <a:ext cx="93092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Tematske pogojenosti – stanje izpolnjevanja 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837720" y="1526760"/>
            <a:ext cx="9682200" cy="470844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txBody>
          <a:bodyPr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izpolnjene: 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Calibri"/>
              </a:rPr>
              <a:t>Ukrepi za spodbujanje soproizvodnje toplote in električne energije z visokim izkoristkom; Dostop do zaposlitve; Pobuda za zaposlovanje mladih; Socialna vključenost; Vseživljenjsko učenje; Poklicno izobraževanj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Calibri"/>
              </a:rPr>
              <a:t>neizpolnjene: Raziskave in inovacije; Infrastruktura za raziskave in inovacije; Digitalna rast; Infrastruktura za omrežja naslednje generacije; Spodbujanje Akta za mala podjetja; Ukrepi za spodbujanje energetske učinkovitosti stavb; Ukrepi za spodbujanje proizvodnje in distribucije obnovljivih virov energije; Preprečevanje in obvladovanje tveganja; Vodni sektor; Promet; Železniški promet; Drugi načini prevoza; Aktivno in zdravo staranje; Zdravje; Institucionalna usposobljenost in učinkovita javna upra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7160" indent="0" algn="just">
              <a:lnSpc>
                <a:spcPct val="115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837720" y="365040"/>
            <a:ext cx="93092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Tematske pogojenosti – stanje izpolnjevanja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630000" y="1472760"/>
            <a:ext cx="10147320" cy="520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sl-SI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75" name=""/>
          <p:cNvGraphicFramePr/>
          <p:nvPr/>
        </p:nvGraphicFramePr>
        <p:xfrm>
          <a:off x="612720" y="1455840"/>
          <a:ext cx="10212480" cy="5259240"/>
        </p:xfrm>
        <a:graphic>
          <a:graphicData uri="http://schemas.openxmlformats.org/drawingml/2006/table">
            <a:tbl>
              <a:tblPr/>
              <a:tblGrid>
                <a:gridCol w="2637000"/>
                <a:gridCol w="3643200"/>
                <a:gridCol w="1951200"/>
                <a:gridCol w="1981080"/>
              </a:tblGrid>
              <a:tr h="6127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atske pogojenost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dviden ukrep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dgovorni orga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k za izpolnitev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</a:tr>
              <a:tr h="4968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ziskave in inovaci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rategija pametne specializacij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VR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 7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9147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frastruktura za raziskave in inovaci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rategija pametne specializaci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vizija Načrta razvoja raziskovalne infrastrukture 2011 - 20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VRK, MIZ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 12. 2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gitalna ra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rategija razvoja informacijske družbe do leta 20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Z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 5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6620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frastruktura za omrežja naslednje generaci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črt razvoja širokopasovnih omrežij naslednje generacije do leta 20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Z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 5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9147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odbujanje Akta za mala podjet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iprava aplikacije MSP tes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iprava pravnih podla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ačetek izvajanja MSP tes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GRT, MJ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. 6. 2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1017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krepi za spodbujanje energetske učinkovitosti stav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rategija za mobilizacijo naložb v obnovo stanovanjskih in poslovnih stavb, javnih in zasebnih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. 6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837720" y="365040"/>
            <a:ext cx="93092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Tematske pogojenosti – stanje izpolnjevanja 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837720" y="1348920"/>
            <a:ext cx="1011708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sl-SI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78" name=""/>
          <p:cNvGraphicFramePr/>
          <p:nvPr/>
        </p:nvGraphicFramePr>
        <p:xfrm>
          <a:off x="736560" y="1349280"/>
          <a:ext cx="10245600" cy="4964040"/>
        </p:xfrm>
        <a:graphic>
          <a:graphicData uri="http://schemas.openxmlformats.org/drawingml/2006/table">
            <a:tbl>
              <a:tblPr/>
              <a:tblGrid>
                <a:gridCol w="2610000"/>
                <a:gridCol w="3693960"/>
                <a:gridCol w="1979640"/>
                <a:gridCol w="1962000"/>
              </a:tblGrid>
              <a:tr h="7016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atske pogojenost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dviden ukrep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dgovorni orga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k za izpolnitev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</a:tr>
              <a:tr h="9147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krepi za spodbujanje proizvodnje in distribucije obnovljivih virov energi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stemska obratovalna navodi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. 6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14634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prečevanje in obvladovanje tvegan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iprava novih in sprememba obstoječih ocen tveganja; celovito nacionalno ocenjevanje tveganja; nacionalne strategije prilagajanja podnebnim sprememb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 12. 2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4460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odni sek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zvedba načrta vrzel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. 12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4348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m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 rowSpan="3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rategija razvoja prome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aliza administrativne usposobljenosti s predlogi ukrepov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 rowSpan="3"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 rowSpan="3"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. 9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. 6. 2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4539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Železniški prom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31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ugi načini prevoz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837720" y="365040"/>
            <a:ext cx="93092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Tematske pogojenosti – stanje izpolnjevanja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811080" y="1523520"/>
            <a:ext cx="958536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sl-SI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81" name=""/>
          <p:cNvGraphicFramePr/>
          <p:nvPr/>
        </p:nvGraphicFramePr>
        <p:xfrm>
          <a:off x="719280" y="1490760"/>
          <a:ext cx="10048680" cy="3498840"/>
        </p:xfrm>
        <a:graphic>
          <a:graphicData uri="http://schemas.openxmlformats.org/drawingml/2006/table">
            <a:tbl>
              <a:tblPr/>
              <a:tblGrid>
                <a:gridCol w="2492280"/>
                <a:gridCol w="3657600"/>
                <a:gridCol w="1971720"/>
                <a:gridCol w="1927080"/>
              </a:tblGrid>
              <a:tr h="449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atske pogojenost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dviden ukre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dgovorni org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k za izpolnitev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</a:tr>
              <a:tr h="1479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ktivno in zdravo staran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aliza stanja starejših delavcev na slovenskem trgu de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dentifikacija področij ukrepan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zvedbeni načrt za uvajanje novih ukrepo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DDS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 12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6458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dravj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solucija o nacionalnem planu zdravstvenega varstv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 7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924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stitucionalna usposobljenost in učinkovita javna uprav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rategija nadaljnjega razvoja slovenske javne uprave 2014 -20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J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. 4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1465200" y="1706040"/>
            <a:ext cx="9428400" cy="2767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r>
              <a:rPr b="1" lang="sl-SI" sz="2900" spc="-1" strike="noStrike">
                <a:solidFill>
                  <a:srgbClr val="0070c0"/>
                </a:solidFill>
                <a:latin typeface="Calibri"/>
              </a:rPr>
              <a:t>Najlepša hvala.</a:t>
            </a:r>
            <a:br>
              <a:rPr sz="2900"/>
            </a:br>
            <a:r>
              <a:rPr b="1" lang="sl-SI" sz="2900" spc="-1" strike="noStrike">
                <a:solidFill>
                  <a:srgbClr val="0070c0"/>
                </a:solidFill>
                <a:latin typeface="Calibri"/>
              </a:rPr>
              <a:t>SVRK</a:t>
            </a:r>
            <a:br>
              <a:rPr sz="2900"/>
            </a:br>
            <a:br>
              <a:rPr sz="2900"/>
            </a:br>
            <a:r>
              <a:rPr b="0" i="1" lang="sl-SI" sz="1400" spc="-1" strike="noStrike">
                <a:solidFill>
                  <a:srgbClr val="7f7f7f"/>
                </a:solidFill>
                <a:latin typeface="Calibri"/>
              </a:rPr>
              <a:t>http://www.svrk.gov.si/si/delovna_podrocja/evropska_kohezijska_politika/ekp_2014_2020/strateski_in_izvedbeni_dokumenti/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05T08:55:18Z</dcterms:created>
  <dc:creator>Anja Kampuš</dc:creator>
  <dc:description/>
  <dc:language>en-US</dc:language>
  <cp:lastModifiedBy>Anja Kampus</cp:lastModifiedBy>
  <cp:lastPrinted>2015-03-10T14:20:03Z</cp:lastPrinted>
  <dcterms:modified xsi:type="dcterms:W3CDTF">2015-03-24T21:47:14Z</dcterms:modified>
  <cp:revision>43</cp:revision>
  <dc:subject/>
  <dc:title>Predhodne pogojenosti</dc:title>
</cp:coreProperties>
</file>