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D32E-B899-461F-B53D-FED269F86750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C062-ECD1-4804-89AE-B2A614794A05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5FE2-94EE-42DF-BB26-DCFB0A2806EB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BFDA-4F3D-4AFA-A4EB-AAF017883259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1502-6BE9-4CBA-9307-C20F99635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0B80-4EFC-46EE-BC75-6631F754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DD9B-96FC-4DD8-947C-43AEAD740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E6A8-755E-41D4-9F87-072185ACD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231E-AE47-4AFA-87FE-7BB281221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9B76-D58B-4D61-A1EF-33193F00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F2B3-DA7E-4BC3-8191-2CA4F30D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D0A0-8F69-4010-B47F-171C0463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F8A5-99C3-4590-998C-7FB97D88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2E36-5F03-4D4B-93E2-0A437955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A70B-4AA0-481A-A7C2-78E04E04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BF12-FB5D-43FE-8025-E216B24D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5604-D2F5-463D-8ADB-21B39F82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DE2B-6442-4758-B4C8-AD727F21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A7B5-D7F8-4359-9101-9CA11D75E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8F6E-717E-419A-8F3F-C6572E3E3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73BC2-8E09-4D05-9F7A-30F87D5E2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0FA0F-BC38-49E7-BBCD-17B07C28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3078C-1358-4E2A-84AF-4A6203D4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EABAD-BB8C-46FA-A305-B0A8338D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DE2FC-0567-44D0-82E7-04498A42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F3C2A-7341-4C49-B864-E74A572C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EF3EE-70B6-4A2F-8486-6BA28443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A6AD2-25EE-43D4-B3FB-CFBD016F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DB2B6-A75D-4079-8D81-912B87EB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E9F1D-50C5-437E-8431-B63678DB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EF78A-1529-414E-B1FE-ECA4CEACE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25D18-B859-4EE8-AD70-D58684290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1A4A-B6D4-4D9E-B148-62484ED9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B356-10EE-4376-9C1F-9AD2D826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4009-B567-4B3F-909D-3E49660D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4278-8AF4-4FEC-ADCF-952AF648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EBFC-9C6A-4D6D-977F-238E997D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2041-7FF9-4AE0-A173-2115FD00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3A8E-41DE-46C6-A6E4-DB56E68F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AE6F-3BC6-4A26-83D3-A2AA241D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4ADE-290B-4BFE-8443-4733E7EC02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495D-49BF-450F-B84E-F9178993E376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BB20-74CA-449E-8FDF-BA5B7C9BF79D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07880" y="121284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Ureditev kohezijske politike v Republiki Sloveniji v programskem obdobju 2014–2020 za cilj "naložbe za rast in delovna mesta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260280" y="201780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če stvari ne tečejo (korekcije, neustrezna dinamika, nedoseganje ciljev…) – brez soglasja posredniškega orga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v okviru evidenčnega projekta v primeru nižje vrednosti od predvide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ržanje izvajanja (sum goljufije, neizvajanje korekcij, terjatev) do 3 mesec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razporejanje in zadržanje izvaj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415440" y="2048040"/>
            <a:ext cx="7409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 še zahtevek za izplačilo iz proračuna (ZZI), ni več zahtevka za povračilo (ZZ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i over-commitment-ov, pač pa v okviru „integrale“ več projektov, ki v celoti sledijo EU pravilom in lahko takoj zamenjajo problematične (naknadna dodelitev kohezijskih sredste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bo določil standardne člene pogodbe o sofinanciranju za posamezne vrste operacij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301680" y="236016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verjanje „prenesenih nalog“ s strani 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bveznost izvajanja ukrepov (finančnih popravkov) v skladu s končnimi priporočili in ugotovitvami OU in nadzornih organov (SI in EU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01320" y="22935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ov informacijski sistem (e-MA), z novimi možnostmi in vzvodi za planiranje in upravljanje (npr. tudi za sledenje predvideni dinamiki preko 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elika povezanost z MFERA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hodna rešitev v letu 2015 (ISARR-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pogoj za uspešno upravljanj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290520" y="20728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kon o izvrševanju proračuna Republike Slovenije (kasneje tudi Zakon o javnih financa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redba o koriščenju sredstev evropske kohezijske politike v Republiki Sloveniji v programskem obdobju 2014–2020 za cilj "naložbe za rast in delovna mesta„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edbeni ak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rije sklopi nove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255600" y="13028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za pripravo Izvedbenega načrta in Predloga k izvedbenemu načrt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finančno upravljanje  in izvajanja evropske kohezijske politike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o izpolnjevanju pogojev za imenovanje posredniškega organ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o upravičenih stroških za sredstva evropske kohezijske politike za programsko obdobj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načrtovanje, spremljanje, poročanje </a:t>
            </a: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in vrednotenje </a:t>
            </a: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izvajanja kohezijske politike v programskem obdobju 2014 – 202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preverjanj po 125. členu Uredbe (EU) št. 1303/2013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tehnične podpore evropske kohezijske politik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informiranje in obveščanje javnosti o kohezijskem in strukturnih skladih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spremljanje izvajanja OP z informacijskim sistemom O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o OU za poročanje in spremljanje nepravilnost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290520" y="214488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erila za izbor operacij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Odbora za spremljanje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pis sistema upravljanja in nadzora – OS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ročnik OU za izvajanje EKP 2014-2020 (konec maj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rug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22200" y="212688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nje  leto programskega obdobja 2007-201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to vzpostavitve sistema za programsko obdobje 2014-2020 (2023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opolnitev sistema v drugi polovici le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ebnost proračuna 2015 – vsa sredstva „nove“ kohezije na proračunskih postavkah SV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Leto 2015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301680" y="1739520"/>
            <a:ext cx="7408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i krog usklajevanja zaključ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a Izvedbenega načrta , ki predstavlja operacionalizacijo OP je v teku, predvidoma bo sprejet v april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a seja Odbora za spremljan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naslednjem tednu predlog nove ureditve (ZIPRS in uredba)  in pričetek drugega kroga usklajevan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IPRS in uredba aprila na vlad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Akreditacija posredniških organov (april-junij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gnation procedure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“, ki ga bo izvedel UNP (junij – oktober), kot pogoj za črpanje sredstev iz Brusl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Kako napre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Hvala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269640" y="18046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mora dejansko upravljati s kohezijskimi sredstv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ožnost prelivanja denarja med resorji, konkurenca med program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Kakovost proje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100% črpanje sredst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enostavitve, zmanjšanje upravnih br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prava sedanjih težav (npr. težave na relaciji ISARR – MFERA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196560" y="19918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oštevati spremembe, ki jih je prinesla nova EU uredba in kar smo že vgradili predvsem v PS (občasno proble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uredbi določiti samo nujne specifike slovenske ureditve, drugače neposredna uporaba EU ured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e ponavljati določb iz drugih a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čim večji meri poenotiti izvajanje proračuna za integralna in kohezijska sredst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„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Use it or lose it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Content Placeholder 2" descr=""/>
          <p:cNvPicPr/>
          <p:nvPr/>
        </p:nvPicPr>
        <p:blipFill>
          <a:blip r:embed="rId1"/>
          <a:stretch/>
        </p:blipFill>
        <p:spPr>
          <a:xfrm>
            <a:off x="1682640" y="2676600"/>
            <a:ext cx="7461360" cy="344952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Cil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Straight Connector 4"/>
          <p:cNvSpPr/>
          <p:nvPr/>
        </p:nvSpPr>
        <p:spPr>
          <a:xfrm>
            <a:off x="971640" y="2060640"/>
            <a:ext cx="0" cy="381636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6"/>
          <p:cNvSpPr/>
          <p:nvPr/>
        </p:nvSpPr>
        <p:spPr>
          <a:xfrm>
            <a:off x="971640" y="5877000"/>
            <a:ext cx="7200720" cy="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8"/>
          <p:cNvSpPr/>
          <p:nvPr/>
        </p:nvSpPr>
        <p:spPr>
          <a:xfrm>
            <a:off x="3564360" y="5970960"/>
            <a:ext cx="23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Arial"/>
              </a:rPr>
              <a:t>programsko obdob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11"/>
          <p:cNvSpPr/>
          <p:nvPr/>
        </p:nvSpPr>
        <p:spPr>
          <a:xfrm>
            <a:off x="1741320" y="1647720"/>
            <a:ext cx="6296040" cy="4219560"/>
          </a:xfrm>
          <a:custGeom>
            <a:avLst/>
            <a:gdLst/>
            <a:ahLst/>
            <a:rect l="l" t="t" r="r" b="b"/>
            <a:pathLst>
              <a:path w="6296047" h="4218920">
                <a:moveTo>
                  <a:pt x="0" y="4218920"/>
                </a:moveTo>
                <a:cubicBezTo>
                  <a:pt x="229507" y="4031141"/>
                  <a:pt x="459015" y="3843363"/>
                  <a:pt x="849086" y="3685520"/>
                </a:cubicBezTo>
                <a:cubicBezTo>
                  <a:pt x="1239158" y="3527677"/>
                  <a:pt x="1868715" y="3380720"/>
                  <a:pt x="2340429" y="3271863"/>
                </a:cubicBezTo>
                <a:cubicBezTo>
                  <a:pt x="2812143" y="3163006"/>
                  <a:pt x="3287486" y="3157563"/>
                  <a:pt x="3679372" y="3032377"/>
                </a:cubicBezTo>
                <a:cubicBezTo>
                  <a:pt x="4071258" y="2907191"/>
                  <a:pt x="4287157" y="2974320"/>
                  <a:pt x="4691743" y="2520749"/>
                </a:cubicBezTo>
                <a:cubicBezTo>
                  <a:pt x="5096329" y="2067178"/>
                  <a:pt x="5842000" y="728235"/>
                  <a:pt x="6106886" y="310949"/>
                </a:cubicBezTo>
                <a:cubicBezTo>
                  <a:pt x="6371772" y="-106337"/>
                  <a:pt x="6281057" y="17034"/>
                  <a:pt x="6281057" y="17034"/>
                </a:cubicBezTo>
                <a:lnTo>
                  <a:pt x="6281057" y="17034"/>
                </a:ln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13"/>
          <p:cNvSpPr/>
          <p:nvPr/>
        </p:nvSpPr>
        <p:spPr>
          <a:xfrm>
            <a:off x="1709640" y="3298680"/>
            <a:ext cx="6443640" cy="2557440"/>
          </a:xfrm>
          <a:custGeom>
            <a:avLst/>
            <a:gdLst/>
            <a:ahLst/>
            <a:rect l="l" t="t" r="r" b="b"/>
            <a:pathLst>
              <a:path w="6444801" h="2557369">
                <a:moveTo>
                  <a:pt x="0" y="2557369"/>
                </a:moveTo>
                <a:cubicBezTo>
                  <a:pt x="93436" y="2352355"/>
                  <a:pt x="186872" y="2147341"/>
                  <a:pt x="391886" y="1860684"/>
                </a:cubicBezTo>
                <a:cubicBezTo>
                  <a:pt x="596900" y="1574027"/>
                  <a:pt x="923472" y="1127712"/>
                  <a:pt x="1230086" y="837426"/>
                </a:cubicBezTo>
                <a:cubicBezTo>
                  <a:pt x="1536700" y="547140"/>
                  <a:pt x="1895929" y="256855"/>
                  <a:pt x="2231572" y="118969"/>
                </a:cubicBezTo>
                <a:cubicBezTo>
                  <a:pt x="2567215" y="-18917"/>
                  <a:pt x="2953657" y="24626"/>
                  <a:pt x="3243943" y="10112"/>
                </a:cubicBezTo>
                <a:cubicBezTo>
                  <a:pt x="3534229" y="-4402"/>
                  <a:pt x="3735615" y="-8030"/>
                  <a:pt x="3973286" y="31884"/>
                </a:cubicBezTo>
                <a:cubicBezTo>
                  <a:pt x="4210957" y="71798"/>
                  <a:pt x="4443186" y="55469"/>
                  <a:pt x="4669972" y="249598"/>
                </a:cubicBezTo>
                <a:cubicBezTo>
                  <a:pt x="4896758" y="443726"/>
                  <a:pt x="5156200" y="873712"/>
                  <a:pt x="5334000" y="1196655"/>
                </a:cubicBezTo>
                <a:cubicBezTo>
                  <a:pt x="5511800" y="1519598"/>
                  <a:pt x="5560786" y="1971355"/>
                  <a:pt x="5736772" y="2187255"/>
                </a:cubicBezTo>
                <a:cubicBezTo>
                  <a:pt x="5912758" y="2403155"/>
                  <a:pt x="6277428" y="2439441"/>
                  <a:pt x="6389914" y="2492055"/>
                </a:cubicBezTo>
                <a:cubicBezTo>
                  <a:pt x="6502400" y="2544669"/>
                  <a:pt x="6406243" y="2497498"/>
                  <a:pt x="6411686" y="2502941"/>
                </a:cubicBezTo>
                <a:cubicBezTo>
                  <a:pt x="6417129" y="2508384"/>
                  <a:pt x="6419850" y="2516548"/>
                  <a:pt x="6422572" y="2524712"/>
                </a:cubicBezTo>
              </a:path>
            </a:pathLst>
          </a:cu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"/>
          <p:cNvSpPr/>
          <p:nvPr/>
        </p:nvSpPr>
        <p:spPr>
          <a:xfrm>
            <a:off x="6688080" y="17668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07-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9"/>
          <p:cNvSpPr/>
          <p:nvPr/>
        </p:nvSpPr>
        <p:spPr>
          <a:xfrm>
            <a:off x="2556000" y="32986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14-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186840" y="184428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upravljanja (SVR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za potrjevanje (MF-Sektor za upravljanje s sredstvi EU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vizijski organ (UN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redniški organi (ministrstva – skoraj vsa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ajalski organi (pravna oseba javnega ali zasebnega prav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ravičenec (izvajalec, organ ali podjetje, javno ali zasebno) – pri FI organ, ki izvaja F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207720" y="18252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bor za spremljanje (nadzorni odb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Strokovne skupi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i 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2080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En načrt izvajanja, ki je sprejet pred proračunsko razprav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snova za razporeditev sredstev na finančne načr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i ga OU na osnovi predlogov posredniških organ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soja predlogov s strani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va dela načrt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ndikativni prikaz operacij za celotno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drobnejši prikaz za dve leti, kjer je potrebno pa tudi za daljše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31920" y="2019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dno noveliranje dokumen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2015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arec-apri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julij-septemb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dhodna seznanitev vseh deležnik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228600" y="2060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resoja vlog večjih vrednosti tudi s strani neodvisnih strokovnjakov (</a:t>
            </a:r>
            <a:r>
              <a:rPr b="0" i="1" lang="sl-SI" sz="2800" spc="-1" strike="noStrike">
                <a:solidFill>
                  <a:srgbClr val="000000"/>
                </a:solidFill>
                <a:latin typeface="Calibri"/>
              </a:rPr>
              <a:t>oziroma delovne skupine vlade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odelitev sredstev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Andrej</cp:lastModifiedBy>
  <dcterms:modified xsi:type="dcterms:W3CDTF">2015-03-24T20:17:56Z</dcterms:modified>
  <cp:revision>21</cp:revision>
  <dc:subject/>
  <dc:title>PowerPoint Presentation</dc:title>
</cp:coreProperties>
</file>