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23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5D66-C8AC-4A77-988F-D688A5910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0F72-E532-4143-A796-D593A4270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AD74-B93D-4841-B1BE-5F75225D2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4767-BAF4-4A4F-AA6B-0F34945EC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B42C2-BF0D-4B98-8475-90D6BB1CC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3896C-DBEE-4641-AB3F-C974EB3B1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5B2AD-D7E2-4011-9FF3-806451D94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F2268-80A7-40CD-A833-30AFA78DD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09EC5-73E6-449C-9F8D-10FF88D51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0DE89-8B39-45ED-AB95-764301243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F4281-27CA-4C11-9103-71120564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B426-B74A-4A5B-A1DF-266A9A2E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B795A-C16C-430F-8028-0836817A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E80BD-A46C-49F0-ABBB-286CFA98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D9F88-AFFC-4994-9F88-227E7A459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1C97E-8201-4C3B-A026-1708E135F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6990B-6B78-4A1B-A727-5E15EA3CD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BCA76-1711-45AA-A39A-A8D0BAECA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A362D-26F6-4DF8-B1AA-FA00989F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50D20-0948-4F61-A175-46ECDA8C8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DF5A2-0DEC-429A-91B3-9C84041E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A8B1F-7CF2-450F-92F1-F21314320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0553-81CA-4922-8B9B-4F634FDDF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AF13E-5E32-486F-9653-A19C0ACD8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74D16-D383-4018-B184-8FB607EC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07FE5-7F8E-4D67-A676-70E97F36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A5B7E-34AD-43CA-BCAB-1837B4B2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F8BCC-9454-4271-8CF9-E52FE2D4C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EC720-DE53-42E0-B71B-B3454D0C3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86A9A-85E4-498E-8D0E-A023E44B7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0E060-CE80-451D-B59D-F73F5F9E9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59868-4C01-4CE9-8D56-61D412D64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F8007-CC54-49BE-8C9E-AA96D7934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1601-D425-4D7E-8892-F1982A61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C616D-5D11-4126-ACA6-78E47A898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51EEF-A4D8-4DD3-89F5-A564FAAD6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32F42-45E3-49A4-8319-8382654CF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5330F-77E9-42C4-A578-0C454C59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39488-FC7D-462E-AF53-68B2308B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A40F9-23DB-4FFF-8DAC-CB9FCA70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DEF0F-2135-4824-98BF-3BAF8D95D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45C6B-881F-45FB-8861-5F63D725F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508B4-3F52-4CC0-AA59-441A9B7FC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AB538-DC9A-4522-A227-86878DF4D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33EB-0CDE-44F9-BCE5-EA7EE096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9EB4C-938F-4837-A611-13A36B675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E39D0-636C-4BF0-A1C2-69D7CF2B5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E9E07-E6F1-42DA-A63F-DFB6E5E0A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C1372-ED70-47E7-AFE2-47120406D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73CD5-8BD8-46CD-B60F-BE5B43483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F2F3F-C024-449C-BC2A-2F02A873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DAB48-949A-4A63-A375-57648523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D6847-EEE3-449C-83B2-DB9D4B6D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E606E-1C1D-4D14-BBD8-EBFE6CFD6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CB807-FC2B-4096-A2EF-52F16B3DC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CF65-2150-4815-B14E-99E519EAF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E0BA3-FE0B-4D0E-9A75-55DE3C6D9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3B7987-3228-4213-BAAA-78A0A1F76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F5663-09DD-46E3-9D78-F3CB325CA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DD747-3843-4439-A4DC-8DD65C4F7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690202-05AB-4083-BB86-1BB6C413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2B962-D14A-42C8-BB99-97C926172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606BB2-D4B0-4275-BE50-24F702441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9AA0D-2100-4245-9760-65F7CFE2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42A81-2FE1-4890-B893-67CDA3E0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6538F-0797-45BE-8DB8-F4AC5AF9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F583-5400-492A-A0F8-44722942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C54D1-A44A-4B06-ADF4-437330F9E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AD6CC-FAFF-472D-99FD-15C8921AD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C40CB-0073-41FE-8BFB-EE4BB60B2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AB75-3CA6-43B1-A485-D445AB7C0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B692-B41F-4747-A020-88247371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71640" y="6356520"/>
            <a:ext cx="1582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4D4AC1-0F18-4497-9001-ACE4B22365FF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2A7D23-3A50-46CB-99E0-FF3C317AA4FC}" type="slidenum"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85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1007640" y="6356520"/>
            <a:ext cx="194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DB4F33-BBCD-493F-A9FE-0847E1A19AF2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28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E3EF46-9926-495A-96AB-E5C9B17D0D16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71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13F10A-706C-4648-9698-5EFC60F09654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14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67ADDE-24B0-4C9A-8CF5-139941CC56F0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.danube-region.eu/" TargetMode="External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andreja.jerina@gov.si" TargetMode="External"/><Relationship Id="rId2" Type="http://schemas.openxmlformats.org/officeDocument/2006/relationships/hyperlink" Target="mailto:andreja.jerina@gov.si" TargetMode="External"/><Relationship Id="rId3" Type="http://schemas.openxmlformats.org/officeDocument/2006/relationships/hyperlink" Target="mailto:andreja.jerina@gov.si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257480"/>
            <a:ext cx="7772400" cy="16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MAKROREGIONALNE STRATEGIJE V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4492440"/>
            <a:ext cx="6400800" cy="114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Mag. Andreja Je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Nacionalna koordinator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EU makroregionalne strategi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zz.gov.si/si/evropske_politike/makroregionalne_strategije_evropske_uni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0823"/>
          <p:cNvPicPr/>
          <p:nvPr/>
        </p:nvPicPr>
        <p:blipFill>
          <a:blip r:embed="rId1"/>
          <a:stretch/>
        </p:blipFill>
        <p:spPr>
          <a:xfrm>
            <a:off x="0" y="0"/>
            <a:ext cx="2593800" cy="903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"/>
          <p:cNvPicPr/>
          <p:nvPr/>
        </p:nvPicPr>
        <p:blipFill>
          <a:blip r:embed="rId2"/>
          <a:stretch/>
        </p:blipFill>
        <p:spPr>
          <a:xfrm>
            <a:off x="1190520" y="2971800"/>
            <a:ext cx="1702080" cy="855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"/>
          <p:cNvPicPr/>
          <p:nvPr/>
        </p:nvPicPr>
        <p:blipFill>
          <a:blip r:embed="rId3"/>
          <a:stretch/>
        </p:blipFill>
        <p:spPr>
          <a:xfrm>
            <a:off x="3487680" y="2919240"/>
            <a:ext cx="2317680" cy="895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"/>
          <p:cNvPicPr/>
          <p:nvPr/>
        </p:nvPicPr>
        <p:blipFill>
          <a:blip r:embed="rId4"/>
          <a:stretch/>
        </p:blipFill>
        <p:spPr>
          <a:xfrm>
            <a:off x="6321600" y="3006720"/>
            <a:ext cx="151596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2646360"/>
            <a:ext cx="4038480" cy="34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dra r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vezovanje regije – transport in energ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00b050"/>
                </a:solidFill>
                <a:latin typeface="Arial"/>
              </a:rPr>
              <a:t>okolj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ff0000"/>
                </a:solidFill>
                <a:latin typeface="Arial"/>
              </a:rPr>
              <a:t>M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rajnostni turiz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48320" y="1284120"/>
            <a:ext cx="403848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trategija temelji na 4 stebr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5" descr="http://www.adriatic-ionian.eu/images-x/EUSAIRpillars.jpg"/>
          <p:cNvPicPr/>
          <p:nvPr/>
        </p:nvPicPr>
        <p:blipFill>
          <a:blip r:embed="rId1"/>
          <a:stretch/>
        </p:blipFill>
        <p:spPr>
          <a:xfrm>
            <a:off x="4818240" y="2558880"/>
            <a:ext cx="38509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http://www.alpine-region.eu/grafica/schema-pillars2en.jpg"/>
          <p:cNvPicPr/>
          <p:nvPr/>
        </p:nvPicPr>
        <p:blipFill>
          <a:blip r:embed="rId1"/>
          <a:stretch/>
        </p:blipFill>
        <p:spPr>
          <a:xfrm>
            <a:off x="210960" y="2355840"/>
            <a:ext cx="3986280" cy="421308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LP v nastajanj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044600" y="1600200"/>
            <a:ext cx="481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Avstrija, Italija, Francija, Švica, Nemčija, Slovenija, Lihtenštaj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Časovnic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EK pripravila osnutek EUSAL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avna razprava do oktobra 2014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arec 2015 - Akcijski nač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ulij 2015 - EK Strategijo in AN posreduje ES in E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ktober 2015  - Evropski svet potrdi EUSAP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inistrska konferenca ob zago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98080" y="1960200"/>
            <a:ext cx="2693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3 STEB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Content Placeholder 3"/>
          <p:cNvSpPr/>
          <p:nvPr/>
        </p:nvSpPr>
        <p:spPr>
          <a:xfrm>
            <a:off x="-434880" y="2355840"/>
            <a:ext cx="4479840" cy="42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9560" y="3824280"/>
            <a:ext cx="683928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KAJ PRINAŠAJO MRS DELEŽNIK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17560" y="4519440"/>
            <a:ext cx="7640640" cy="20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VID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Kot znak delovanja skladno z nacionalnimi interesi v regij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rcRect l="5741" t="0" r="5741" b="0"/>
          <a:stretch/>
        </p:blipFill>
        <p:spPr>
          <a:xfrm>
            <a:off x="307800" y="103320"/>
            <a:ext cx="4243680" cy="27543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http://www.danube-region.eu/attachments/article/616492/Logo-00_general_small.jpg"/>
          <p:cNvPicPr/>
          <p:nvPr/>
        </p:nvPicPr>
        <p:blipFill>
          <a:blip r:embed="rId2"/>
          <a:stretch/>
        </p:blipFill>
        <p:spPr>
          <a:xfrm>
            <a:off x="3784680" y="496800"/>
            <a:ext cx="3494160" cy="1436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"/>
          <p:cNvPicPr/>
          <p:nvPr/>
        </p:nvPicPr>
        <p:blipFill>
          <a:blip r:embed="rId3"/>
          <a:stretch/>
        </p:blipFill>
        <p:spPr>
          <a:xfrm>
            <a:off x="4572000" y="2147760"/>
            <a:ext cx="27068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7" descr=""/>
          <p:cNvPicPr/>
          <p:nvPr/>
        </p:nvPicPr>
        <p:blipFill>
          <a:blip r:embed="rId1"/>
          <a:stretch/>
        </p:blipFill>
        <p:spPr>
          <a:xfrm>
            <a:off x="0" y="2454120"/>
            <a:ext cx="2538360" cy="143208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0000"/>
                </a:solidFill>
                <a:latin typeface="Arial"/>
              </a:rPr>
              <a:t>Vidnost za lažji dostop do poslovnih priložnosti in vir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8" descr="The EU Strategy for the Danube Reg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1040" y="1417680"/>
            <a:ext cx="1605240" cy="907920"/>
          </a:xfrm>
          <a:prstGeom prst="rect">
            <a:avLst/>
          </a:prstGeom>
          <a:ln w="0">
            <a:noFill/>
          </a:ln>
        </p:spPr>
      </p:pic>
      <p:pic>
        <p:nvPicPr>
          <p:cNvPr id="310" name="Content Placeholder 5" descr=""/>
          <p:cNvPicPr/>
          <p:nvPr/>
        </p:nvPicPr>
        <p:blipFill>
          <a:blip r:embed="rId4"/>
          <a:stretch/>
        </p:blipFill>
        <p:spPr>
          <a:xfrm>
            <a:off x="2163600" y="1450800"/>
            <a:ext cx="5200920" cy="5053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ttp://www.alpine-region.eu/grafica/logo.jpg"/>
          <p:cNvPicPr/>
          <p:nvPr/>
        </p:nvPicPr>
        <p:blipFill>
          <a:blip r:embed="rId5"/>
          <a:stretch/>
        </p:blipFill>
        <p:spPr>
          <a:xfrm>
            <a:off x="196920" y="3983040"/>
            <a:ext cx="1635120" cy="13539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C:\Users\a1603\AppData\Local\Microsoft\Windows\Temporary Internet Files\Content.IE5\IDLEEK12\splash_home_recycling[1].gif"/>
          <p:cNvPicPr/>
          <p:nvPr/>
        </p:nvPicPr>
        <p:blipFill>
          <a:blip r:embed="rId6"/>
          <a:stretch/>
        </p:blipFill>
        <p:spPr>
          <a:xfrm>
            <a:off x="6373800" y="2225520"/>
            <a:ext cx="277668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0000"/>
                </a:solidFill>
                <a:latin typeface="Arial"/>
              </a:rPr>
              <a:t>Horizontalna načela za izbor projektov/program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Kjer je to relevantno bodo morali projekti/programi upoštevati tud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odano vrednost v okviru EU makroregionalnih poveza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Iz sredstev tehnične pomoči se bodo financirali tudi drugi stroški, nastali na osnovi »ad hoc« potreb v času izvajanja programskega obdobja 2014-2020. V ta sklop sodijo tudi aktivnosti povezane z izvajanjem EU makroregionalnih strategij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HVALA ZA POZOR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2160" y="923400"/>
            <a:ext cx="7772400" cy="348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EČ 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zz.gov.si/si/evropske_politike/makroregionalne_strategije_evropske_unij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ndreja.jerina@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www.mzz.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SI in makror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/>
          <p:cNvPicPr/>
          <p:nvPr/>
        </p:nvPicPr>
        <p:blipFill>
          <a:blip r:embed="rId2"/>
          <a:stretch/>
        </p:blipFill>
        <p:spPr>
          <a:xfrm>
            <a:off x="419040" y="1600200"/>
            <a:ext cx="4076640" cy="4402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"/>
          <p:cNvPicPr/>
          <p:nvPr/>
        </p:nvPicPr>
        <p:blipFill>
          <a:blip r:embed="rId3"/>
          <a:stretch/>
        </p:blipFill>
        <p:spPr>
          <a:xfrm>
            <a:off x="4832280" y="1600200"/>
            <a:ext cx="403884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4832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Orodje EU integracije (kohezija, širitev, sosedstv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Makroregionalna raven omogoča prilagojeno uporabo EU politik (EU2020) za specifično področ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ove oblike teritorialnega sodelovanja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2007-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Osnovna ideja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: učinkovito in uspešno soočanje z izzivi, ki so skupni čezmejnim območj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C:\Users\a1603\AppData\Local\Microsoft\Windows\Temporary Internet Files\Content.IE5\IDLEEK12\splash_home_recycling[1].gif"/>
          <p:cNvPicPr/>
          <p:nvPr/>
        </p:nvPicPr>
        <p:blipFill>
          <a:blip r:embed="rId1"/>
          <a:stretch/>
        </p:blipFill>
        <p:spPr>
          <a:xfrm>
            <a:off x="768240" y="2268360"/>
            <a:ext cx="3346560" cy="32594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648320" y="2084040"/>
            <a:ext cx="403848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Načelo 3 x NE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amesto novih sredstev, struktur in zakonodaje uporabiti obstoječe vire, institucije, koordinirano upravljanje in sinergi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Dva ključna izziva za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DODANA VRED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istop spodbuja udeležence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eseganju nacionalnih meja in premostitvi ovir, ki jim preprečujejo, da bi bolj strateško in ustvarjalno razmišljali o priložnostih, ki se ponujajo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OROČILO EK o dodani vrednosti makroregionalnih strateg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{SWD(2013) 233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final; junij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UPRAVL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revzem lastništva MRS s strani drž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Minimalni pogoj: stabilna nacionalna koordinacija in okrepljeno sodelovanje nacionalnih koordinatorjev in vsebinskih strokovnjakov v usmerjevalnih odbor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odpora izvajanju tudi skozi transnacionalne prog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OČIL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upravljanju makroregionalnih strategi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(2014) 284 final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; maj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C:\Users\a1603\AppData\Local\Microsoft\Windows\Temporary Internet Files\Content.IE5\DO2XG1SJ\windowslivewriterdisillusionedwiththedefinitionofecm-a045thinking32[1].jpg"/>
          <p:cNvPicPr/>
          <p:nvPr/>
        </p:nvPicPr>
        <p:blipFill>
          <a:blip r:embed="rId1"/>
          <a:stretch/>
        </p:blipFill>
        <p:spPr>
          <a:xfrm>
            <a:off x="1055520" y="4754520"/>
            <a:ext cx="2025720" cy="13716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C:\Users\a1603\AppData\Local\Microsoft\Windows\Temporary Internet Files\Content.IE5\N6ZWPFLJ\red-no-signal[1].jpg"/>
          <p:cNvPicPr/>
          <p:nvPr/>
        </p:nvPicPr>
        <p:blipFill>
          <a:blip r:embed="rId2"/>
          <a:stretch/>
        </p:blipFill>
        <p:spPr>
          <a:xfrm>
            <a:off x="7064280" y="981000"/>
            <a:ext cx="1155960" cy="113508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Za kaj pri MRS g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sklajenost nacionalnih interesov med državami regi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veljavljanje nacionalnih priori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d zgoraj navzd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4616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a platforma mehke koordin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 program sodelovanja z lastno strukturo, upravičenimi aktivnostmi, vi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C:\Users\a1603\AppData\Local\Microsoft\Windows\Temporary Internet Files\Content.IE5\0M1AWZJA\Yes_check.svg[1].png"/>
          <p:cNvPicPr/>
          <p:nvPr/>
        </p:nvPicPr>
        <p:blipFill>
          <a:blip r:embed="rId3"/>
          <a:stretch/>
        </p:blipFill>
        <p:spPr>
          <a:xfrm>
            <a:off x="1617840" y="1058760"/>
            <a:ext cx="108108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-217440" y="-90360"/>
            <a:ext cx="9361440" cy="69483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ODONAV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14 držav; 9 EU, 3 kandidatke, 2 sosed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Preko 100 mio prebivalce; 1/5 prebivalcev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kupni izzivi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Razvojni razkorak (S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D, AT 2x večji BDP od regionalnega povprečja, RO, BG 80%, kandidatke 50%, sosedstvo 40% povpreč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ad privlačnosti za investir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rast administrativnih bremen in poslabšanje pogojev poslo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kupne priložnost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Reka kot transportna in trgovska ž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ravljanje z vodami vključno s tveganji – pop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rivlačnost naravne in kulturne dedišč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činkovita raba vir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D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06240" y="2181240"/>
            <a:ext cx="3344760" cy="39304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4308480" y="1599840"/>
            <a:ext cx="437832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odelovanje v okviru 11 prioritetnih področij, združenih v 4 vsebinske steb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vezovanje Podonavj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Varovanje okolja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Zagotavljanje blaginje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repitev Podonav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I koordinira prednostna področ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b – kopenski in zračni promet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MZ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s Srb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0 – administrativna krepitev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CEF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z Avstr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ff0000"/>
                </a:solidFill>
                <a:latin typeface="Arial"/>
              </a:rPr>
              <a:t>NACIONALNI INTERE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184320" y="1600200"/>
            <a:ext cx="3771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6" descr="http://www.adriatic-ionian.eu/images-x/AdriaticIonianRegion.jpg"/>
          <p:cNvPicPr/>
          <p:nvPr/>
        </p:nvPicPr>
        <p:blipFill>
          <a:blip r:embed="rId1"/>
          <a:stretch/>
        </p:blipFill>
        <p:spPr>
          <a:xfrm>
            <a:off x="0" y="61920"/>
            <a:ext cx="9144000" cy="75610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JADRANSKO JON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8 držav; 4 DČ, 4 DN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Italija, Slovenija, Hrvaška, BiH, Črna gora, Albanija, Srbija in Grč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sprejeta na Evropskem svetu oktobra 201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novembra 2014 – ministrska konferenca ob zagonu izvajanj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prejeta pravila več-nivojskega upravljan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rečanje deležnikov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srednji fokus strategije sta morje ter obala z zaledj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0000"/>
                </a:solidFill>
                <a:latin typeface="Arial"/>
              </a:rPr>
              <a:t>Slovenija skupaj z BiH prevzela vodenje okoljskega stebra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za obdobje treh let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5.3. 2015 prvi sestanek okoljskega stebra v Piran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3T12:03:27Z</dcterms:created>
  <dc:creator>Andreja Jerina</dc:creator>
  <dc:description/>
  <dc:language>en-US</dc:language>
  <cp:lastModifiedBy>Andreja Jerina</cp:lastModifiedBy>
  <cp:lastPrinted>2015-03-11T12:51:39Z</cp:lastPrinted>
  <dcterms:modified xsi:type="dcterms:W3CDTF">2015-03-11T12:51:55Z</dcterms:modified>
  <cp:revision>27</cp:revision>
  <dc:subject/>
  <dc:title>MAKROREGIONALNE STRATEGIJE V EU</dc:title>
</cp:coreProperties>
</file>