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C385-9C04-4C6C-9B8E-201030F5C653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AA86-B10F-447F-8201-CB21489D7009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4C99-B25A-4908-9B30-093DF1F772BD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1ABD-50DF-4844-9729-988A31D38DF2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FD30-8A38-48B5-9D42-FE16EA15D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AAD9-05C1-43A0-B237-05D57311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EF45-DF90-4DE9-9010-4CA1E53BC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EB30-AF78-4580-9462-20C786F3E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E8B7-C122-4881-B717-FF60AAA9B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6737-0FBD-4C6F-98F9-C8DDDEB8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6D60-DE78-43EA-8DEA-7E18A881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E4F8-4537-4375-AFC3-4B7CA676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E21C-FB06-4671-A63E-21435544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ADCB-7EF0-420C-AF21-C7BA66E2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2741-C537-4BEF-91FB-D6F323C0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5FB3-2420-42E2-82EA-8A843B50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F439-FF1D-4B91-B3D9-9836242E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412E-8EC5-4CE6-AB5A-8FA5C25D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9CCF-0773-407E-A643-A6222D4FE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8DCC-EA2F-4445-941A-4E74C6ECB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A5AD3-BAAA-43E0-A0CB-CB8FBD4F4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9B64C-6A09-4142-BA7F-A384FBC2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7CFD6-3C2F-4CB9-AF31-34B9B72E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93BE5-8974-441C-8D07-3F3E8348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CFF9B-5762-47D5-9739-97AB4330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E504F-F005-4FB3-A44E-EEDA3ABB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1673A-F922-44A7-9952-0E6D6B9C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18336-D51D-4959-BC01-8F3D1783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2A79D-B25E-49C8-BFB0-F58FA165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01125-03DC-4F00-A4BA-6A41C5D5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E68F7-DDA4-433B-B8BD-ACD98E042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0900C-BB84-4B5E-8281-5872F756D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0A54-B899-4F84-A809-AB552EE9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7BFF-7906-4A1A-A5B1-B8FFB216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5DF5-E376-4CD6-ACA8-63A6F5D9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41CB-847A-4B9A-86DE-2C1194FF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A715-958D-462E-BD3F-5C4369CE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791F-48AF-4C39-9B2E-6FDFD225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1095-CA22-49BD-8E18-38C65BDE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7D48-7F59-4F83-B9B4-232F5295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23DD-F97F-49B5-868C-5E5E0564BD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40CC-A590-4A9B-BB27-66E8074674CC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22F8-AE4F-403D-A3BF-44B9BE00EC5C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07880" y="121284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Ureditev kohezijske politike v Republiki Sloveniji v programskem obdobju 2014–2020 za cilj "naložbe za rast in delovna mesta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260280" y="201780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če stvari ne tečejo (korekcije, neustrezna dinamika, nedoseganje ciljev…) – brez soglasja posredniškega orga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v okviru evidenčnega projekta v primeru nižje vrednosti od predvide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ržanje izvajanja (sum goljufije, neizvajanje korekcij, terjatev) do 3 mesec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razporejanje in zadržanje izvaj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415440" y="2048040"/>
            <a:ext cx="7409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 še zahtevek za izplačilo iz proračuna (ZZI), ni več zahtevka za povračilo (ZZ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i over-commitment-ov, pač pa v okviru „integrale“ več projektov, ki v celoti sledijo EU pravilom in lahko takoj zamenjajo problematične (naknadna dodelitev kohezijskih sredste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bo določil standardne člene pogodbe o sofinanciranju za posamezne vrste operacij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301680" y="236016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verjanje „prenesenih nalog“ s strani 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bveznost izvajanja ukrepov (finančnih popravkov) v skladu s končnimi priporočili in ugotovitvami OU in nadzornih organov (SI in EU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01320" y="22935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ov informacijski sistem (e-MA), z novimi možnostmi in vzvodi za planiranje in upravljanje (npr. tudi za sledenje predvideni dinamiki preko 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elika povezanost z MFERA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hodna rešitev v letu 2015 (ISARR-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pogoj za uspešno upravljanj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290520" y="20728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kon o izvrševanju proračuna Republike Slovenije (kasneje tudi Zakon o javnih financa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redba o koriščenju sredstev evropske kohezijske politike v Republiki Sloveniji v programskem obdobju 2014–2020 za cilj "naložbe za rast in delovna mesta„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edbeni ak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rije sklopi nove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255600" y="13028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za pripravo Izvedbenega načrta in Predloga k izvedbenemu načrt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finančno upravljanje  in izvajanja evropske kohezijske politike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o izpolnjevanju pogojev za imenovanje posredniškega organ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o upravičenih stroških za sredstva evropske kohezijske politike za programsko obdobj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načrtovanje, spremljanje, poročanje </a:t>
            </a: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in vrednotenje </a:t>
            </a: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izvajanja kohezijske politike v programskem obdobju 2014 – 202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preverjanj po 125. členu Uredbe (EU) št. 1303/2013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tehnične podpore evropske kohezijske politik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informiranje in obveščanje javnosti o kohezijskem in strukturnih skladih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spremljanje izvajanja OP z informacijskim sistemom O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o OU za poročanje in spremljanje nepravilnost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290520" y="214488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erila za izbor operacij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Odbora za spremljanje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pis sistema upravljanja in nadzora – OS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ročnik OU za izvajanje EKP 2014-2020 (konec maj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rug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22200" y="212688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nje  leto programskega obdobja 2007-201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to vzpostavitve sistema za programsko obdobje 2014-2020 (2023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opolnitev sistema v drugi polovici le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ebnost proračuna 2015 – vsa sredstva „nove“ kohezije na proračunskih postavkah SV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Leto 2015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301680" y="1739520"/>
            <a:ext cx="7408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i krog usklajevanja zaključ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a Izvedbenega načrta , ki predstavlja operacionalizacijo OP je v teku, predvidoma bo sprejet v april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a seja Odbora za spremljan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naslednjem tednu predlog nove ureditve (ZIPRS in uredba)  in pričetek drugega kroga usklajevan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IPRS in uredba aprila na vlad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Akreditacija posredniških organov (april-junij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gnation procedure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“, ki ga bo izvedel UNP (junij – oktober), kot pogoj za črpanje sredstev iz Brusl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Kako napre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Hvala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269640" y="18046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mora dejansko upravljati s kohezijskimi sredstv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ožnost prelivanja denarja med resorji, konkurenca med program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Kakovost proje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100% črpanje sredst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enostavitve, zmanjšanje upravnih br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prava sedanjih težav (npr. težave na relaciji ISARR – MFERA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196560" y="19918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oštevati spremembe, ki jih je prinesla nova EU uredba in kar smo že vgradili predvsem v PS (občasno proble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uredbi določiti samo nujne specifike slovenske ureditve, drugače neposredna uporaba EU ured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e ponavljati določb iz drugih a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čim večji meri poenotiti izvajanje proračuna za integralna in kohezijska sredst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„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Use it or lose it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Content Placeholder 2" descr=""/>
          <p:cNvPicPr/>
          <p:nvPr/>
        </p:nvPicPr>
        <p:blipFill>
          <a:blip r:embed="rId1"/>
          <a:stretch/>
        </p:blipFill>
        <p:spPr>
          <a:xfrm>
            <a:off x="1682640" y="2676600"/>
            <a:ext cx="7461360" cy="344952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Cil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Straight Connector 4"/>
          <p:cNvSpPr/>
          <p:nvPr/>
        </p:nvSpPr>
        <p:spPr>
          <a:xfrm>
            <a:off x="971640" y="2060640"/>
            <a:ext cx="0" cy="381636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6"/>
          <p:cNvSpPr/>
          <p:nvPr/>
        </p:nvSpPr>
        <p:spPr>
          <a:xfrm>
            <a:off x="971640" y="5877000"/>
            <a:ext cx="7200720" cy="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8"/>
          <p:cNvSpPr/>
          <p:nvPr/>
        </p:nvSpPr>
        <p:spPr>
          <a:xfrm>
            <a:off x="3564360" y="5970960"/>
            <a:ext cx="23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Arial"/>
              </a:rPr>
              <a:t>programsko obdob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11"/>
          <p:cNvSpPr/>
          <p:nvPr/>
        </p:nvSpPr>
        <p:spPr>
          <a:xfrm>
            <a:off x="1741320" y="1647720"/>
            <a:ext cx="6296040" cy="4219560"/>
          </a:xfrm>
          <a:custGeom>
            <a:avLst/>
            <a:gdLst/>
            <a:ahLst/>
            <a:rect l="l" t="t" r="r" b="b"/>
            <a:pathLst>
              <a:path w="6296047" h="4218920">
                <a:moveTo>
                  <a:pt x="0" y="4218920"/>
                </a:moveTo>
                <a:cubicBezTo>
                  <a:pt x="229507" y="4031141"/>
                  <a:pt x="459015" y="3843363"/>
                  <a:pt x="849086" y="3685520"/>
                </a:cubicBezTo>
                <a:cubicBezTo>
                  <a:pt x="1239158" y="3527677"/>
                  <a:pt x="1868715" y="3380720"/>
                  <a:pt x="2340429" y="3271863"/>
                </a:cubicBezTo>
                <a:cubicBezTo>
                  <a:pt x="2812143" y="3163006"/>
                  <a:pt x="3287486" y="3157563"/>
                  <a:pt x="3679372" y="3032377"/>
                </a:cubicBezTo>
                <a:cubicBezTo>
                  <a:pt x="4071258" y="2907191"/>
                  <a:pt x="4287157" y="2974320"/>
                  <a:pt x="4691743" y="2520749"/>
                </a:cubicBezTo>
                <a:cubicBezTo>
                  <a:pt x="5096329" y="2067178"/>
                  <a:pt x="5842000" y="728235"/>
                  <a:pt x="6106886" y="310949"/>
                </a:cubicBezTo>
                <a:cubicBezTo>
                  <a:pt x="6371772" y="-106337"/>
                  <a:pt x="6281057" y="17034"/>
                  <a:pt x="6281057" y="17034"/>
                </a:cubicBezTo>
                <a:lnTo>
                  <a:pt x="6281057" y="17034"/>
                </a:ln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13"/>
          <p:cNvSpPr/>
          <p:nvPr/>
        </p:nvSpPr>
        <p:spPr>
          <a:xfrm>
            <a:off x="1709640" y="3298680"/>
            <a:ext cx="6443640" cy="2557440"/>
          </a:xfrm>
          <a:custGeom>
            <a:avLst/>
            <a:gdLst/>
            <a:ahLst/>
            <a:rect l="l" t="t" r="r" b="b"/>
            <a:pathLst>
              <a:path w="6444801" h="2557369">
                <a:moveTo>
                  <a:pt x="0" y="2557369"/>
                </a:moveTo>
                <a:cubicBezTo>
                  <a:pt x="93436" y="2352355"/>
                  <a:pt x="186872" y="2147341"/>
                  <a:pt x="391886" y="1860684"/>
                </a:cubicBezTo>
                <a:cubicBezTo>
                  <a:pt x="596900" y="1574027"/>
                  <a:pt x="923472" y="1127712"/>
                  <a:pt x="1230086" y="837426"/>
                </a:cubicBezTo>
                <a:cubicBezTo>
                  <a:pt x="1536700" y="547140"/>
                  <a:pt x="1895929" y="256855"/>
                  <a:pt x="2231572" y="118969"/>
                </a:cubicBezTo>
                <a:cubicBezTo>
                  <a:pt x="2567215" y="-18917"/>
                  <a:pt x="2953657" y="24626"/>
                  <a:pt x="3243943" y="10112"/>
                </a:cubicBezTo>
                <a:cubicBezTo>
                  <a:pt x="3534229" y="-4402"/>
                  <a:pt x="3735615" y="-8030"/>
                  <a:pt x="3973286" y="31884"/>
                </a:cubicBezTo>
                <a:cubicBezTo>
                  <a:pt x="4210957" y="71798"/>
                  <a:pt x="4443186" y="55469"/>
                  <a:pt x="4669972" y="249598"/>
                </a:cubicBezTo>
                <a:cubicBezTo>
                  <a:pt x="4896758" y="443726"/>
                  <a:pt x="5156200" y="873712"/>
                  <a:pt x="5334000" y="1196655"/>
                </a:cubicBezTo>
                <a:cubicBezTo>
                  <a:pt x="5511800" y="1519598"/>
                  <a:pt x="5560786" y="1971355"/>
                  <a:pt x="5736772" y="2187255"/>
                </a:cubicBezTo>
                <a:cubicBezTo>
                  <a:pt x="5912758" y="2403155"/>
                  <a:pt x="6277428" y="2439441"/>
                  <a:pt x="6389914" y="2492055"/>
                </a:cubicBezTo>
                <a:cubicBezTo>
                  <a:pt x="6502400" y="2544669"/>
                  <a:pt x="6406243" y="2497498"/>
                  <a:pt x="6411686" y="2502941"/>
                </a:cubicBezTo>
                <a:cubicBezTo>
                  <a:pt x="6417129" y="2508384"/>
                  <a:pt x="6419850" y="2516548"/>
                  <a:pt x="6422572" y="2524712"/>
                </a:cubicBezTo>
              </a:path>
            </a:pathLst>
          </a:cu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"/>
          <p:cNvSpPr/>
          <p:nvPr/>
        </p:nvSpPr>
        <p:spPr>
          <a:xfrm>
            <a:off x="6688080" y="17668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07-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9"/>
          <p:cNvSpPr/>
          <p:nvPr/>
        </p:nvSpPr>
        <p:spPr>
          <a:xfrm>
            <a:off x="2556000" y="32986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14-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186840" y="184428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upravljanja (SVR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za potrjevanje (MF-Sektor za upravljanje s sredstvi EU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vizijski organ (UN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redniški organi (ministrstva – skoraj vsa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ajalski organi (pravna oseba javnega ali zasebnega prav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ravičenec (izvajalec, organ ali podjetje, javno ali zasebno) – pri FI organ, ki izvaja F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207720" y="18252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bor za spremljanje (nadzorni odb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Strokovne skupi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i 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2080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En načrt izvajanja, ki je sprejet pred proračunsko razprav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snova za razporeditev sredstev na finančne načr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i ga OU na osnovi predlogov posredniških organ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soja predlogov s strani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va dela načrt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ndikativni prikaz operacij za celotno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drobnejši prikaz za dve leti, kjer je potrebno pa tudi za daljše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31920" y="2019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dno noveliranje dokumen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2015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arec-apri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julij-septemb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dhodna seznanitev vseh deležnik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228600" y="2060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resoja vlog večjih vrednosti tudi s strani neodvisnih strokovnjakov (</a:t>
            </a:r>
            <a:r>
              <a:rPr b="0" i="1" lang="sl-SI" sz="2800" spc="-1" strike="noStrike">
                <a:solidFill>
                  <a:srgbClr val="000000"/>
                </a:solidFill>
                <a:latin typeface="Calibri"/>
              </a:rPr>
              <a:t>oziroma delovne skupine vlade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odelitev sredstev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Andrej</cp:lastModifiedBy>
  <dcterms:modified xsi:type="dcterms:W3CDTF">2015-03-24T20:17:56Z</dcterms:modified>
  <cp:revision>21</cp:revision>
  <dc:subject/>
  <dc:title>PowerPoint Presentation</dc:title>
</cp:coreProperties>
</file>