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1FE4-1C9F-4EFF-99A9-7F6C30E6C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6C17-E536-4713-86C2-58D68BFEB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D7FB-04FF-48D3-A3F6-A17DD20EB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60E4-4793-40C0-BDD4-660121921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CCE06-2B0D-4874-B46C-C09380296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1B2E6-8349-4B00-8F27-BAD80295F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B2A27-B147-4DD1-A18F-29151F18E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5990C-0047-4120-B684-63E3DABF5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22D28-39A7-4BFA-8283-B65C5A911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9C09C-B9CE-4439-B36E-BA873704E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88325-99CD-41BD-95A1-2DB93D17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34988-3895-4605-B27F-167282DA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3046F-B5D8-4271-B421-B232FDB34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C28A9-A972-4DD1-9BF5-C175A76AB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EEF52-955D-429B-8BD7-2C8D2CEBB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5B29C-8F7F-4B2D-AB78-2D220B9A6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00525-7E05-4C1E-8FE5-CC4E429E1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FCB56-21A3-414B-BC20-AAD03FEDC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C3A31-BB6D-4AF9-899F-22AC41192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4DB3F-870A-453D-981A-DF5996E57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160C6-6E62-4CF7-878A-3ED33C529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11293-2B71-468E-97C9-CCACA5321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E0CCA-36C2-4A0F-BE73-65006C8D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119C5-79A7-4DEA-852B-F1082856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C3EE0-03F5-460B-BD60-2F115749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33E7D-C45C-432A-9372-DFBA40C96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EB058-CF10-4C79-A8F5-E74311A4B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EFAE4-1BA4-4A9A-BC1D-8C7E55BD0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A5E8-A378-445F-A800-65C4D15AE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D8EE-B9D7-4253-BF9D-7F08CED30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2AD4-5D23-4786-BA81-5132E8533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5A0D-CCF6-46D3-861B-93446EE00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EF6B-328F-4F1A-A358-E14F85625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B6CA-1BDE-4233-8C50-13BD928C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41A5-C8F2-441B-9469-E50C74FD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9996-DB5F-4960-8E03-65F881DE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2D29E-06A1-447F-89B5-1517513B4F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78543-8C40-4896-BD16-047828F09A62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4D2B7-87A6-4494-B495-83EF7D00D24A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07880" y="650880"/>
            <a:ext cx="61660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000000"/>
                </a:solidFill>
                <a:latin typeface="Calibri"/>
              </a:rPr>
              <a:t>Odvajanje in čiščenje odpadne vode na območju vodonosnika Ljubljanskega polja – veliki projek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3" name="TextBox 2"/>
          <p:cNvSpPr/>
          <p:nvPr/>
        </p:nvSpPr>
        <p:spPr>
          <a:xfrm>
            <a:off x="3490920" y="44467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Brdo, 25.3.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 txBox="1"/>
          <p:nvPr/>
        </p:nvSpPr>
        <p:spPr>
          <a:xfrm>
            <a:off x="331560" y="139176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0000"/>
                </a:solidFill>
                <a:latin typeface="Calibri"/>
              </a:rPr>
              <a:t>Odbor za spremljanje se seznanja, da se na podlagi ugotovitev predhodnega strokovnega pregleda projektov v pripravi s strani evropske pobude JASPERS projekt »Odvajanje in čiščenje odpadne vode na območju vodonosnika Ljubljanskega polja - Nadgradnja sistema odvajanja  komunalne odpadne vode v občinah Medvode in Vodice ter izgradnja povezovalnega kanala C0 v MOL« in projekt »Odvajanje in čiščenje odpadne vode na območju vodonosnika Ljubljanskega polja - izgradnja III. faze CČN Ljubljana« združita v en veliki projekt z naslovom »Odvajanje in čiščenje odpadne vode na območju vodonosnika Ljubljanskega polja«, ki se vključi v indikativni seznam velikih projektov Operativnega programa za izvajanje Evropske kohezijske politike v obdobju 2014 -202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dlog sklep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Janika Gregorič Zečevič</cp:lastModifiedBy>
  <dcterms:modified xsi:type="dcterms:W3CDTF">2015-03-26T08:16:50Z</dcterms:modified>
  <cp:revision>24</cp:revision>
  <dc:subject/>
  <dc:title>PowerPoint Presentation</dc:title>
</cp:coreProperties>
</file>