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51FE-4A84-4C0C-82B6-BE90F9E68ED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B507-49E0-4A4F-9BBE-1DD4447926D0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2921-E11D-460D-998E-DC329571EDE2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26F-6DEA-49A2-A507-27E126C3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F0C-43EE-4352-AB5C-053B96FC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393-D850-46CF-8D87-3E2DDA51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3823-F543-41A7-B2FD-B2E5AC14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AF89-70A5-4734-92DB-E03390FE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A3B4-5A92-438C-B759-A8503885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C47A-A574-47A6-9160-219999D3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5B37-B1B3-4BFB-8ABE-10F94215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0F93-7D14-4E7A-96D9-E888D8ED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31FB-6D86-4A7E-881E-50EDFAC6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E885-2A0F-49D5-80D1-55CA1C70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924-3BA5-4B45-A944-7740F70F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30C6-6BDA-4B8C-AF9F-5A5BC6AB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3747-ACBB-40F2-8C32-FF9E7913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5A2E-6EDE-4202-9552-3814E8EC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C722-D64A-4F52-A865-D65F4C24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F720-35E6-442C-9ECC-BB8073DC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6E0-961B-482A-8756-9D5B2EC6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60B-CC8B-421D-90C8-B8D81A0A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0EC-BCDC-4D4D-91BD-B960DC09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53F-E278-45DB-9CB5-98BE0215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4DB5-7B0A-4F56-A212-68EA114F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EF0-12A1-405C-9CBE-04FAF841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48A-7086-4667-BD4F-F30A346B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4FD0-8E34-4C9A-A052-D1A75E02900A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BAAC-137F-4BC6-BA1F-8708C3C6C597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24CA-67AB-42E1-AED1-CDFDABFA85E1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B868-78D5-41B9-91B1-ABC3613B285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A5A9-C5D3-493C-8BD5-046001F60131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D995-193B-4F4B-AD2B-5E528E43AE6D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3622-1F6C-44AF-B0DC-AF247C38E713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00B7-A17A-476D-9649-E176FB9052D5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284040" y="1515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/>
          <a:stretch/>
        </p:blipFill>
        <p:spPr>
          <a:xfrm>
            <a:off x="4113360" y="4162320"/>
            <a:ext cx="4159080" cy="282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395280" y="1790640"/>
            <a:ext cx="34560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E165-CBEC-424A-A8A5-CEC2C0F20D51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B1E9-2303-45FE-802A-B08B5D42ECC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 5.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65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5: 588 v vrednosti 26,6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EF32-C11A-46F8-B866-89628CCF1FA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B220-F86D-46F4-AAF3-F4D0809FC6A2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6,94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0,0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5 na dan 22. 5. 2015 = 132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4EF2-0B49-4269-809C-F77D7CEF4C9E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D4D2-D1DC-4A9D-A765-C5C0224B7F4D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62200" y="19288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Finančni tokovi PO – EK 2015-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11280" y="2720880"/>
            <a:ext cx="75549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CC09-9607-42A0-9931-7D1F031230C0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04BA-F041-4D4B-A894-EFDCC558114E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88040" y="1353960"/>
            <a:ext cx="74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Obravnava nepravilnosti na PO – knjiga dolž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71640" y="2505240"/>
          <a:ext cx="6095880" cy="10364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jatve do 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rte terjat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9,9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,5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Mateja Mahkovec</cp:lastModifiedBy>
  <cp:lastPrinted>2012-06-04T14:32:47Z</cp:lastPrinted>
  <dcterms:modified xsi:type="dcterms:W3CDTF">2015-05-22T08:56:17Z</dcterms:modified>
  <cp:revision>171</cp:revision>
  <dc:subject/>
  <dc:title>Naslov</dc:title>
</cp:coreProperties>
</file>