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FBA0-EBF0-4A44-A699-3688BB3D9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59F2-FD63-46CE-A195-1A6B55A3C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7F9C-7E6B-4C27-B153-C4D84E83E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AA64-E532-4D30-8F94-B41650C748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5DCE-C405-489E-AE05-B222414623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1E36-E821-4E57-A33A-19E626AB4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0361-1A06-44C7-8CF5-D9A38A0FF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C115-E0E9-4D1E-8D9F-76B111730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9570-79D3-4B39-9BAC-A6909734C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AA0D-1C99-42CF-99B9-7F2FC10AF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524A-0E5F-4F5A-A80D-0ED5598E2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3AD8-B7F5-4938-96EB-9104DC08D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6607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2180-5C81-49F4-B140-9ED118CF0F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3240" y="-1260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28760" y="2505240"/>
            <a:ext cx="610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PREDSTAVITEV IZVAJANJA NAČ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REDNOTNEJA OPERATIVNEGA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ZVOJA ČLOVEŠK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ZA OBDOBJE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2053-6723-4BA8-A8E1-C47D3E42DB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avokotnik 4"/>
          <p:cNvSpPr/>
          <p:nvPr/>
        </p:nvSpPr>
        <p:spPr>
          <a:xfrm>
            <a:off x="379440" y="221760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PRIPOROČ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umestitev klavzule glede pridobivanja podatkov o zaposlitvenem statusu za potrebe vrednotenja za obdobje 18 mesecev po prenehanju pogodbenih obveznosti v vse pogodbe s končnimi upravičenci pred njihovo sklenitvij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preučiti je treba, na kakšen način si lahko Organ upravljanja ali posredniška telesa zagotovijo enostaven dostop in križanje različnih podatkovnih baze (ISARR, ZPIS, podatkovno bazo ZRS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6453-E382-4CC8-8E40-BE0D9B53EC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avokotnik 4"/>
          <p:cNvSpPr/>
          <p:nvPr/>
        </p:nvSpPr>
        <p:spPr>
          <a:xfrm>
            <a:off x="755640" y="1346040"/>
            <a:ext cx="748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nn-NO" sz="1600" spc="-1" strike="noStrike">
                <a:solidFill>
                  <a:srgbClr val="000000"/>
                </a:solidFill>
                <a:latin typeface="Arial"/>
                <a:ea typeface="Arial"/>
              </a:rPr>
              <a:t>regled uresničevanja strateških ciljev visokega šolstva v RS, ki so podlaga za načrtovanje in izvajanje ukrepov v OP 2014 – 2020 s področja visokega šolstv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začetek vrednotenja predviden v juliju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konec vseh aktivnosti do novembra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avokotnik 5"/>
          <p:cNvSpPr/>
          <p:nvPr/>
        </p:nvSpPr>
        <p:spPr>
          <a:xfrm>
            <a:off x="2567160" y="1136520"/>
            <a:ext cx="26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OSTOPKI V TE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ravokotnik 6"/>
          <p:cNvSpPr/>
          <p:nvPr/>
        </p:nvSpPr>
        <p:spPr>
          <a:xfrm>
            <a:off x="755640" y="3475080"/>
            <a:ext cx="77770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MEN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ilj strateškega vrednotenja dveh evalvacij v okviru Pregle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strateških ciljev visokega šolstva v RS, ki so podlaga za načrtovanje in izvajanje ukrepov v OP 2014 – 2020 s področja visokega šolstva je podati kvalitativno oc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ciljev nacionalnega programa visokega šolstva na treh prednostnih področij ReNPVŠ11-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cij na področju visokega šolstva v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 RČ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programskem obdobju 2007 –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FFF0-14AE-4584-ABAB-EC6AAB91A1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avokotnik 4"/>
          <p:cNvSpPr/>
          <p:nvPr/>
        </p:nvSpPr>
        <p:spPr>
          <a:xfrm>
            <a:off x="179280" y="1281240"/>
            <a:ext cx="84963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MET VREDNOT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uresničevanja nacionalnega programa visokega šolstva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kakovosti visokega šolstva, zlasti ukrepov številka 19, 20, 21, 22, 23, 24, 2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internacionalizacije visokega šolstva, zlasti ukrepov številka 28, 29, 30, 31, 32, 33, 34, 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a ReNPVŠ11-20 številka 5a (sodelovanje visokošolskih institucij z gospodarstvom in negospodarstv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drugih ukrepov ReNPVŠ11-20, ki so relevantni za načrtovanje oziroma izvajanje ukrepov v OP 2014 – 2020 s področja visokega šolstv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doseganja ciljev in meril ReNPVŠ11-20 na naslednjih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ključnih deležnikov o doseganju ciljev in meril ReNPVŠ11-20, prvenstveno na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operacij na področju visokega šolstva v Operativnem programu razvoja človeških virov v programskem obdobju 2007 – 2013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zvedbe in ocena uspešnosti operaci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log izboljšav za načrtovanje in izvedbo ukrepov v programskem obdobju 2014 – 202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CF45-28A8-4D0B-B657-543B1A77A1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avokotnik 4"/>
          <p:cNvSpPr/>
          <p:nvPr/>
        </p:nvSpPr>
        <p:spPr>
          <a:xfrm>
            <a:off x="539640" y="1569960"/>
            <a:ext cx="73454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VIDENE AKTIVNOSTI V 201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valvacija politike aktivacije brezposelnih (predlog OECD "Connecting People with Jobs"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DDSZ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rategija razvoja  sistema poklicnega izobraževanja v RS, ki so vključeni v OP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IZ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Youth Employment Initiative (YEI) (do 31. 12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činkovita in uspešna javna uprava in Zdravstvo v informacijski dobi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ponovitev postop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prava Načrta vrednotenj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te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38A0-99FD-41DF-8CC3-42EC1CDB1B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0" y="1496880"/>
            <a:ext cx="457200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DC0B-9F04-43FB-A929-872D618E18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0320" y="2485800"/>
            <a:ext cx="7521840" cy="3422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ajanja nač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edenih vrednotenj oz. vrednotenj v t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209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6b6bcf"/>
                </a:solidFill>
                <a:latin typeface="Arial"/>
              </a:rPr>
              <a:t>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49CD-ECCD-43CE-9C4E-7348E15D01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9208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222268"/>
                </a:solidFill>
                <a:latin typeface="Arial"/>
              </a:rPr>
              <a:t>SREDSTVA TP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98600" y="1892160"/>
          <a:ext cx="6095880" cy="1981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6b6bcf"/>
                          </a:solidFill>
                          <a:latin typeface="Angsana New"/>
                          <a:ea typeface="Angsana New"/>
                        </a:rPr>
                        <a:t>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P SREDST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SLO in EU del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2,9 m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ZA VREDNOTENJ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00.000 oz. cca. 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324000" y="37288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1387440" y="4483080"/>
            <a:ext cx="61023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5AA6-A70A-4DCD-86C1-BE9524B65A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7125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8913-8D8D-48F2-A7CA-637A47D4D5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641600"/>
            <a:ext cx="8497800" cy="5148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3D72-C31C-4BE7-8DBA-04E6D3FFFF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grada vsebine 1"/>
          <p:cNvSpPr/>
          <p:nvPr/>
        </p:nvSpPr>
        <p:spPr>
          <a:xfrm>
            <a:off x="457200" y="21448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krepov za spodbujanje raziskovalno razvojnih aktivnosti v gospodarstvu in institucijah znanja (ESRR&amp;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RP PROJEK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itucionalna evalvacija Zavoda RS za zapos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največjih programov aktivne politike zaposlovanja, vključno z ukrepi proti gospodarski in finančni kr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1064880"/>
            <a:ext cx="7855200" cy="585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2432-59AF-4D96-B3A6-3C91959BF8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O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ZADNJEGA N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avokotnik 6"/>
          <p:cNvSpPr/>
          <p:nvPr/>
        </p:nvSpPr>
        <p:spPr>
          <a:xfrm>
            <a:off x="263520" y="2144880"/>
            <a:ext cx="835344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REJ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(predstavljeno decem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 IZVAJANJ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 (zaključeno: do 20. 6. 2015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6196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b6bcf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285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vrednotenje četrte razvojne prioritete ESS 2007-2013 'Spodbujanje socialne vključenosti in zagotavljanje enakih možnost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EDMET KONČNEGA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rumenti, ki so se izvajali v okviru treh prednostnih usmeritev četrte razvojne prioritete ESS 2007-2013 'Spodbujanje socialne vključenosti in zagotavljanje enakih možnosti', in sicer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1. Enake možnosti na trgu dela in krepitev socialne vključenosti (12 instrumentov, razpoložljive pravice porabe: 43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2. Povečati dostopnost in enakost možnosti v sistemu vzgoje in izobraževanja (10 instrumentov, razpoložljive pravice porabe: 7,9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3: Dvig zaposljivosti ranljivih družbenih skupin in podpora njihovi socialni vključenosti (12 instrumentov, razpoložljive pravice porabe: 15,2 M€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ajalec: PITIJA svetovanje, d.o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37B5-823C-44EF-B9A5-F6BECDCC1E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UGOTOVITEV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eliko ugotovljenih pomanjkljivosti glede izvajanja četrte razvojne prioritete je v novem finančnem obdobju 2014-2020  odpravljeni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novo finančno obdobje je pripravljena jasna in podrobna metodologija zbiranja podatkov za kazalnike, ki vključuje tudi definicije kazalnik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ljive ciljne skupine so jasno definirane že v Operativnem programu, poenotene definicije pa naj bi se upoštevale tudi v razpisih posameznih posredniških te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sakega končnega upravičenca naj bi se spremljalo ob vključitvi v program in ob izstopu iz programa. Na ta način naj bi se zagotovilo, da bo oseba obravnavana le enkr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b6bcf"/>
                </a:solidFill>
                <a:latin typeface="Arial"/>
              </a:rPr>
              <a:t>S stališča doseganja ciljnih vrednosti kazalnikov ali naslavljanja specifičnih ciljev četrte razvojne prioritete, bi lahko zaključili, da je bila 4. RP izvedena uspeš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ONČNO POROČILO: 20. 6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poročilo bo objavljeno na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D45A-5BC2-486B-89C8-7AAD6C60F6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Petra Jerina</cp:lastModifiedBy>
  <cp:lastPrinted>2015-06-01T09:23:34Z</cp:lastPrinted>
  <dcterms:modified xsi:type="dcterms:W3CDTF">2015-06-03T06:54:45Z</dcterms:modified>
  <cp:revision>52</cp:revision>
  <dc:subject/>
  <dc:title>Naslov</dc:title>
</cp:coreProperties>
</file>