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0DF0B-C7A3-410E-9913-0B2E9D261B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36080"/>
            <a:ext cx="82296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4F9C9-4C27-4E4B-AFF9-0781666AC5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3608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3608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2E42F-78D2-4589-85F6-8DC143E9D7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26496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706400"/>
            <a:ext cx="26496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706400"/>
            <a:ext cx="26496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36080"/>
            <a:ext cx="26496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36080"/>
            <a:ext cx="26496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36080"/>
            <a:ext cx="26496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6B413-59BF-4AB0-B06C-211FA36608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706400"/>
            <a:ext cx="8229600" cy="56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4D059-22F5-4A40-99F3-060B3B0DC5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5608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762A6-4F74-4020-95FA-DBA0D2F13F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5608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5608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590A7-CDE0-4025-B16A-E820AC4E18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2048A-F4B1-48D4-93EB-9EB5889143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83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9F044-A618-4B52-8FA4-A81C6EBC00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5608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3608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A2D17-050B-467C-BAF3-04D8E2D793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5608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3608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CF75B-5315-43F4-80E4-5789A77941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36080"/>
            <a:ext cx="82296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30842-C46B-4454-B278-D9A6565E88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5608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62440" y="66607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CABAC-1CEC-402B-B0EA-3375DDBDAAA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u-skladi.si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" descr=""/>
          <p:cNvPicPr/>
          <p:nvPr/>
        </p:nvPicPr>
        <p:blipFill>
          <a:blip r:embed="rId2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2" descr=""/>
          <p:cNvPicPr/>
          <p:nvPr/>
        </p:nvPicPr>
        <p:blipFill>
          <a:blip r:embed="rId3"/>
          <a:stretch/>
        </p:blipFill>
        <p:spPr>
          <a:xfrm>
            <a:off x="-3240" y="-1260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3" descr=""/>
          <p:cNvPicPr/>
          <p:nvPr/>
        </p:nvPicPr>
        <p:blipFill>
          <a:blip r:embed="rId4"/>
          <a:stretch/>
        </p:blipFill>
        <p:spPr>
          <a:xfrm>
            <a:off x="457200" y="777960"/>
            <a:ext cx="4114800" cy="7254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"/>
          <p:cNvSpPr/>
          <p:nvPr/>
        </p:nvSpPr>
        <p:spPr>
          <a:xfrm>
            <a:off x="1328760" y="2505240"/>
            <a:ext cx="6108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PREDSTAVITEV IZVAJANJA NAČR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VREDNOTNEJA OPERATIVNEGA PROGRA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RAZVOJA ČLOVEŠKIH VIRO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ZA OBDOBJE 2007-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Br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5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79250-1CA5-4B15-9676-8E97DCAEE4F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ravokotnik 4"/>
          <p:cNvSpPr/>
          <p:nvPr/>
        </p:nvSpPr>
        <p:spPr>
          <a:xfrm>
            <a:off x="379440" y="2217600"/>
            <a:ext cx="81374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NEKAJ PRIPOROČI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- umestitev klavzule glede pridobivanja podatkov o zaposlitvenem statusu za potrebe vrednotenja za obdobje 18 mesecev po prenehanju pogodbenih obveznosti v vse pogodbe s končnimi upravičenci pred njihovo sklenitvij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- preučiti je treba, na kakšen način si lahko Organ upravljanja ali posredniška telesa zagotovijo enostaven dostop in križanje različnih podatkovnih baze (ISARR, ZPIS, podatkovno bazo ZRSZ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31F4B-5ECF-45F6-A21A-BAD77660628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ravokotnik 4"/>
          <p:cNvSpPr/>
          <p:nvPr/>
        </p:nvSpPr>
        <p:spPr>
          <a:xfrm>
            <a:off x="755640" y="1346040"/>
            <a:ext cx="7488360" cy="17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nn-NO" sz="1600" spc="-1" strike="noStrike">
                <a:solidFill>
                  <a:srgbClr val="000000"/>
                </a:solidFill>
                <a:latin typeface="Arial"/>
                <a:ea typeface="Arial"/>
              </a:rPr>
              <a:t>regled uresničevanja strateških ciljev visokega šolstva v RS, ki so podlaga za načrtovanje in izvajanje ukrepov v OP 2014 – 2020 s področja visokega šolstva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a6a6a6"/>
                </a:solidFill>
                <a:latin typeface="Arial"/>
                <a:ea typeface="Arial"/>
              </a:rPr>
              <a:t>začetek vrednotenja predviden v juliju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a6a6a6"/>
                </a:solidFill>
                <a:latin typeface="Arial"/>
                <a:ea typeface="Arial"/>
              </a:rPr>
              <a:t>konec vseh aktivnosti do novembra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ravokotnik 5"/>
          <p:cNvSpPr/>
          <p:nvPr/>
        </p:nvSpPr>
        <p:spPr>
          <a:xfrm>
            <a:off x="2567160" y="1136520"/>
            <a:ext cx="269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POSTOPKI V TEK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ravokotnik 6"/>
          <p:cNvSpPr/>
          <p:nvPr/>
        </p:nvSpPr>
        <p:spPr>
          <a:xfrm>
            <a:off x="755640" y="3475080"/>
            <a:ext cx="7777080" cy="25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NAMEN VREDNOTENJ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Cilj strateškega vrednotenja dveh evalvacij v okviru Pregled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resničevanja strateških ciljev visokega šolstva v RS, ki so podlaga za načrtovanje in izvajanje ukrepov v OP 2014 – 2020 s področja visokega šolstva je podati kvalitativno ocen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resničevanja ciljev nacionalnega programa visokega šolstva na treh prednostnih področij ReNPVŠ11-2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racij na področju visokega šolstva v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OP RČ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v programskem obdobju 2007 –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DC91E-76CE-4978-A701-5A4603BA5FE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ravokotnik 4"/>
          <p:cNvSpPr/>
          <p:nvPr/>
        </p:nvSpPr>
        <p:spPr>
          <a:xfrm>
            <a:off x="179280" y="1281240"/>
            <a:ext cx="8496360" cy="48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PREDMET VREDNOTEN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dmet evalvacije uresničevanja nacionalnega programa visokega šolstva j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gled realizacije ukrepov ReNPVŠ11-20 na področju kakovosti visokega šolstva, zlasti ukrepov številka 19, 20, 21, 22, 23, 24, 27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gled realizacije ukrepov ReNPVŠ11-20 na področju internacionalizacije visokega šolstva, zlasti ukrepov številka 28, 29, 30, 31, 32, 33, 34, 38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gled realizacije ukrepa ReNPVŠ11-20 številka 5a (sodelovanje visokošolskih institucij z gospodarstvom in negospodarstvo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gled realizacije drugih ukrepov ReNPVŠ11-20, ki so relevantni za načrtovanje oziroma izvajanje ukrepov v OP 2014 – 2020 s področja visokega šolstv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ena doseganja ciljev in meril ReNPVŠ11-20 na naslednjih področjih: kakovost, internacionalizacija ter povezanost z gospodarstvom, negospodarstvom in raziskovalnimi zavodi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ena ključnih deležnikov o doseganju ciljev in meril ReNPVŠ11-20, prvenstveno na področjih: kakovost, internacionalizacija ter povezanost z gospodarstvom, negospodarstvom in raziskovalnimi zavodi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dmet evalvacije operacij na področju visokega šolstva v Operativnem programu razvoja človeških virov v programskem obdobju 2007 – 2013 j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- 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liz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zvedbe in ocena uspešnosti operacij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dlog izboljšav za načrtovanje in izvedbo ukrepov v programskem obdobju 2014 – 202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9FEC3-F90F-4573-883D-DE6C14015B6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ravokotnik 4"/>
          <p:cNvSpPr/>
          <p:nvPr/>
        </p:nvSpPr>
        <p:spPr>
          <a:xfrm>
            <a:off x="539640" y="1569960"/>
            <a:ext cx="7345440" cy="45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PREDVIDENE AKTIVNOSTI V 2015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Evalvacija politike aktivacije brezposelnih (predlog OECD "Connecting People with Jobs") </a:t>
            </a:r>
            <a:r>
              <a:rPr b="0" lang="sl-SI" sz="1600" spc="-1" strike="noStrike">
                <a:solidFill>
                  <a:srgbClr val="a6a6a6"/>
                </a:solidFill>
                <a:latin typeface="Arial"/>
              </a:rPr>
              <a:t>(v sodelovanju z MDDSZ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Strategija razvoja  sistema poklicnega izobraževanja v RS, ki so vključeni v OP 2014-2020 </a:t>
            </a:r>
            <a:r>
              <a:rPr b="0" lang="sl-SI" sz="1600" spc="-1" strike="noStrike">
                <a:solidFill>
                  <a:srgbClr val="a6a6a6"/>
                </a:solidFill>
                <a:latin typeface="Arial"/>
              </a:rPr>
              <a:t>(v sodelovanju z MIZŠ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Youth Employment Initiative (YEI) (do 31. 12. 201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Učinkovita in uspešna javna uprava in Zdravstvo v informacijski dobi </a:t>
            </a:r>
            <a:r>
              <a:rPr b="0" lang="sl-SI" sz="1600" spc="-1" strike="noStrike">
                <a:solidFill>
                  <a:srgbClr val="a6a6a6"/>
                </a:solidFill>
                <a:latin typeface="Arial"/>
              </a:rPr>
              <a:t>(ponovitev postopk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Priprava Načrta vrednotenj 2014-2020 </a:t>
            </a:r>
            <a:r>
              <a:rPr b="0" lang="sl-SI" sz="1600" spc="-1" strike="noStrike">
                <a:solidFill>
                  <a:srgbClr val="a6a6a6"/>
                </a:solidFill>
                <a:latin typeface="Arial"/>
              </a:rPr>
              <a:t>(v tek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FB0C2-EDE8-4CD2-9E20-2692D157F87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2286000" y="1496880"/>
            <a:ext cx="4572000" cy="38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B57A8-54CD-4B4C-83E2-854C20AC259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760320" y="2485800"/>
            <a:ext cx="7521840" cy="3422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regled izvajanja načr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regled izvedenih vrednotenj oz. vrednotenj v te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209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6b6bcf"/>
                </a:solidFill>
                <a:latin typeface="Arial"/>
              </a:rPr>
              <a:t>VSEB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AD114-27AF-45FE-8E3D-E72999B86BC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92088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222268"/>
                </a:solidFill>
                <a:latin typeface="Arial"/>
              </a:rPr>
              <a:t>SREDSTVA TP (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398600" y="1892160"/>
          <a:ext cx="6095880" cy="19814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6b6bcf"/>
                          </a:solidFill>
                          <a:latin typeface="Angsana New"/>
                          <a:ea typeface="Angsana New"/>
                        </a:rPr>
                        <a:t>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TP SREDSTV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(SLO in EU del)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32,9 m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ZA VREDNOTENJA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500.000 oz. cca. 1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49" name="Picture 18" descr=""/>
          <p:cNvPicPr/>
          <p:nvPr/>
        </p:nvPicPr>
        <p:blipFill>
          <a:blip r:embed="rId1"/>
          <a:stretch/>
        </p:blipFill>
        <p:spPr>
          <a:xfrm>
            <a:off x="324000" y="3728880"/>
            <a:ext cx="8229600" cy="1219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9" descr=""/>
          <p:cNvPicPr/>
          <p:nvPr/>
        </p:nvPicPr>
        <p:blipFill>
          <a:blip r:embed="rId2"/>
          <a:stretch/>
        </p:blipFill>
        <p:spPr>
          <a:xfrm>
            <a:off x="1387440" y="4483080"/>
            <a:ext cx="6102360" cy="221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7B281-6EE4-49D9-9447-9AF7FB0F2B4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50560" y="1712520"/>
            <a:ext cx="8497800" cy="5148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javnega razpisa za sofinanciranje projektov horizontalnih NVO mrež in regionalnih stičišč za leto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razpisa za izbor razvojnih projektov za dvig zaposljivosti ranljivih družbenih skupin na področju kulture in podporo njihovi socialni vključenosti v letih 2008-2009 s pripravo poročil za nadaljnje izvajanje aktivnosti za doseganje ciljev prednostne usmeritve 4.3. v OP RČ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1. in 2. prednostne usmeritve Izboljšanje kakovosti in učinkovitosti sistemov izobraževanja in usposabljanja ter Izboljšanje usposobljenosti posameznika za delo in življenje v družbi temelječi na znanju 3. Razvojne prioritete OP ESS Razvoj človeških virov in vseživljenjskega učen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 CE"/>
              </a:rPr>
              <a:t>Vmesno vrednotenje komunikacijskega načrta cilja Konvergen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 prednostnih usmeritev s področja trga dela, ki jih v okviru OP RČV izvaja Ministrstvo za delo, družino in socialne zade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993240"/>
            <a:ext cx="7853040" cy="584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6b6bcf"/>
                </a:solidFill>
                <a:latin typeface="Arial"/>
              </a:rPr>
              <a:t>IZVEDENA VREDNOTENJA 2007 – DO D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742E7-265D-4849-B2EE-FBEABFFCFEA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50560" y="1641600"/>
            <a:ext cx="8497800" cy="5148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javnega razpisa za sofinanciranje projektov horizontalnih NVO mrež in regionalnih stičišč za leto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razpisa za izbor razvojnih projektov za dvig zaposljivosti ranljivih družbenih skupin na področju kulture in podporo njihovi socialni vključenosti v letih 2008-2009 s pripravo poročil za nadaljnje izvajanje aktivnosti za doseganje ciljev prednostne usmeritve 4.3. v OP RČ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1. in 2. prednostne usmeritve Izboljšanje kakovosti in učinkovitosti sistemov izobraževanja in usposabljanja ter Izboljšanje usposobljenosti posameznika za delo in življenje v družbi temelječi na znanju 3. Razvojne prioritete OP ESS Razvoj človeških virov in vseživljenjskega učen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 CE"/>
              </a:rPr>
              <a:t>Vmesno vrednotenje komunikacijskega načrta cilja Konvergen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 prednostnih usmeritev s področja trga dela, ki jih v okviru OP RČV izvaja Ministrstvo za delo, družino in socialne zade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993240"/>
            <a:ext cx="7853040" cy="584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6b6bcf"/>
                </a:solidFill>
                <a:latin typeface="Arial"/>
              </a:rPr>
              <a:t>IZVEDENA VREDNOTENJA 2007 – DO D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3148E-665E-4F53-BD5E-AF424BC43D6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grada vsebine 1"/>
          <p:cNvSpPr/>
          <p:nvPr/>
        </p:nvSpPr>
        <p:spPr>
          <a:xfrm>
            <a:off x="457200" y="2144880"/>
            <a:ext cx="822960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365040" indent="-255600">
              <a:spcBef>
                <a:spcPts val="700"/>
              </a:spcBef>
              <a:buClr>
                <a:srgbClr val="2da2b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ukrepov za spodbujanje raziskovalno razvojnih aktivnosti v gospodarstvu in institucijah znanja (ESRR&amp;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2da2b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Vrednotenje krepitve kapacitet nevladnih organizacij s pomočjo vzpostavljanja podpornih struktur (julij 201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CRP PROJEK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2da2b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Institucionalna evalvacija Zavoda RS za zaposlovan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2da2b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največjih programov aktivne politike zaposlovanja, vključno z ukrepi proti gospodarski in finančni kriz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4400" y="1064880"/>
            <a:ext cx="7855200" cy="585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6b6bcf"/>
                </a:solidFill>
                <a:latin typeface="Arial"/>
              </a:rPr>
              <a:t>IZVEDENA VREDNOTENJA 2007 – DO D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EFF66-FAB8-4A8C-A6B3-E8869836EAF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993240"/>
            <a:ext cx="7853040" cy="584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6b6bcf"/>
                </a:solidFill>
                <a:latin typeface="Arial"/>
              </a:rPr>
              <a:t>OD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6b6bcf"/>
                </a:solidFill>
                <a:latin typeface="Arial"/>
              </a:rPr>
              <a:t>ZADNJEGA N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ravokotnik 6"/>
          <p:cNvSpPr/>
          <p:nvPr/>
        </p:nvSpPr>
        <p:spPr>
          <a:xfrm>
            <a:off x="263520" y="2144880"/>
            <a:ext cx="835344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NAREJEN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Vrednotenje krepitve kapacitet nevladnih organizacij s pomočjo vzpostavljanja podpornih struktur (julij 2014) </a:t>
            </a:r>
            <a:r>
              <a:rPr b="0" lang="sl-SI" sz="1600" spc="-1" strike="noStrike">
                <a:solidFill>
                  <a:srgbClr val="a6a6a6"/>
                </a:solidFill>
                <a:latin typeface="Arial"/>
                <a:ea typeface="Arial"/>
              </a:rPr>
              <a:t>(predstavljeno decembr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V IZVAJANJU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Končno vrednotenje izvajanja ukrepov ESS za spodbujanje socialne vključenosti in zagotavljanja enakih možnosti v obdobju 2007-2013 (zaključeno: do 20. 6. 2015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56196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6b6bcf"/>
                </a:solidFill>
                <a:latin typeface="Arial"/>
                <a:ea typeface="Arial"/>
              </a:rPr>
              <a:t>Končno vrednotenje izvajanja ukrepov ESS za spodbujanje socialne vključenosti in zagotavljanja enakih možnosti v obdobju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360" y="1928520"/>
            <a:ext cx="8229600" cy="5608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Končno vrednotenje četrte razvojne prioritete ESS 2007-2013 'Spodbujanje socialne vključenosti in zagotavljanje enakih možnosti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PREDMET KONČNEGA VREDNOTENJ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Instrumenti, ki so se izvajali v okviru treh prednostnih usmeritev četrte razvojne prioritete ESS 2007-2013 'Spodbujanje socialne vključenosti in zagotavljanje enakih možnosti', in sicer: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U 4.1. Enake možnosti na trgu dela in krepitev socialne vključenosti (12 instrumentov, razpoložljive pravice porabe: 43 M€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U 4.2. Povečati dostopnost in enakost možnosti v sistemu vzgoje in izobraževanja (10 instrumentov, razpoložljive pravice porabe: 7,9 M€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U 4.3: Dvig zaposljivosti ranljivih družbenih skupin in podpora njihovi socialni vključenosti (12 instrumentov, razpoložljive pravice porabe: 15,2 M€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Izvajalec: PITIJA svetovanje, d.o.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3FCFE-9D9E-4A43-8DA5-7E1785564A2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1706400"/>
            <a:ext cx="8229600" cy="560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NEKAJ UGOTOVITEV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eliko ugotovljenih pomanjkljivosti glede izvajanja četrte razvojne prioritete je v novem finančnem obdobju 2014-2020  odpravljeni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za novo finančno obdobje je pripravljena jasna in podrobna metodologija zbiranja podatkov za kazalnike, ki vključuje tudi definicije kazalnikov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ranljive ciljne skupine so jasno definirane že v Operativnem programu, poenotene definicije pa naj bi se upoštevale tudi v razpisih posameznih posredniških te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sakega končnega upravičenca naj bi se spremljalo ob vključitvi v program in ob izstopu iz programa. Na ta način naj bi se zagotovilo, da bo oseba obravnavana le enkra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6b6bcf"/>
                </a:solidFill>
                <a:latin typeface="Arial"/>
              </a:rPr>
              <a:t>S stališča doseganja ciljnih vrednosti kazalnikov ali naslavljanja specifičnih ciljev četrte razvojne prioritete, bi lahko zaključili, da je bila 4. RP izvedena uspešn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KONČNO POROČILO: 20. 6.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Končno poročilo bo objavljeno na </a:t>
            </a:r>
            <a:r>
              <a:rPr b="0" lang="sl-SI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4AD84-3CB7-4F21-B590-9F0EB6D60DE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Z</dc:creator>
  <dc:description/>
  <dc:language>en-US</dc:language>
  <cp:lastModifiedBy>Petra Jerina</cp:lastModifiedBy>
  <cp:lastPrinted>2015-06-01T09:23:34Z</cp:lastPrinted>
  <dcterms:modified xsi:type="dcterms:W3CDTF">2015-06-03T06:54:45Z</dcterms:modified>
  <cp:revision>52</cp:revision>
  <dc:subject/>
  <dc:title>Naslov</dc:title>
</cp:coreProperties>
</file>