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9E7-D82F-42AB-8A0E-8B7675E4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3B4-D0D0-4215-B2F1-1DBC32B5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992-3505-4AF9-8E6F-BFC51307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177-E239-47B4-B88A-6B8535B4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CF6-0105-4276-BC61-A369385E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0B7-4793-4000-B0A7-15DF246C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688-07D2-4DBA-B543-E2A8A30B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FCD-6F1B-4E09-887E-40CF161E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6E0-ED35-44D0-BB4E-25F5F51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692-4EBD-4432-AAA1-756ABCE5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914-7CF5-4FF3-8268-0F9B2B8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47C-D346-49E6-89E9-ACABAFE9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188C-CC30-4C25-90EA-31D256BE38B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42960" y="25527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OPERATIVNI PROGRAM KREPITVE REGIONALNIH RAZVOJNIH POTENCIALOV ZA OBDOB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00240" y="531648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Gregor Pir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21.5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3. RP – Povezovanje naravnih in kulturnih potencia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3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468360" y="2075040"/>
            <a:ext cx="8229600" cy="3454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  število podprtih projektov s področja turizma vključujoč v MSP; prenočitve turistov; število obiskovalcev v obnovljenih objektih kulturne dediš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preko 160 projektov  s področja turizma (infrastruktura in promo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29 projektov kulturn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12 projektov športno-rekreacijsk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4. RP – Razvoj reg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4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68360" y="2075040"/>
            <a:ext cx="8229600" cy="309528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7. javnega poziva za predložitev v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že skoraj 1000 projektov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Kot rezultat sofinanciranja je priklopljenih že 95.000 prebivalcev na kanalizacijski sistem v aglomeracijah manjših od 2000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koraj 145.000 prebivalcev s kvalitetnejšim vodovodnim siste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468360" y="11206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5. RP – Tehnična pomo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482760" y="1928880"/>
            <a:ext cx="82152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pletna stran www.eu-skladi.s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ocialno omrežje Facebook:  www.facebook.com/EUsklad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Javne razprave o finančni perspektivi 2014-2020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E-kohezijski kotiče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Študije in vrednoten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rednotenje 4. razvojne prioritete Operativnega programa krepitve regionalnih razvojnih potencialov za obdobje 2007-2013 - Razvoj regi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R (SVRK, MGRT, MIZŠ, MK, MZIP, MZ, SPS, SPIRIT, MIR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nakup administrativne in računalniške opreme, najem in vzdrževanje prostorov ter telekomunikacijske opreme za delo zaposlenih na področju kohezijske politik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32000" y="2144880"/>
          <a:ext cx="6192720" cy="3528720"/>
        </p:xfrm>
        <a:graphic>
          <a:graphicData uri="http://schemas.openxmlformats.org/drawingml/2006/table">
            <a:tbl>
              <a:tblPr/>
              <a:tblGrid>
                <a:gridCol w="784080"/>
                <a:gridCol w="679680"/>
                <a:gridCol w="342720"/>
                <a:gridCol w="752400"/>
                <a:gridCol w="750960"/>
                <a:gridCol w="450720"/>
                <a:gridCol w="525600"/>
                <a:gridCol w="525600"/>
                <a:gridCol w="344520"/>
                <a:gridCol w="345960"/>
                <a:gridCol w="344520"/>
                <a:gridCol w="345960"/>
              </a:tblGrid>
              <a:tr h="39672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sta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hodišč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črtova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7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že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DOGODK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SKI SPLETNE STR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IN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.3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ŠTUDIJ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VREDNOTEN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 ZAPOSLIT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SEJ NADZORNEGA ODB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ravokotnik 2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5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71640" y="25336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2. Predstavitev izvajanja OPR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v letu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1928880"/>
          <a:ext cx="8064360" cy="4003560"/>
        </p:xfrm>
        <a:graphic>
          <a:graphicData uri="http://schemas.openxmlformats.org/drawingml/2006/table">
            <a:tbl>
              <a:tblPr/>
              <a:tblGrid>
                <a:gridCol w="2556000"/>
                <a:gridCol w="1547640"/>
                <a:gridCol w="1297080"/>
                <a:gridCol w="1295280"/>
                <a:gridCol w="1368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3.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poudarki pri izvajanju OPRR v letu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468360" y="2075040"/>
            <a:ext cx="8229600" cy="4462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Dodeljevanje dodatnih pravic porabe (7,8 mio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8. javnega poziva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edbi pomembnejših projek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vogradnja FKKT &amp;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rdijski center Pl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instrumentov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ena dodatna investicija tveganega kapi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Dodatno polnjenje programa na podlagi spremembe O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Začetek gradnje v okviru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rc_mi" descr="http://www.pomurec.com/data/galerija/8d93994edb3a19b686280e7cb365bacc7dca957d/21310494069Celozaslonski%20zajem%2012.7.2011%20195748.jpg"/>
          <p:cNvPicPr/>
          <p:nvPr/>
        </p:nvPicPr>
        <p:blipFill>
          <a:blip r:embed="rId1"/>
          <a:srcRect l="0" t="9131" r="3255" b="9567"/>
          <a:stretch/>
        </p:blipFill>
        <p:spPr>
          <a:xfrm>
            <a:off x="6012000" y="2725560"/>
            <a:ext cx="2395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71640" y="249264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1. Predstavitev Letnega poročila o izvajanju OPRR v let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Ključni dogodki v letu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1916280"/>
            <a:ext cx="69850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Organiziran veliki dogodek  „Razvojni potencial v Zasavski regi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Sprememba Operativneg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Vlada RS je sprejela odločitev o ustanovitvi Službe vlade RS za razvoj in evropsko kohezijsko politi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Potrjevanje instrumentov iz dodatnih pravic porabe (36,8 mio 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Finančno izvajanje OP RR</a:t>
            </a:r>
            <a:r>
              <a:rPr b="1" lang="sl-SI" sz="4000" spc="-1" strike="noStrike">
                <a:solidFill>
                  <a:srgbClr val="034ea2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on 4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296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1928880"/>
          <a:ext cx="8136000" cy="4003560"/>
        </p:xfrm>
        <a:graphic>
          <a:graphicData uri="http://schemas.openxmlformats.org/drawingml/2006/table">
            <a:tbl>
              <a:tblPr/>
              <a:tblGrid>
                <a:gridCol w="2577960"/>
                <a:gridCol w="1562040"/>
                <a:gridCol w="1308240"/>
                <a:gridCol w="1392120"/>
                <a:gridCol w="12956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1. RP – Konkurenčnost podjetij in raziskovalna odli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on 4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1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468360" y="2075040"/>
            <a:ext cx="8229600" cy="465264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S subvencijami neposredno podprtih preko 1300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ofinanciranje R&amp;R dejavnosti in investicije v R&amp;R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sofinanciranje nakupa tehnološk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spodbujena dodatna vlaganja v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Centri odličnosti in kompetenčni centri uspešno zaključeni v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okrepitev povezovanja med akademsko sfero in gospodarstv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umeščanje v mednarodn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Instrumenti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dolžniškimi viri podprtih preko 1500 podjetij in ustvarjenega pre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260 mio EUR garancijskega potenc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lastniškimi viri podprtih 17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2. RP – Gospodarsko – razvoj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2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468360" y="2075040"/>
            <a:ext cx="8229600" cy="395892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Vsi kazalniki razen tistih s področje izgradnje izobraževalno-raziskovalne infrastrukture in urgentnih centrov že do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delujočih subjektov podpornega ok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projektov e-vsebin e-sto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GOŠO – preko 12.000 novih širokopasovnih priključkov (več kot 73.000 prebivalcev z možnostjo dostopa do inter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velikega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adaljevanje GOI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ba JN za dobavo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trjenih 7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cp:lastPrinted>2014-05-20T07:55:45Z</cp:lastPrinted>
  <dcterms:modified xsi:type="dcterms:W3CDTF">2014-05-21T08:54:47Z</dcterms:modified>
  <cp:revision>70</cp:revision>
  <dc:subject/>
  <dc:title>Naslov</dc:title>
</cp:coreProperties>
</file>