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F047-6947-4840-9946-018270BE4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8AAD-46AB-4206-8337-395AB661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3FF7-2D9A-4E58-9431-B227526DC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B60C-186A-4F4C-BDF0-44FB62E0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A01C-6987-4F08-A736-FEEF3AED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7C43-FEC8-4239-9EB4-C2FCA7AC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4012-57E4-404D-8CA7-504B3772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172D-A451-4A19-91FC-208EF549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A8EF-606F-4D1C-ABEB-4B0A907C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E8FC-F3F8-4AB7-B781-D25F4670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18AA-B8A9-4AA8-950F-E7F7479D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66D0-87C2-4F01-AFDA-A0817B16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B916-91E3-413D-9AA8-1F992B68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A58D-8E0C-487E-B820-DB011B68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7494-BF2F-4F81-99E2-B0F8646C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FA4A-9EC7-4246-9F03-1B05FE923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CB36-AB01-46C8-8862-F30B51406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5557-7FD8-4F09-93D1-1921319C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D448-F19C-4456-B5AD-CEE35DB9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9A74-710E-411A-81E7-0307D259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8FD3-7A48-4D31-BDF2-57E7F704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24C4-1E48-420D-878C-21D6AA32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FD8E-40E9-425D-BE75-95D07473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02AA-5E5B-495B-A4EF-455E277D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3D06-84BD-4F8C-9122-47DBA0EE270A}" type="slidenum"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Z:\JAVNA UPRAVA 2010\Si CGP\CGP_prirocnik_WEB\OUT\05 Medijsko promocijski elementi\11 PPT predstavitev\untitled folder\ozadje-01.png"/>
          <p:cNvPicPr/>
          <p:nvPr/>
        </p:nvPicPr>
        <p:blipFill>
          <a:blip r:embed="rId3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961920" y="755640"/>
            <a:ext cx="2779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GOSPODARSKI RAZVOJ IN TEHNOLOGIJ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grb moder za 10 pt.wmf"/>
          <p:cNvPicPr/>
          <p:nvPr/>
        </p:nvPicPr>
        <p:blipFill>
          <a:blip r:embed="rId4"/>
          <a:stretch/>
        </p:blipFill>
        <p:spPr>
          <a:xfrm>
            <a:off x="639720" y="760320"/>
            <a:ext cx="166680" cy="222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971640" y="6780240"/>
            <a:ext cx="14954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780240"/>
            <a:ext cx="13320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E74F-FEAB-4FDA-8DF7-89B6D34F1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grada številke diapozitiva 2"/>
          <p:cNvSpPr/>
          <p:nvPr/>
        </p:nvSpPr>
        <p:spPr>
          <a:xfrm>
            <a:off x="6553080" y="6780240"/>
            <a:ext cx="13320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EFDC-2D0B-4F27-A5CE-714C548A3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7326360"/>
          </a:xfrm>
          <a:prstGeom prst="rect">
            <a:avLst/>
          </a:prstGeom>
          <a:ln w="0">
            <a:noFill/>
          </a:ln>
        </p:spPr>
      </p:pic>
      <p:sp>
        <p:nvSpPr>
          <p:cNvPr id="87" name="Pravokotnik 9"/>
          <p:cNvSpPr/>
          <p:nvPr/>
        </p:nvSpPr>
        <p:spPr>
          <a:xfrm>
            <a:off x="1143000" y="2943360"/>
            <a:ext cx="65008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Horizontalni ukrepi v okviru kohezijske politike (tehnična pomoč)</a:t>
            </a:r>
            <a:br>
              <a:rPr sz="4000"/>
            </a:br>
            <a:br>
              <a:rPr sz="4000"/>
            </a:b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maj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Slika 5" descr="logo_nova vladna služba_SLO"/>
          <p:cNvPicPr/>
          <p:nvPr/>
        </p:nvPicPr>
        <p:blipFill>
          <a:blip r:embed="rId2"/>
          <a:stretch/>
        </p:blipFill>
        <p:spPr>
          <a:xfrm>
            <a:off x="433440" y="849240"/>
            <a:ext cx="37782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le 1"/>
          <p:cNvSpPr/>
          <p:nvPr/>
        </p:nvSpPr>
        <p:spPr>
          <a:xfrm>
            <a:off x="928800" y="871560"/>
            <a:ext cx="7500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Stanje izvajanja tehnične pomoči na dan 30.04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57360" y="5457960"/>
            <a:ext cx="7772400" cy="125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>
                <a:solidFill>
                  <a:srgbClr val="034ea2"/>
                </a:solidFill>
                <a:latin typeface="Arial"/>
              </a:rPr>
              <a:t>Do konca meseca marca 2014 je realizacija tehnične pomoči znašala približno 68,05 mio EUR ali 65,2 % vseh razpoložljivih sredstev tehnične pomoči. Do konca finančnega obdobja 2007-2013 (31.12.2015) je potrebno porabiti še 36.3 mio EUR ali 34,8 % razpoložljivih sredstev tehnične pomoč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Grafikon 6" descr=""/>
          <p:cNvPicPr/>
          <p:nvPr/>
        </p:nvPicPr>
        <p:blipFill>
          <a:blip r:embed="rId1"/>
          <a:stretch/>
        </p:blipFill>
        <p:spPr>
          <a:xfrm>
            <a:off x="542880" y="1158840"/>
            <a:ext cx="835200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48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Ukrepi na področju izvajanja tehnične pomoč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1281240"/>
            <a:ext cx="813744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Vlada RS je ob koncu leta 2013 sprejela akcijski načrt za pospešitev črpanja evropskih kohezijskih sredstev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Ukrepe za pospešitev izvajanje tehnične pomoči so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dodatno zaposlovanje iz sredstev tehnične pomoči – do sedaj smo jih na OU dodatno potrdili 58 zaposlitev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dodatna usposabljanja/izobraževanja, ki jih organizira organ upravljanja - do sedaj smo jih na OU izvedli 21 usposabljanja/izobraževanja  za različna področja (učinkovita priprava ZZP-jev, upravljanje in vodenje projektov v državni upravi, javna naročila, državne pomoči, računovodenje, usposabljanje na področju gradbenih investicij,…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pripravljalne aktivnosti, ki se nanašajo na finančno obdobje 2014-2020 (vrednotena, študije, analize,…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rcRect l="14513" t="0" r="14402" b="10723"/>
          <a:stretch/>
        </p:blipFill>
        <p:spPr>
          <a:xfrm>
            <a:off x="1666800" y="2301840"/>
            <a:ext cx="4608720" cy="2651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1943280" y="4952880"/>
            <a:ext cx="5868720" cy="11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777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Načrti </a:t>
            </a:r>
            <a:r>
              <a:rPr b="1" lang="it-IT" sz="2000" spc="-1" strike="noStrike">
                <a:solidFill>
                  <a:srgbClr val="034ea2"/>
                </a:solidFill>
                <a:latin typeface="Arial"/>
              </a:rPr>
              <a:t>za leti 2014 in 2015</a:t>
            </a: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 v okviru tehnične pomoči s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23640" y="1641600"/>
            <a:ext cx="813564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dodatna izobraževanja/usposabljanja za konkretne ciljne skupine (npr. ločeno kontrolorji, skrbniki pogodb, upravičenci, ipd.) na konkretnih področjih (javno naročanje, računovodstvo in knjigovodstvo, državne pomoči, ipd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pospešitev aktivnosti na področju vrednotenja in študij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pospešiti aktivnosti , ki se nanašajo na področje obveščanja javnost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kadrovska okrepitev na področju kjer so potrebe (npr. kontrolorj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financiranje pripravljalnih aktivnosti za 2014-2020 (npr. predhodne pogojenost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0T10:14:35Z</dcterms:modified>
  <cp:revision>216</cp:revision>
  <dc:subject/>
  <dc:title>Naslov</dc:title>
</cp:coreProperties>
</file>