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F9151B-0308-4857-8025-B6A286458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40AA1-8710-4BB0-A6B5-210458E5119A}" type="slidenum">
              <a:rPr b="0" lang="en-US" sz="1200" spc="-1" strike="noStrike">
                <a:solidFill>
                  <a:srgbClr val="9999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2BB-A748-4EEB-8DEE-6B4A4C5C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7AF-B4E4-4930-97EA-FFAA7170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30B-404E-4F44-A613-08821E92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8DE-6D34-4470-8940-259C7448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A26A-4150-44E4-8AF5-FB6361F1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ED6C-C7B9-4220-92DD-188BCB72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84F1-05E5-4EBC-9E6A-DC99FD92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4BDB-643A-4A6F-A239-0E93FF85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9D7E-6A6B-41F5-84A1-873D3275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18A1-DAF0-4BE7-8870-C1D537FC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0D6D-C6C5-4C02-85A7-4E3546EA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C4A-77C2-44E7-97ED-99F7E5CD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06C7-25F3-4B58-888C-10DEB88C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917B-22DE-4877-B798-B25628A0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3625-AB39-4DD6-B291-C400FF41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3B1E-2F60-41D5-832B-7DF3EFDA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4CAF-E115-4385-A874-29083DC9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5A78-B8EE-4FDE-875F-5834F913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E28A5-E019-449E-9502-8D211128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07891-BE23-4769-86A7-3FBF4F91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D2A2-D7B6-49F7-8900-73750AD1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2B0AD-A759-4ABD-BEFB-8DC08295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3E8-9CFB-45A1-AFB5-A48ECF62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C34E2-D26D-4D61-9CC2-EDCDBDC3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A83F-FC6A-4791-977C-54C1FA4B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E44B7-B95A-465C-9AF2-16ECEF4C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0EAC8-5BE7-4A44-841F-5C959E45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9D755-720B-4D99-915E-4CE3BC9E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BA5B2-2CE0-4DC2-877F-055B2E37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273AB-FD66-4802-85B6-C4C0F8F6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BC4D8-4A0D-4647-8126-5B54A9FE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FDAA3-6CD1-4B2B-9318-71124AF7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97441-31CB-4920-879C-16726952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626-3253-496C-B4B2-AE2AC3D9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77A7C-5658-47FC-BB7E-8997233F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9BB2E-7ED3-4271-A3FA-B75413AA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C1041-3555-4DE4-AE69-D8E20A83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A09B-2C73-40D4-BA94-CBB456DF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27419-CEBF-4E3F-9C03-5B3261C0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E6EC-F69E-427D-BC6B-B77E2EEF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31EBB-7B27-453D-8BBC-672B7D83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E18F5-6004-4C51-9BB7-7D28E7CD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F78C9-BA89-4763-A134-35E36B38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F92E4-39D6-42FB-A1DF-BE3A41D5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AE3-604C-4689-8AFC-BD0991E5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E3976-594A-40DA-8411-17D20CB7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EE4EF-5D4D-49DD-A745-1FFB2755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9D445-DF1B-4ED8-B522-E0073A62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2D78D-E0CE-494E-A02D-2373F205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65717-80F6-4655-BC35-E0E10BDC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F02FA-7AB7-4E60-B976-98C9FB72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584A6-5BB9-4F79-B4A9-DEF68FD9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BFE4D-4530-4313-9274-97EDB403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8CDC1-80DE-448F-93E3-DD8A832A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0F906-0C3D-485E-99F4-A362D744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858-4243-4511-AC5A-8F2B9DAD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123CE-49F3-4FDB-912C-C1433788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044B7-A80A-4517-AF60-71FA0AD8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7AE12-438F-4899-AB20-562B6D0D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44F87-0D85-4393-B225-66E3854E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7F0F3-6A4C-43C1-8A92-AA1F9735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2DC47-809E-47AB-9DDD-E71CAF8C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40FEA-2C92-4049-AA5D-5DFA44E1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701B0-B177-4FEC-8268-4B4DBEFC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BFA65-F79F-4213-AA02-3D7E38B7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4588F-4D8E-46C2-BA65-07D13128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0786-7C58-4854-8769-58BD30BF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E1037-BCBC-44DC-82FC-8EB23681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EC311-22D1-440F-9315-3F6AA16C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ACA71-3E61-4C63-AE96-58CABF6B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4D056-A269-4708-9F90-94537359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C9CC2-E55E-452E-B5D0-5BA0B4EA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6B2B6-38BC-47EC-9915-00D095DD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D3C00-8F6D-4CC5-9E8A-4BBD1A62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B633B-ECD7-4E57-B198-6AC02B41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D4EC6-BE25-46E5-B249-4D445DF3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68BD7-B5CF-4A41-A092-1525ABB8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2C2-E5E7-4996-A6E0-EFE16CD7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B3425-E569-40DE-8FBB-7888AE21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2AF40-18B0-4640-9FA8-1C5CE8B6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88ABC-408C-4987-8D8E-5DAB852A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D0154-4F0E-4E6A-8F8B-485F5F4B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5A5CF-A750-43E1-9C46-BA229A3E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077-4A1C-485C-810C-63E70A31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16040"/>
            <a:ext cx="3245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EC6AF-6178-4DA9-96B5-DC175C6A08C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05D39-9C01-490B-A7B7-723D911B1C3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961920" y="708120"/>
            <a:ext cx="2970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961920" y="708120"/>
            <a:ext cx="27799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7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971640" y="6356520"/>
            <a:ext cx="149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FF10E-0821-4DB6-B48D-76301171451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8"/>
          <p:cNvSpPr/>
          <p:nvPr/>
        </p:nvSpPr>
        <p:spPr>
          <a:xfrm>
            <a:off x="961920" y="708120"/>
            <a:ext cx="2924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0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6BCFB-C55A-496B-A941-743FA9A2CA5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8"/>
          <p:cNvSpPr/>
          <p:nvPr/>
        </p:nvSpPr>
        <p:spPr>
          <a:xfrm>
            <a:off x="961920" y="708120"/>
            <a:ext cx="341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3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4C891-AC05-49B0-89E4-80FFAFF5467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8"/>
          <p:cNvSpPr/>
          <p:nvPr/>
        </p:nvSpPr>
        <p:spPr>
          <a:xfrm>
            <a:off x="961920" y="708120"/>
            <a:ext cx="3029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EC511-1530-45CA-A83C-54B7C1ACE88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8"/>
          <p:cNvSpPr/>
          <p:nvPr/>
        </p:nvSpPr>
        <p:spPr>
          <a:xfrm>
            <a:off x="961920" y="708120"/>
            <a:ext cx="3781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59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D3192-7879-4AE5-8D8D-45E1B446A3D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71640" y="1695240"/>
            <a:ext cx="720072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Optimizacija </a:t>
            </a: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in ostali načrti glede informacijskega sistema ISARR</a:t>
            </a:r>
            <a:br>
              <a:rPr sz="4400"/>
            </a:b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9" name="PoljeZBesedilom 5"/>
          <p:cNvSpPr/>
          <p:nvPr/>
        </p:nvSpPr>
        <p:spPr>
          <a:xfrm>
            <a:off x="464040" y="613404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l-SI" sz="1600" spc="-1" strike="noStrike">
                <a:solidFill>
                  <a:srgbClr val="0070c0"/>
                </a:solidFill>
                <a:latin typeface="Arial"/>
              </a:rPr>
              <a:t>Otočec, 21. maj 2014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ripravljamo izboljšave na področju izmenjave podatkov med informacijskim sistemom organa upravljanja in informacijskim sistemom plačilnega organa in organa za potrjevanja  z namenom, da se avtomatizira izmenjava podatkov med vsemi sistemi in se s tem skrajša tudi potreben čas za izplačilo in pripravo zahtevka za povračilo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1" name="Magnetni disk 4"/>
          <p:cNvSpPr/>
          <p:nvPr/>
        </p:nvSpPr>
        <p:spPr>
          <a:xfrm>
            <a:off x="5438880" y="4552920"/>
            <a:ext cx="1276200" cy="1095480"/>
          </a:xfrm>
          <a:prstGeom prst="flowChartMagneticDisk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FERAC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2" name="Magnetni disk 5"/>
          <p:cNvSpPr/>
          <p:nvPr/>
        </p:nvSpPr>
        <p:spPr>
          <a:xfrm>
            <a:off x="2247840" y="4552920"/>
            <a:ext cx="1276560" cy="1095480"/>
          </a:xfrm>
          <a:prstGeom prst="flowChartMagneticDisk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ISARR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3" name="Desna puščica 2"/>
          <p:cNvSpPr/>
          <p:nvPr/>
        </p:nvSpPr>
        <p:spPr>
          <a:xfrm>
            <a:off x="3666960" y="4691160"/>
            <a:ext cx="1648080" cy="39060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odatki za odredbe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4" name="Leva puščica 3"/>
          <p:cNvSpPr/>
          <p:nvPr/>
        </p:nvSpPr>
        <p:spPr>
          <a:xfrm>
            <a:off x="3753000" y="5295960"/>
            <a:ext cx="1562040" cy="352440"/>
          </a:xfrm>
          <a:prstGeom prst="lef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Calibri"/>
              </a:rPr>
              <a:t>Podatki o izplačilih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V sodelovanju z Ministrstvom za notranje zadeve, ki je pristojen za področje državne informatike načrtujemo prehod informacijskega sistema v oblačno storitev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(e-cloud)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485640" y="3500280"/>
            <a:ext cx="8172720" cy="2524320"/>
          </a:xfrm>
          <a:prstGeom prst="rect">
            <a:avLst/>
          </a:prstGeom>
          <a:ln w="0">
            <a:noFill/>
          </a:ln>
        </p:spPr>
      </p:pic>
      <p:sp>
        <p:nvSpPr>
          <p:cNvPr id="317" name="Desna puščica 2"/>
          <p:cNvSpPr/>
          <p:nvPr/>
        </p:nvSpPr>
        <p:spPr>
          <a:xfrm>
            <a:off x="2666880" y="4219560"/>
            <a:ext cx="2686320" cy="122868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</a:rPr>
              <a:t>Prehod na zmogljivejšo in novejšo tehnologij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8" name="PoljeZBesedilom 3"/>
          <p:cNvSpPr/>
          <p:nvPr/>
        </p:nvSpPr>
        <p:spPr>
          <a:xfrm>
            <a:off x="1110600" y="4578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SARR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zmanjševanje števila posameznih  faz pri oddaji zahtevkov za povračilo na način, da se bo ob plačilu upravičenih stroškov v računovodski sistem plačilnega organa (MFERAC), preko odredb avtomatično tvoril zahtevek za povračilo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847800" y="4124160"/>
            <a:ext cx="2009880" cy="1393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6134040" y="4124160"/>
            <a:ext cx="2009880" cy="1393920"/>
          </a:xfrm>
          <a:prstGeom prst="rect">
            <a:avLst/>
          </a:prstGeom>
          <a:ln w="0">
            <a:noFill/>
          </a:ln>
        </p:spPr>
      </p:pic>
      <p:sp>
        <p:nvSpPr>
          <p:cNvPr id="322" name="Desna puščica 2"/>
          <p:cNvSpPr/>
          <p:nvPr/>
        </p:nvSpPr>
        <p:spPr>
          <a:xfrm>
            <a:off x="3000240" y="4303800"/>
            <a:ext cx="3133800" cy="103500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Calibri"/>
              </a:rPr>
              <a:t>Samodejna priprava na osnovi informacije o izplačil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spremembe na področju informacijske podpore izvajanja tehnične pomoči vključno s informacijsko podporo izvajanju vzorčne kontrole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666880" y="4024440"/>
            <a:ext cx="3808440" cy="1738080"/>
          </a:xfrm>
          <a:prstGeom prst="rect">
            <a:avLst/>
          </a:prstGeom>
          <a:ln w="0">
            <a:noFill/>
          </a:ln>
        </p:spPr>
      </p:pic>
      <p:sp>
        <p:nvSpPr>
          <p:cNvPr id="325" name="PoljeZBesedilom 2"/>
          <p:cNvSpPr/>
          <p:nvPr/>
        </p:nvSpPr>
        <p:spPr>
          <a:xfrm>
            <a:off x="1635120" y="6076800"/>
            <a:ext cx="58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Arial"/>
              </a:rPr>
              <a:t>Poenostavitve in skrajšanje potrebnega časa za kontrol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izboljšave s področja poročanja in izpisov za uporabnike ter izboljšanje nadzora Organa upravljanja nad izvajanjem kohezijske politik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3029040" y="3024360"/>
            <a:ext cx="3078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640" y="129492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 OU intenzivno pripravljamo vse potrebne podlage za izvedbo javnega naročila v zvezi z novim informacijskim sistemom za podporo izvajanja kohezijske politike 2014-2020. V nov informacijski sistem bomo vključili tudi funkcionalnosti skladne z zahtevami e-kohezije, kot na primer e-razpis, e-podpis, v celoti elektronsko izmenjavo podatkov med upravičenci in posredniškimi telesi…)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257640" y="4181400"/>
            <a:ext cx="26287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0:06:07Z</dcterms:created>
  <dc:creator>mitja</dc:creator>
  <dc:description/>
  <dc:language>en-US</dc:language>
  <cp:lastModifiedBy>Janika Gregorič Zečevič</cp:lastModifiedBy>
  <dcterms:modified xsi:type="dcterms:W3CDTF">2014-05-20T10:15:06Z</dcterms:modified>
  <cp:revision>21</cp:revision>
  <dc:subject/>
  <dc:title>Sprememba izvajanja črpanja EU sredstev z poenostavitvami</dc:title>
</cp:coreProperties>
</file>