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/>
          <p:nvPr/>
        </p:nvSpPr>
        <p:spPr>
          <a:xfrm>
            <a:off x="0" y="0"/>
            <a:ext cx="679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dt" idx="34"/>
          </p:nvPr>
        </p:nvSpPr>
        <p:spPr>
          <a:xfrm>
            <a:off x="38480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sldImg"/>
          </p:nvPr>
        </p:nvSpPr>
        <p:spPr>
          <a:xfrm>
            <a:off x="920880" y="742680"/>
            <a:ext cx="4952880" cy="371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eeece1"/>
              </a:solidFill>
              <a:latin typeface="Tw Cen MT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ftr" idx="35"/>
          </p:nvPr>
        </p:nvSpPr>
        <p:spPr>
          <a:xfrm>
            <a:off x="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 type="sldNum" idx="36"/>
          </p:nvPr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719DD-7674-40A2-8C19-A9CB8A8CC4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Slide Number Placeholder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61442-04B8-4A63-B0B8-DE4DFDCE06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F39B-2CA8-4E8E-9266-A4CF88F5F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816E-D753-488E-A864-91DF228AB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D74446-777B-4F37-9C7F-AEAB7F1EE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103BDE-0F43-4441-9B8D-089EAEC7B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8439B6-BAB2-4C10-9848-D409A8FCF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A2D07F-9879-468A-9FA1-B67374CEB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3E76F1-F666-49E8-B534-E62588AA7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F2AFA2-7A1D-4E03-B86E-4E3402235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6D36C3-D39F-44FF-AD43-AA2427C3A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202DCD-1BDE-41A0-A731-6E651B69C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868FEC-5DED-4B1C-B302-BD3B84801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FABC4DE-C715-4E8C-B662-67C59BA53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BE3F-DD01-42FA-864F-61F544A21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41E04E9-3A8E-4E6A-94DE-6FDAA8CBA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29CA203-C208-47D1-802F-C3C77BD44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DFA3302-C4BF-4A7A-8CC3-7B999149B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7420B2B-2A19-429C-B594-2A7ECDA0F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2082283-C46E-4335-80AD-C000BF4D6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94CEBC6-3C6B-44A0-8A6B-1A2887C01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4F543CA-6FE9-4CEF-8E4C-27FE69A9B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E315AC0-B3C2-4941-95AB-9C27BC5E1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461C34F-BF89-4BCB-8A65-50829F5ED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E9ACBB8-A5FB-4207-9A72-3EF0D0574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4F21-2BBE-47E6-B48B-CB227A3BF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BA30151-6EA8-45D4-AF0E-93E2F0FDB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AD487B-2656-4B16-9301-4ACD840A4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79B6B7-30D1-47D1-8C44-4C41A4909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CC4242-ED68-4C0B-88B7-0D6A2113C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82BAD7-7BB7-489A-AF41-B2716ADF6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8E7CF3-F552-4B34-9305-C366DE99D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B7F925-373F-4009-9E1F-97D85A383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C41FE7-F2A0-4874-8B3B-3D7189846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7C0748-B766-43C8-9EEF-6B0405DA0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5EA368-7329-4E58-81A9-115225719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D3056-5FC2-4BE8-B1D0-A46DB02A0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0EDC18-0272-4297-AE16-5332298FF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2F8CAB-4B07-4E00-931D-3DB2C9786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104244-A7EC-42AD-AA86-09AF6D9B0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253CD-1667-41F4-9756-E3132C655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D9D30-124B-4FBE-9F3D-969C1953E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4EB5B-1811-4278-A88E-1021E98E6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84D65-32D6-4BA4-813F-24082C461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AE032-E62F-4C2B-A252-E67C8DA8B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0293E-D8AA-450D-B6F4-7903C0545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0EFD-4795-447C-8892-F789C8198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841EE-D02E-49F1-AAD5-22C594D62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6833C-A177-41B0-B1C8-8973CB210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E55AB-2A48-4A90-9435-040E1A5E8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54C98-EA33-401D-99E4-8DB02E97A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D8A10-4695-4D5A-9B0B-6063546BF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920435-E7B0-4CF9-8DD6-AF500B76D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3FA3AE-B9CD-4433-8826-0FB8A9DF2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FFFCC0-3FB7-4F1D-85D6-69BC4B165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6CE275-FD40-4105-9C7F-2A4EC04E4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382FB1-C5AB-4FF5-A516-B6B17A19D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EDAE-800A-4006-B72B-B96FA676E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8D8530-DE12-405C-B465-D4FFB9EAD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3C853E-F604-4B4C-A817-551CEA01F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50A3FD-A42E-4206-BE41-0C75548B8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7D89A6-51CF-4DCC-B7E3-71419B40E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1676D7-0BBF-44C6-82D5-F6AF6745F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E22018-93B1-4549-B9D4-62D95D58F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D1C042-BC4D-4AD8-AAE9-6E73F6D77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161AE08-9619-432A-8A76-9354BBD69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3FEF1B7-492F-43F7-9F1F-DD683F6D9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21C6141-5FC7-4BF4-B737-CE596A3CD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1DBE-D27C-4201-870A-6CF408F3E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CE0E91A-15FB-45A7-B278-42A73ACC1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C990E0A-1A74-45AB-BA6D-D4906B167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969CB72-6250-4B0D-B6BF-7F7E4311F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7641DD2-3DEE-4E0A-8EF6-785116B87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0E3DBEE-59AE-4119-8766-92BE663F0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FB4311C-B7FF-4CD7-A4FF-5BBD963AC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A4FA746-57BF-404B-8C1A-02E9985E8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26076E2-28D3-4390-A890-7916159FF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D133371-F741-45EC-B799-72FFF1ED7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2A4131-E5E9-4568-AFF5-DB8FB09D8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6D0A-F362-4804-993A-D600F5E8F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CBAC59-5CF1-4C7D-9DF2-25F1A4987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96E332-CC60-40E6-AE22-2444BD8F6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DFDD90-86A0-4F70-B5F7-92859E867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4F2998-BBDF-496B-B7D5-4993A3AE8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1D47BA-A765-4C85-A64D-E807337E5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7CB4C4-B270-4A5E-B024-24885550C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ACFEF7-C18B-46D0-B0E3-E0EEE91DB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231D01-4737-4ADF-812F-F1F1B6287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D967A9E-DAD6-4A7F-B18E-947C8EC5E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307DBF-2FB1-4478-8CD1-3F83138C9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D788-343E-4915-8B4F-11F860BE0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DBD748-505C-4704-8DC0-E200AD9EA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15A1EBB-B01D-4E5F-A5AC-0C546A7CD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7B39DC7-7BEC-469A-9879-662356754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ADF9D4-F838-4EEE-8978-FAE18B76D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4322401-5D28-48EC-BAB7-BB81E50AF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37EB5C5-E5B8-4491-A56E-3DC9015E7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9591906-C929-4D0E-A6B7-19C5E447E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631302C-FC3A-4ED0-9566-5CEFAC0F5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42ACEF-B1DB-405A-B005-BB3FFDC2C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54944DD-9EAB-4BF0-92A2-F31CE4F7A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CC10-78DE-4E0E-B0A4-406DF657C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6C47968-1CC5-401A-B954-CC76B4EA0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72ADA6B-ADAD-41EC-B34B-A69857C6D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837F20C-2ACF-4A6A-928D-DAF77434A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D73D43-B261-46E0-A30B-CD9EAD1DE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D34840-1E45-4F49-8990-8FAC732C1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4C8750-26B7-48EF-964F-CCC267D3A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55B068-5ABE-4344-B2EB-E6D0FB4D0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F871FB-FB08-4A73-B500-650FF68C8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5456C1-D82A-4B54-980E-3DD7C2A98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AAA6E7-407E-40C2-90F6-37FFD4F74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E9F4-2D7D-47F1-B6E9-AE0933038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8B0E37-F341-4854-9EA9-28F5A952F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814D77-AC02-407D-97A3-4F2C5810D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7748F5-0904-4A68-8FFE-335E6B680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814EAB-93D6-40C8-AA75-87E877E39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B06F94-9D0A-4B56-9F66-610F36742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115B4B-34D7-4F69-90CA-8F3BD1683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EBF0F6-8B7F-499E-AA45-6F7A4ED19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9F503F-A92F-4E67-AA63-67B352C14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415A90-2348-4213-9B57-502E5DB9C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D5C0E8-46E4-4004-B122-0A60EC140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CE6C-C0FB-427D-B5DD-8ABDFFF73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4FF711-1881-44D6-A791-88BD7821B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AC0707-6288-414C-980B-12F5FBD27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C93A24-1C40-4811-ABA0-46073BC10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495E7F-09FE-40A5-9415-CF51B6267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0D461B-410E-4701-85BC-83A545055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45BC60-1D73-461E-8A72-AF24CC82E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844A5F-90BB-4125-9697-2A1A6C336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437128-9042-41DE-B21F-2145FD4AE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BE379C-E9D9-43A7-9585-709C17842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C6CCE4-33BB-48DF-8375-8F7DC2C40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d2cb6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95a39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1685E-FC22-4FAD-87E6-E93359605A92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31/26</a:t>
            </a:fld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 </a:t>
            </a:r>
            <a:fld id="{F2A3F1F0-7449-4025-B159-935F1F5C947A}" type="datetime10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6:14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E8DD3-3B45-4518-B810-576055618775}" type="slidenum">
              <a:rPr b="1" lang="en-US" sz="1200" spc="-1" strike="noStrike">
                <a:solidFill>
                  <a:srgbClr val="1f497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4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5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6" name="Rectangle 14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d2cb6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95a39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dt" idx="28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552F4-E42B-4CEC-BDF4-E2ACC4842E6C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31/26</a:t>
            </a:fld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 </a:t>
            </a:r>
            <a:fld id="{E291DA6E-ACE0-4896-8958-B102B5C1031C}" type="datetime10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6:14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 type="sldNum" idx="29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1A103-7F17-4B26-A16F-4B2D35FECE9D}" type="slidenum"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 type="ftr" idx="30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9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0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d2cb6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95a39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31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1E874-1DF9-4538-AC0D-C0278892BCC4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31/26</a:t>
            </a:fld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 </a:t>
            </a:r>
            <a:fld id="{40CB70A8-9079-4CD4-BEF3-72C093A84F6C}" type="datetime10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6:14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32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33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ACC0D-DEE7-44D7-B78D-4F3634CCD9EB}" type="slidenum">
              <a:rPr b="1" lang="en-US" sz="1200" spc="-1" strike="noStrike">
                <a:solidFill>
                  <a:srgbClr val="1f497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eece1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d2cb6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95a39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627F2-BBD7-4770-95F9-51F2FA0F32D5}" type="datetime"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2AF2C577-7A4C-42FD-BD72-768E954C6B55}" type="datetime10"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06:14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eece1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83407-33F3-4ED3-A59E-6D84141356CC}" type="slidenum">
              <a:rPr b="1" lang="en-US" sz="1400" spc="-1" strike="noStrike">
                <a:solidFill>
                  <a:srgbClr val="eeece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d2cb6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95a39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76748-F22E-4D25-939F-19A2F3C9B971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31/26</a:t>
            </a:fld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 </a:t>
            </a:r>
            <a:fld id="{CDD9854B-DA4C-4A5D-B343-CD99C95F24DE}" type="datetime10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6:14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DC63C-8840-4A0A-BE9B-3518577C45F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3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d2cb6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95a39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8A102-49C9-45B0-BF03-D1D9789BEDE8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31/26</a:t>
            </a:fld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 </a:t>
            </a:r>
            <a:fld id="{5DFB3D0A-50E6-4F06-861B-F95F42C9A42D}" type="datetime10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6:14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20EBD-69CA-40DF-9ADE-93D6472B7141}" type="slidenum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d2cb6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95a39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7F79B-3913-4DF3-B278-85B5A6982FD0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31/26</a:t>
            </a:fld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 </a:t>
            </a:r>
            <a:fld id="{96F94AB3-1CF7-4783-9198-FE454A38EEC0}" type="datetime10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6:14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E935D-3D41-4C8E-A422-B59E2A64B88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d2cb6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95a39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C7BAA-7554-4571-9126-54538E061434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31/26</a:t>
            </a:fld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 </a:t>
            </a:r>
            <a:fld id="{142984A3-79F2-42BD-829E-2FEF4F5283B8}" type="datetime10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6:14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sldNum" idx="17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8D5DF-E876-431B-8761-4B1FF6F508E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ftr" idx="18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d2cb6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95a39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160FA-45E0-4797-AD3D-B5750F8F46D6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31/26</a:t>
            </a:fld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 </a:t>
            </a:r>
            <a:fld id="{1CF8D0B9-493F-4F22-848E-488FDF586E7A}" type="datetime10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6:14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DAEAC-F735-4800-BC08-923C7882E2B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d2cb6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95a39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22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B7998-2A47-4D5F-A25B-143A35221769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31/26</a:t>
            </a:fld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 </a:t>
            </a:r>
            <a:fld id="{14AC945C-F8B4-48C6-AD6F-5D7BD4613AD6}" type="datetime10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6:14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3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4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90293-B8C4-4F06-9BA7-90165A9AE145}" type="slidenum">
              <a:rPr b="1" lang="en-US" sz="1400" spc="-1" strike="noStrike">
                <a:solidFill>
                  <a:srgbClr val="1f497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0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1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d2cb6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95a39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dt" idx="25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2B1AB-E378-4595-8985-1E18322C91CB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31/26</a:t>
            </a:fld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 </a:t>
            </a:r>
            <a:fld id="{3E67327A-06B8-42C4-8A50-F9620F6BC90F}" type="datetime10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6:14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ftr" idx="26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sldNum" idx="27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55041-B855-4314-B666-F875BA55EB3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542960" y="1557360"/>
            <a:ext cx="6477120" cy="251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0" lang="sl-SI" sz="4500" spc="-1" strike="noStrike">
                <a:solidFill>
                  <a:srgbClr val="eeece1"/>
                </a:solidFill>
                <a:latin typeface="Tw Cen MT"/>
              </a:rPr>
              <a:t>Javno naročanje v Sloveniji in ukrepi za njegovo učinkovitost</a:t>
            </a:r>
            <a:r>
              <a:rPr b="0" lang="en-GB" sz="4500" spc="-1" strike="noStrike">
                <a:solidFill>
                  <a:srgbClr val="eeece1"/>
                </a:solidFill>
                <a:latin typeface="Tw Cen MT"/>
              </a:rPr>
              <a:t>  </a:t>
            </a:r>
            <a:endParaRPr b="0" lang="en-US" sz="4500" spc="-1" strike="noStrike">
              <a:solidFill>
                <a:srgbClr val="eeece1"/>
              </a:solidFill>
              <a:latin typeface="Tw Cen M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3203280" y="6049440"/>
            <a:ext cx="5864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w Cen MT"/>
              </a:rPr>
              <a:t>Direktorat za javno naročanje 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w Cen MT"/>
              </a:rPr>
              <a:t>Maja Koković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1" name="TextBox 4"/>
          <p:cNvSpPr/>
          <p:nvPr/>
        </p:nvSpPr>
        <p:spPr>
          <a:xfrm>
            <a:off x="6443640" y="5300640"/>
            <a:ext cx="27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Tw Cen MT"/>
              </a:rPr>
              <a:t>Otočec,  21. 5. 2014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92" name="Picture 3" descr=""/>
          <p:cNvPicPr/>
          <p:nvPr/>
        </p:nvPicPr>
        <p:blipFill>
          <a:blip r:embed="rId1"/>
          <a:stretch/>
        </p:blipFill>
        <p:spPr>
          <a:xfrm>
            <a:off x="0" y="6016680"/>
            <a:ext cx="3086280" cy="8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1f497d"/>
                </a:solidFill>
                <a:latin typeface="Tw Cen MT"/>
              </a:rPr>
              <a:t>Posebnosti nacionalne ureditve     I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80440" indent="-28044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900" spc="-1" strike="noStrike">
                <a:solidFill>
                  <a:srgbClr val="000000"/>
                </a:solidFill>
                <a:latin typeface="Tw Cen MT"/>
              </a:rPr>
              <a:t>Visoka raven transparentnosti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562680" indent="-24012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nizke mejne vrednosti za objave (20.000 EUR za blago in storitve, 40.000 EUR za gradnje)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562680" indent="-24012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obvezno javno odpiranje ponudb in možnost vpogleda v ponudbe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562680" indent="-24012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obvezna objava “Prostovoljnega” obvestila za predhodno transparentnost v postopkih s pogajanji brez predhodne objave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562680" indent="-24012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obvezna napoved zadnjega kroga pogajanj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562680" indent="-24012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objavljanje obvestil o izvajanju okvirnih sporazumov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562680" indent="-24012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seznanitev vseh udeleženih v postopku o predvidenem izboru ponudnika za večjo transparentnost o morebitnem  konfliktu interesov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562680" indent="-24012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seznanitev nadzornega organa naročnika o sklenitvi aneksa, zavrnitvi vseh ponudb, odstopu od izvedbe naročila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562680" indent="-24012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kmalu objava ključnih delov JN pogodbe na portalu javnih naročil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80440" indent="-28044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80440" indent="-28044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80440" indent="-28044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1f497d"/>
                </a:solidFill>
                <a:latin typeface="Tw Cen MT"/>
              </a:rPr>
              <a:t>Posebnosti nacionalne ureditve     II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83680" indent="-28368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900" spc="-1" strike="noStrike">
                <a:solidFill>
                  <a:srgbClr val="000000"/>
                </a:solidFill>
                <a:latin typeface="Tw Cen MT"/>
              </a:rPr>
              <a:t>Poenostavitve in fleksibilnost postopkov JN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569160" indent="-24264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pod mejnimi vrednostmi EU en postopek z objavo povpraševanja na portalu javnih naročil in možnostjo vključitve pogajanj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569160" indent="-24264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roki niso izrecno določeni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569160" indent="-24264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najprej razvrstitev ponudb, nato preveritev najugodnejše, če to omogoča potek postopka JN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569160" indent="-24264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uporaba do 4 mesece starih dokazil iz prejšnjih postopkov javnega naročanja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569160" indent="-24264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dokazila iz uradnih evidenc mora pridobiti naročnik in jih ne sme zahtevati od ponudnika;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569160" indent="-24264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ponudniki lahko predložijo zgolj lastno izjavo, naročnik naknadno pozove k predložitvi dokazil le najugodnejšega ponudnika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569160" indent="-24264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dela na gradbišču lahko tečejo nemoteno kljub nezaključenim pogajanjem o dodatnih gradbenih delih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1f497d"/>
                </a:solidFill>
                <a:latin typeface="Tw Cen MT"/>
              </a:rPr>
              <a:t>Posebnosti nacionalne ureditve     III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80440" indent="-28044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w Cen MT"/>
              </a:rPr>
              <a:t>Od formalizmov k vsebini in odpiranju trga JN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562680" indent="-24012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analiza trga kot podlaga za določitev ocenjene vrednosti JN in zagotovljenih sredstev (razvid izračuna ocenjene vrednosti,  obvezna opredelitev vrednosti in roka veljavnosti pogodbe);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562680" indent="-24012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odprava računskih napak;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562680" indent="-24012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možnost odprave formalnih pomanjkljivosti in napak v ponudbi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562680" indent="-24012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max. delež dodatnih storitev ali gradenj 30 %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562680" indent="-24012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JN - instrument za doseganje ciljev okoljske, socialne in gospodarske politike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80440" indent="-28044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w Cen MT"/>
              </a:rPr>
              <a:t>Integriteta, odgovornost in nadzor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562680" indent="-24012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proti-korupcijska klavzula in letno poročanje Komisiji za preprečevanje korupcije o premoženju sodelujočih v postopkih javnega naročanja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562680" indent="-24012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prekrški v primeru kršitev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80440" indent="-28044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80440" indent="-28044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0440" indent="-28044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1f497d"/>
                </a:solidFill>
                <a:latin typeface="Tw Cen MT"/>
              </a:rPr>
              <a:t>Uvedba e-JN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w Cen MT"/>
              </a:rPr>
              <a:t>E-dosje ponudnika: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za takojšnje preverjanje ponudb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sistem bo povezan z uradnimi evidencami in omogočal deponiranje certifikatov, referenc in drugih dokazil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w Cen MT"/>
              </a:rPr>
              <a:t>E-dražba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obvezna v primeru nesprejemljivih ponudb;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w Cen MT"/>
              </a:rPr>
              <a:t>E-oddaja ponudbe: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nižji stroški postopka JN za ponudnika in naročnika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w Cen MT"/>
              </a:rPr>
              <a:t>E-interni postopek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aplikacija za upravljanje, vodenje in sledljivost postopkov JN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w Cen MT"/>
              </a:rPr>
              <a:t>E-računi in e-plačil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1f497d"/>
                </a:solidFill>
                <a:latin typeface="Tw Cen MT"/>
              </a:rPr>
              <a:t>Pravno varstvo pri JN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77200" indent="-27720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prekluzivni rok za zahtevke za revizijo zoper razpisno dokumentacijo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o morebitnih napakah v razpisni dokumentaciji mora potencialni ponudnik preko portala javnih naročil obvezno opozoriti naročnika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kljub vloženem zahtevku za revizijo se postopek javnega naročanja lahko nadaljuje, naročnik pa ne sme skleniti pogodbe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taksa za predrevizijski in revizijski postopek je relativno visoka, vendar upošteva načelo sorazmernosti (predmet naročanja, vrednost naročila, sklopi)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pravno varstvo se lahko uveljavlja le zoper bistvene kršitve v postopku JN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prednostna obravnava zahtevkov za revizijo, ki se nanašajo na naročila, sofinancirana s sredstvi EU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izjemo kratki roki v predrevizijskem in revizijskem postopku ter avtomatično nadaljevanja pravnega varstva pred Državno revizijsko komisijo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Picture 2" descr=""/>
          <p:cNvPicPr/>
          <p:nvPr/>
        </p:nvPicPr>
        <p:blipFill>
          <a:blip r:embed="rId1"/>
          <a:stretch/>
        </p:blipFill>
        <p:spPr>
          <a:xfrm>
            <a:off x="4859280" y="1628640"/>
            <a:ext cx="4284720" cy="3803760"/>
          </a:xfrm>
          <a:prstGeom prst="rect">
            <a:avLst/>
          </a:prstGeom>
          <a:ln w="0">
            <a:noFill/>
          </a:ln>
        </p:spPr>
      </p:pic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1f497d"/>
                </a:solidFill>
                <a:latin typeface="Tw Cen MT"/>
              </a:rPr>
              <a:t>Za učinkovitejši sistem JN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Tw Cen MT"/>
              </a:rPr>
              <a:t>Zakonodaja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Tw Cen MT"/>
              </a:rPr>
              <a:t>Oddaja javnih naročil v praksi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Tw Cen MT"/>
              </a:rPr>
              <a:t>Spremljanje stanja in nadzor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Tw Cen MT"/>
              </a:rPr>
              <a:t>Povratna informacija in usposabljanje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06" name="Picture 3" descr=""/>
          <p:cNvPicPr/>
          <p:nvPr/>
        </p:nvPicPr>
        <p:blipFill>
          <a:blip r:embed="rId2"/>
          <a:stretch/>
        </p:blipFill>
        <p:spPr>
          <a:xfrm>
            <a:off x="7812000" y="189000"/>
            <a:ext cx="936720" cy="100656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7" descr="imagesCAQWGSER"/>
          <p:cNvPicPr/>
          <p:nvPr/>
        </p:nvPicPr>
        <p:blipFill>
          <a:blip r:embed="rId3"/>
          <a:stretch/>
        </p:blipFill>
        <p:spPr>
          <a:xfrm>
            <a:off x="1403280" y="4221000"/>
            <a:ext cx="2413080" cy="1598760"/>
          </a:xfrm>
          <a:prstGeom prst="rect">
            <a:avLst/>
          </a:prstGeom>
          <a:ln w="0">
            <a:noFill/>
          </a:ln>
        </p:spPr>
      </p:pic>
      <p:sp>
        <p:nvSpPr>
          <p:cNvPr id="508" name="PoljeZBesedilom 8"/>
          <p:cNvSpPr/>
          <p:nvPr/>
        </p:nvSpPr>
        <p:spPr>
          <a:xfrm>
            <a:off x="2340000" y="6165720"/>
            <a:ext cx="381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Tw Cen MT"/>
              </a:rPr>
              <a:t>Hvala za pozornost!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08:55:39Z</dcterms:created>
  <dc:creator/>
  <dc:description/>
  <dc:language>en-US</dc:language>
  <cp:lastModifiedBy/>
  <dcterms:modified xsi:type="dcterms:W3CDTF">2014-05-20T10:26:12Z</dcterms:modified>
  <cp:revision>5</cp:revision>
  <dc:subject/>
  <dc:title>SPREMEMBE NA PODORČJU JAVNEGA NAROČANJA (ZJBN-2D, ZJVETPS-D, ZJNPOV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1671259990</vt:lpwstr>
  </property>
</Properties>
</file>