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787C-E893-479D-A746-B032FFDF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98B3-2F27-4880-BA12-44EC0D4A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CFA2-6C6A-4C3D-AD09-11D3A7C4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62C3-8331-4BD1-BA0A-DC9236B9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E4AF-1B8C-45ED-B4C4-83C4ECB9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6F30-1407-490B-9DCE-91B4FD73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9945-1C29-42EB-86D7-524EDE89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0D91-FF05-4575-9DDC-A1E418A0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2D3D-B0C0-43EA-BC8A-51F3DFF6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A7F8-850D-4C15-B5D6-0D7198AF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1E38-366D-449D-8B48-E72EBE6D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587C-4822-41F8-B8EA-EC7B5AAF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6B0C-B80F-43E0-9CFA-16DF168EEAAE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0T08:14:40Z</dcterms:modified>
  <cp:revision>36</cp:revision>
  <dc:subject/>
  <dc:title>Naslov</dc:title>
</cp:coreProperties>
</file>