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775A3-056B-4E80-9F00-4700C8FA9F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70640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C6997B-D75D-4D1B-99C9-1EF2CF9BF5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4D28A8-D8A1-4F80-A9C0-2BD6B6382D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C36D16-34A2-4EBA-8203-D165CCE1DB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706400"/>
            <a:ext cx="8229600" cy="5608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FEF92-7893-4C3E-8B6E-8C139A4EBF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706400"/>
            <a:ext cx="82296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36408-50F7-49FB-9CB1-A7ADBDD568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EAEA7-DD2F-48C8-917F-E7C6445F71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823CF4-6EF0-4315-B7AC-4D1805B06A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0"/>
            <a:ext cx="8229600" cy="83750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0A0C276-E60F-45D0-BC00-E6235DD017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0D391-F91B-4510-9185-89F7628C3A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7BEB7A-62A9-4C7C-B0A2-A4EE99E0DB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E53E7-95D7-4E18-9CD0-31EE0E76E3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5FCB-1A12-48F0-946C-2FD0BFE587A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4680" y="0"/>
            <a:ext cx="9134640" cy="7315200"/>
          </a:xfrm>
          <a:prstGeom prst="rect">
            <a:avLst/>
          </a:prstGeom>
          <a:ln w="0">
            <a:noFill/>
          </a:ln>
        </p:spPr>
      </p:pic>
      <p:pic>
        <p:nvPicPr>
          <p:cNvPr id="40" name="Picture 2" descr=""/>
          <p:cNvPicPr/>
          <p:nvPr/>
        </p:nvPicPr>
        <p:blipFill>
          <a:blip r:embed="rId3"/>
          <a:stretch/>
        </p:blipFill>
        <p:spPr>
          <a:xfrm>
            <a:off x="-3240" y="-12600"/>
            <a:ext cx="9134640" cy="7315200"/>
          </a:xfrm>
          <a:prstGeom prst="rect">
            <a:avLst/>
          </a:prstGeom>
          <a:ln w="0">
            <a:noFill/>
          </a:ln>
        </p:spPr>
      </p:pic>
      <p:pic>
        <p:nvPicPr>
          <p:cNvPr id="41" name="Picture 3" descr=""/>
          <p:cNvPicPr/>
          <p:nvPr/>
        </p:nvPicPr>
        <p:blipFill>
          <a:blip r:embed="rId4"/>
          <a:stretch/>
        </p:blipFill>
        <p:spPr>
          <a:xfrm>
            <a:off x="457200" y="777960"/>
            <a:ext cx="4114800" cy="725400"/>
          </a:xfrm>
          <a:prstGeom prst="rect">
            <a:avLst/>
          </a:prstGeom>
          <a:ln w="0">
            <a:noFill/>
          </a:ln>
        </p:spPr>
      </p:pic>
      <p:sp>
        <p:nvSpPr>
          <p:cNvPr id="42"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VREDNOTENJ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Operativnega programa krepitve regionalnih razvojnih potencialov za obdobje 2007-2013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 letu 2013</a:t>
            </a:r>
            <a:br>
              <a:rPr sz="2400"/>
            </a:br>
            <a:br>
              <a:rPr sz="2400"/>
            </a:br>
            <a:br>
              <a:rPr sz="2400"/>
            </a:br>
            <a:r>
              <a:rPr b="0" lang="en-US" sz="2400" spc="-1" strike="noStrike">
                <a:solidFill>
                  <a:srgbClr val="000000"/>
                </a:solidFill>
                <a:latin typeface="Arial"/>
              </a:rPr>
              <a:t>Ljubljana, 21.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755640" y="1281240"/>
            <a:ext cx="7277040" cy="4889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peš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liko kazalnikov uspeha sicer </a:t>
            </a:r>
            <a:r>
              <a:rPr b="0" lang="en-US" sz="1800" spc="-1" strike="noStrike">
                <a:solidFill>
                  <a:srgbClr val="000000"/>
                </a:solidFill>
                <a:latin typeface="Arial"/>
                <a:ea typeface="Arial"/>
              </a:rPr>
              <a:t>napreduje, a bodo zaradi narave operacijtežje dosegli načrtovane vrednos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Npr. </a:t>
            </a:r>
            <a:r>
              <a:rPr b="0" lang="en-US" sz="1800" spc="-1" strike="noStrike">
                <a:solidFill>
                  <a:srgbClr val="000000"/>
                </a:solidFill>
                <a:latin typeface="Arial"/>
                <a:ea typeface="Arial"/>
              </a:rPr>
              <a:t>Površina prenovljenih in saniranih degradiranih območij namenjenih gospodarskemu razvoju, Površina na novo opremljenih komunalnih zemljišč namenjenih gospodarskemu razvoju, Število novih rezervnih vodnih virov za manjše vodovodne sisteme, Število razvojnih projektov v NATURA 2000 območjih).</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jbolj težaven je kazalnik Povečanje števila potovanj z javnimi prevoznimi sredstvi,ker nanj ne vplivajo odobrene ali izvedene operacije, zato ni mogoče pričakovati spremembo</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tega kazalnik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755640" y="1281240"/>
            <a:ext cx="7277040" cy="3555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speš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peracije je potrebno jasno definirati kazalnike</a:t>
            </a:r>
            <a:r>
              <a:rPr b="0" lang="sl-SI" sz="1800" spc="-1" strike="noStrike">
                <a:solidFill>
                  <a:srgbClr val="000000"/>
                </a:solidFill>
                <a:latin typeface="Arial"/>
              </a:rPr>
              <a:t> inputa/outputa/rezultata in vpliva ter jih spremljati!</a:t>
            </a:r>
            <a:r>
              <a:rPr b="0" lang="en-US" sz="1800" spc="-1" strike="noStrike">
                <a:solidFill>
                  <a:srgbClr val="000000"/>
                </a:solidFill>
                <a:latin typeface="Arial"/>
              </a:rPr>
              <a: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elovitim sistemom kazalnikov je treba doseči povezavo med operacijami in cilji na ravni programov. Na ta način bo mogoče iskati povezave med financiranimi operacijami in vplivom operacij n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bdobje 2014-2020 je treba pravočasno vzpostaviti informacijski sistem, ki bo podpiral</a:t>
            </a:r>
            <a:r>
              <a:rPr b="0" lang="sl-SI" sz="1800" spc="-1" strike="noStrike">
                <a:solidFill>
                  <a:srgbClr val="000000"/>
                </a:solidFill>
                <a:latin typeface="Arial"/>
              </a:rPr>
              <a:t>, sistematičen in povezljiv </a:t>
            </a:r>
            <a:r>
              <a:rPr b="0" lang="en-US" sz="1800" spc="-1" strike="noStrike">
                <a:solidFill>
                  <a:srgbClr val="000000"/>
                </a:solidFill>
                <a:latin typeface="Arial"/>
              </a:rPr>
              <a:t>pristop k spremljanju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17480" y="963720"/>
            <a:ext cx="7277040" cy="675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prečno na operacijo potrjenih za 690 tisoč EUR EU in domačih sredstev</a:t>
            </a:r>
            <a:r>
              <a:rPr b="0" lang="sl-SI" sz="1800" spc="-1" strike="noStrike">
                <a:solidFill>
                  <a:srgbClr val="000000"/>
                </a:solidFill>
                <a:latin typeface="Arial"/>
                <a:ea typeface="Arial"/>
              </a:rPr>
              <a:t> (za PU </a:t>
            </a:r>
            <a:r>
              <a:rPr b="0" lang="en-US" sz="1800" spc="-1" strike="noStrike">
                <a:solidFill>
                  <a:srgbClr val="000000"/>
                </a:solidFill>
                <a:latin typeface="Arial"/>
                <a:ea typeface="Arial"/>
              </a:rPr>
              <a:t>Regionalni razvojni programi je nekaj več kot 730 tisoč EUR, </a:t>
            </a:r>
            <a:r>
              <a:rPr b="0" lang="sl-SI" sz="1800" spc="-1" strike="noStrike">
                <a:solidFill>
                  <a:srgbClr val="000000"/>
                </a:solidFill>
                <a:latin typeface="Arial"/>
                <a:ea typeface="Arial"/>
              </a:rPr>
              <a:t>za PU </a:t>
            </a:r>
            <a:r>
              <a:rPr b="0" lang="en-US" sz="1800" spc="-1" strike="noStrike">
                <a:solidFill>
                  <a:srgbClr val="000000"/>
                </a:solidFill>
                <a:latin typeface="Arial"/>
                <a:ea typeface="Arial"/>
              </a:rPr>
              <a:t>Razvoj obmejnih območij s Hrvaško nekaj več kot 400 tisoč EUR.</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radi razdrobljenosti operacij </a:t>
            </a:r>
            <a:r>
              <a:rPr b="0" lang="sl-SI" sz="1800" spc="-1" strike="noStrike">
                <a:solidFill>
                  <a:srgbClr val="000000"/>
                </a:solidFill>
                <a:latin typeface="Arial"/>
                <a:ea typeface="Arial"/>
              </a:rPr>
              <a:t>slabša </a:t>
            </a:r>
            <a:r>
              <a:rPr b="0" lang="en-US" sz="1800" spc="-1" strike="noStrike">
                <a:solidFill>
                  <a:srgbClr val="000000"/>
                </a:solidFill>
                <a:latin typeface="Arial"/>
                <a:ea typeface="Arial"/>
              </a:rPr>
              <a:t>povezanost na regionalni ravni:ciljem operacij je težje slediti, operacije ne morejo doseči ciljev oziroma spremeniti stanja ciljne skupine, kot je bilo predvideno ter tveganje za doseganje kazalnikov se razprši na več operacij, ki vsaka posebej tvega, ali bo izvedena ali ne in ali bo prispevala k ciljem ali n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rbana središča regij so odigrala povezovalno vlogo med manjšimi projekti, ki so nastajali iz operacij 4. razvojne prioritete: ti projekti so ti bili usmerjeni v razvoj storitev, povezovanje infrastrukture in povezovanje storit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optimalne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63680" y="1209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priporočila:</a:t>
            </a:r>
            <a:endParaRPr b="0" lang="en-US" sz="1800" spc="-1" strike="noStrike">
              <a:solidFill>
                <a:srgbClr val="000000"/>
              </a:solidFill>
              <a:latin typeface="Arial"/>
            </a:endParaRPr>
          </a:p>
          <a:p>
            <a:pPr marL="396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doseganje učinkov je več operacij povezati v projekte in pripraviti skupne študije izvedljivosti ter izračun stroškov in koristi, jih enovito potrditi in poskrbeti za izvedljivos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onalno povezovanje projektov in iskanje trgov za regionalne produkte bo pripomog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h</a:t>
            </a:r>
            <a:r>
              <a:rPr b="0" lang="en-US" sz="1800" spc="-1" strike="noStrike">
                <a:solidFill>
                  <a:srgbClr val="000000"/>
                </a:solidFill>
                <a:latin typeface="Arial"/>
                <a:ea typeface="Arial"/>
              </a:rPr>
              <a:t> konkurenčnosti regij.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se prihodnje javne razpis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predvsem pa izvedben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načrte</a:t>
            </a:r>
            <a:r>
              <a:rPr b="0" lang="sl-SI" sz="1800" spc="-1" strike="noStrike">
                <a:solidFill>
                  <a:srgbClr val="000000"/>
                </a:solidFill>
                <a:latin typeface="Arial"/>
                <a:ea typeface="Arial"/>
              </a:rPr>
              <a:t> </a:t>
            </a:r>
            <a:r>
              <a:rPr b="0" lang="en-US" sz="1800" spc="-1" strike="noStrike">
                <a:solidFill>
                  <a:srgbClr val="000000"/>
                </a:solidFill>
                <a:latin typeface="Arial"/>
                <a:ea typeface="Arial"/>
              </a:rPr>
              <a:t>priporočljivo pripravljati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v smislu kakovosti</a:t>
            </a:r>
            <a:r>
              <a:rPr b="0" lang="sl-SI"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2" name="Picture 3" descr=""/>
          <p:cNvPicPr/>
          <p:nvPr/>
        </p:nvPicPr>
        <p:blipFill>
          <a:blip r:embed="rId1"/>
          <a:stretch/>
        </p:blipFill>
        <p:spPr>
          <a:xfrm>
            <a:off x="4032360" y="3801960"/>
            <a:ext cx="4379760" cy="35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63680" y="1344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za izbor operacij na javnih razpisih so le delno preverjala trajnost bodočega delovanja operacij in gledala na ustreznost operacij z vidika ustreznosti rezultatov operacij z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ibko je obravnavano definiranje ciljnih skupin in njihova velikost, predvsem pa preverjanje ustreznosti posameznega rezultata operacije za ciljne skupine in možnost izkoriščanja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463680" y="1344600"/>
            <a:ext cx="7277040" cy="5689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 morajo meriti</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kako bo operacija delovala, ko bo izvedena</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in kako se bo prilagajala potrebam ciljnih skupin.</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rebno je izboljšati pravila izračunavanja stroškov in koristi in jih tudi preverja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kozi sistem dodeljevanja sredstev postaviti način, ki bo financiral tudi tiste projekte, ki prinašajo prihodke.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 okviru prihodkov in stroškov računati in meriti tudi regionalne koristi.</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ktom, ki lahko ustvarijo prihodke in zmanjšajo finančno vrzel</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še naprej dodeljevati sredstva, vendar jim omogočiti tudi druge vire financiranj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e vedno razvijati lokalno in regionalno infrastrukturo tam, kjer je še potrebn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2378160"/>
            <a:ext cx="6400800" cy="36986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Vrednotenje dosegljivo na </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www.eu-skladi.si</a:t>
            </a:r>
            <a:endParaRPr b="0" lang="en-US" sz="3200" spc="-1" strike="noStrike">
              <a:solidFill>
                <a:srgbClr val="000000"/>
              </a:solidFill>
              <a:latin typeface="Arial"/>
            </a:endParaRPr>
          </a:p>
        </p:txBody>
      </p:sp>
      <p:pic>
        <p:nvPicPr>
          <p:cNvPr id="66" name="Picture 3" descr=""/>
          <p:cNvPicPr/>
          <p:nvPr/>
        </p:nvPicPr>
        <p:blipFill>
          <a:blip r:embed="rId1"/>
          <a:stretch/>
        </p:blipFill>
        <p:spPr>
          <a:xfrm>
            <a:off x="324000" y="4762440"/>
            <a:ext cx="3536640" cy="2129040"/>
          </a:xfrm>
          <a:prstGeom prst="rect">
            <a:avLst/>
          </a:prstGeom>
          <a:ln w="0">
            <a:noFill/>
          </a:ln>
        </p:spPr>
      </p:pic>
      <p:pic>
        <p:nvPicPr>
          <p:cNvPr id="67" name="Picture 4" descr=""/>
          <p:cNvPicPr/>
          <p:nvPr/>
        </p:nvPicPr>
        <p:blipFill>
          <a:blip r:embed="rId2"/>
          <a:stretch/>
        </p:blipFill>
        <p:spPr>
          <a:xfrm>
            <a:off x="4067280" y="4762440"/>
            <a:ext cx="3948120" cy="2129040"/>
          </a:xfrm>
          <a:prstGeom prst="rect">
            <a:avLst/>
          </a:prstGeom>
          <a:ln w="0">
            <a:noFill/>
          </a:ln>
        </p:spPr>
      </p:pic>
      <p:pic>
        <p:nvPicPr>
          <p:cNvPr id="68" name="Picture 5" descr=""/>
          <p:cNvPicPr/>
          <p:nvPr/>
        </p:nvPicPr>
        <p:blipFill>
          <a:blip r:embed="rId3"/>
          <a:stretch/>
        </p:blipFill>
        <p:spPr>
          <a:xfrm>
            <a:off x="6300720" y="2577960"/>
            <a:ext cx="2471760" cy="1760760"/>
          </a:xfrm>
          <a:prstGeom prst="rect">
            <a:avLst/>
          </a:prstGeom>
          <a:ln w="0">
            <a:noFill/>
          </a:ln>
        </p:spPr>
      </p:pic>
      <p:pic>
        <p:nvPicPr>
          <p:cNvPr id="69" name="Picture 6" descr=""/>
          <p:cNvPicPr/>
          <p:nvPr/>
        </p:nvPicPr>
        <p:blipFill>
          <a:blip r:embed="rId4"/>
          <a:stretch/>
        </p:blipFill>
        <p:spPr>
          <a:xfrm>
            <a:off x="3492360" y="993600"/>
            <a:ext cx="2678400" cy="1781280"/>
          </a:xfrm>
          <a:prstGeom prst="rect">
            <a:avLst/>
          </a:prstGeom>
          <a:ln w="0">
            <a:noFill/>
          </a:ln>
        </p:spPr>
      </p:pic>
      <p:pic>
        <p:nvPicPr>
          <p:cNvPr id="70" name="Picture 7" descr=""/>
          <p:cNvPicPr/>
          <p:nvPr/>
        </p:nvPicPr>
        <p:blipFill>
          <a:blip r:embed="rId5"/>
          <a:stretch/>
        </p:blipFill>
        <p:spPr>
          <a:xfrm>
            <a:off x="826920" y="993600"/>
            <a:ext cx="2376720" cy="1781280"/>
          </a:xfrm>
          <a:prstGeom prst="rect">
            <a:avLst/>
          </a:prstGeom>
          <a:ln w="0">
            <a:noFill/>
          </a:ln>
        </p:spPr>
      </p:pic>
      <p:pic>
        <p:nvPicPr>
          <p:cNvPr id="71" name="Picture 8" descr=""/>
          <p:cNvPicPr/>
          <p:nvPr/>
        </p:nvPicPr>
        <p:blipFill>
          <a:blip r:embed="rId6"/>
          <a:stretch/>
        </p:blipFill>
        <p:spPr>
          <a:xfrm>
            <a:off x="6330960" y="777960"/>
            <a:ext cx="2413080" cy="161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52400" y="1281240"/>
            <a:ext cx="7277040" cy="5346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ZVEDENO VREDNOTENJE</a:t>
            </a: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Vrednotenje 4. razvojne prioritete Operativnega programa krepitve regionalnih razvojnih potencialov za obdobje 2007-2013 - Razvoj regij</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179280" y="3081240"/>
            <a:ext cx="8229600" cy="56088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Operacije med 1.1.2007 in 31.12.2011</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Razpisanih 738 M, podpisanih pogodb za 565 M, izplačanih 409 M + lastna sredstva!</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755 operacij – povprečno 3,5 na občino</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88% sredstev za gradbena dela in opremo</a:t>
            </a:r>
            <a:endParaRPr b="0" lang="en-US" sz="20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Ekonomska in izobraževal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Promet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Okoljsk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ni projekti v območjih s posebnimi varstvenimi režimi in v turističnih območjih</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 urbanih območij</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Socialna infrastruktura</a:t>
            </a:r>
            <a:endParaRPr b="0" lang="en-US" sz="16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C998-853C-499D-B6D7-0B4A2FBACEB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Kohezijske regije"/>
          <p:cNvPicPr/>
          <p:nvPr/>
        </p:nvPicPr>
        <p:blipFill>
          <a:blip r:embed="rId1"/>
          <a:stretch/>
        </p:blipFill>
        <p:spPr>
          <a:xfrm>
            <a:off x="425520" y="1136520"/>
            <a:ext cx="812160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09AA-931C-48A2-A38C-0D73101DA21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2" descr="Statisticne regije"/>
          <p:cNvPicPr/>
          <p:nvPr/>
        </p:nvPicPr>
        <p:blipFill>
          <a:blip r:embed="rId1"/>
          <a:stretch/>
        </p:blipFill>
        <p:spPr>
          <a:xfrm>
            <a:off x="395280" y="1928880"/>
            <a:ext cx="7299360" cy="471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1706400"/>
            <a:ext cx="8229600" cy="5608800"/>
          </a:xfrm>
          <a:prstGeom prst="rect">
            <a:avLst/>
          </a:prstGeom>
          <a:noFill/>
          <a:ln w="0">
            <a:noFill/>
          </a:ln>
        </p:spPr>
        <p:txBody>
          <a:bodyPr lIns="50760" tIns="50760" bIns="50760" anchor="t">
            <a:norm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rednotenje se je zaključilo v oktobru 2013.</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n</a:t>
            </a:r>
            <a:r>
              <a:rPr b="0" lang="sl-SI" sz="2000" spc="-1" strike="noStrike">
                <a:solidFill>
                  <a:srgbClr val="000000"/>
                </a:solidFill>
                <a:latin typeface="Arial"/>
                <a:ea typeface="Arial"/>
              </a:rPr>
              <a:t>:</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izhodišča za vključevanje regionalne politike v načrtovanje kohezijske politike za prihodnje finančno obdobje 2014-2020,</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podlago za zaključevanje programskega obdobja 2007-2013,</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spevati k znanju deležnikov,</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večati uspešnost regionalne in </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en-US" sz="2000" spc="-1" strike="noStrike">
                <a:solidFill>
                  <a:srgbClr val="000000"/>
                </a:solidFill>
                <a:latin typeface="Arial"/>
                <a:ea typeface="Arial"/>
              </a:rPr>
              <a:t>kohezijske politik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grada številke diapozitiva 3"/>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758F-5E98-4429-AC16-46BBB7A207C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4716360" y="3790800"/>
            <a:ext cx="4395960" cy="352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755640" y="1281240"/>
            <a:ext cx="7277040" cy="5956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liko števi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operacij razpršilo vpliv na kazalnik</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in doseganje cilj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čja usmerjenosti v razvoj in povečanje lokalnih in regionalnih potencialov</a:t>
            </a:r>
            <a:r>
              <a:rPr b="0" lang="sl-SI" sz="1800" spc="-1" strike="noStrike">
                <a:solidFill>
                  <a:srgbClr val="000000"/>
                </a:solidFill>
                <a:latin typeface="Arial"/>
                <a:ea typeface="Arial"/>
              </a:rPr>
              <a:t>, manj zato povezovanja ciljnih skupin in razvoja produktov</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1 operacij povezuje večje število ciljnih skupin v skupni vrednosti nekaj več kot 110 milijonov EUR. (največ v Osrednjeslovenski regiji, Zasavju in Koroški, najmanj v Spodnjem-Posavju, Podravju in Obalno-kraški regiji).</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Strokovne podlage za plovnost Ljubljanic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režni inkubator v Zasavju</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Obrtne co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nfrastruktura parka vojaške zgodovi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Ureditev trga v Bovcu, mestno središče Celje ipd…</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Rokodelski center</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Gradnja večnamenske stavbe za društvena del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zdelava katastr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50800" y="72864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lagati v delovanje in zagotavljanje storitev in manj v fizičn</a:t>
            </a:r>
            <a:r>
              <a:rPr b="0" lang="sl-SI" sz="1800" spc="-1" strike="noStrike">
                <a:solidFill>
                  <a:srgbClr val="000000"/>
                </a:solidFill>
                <a:latin typeface="Arial"/>
                <a:ea typeface="Arial"/>
              </a:rPr>
              <a:t>e investicije</a:t>
            </a:r>
            <a:r>
              <a:rPr b="0" lang="en-US" sz="1800" spc="-1" strike="noStrike">
                <a:solidFill>
                  <a:srgbClr val="000000"/>
                </a:solidFill>
                <a:latin typeface="Arial"/>
                <a:ea typeface="Arial"/>
              </a:rPr>
              <a:t> za povečanje konkurenčnost</a:t>
            </a:r>
            <a:r>
              <a:rPr b="0" lang="sl-SI" sz="1800" spc="-1" strike="noStrike">
                <a:solidFill>
                  <a:srgbClr val="000000"/>
                </a:solidFill>
                <a:latin typeface="Arial"/>
                <a:ea typeface="Arial"/>
              </a:rPr>
              <a:t>i</a:t>
            </a:r>
            <a:r>
              <a:rPr b="0" lang="en-US" sz="1800" spc="-1" strike="noStrike">
                <a:solidFill>
                  <a:srgbClr val="000000"/>
                </a:solidFill>
                <a:latin typeface="Arial"/>
                <a:ea typeface="Arial"/>
              </a:rPr>
              <a:t> regij.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ezati državne in regionalne </a:t>
            </a:r>
            <a:r>
              <a:rPr b="0" lang="sl-SI" sz="1800" spc="-1" strike="noStrike">
                <a:solidFill>
                  <a:srgbClr val="000000"/>
                </a:solidFill>
                <a:latin typeface="Arial"/>
                <a:ea typeface="Arial"/>
              </a:rPr>
              <a:t>cilje in </a:t>
            </a:r>
            <a:r>
              <a:rPr b="0" lang="en-US" sz="1800" spc="-1" strike="noStrike">
                <a:solidFill>
                  <a:srgbClr val="000000"/>
                </a:solidFill>
                <a:latin typeface="Arial"/>
                <a:ea typeface="Arial"/>
              </a:rPr>
              <a:t>ukrep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ložbe v gospodarsko in javno infrastrukturo na nekaterih območjih še vedno potrebne</a:t>
            </a:r>
            <a:r>
              <a:rPr b="0" lang="sl-SI" sz="1800" spc="-1" strike="noStrike">
                <a:solidFill>
                  <a:srgbClr val="000000"/>
                </a:solidFill>
                <a:latin typeface="Arial"/>
                <a:ea typeface="Arial"/>
              </a:rPr>
              <a:t>, za osnovo potrebna </a:t>
            </a:r>
            <a:r>
              <a:rPr b="0" lang="en-US" sz="1800" spc="-1" strike="noStrike">
                <a:solidFill>
                  <a:srgbClr val="000000"/>
                </a:solidFill>
                <a:latin typeface="Arial"/>
                <a:ea typeface="Arial"/>
              </a:rPr>
              <a:t>strategij</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vlaganj.</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 prihodnje nadaljevati - i</a:t>
            </a:r>
            <a:r>
              <a:rPr b="0" lang="en-US" sz="1800" spc="-1" strike="noStrike">
                <a:solidFill>
                  <a:srgbClr val="000000"/>
                </a:solidFill>
                <a:latin typeface="Arial"/>
                <a:ea typeface="Arial"/>
              </a:rPr>
              <a:t>zkoristiti </a:t>
            </a:r>
            <a:r>
              <a:rPr b="0" lang="sl-SI" sz="1800" spc="-1" strike="noStrike">
                <a:solidFill>
                  <a:srgbClr val="000000"/>
                </a:solidFill>
                <a:latin typeface="Arial"/>
                <a:ea typeface="Arial"/>
              </a:rPr>
              <a:t>priložnosti na </a:t>
            </a:r>
            <a:r>
              <a:rPr b="0" lang="en-US" sz="1800" spc="-1" strike="noStrike">
                <a:solidFill>
                  <a:srgbClr val="000000"/>
                </a:solidFill>
                <a:latin typeface="Arial"/>
                <a:ea typeface="Arial"/>
              </a:rPr>
              <a:t>že zgrajen</a:t>
            </a:r>
            <a:r>
              <a:rPr b="0" lang="sl-SI" sz="1800" spc="-1" strike="noStrike">
                <a:solidFill>
                  <a:srgbClr val="000000"/>
                </a:solidFill>
                <a:latin typeface="Arial"/>
                <a:ea typeface="Arial"/>
              </a:rPr>
              <a:t>ih</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prednost</a:t>
            </a:r>
            <a:r>
              <a:rPr b="0" lang="sl-SI" sz="1800" spc="-1" strike="noStrike">
                <a:solidFill>
                  <a:srgbClr val="000000"/>
                </a:solidFill>
                <a:latin typeface="Arial"/>
                <a:ea typeface="Arial"/>
              </a:rPr>
              <a:t>ih“.</a:t>
            </a:r>
            <a:endParaRPr b="0" lang="en-US" sz="1800" spc="-1" strike="noStrike">
              <a:solidFill>
                <a:srgbClr val="000000"/>
              </a:solidFill>
              <a:latin typeface="Arial"/>
            </a:endParaRPr>
          </a:p>
        </p:txBody>
      </p:sp>
      <p:pic>
        <p:nvPicPr>
          <p:cNvPr id="54" name="Picture 3" descr=""/>
          <p:cNvPicPr/>
          <p:nvPr/>
        </p:nvPicPr>
        <p:blipFill>
          <a:blip r:embed="rId1"/>
          <a:stretch/>
        </p:blipFill>
        <p:spPr>
          <a:xfrm>
            <a:off x="3276720" y="4017960"/>
            <a:ext cx="4822560" cy="321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468360" y="993600"/>
            <a:ext cx="7277040" cy="6121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a:t>
            </a:r>
            <a:r>
              <a:rPr b="0" lang="sl-SI" sz="1800" spc="-1" strike="noStrike" u="sng">
                <a:solidFill>
                  <a:srgbClr val="000099"/>
                </a:solidFill>
                <a:uFillTx/>
                <a:latin typeface="Arial"/>
                <a:ea typeface="Arial"/>
              </a:rPr>
              <a:t>in dopolnjevanje </a:t>
            </a:r>
            <a:r>
              <a:rPr b="0" lang="en-US" sz="1800" spc="-1" strike="noStrike" u="sng">
                <a:solidFill>
                  <a:srgbClr val="000099"/>
                </a:solidFill>
                <a:uFillTx/>
                <a:latin typeface="Arial"/>
                <a:ea typeface="Arial"/>
              </a:rPr>
              <a:t>-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OP RČV</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e dostopnosti in enake možnosti v sistemu vzgoje in izobraževanja (14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u kulturne dejavnosti v podporo socialni vključenosti družbenih skupin (4 operacije).</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Drugi ukrepi OP RR</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zboljšanje konkurenčnih sposobnosti podjetij in raziskovalna odličnost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odbujanje podjetništva (7 operacij) ter gospodarsko-razvojno-logistična središča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e dviga konkurenčnosti turističnega gospodarstva predvsem v okviru mreženja kulturnih potencialov in športno-rekreacijska infrastruktura (43 operacij).</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Ukrepi</a:t>
            </a:r>
            <a:r>
              <a:rPr b="0" lang="en-US" sz="1600" spc="-1" strike="noStrike">
                <a:solidFill>
                  <a:srgbClr val="000000"/>
                </a:solidFill>
                <a:latin typeface="Arial"/>
                <a:ea typeface="Arial"/>
              </a:rPr>
              <a:t> Programa razvoja podeželja 2007-2013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ohranjanja kulturne krajine in varovanja okolja (11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kakovosti življenja na podeželju in sicer ukrep izboljšanje kakovosti življenja v podeželskih območjih, spodbujanje gospodarske diverzifikacije (168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 – krepitev lokalnih razvojnih pobud (62 operacij).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755640" y="1136520"/>
            <a:ext cx="7277040" cy="27561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ovanje usmeriti v tiste dejavnosti, ki regijam ustrezajo in s tem specializirati tako regije kot skupno delovanje države skozi operativne programe, predvsem tiste njihove dele, ki podpirajo delovanje regij.</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 zaključkom programiranja na državni in regionalni ravni je treba pregledati prednostne naloge in se uskladiti o načinu njihovega </a:t>
            </a:r>
            <a:r>
              <a:rPr b="0" lang="sl-SI" sz="1800" spc="-1" strike="noStrike">
                <a:solidFill>
                  <a:srgbClr val="000000"/>
                </a:solidFill>
                <a:latin typeface="Arial"/>
                <a:ea typeface="Arial"/>
              </a:rPr>
              <a:t>spremljanja/sledenj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7" name="Picture 3" descr=""/>
          <p:cNvPicPr/>
          <p:nvPr/>
        </p:nvPicPr>
        <p:blipFill>
          <a:blip r:embed="rId1"/>
          <a:stretch/>
        </p:blipFill>
        <p:spPr>
          <a:xfrm>
            <a:off x="4591080" y="4094280"/>
            <a:ext cx="4017960" cy="321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dcterms:modified xsi:type="dcterms:W3CDTF">2014-05-20T10:28:42Z</dcterms:modified>
  <cp:revision>17</cp:revision>
  <dc:subject/>
  <dc:title>Naslov</dc:title>
</cp:coreProperties>
</file>