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F82E-E6C7-4799-AE09-EF7C2505AC80}" type="datetime">
              <a:rPr b="0" lang="sl-SI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3BB2-4A0B-4ABB-BC98-C6E2620C5E8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tistična izbira vzor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OU: odprto priporočilo NADOMEŠČENO z 29 priporočili horizontalne revizije ISAR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ŠŠ: ni še bilo naknadne revizije. Priporočila: Opis sistema ni v celoti usklajen, problemi pri javnih razpis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VZT: 1 priporočilo DELNO IZPOLNJENO (izvajanje kontrol nalog, prenesenih na agenta (TIA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G: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ločenost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funkcij pri agentu JAPTI;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pomanjkljiva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evidenca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administrativnih kontrol (evidenca ne vsebujejo  podatkov o opravljenem delu in datumu, osebah, ki so izvedle preverjanje, rezultatih preverjanj in sprejetih ukrepih);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kontrole na kraju samem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(sami izvedli eno za OP RČV, z OU pa še se niso dokončno dogovoril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DDS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6EA-2035-4570-97EF-40EE56BA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382-D235-448A-8FA1-09266BF6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A38-20E4-4267-B327-8AC65100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6846-4C61-4660-A0A4-DC3C98A5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23D9-6EA2-478D-A236-BD5F05B1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23B2-24C5-4474-A7CB-53926993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7FE5-51D6-4B0F-A57C-BB76606E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18B-B7A7-4E35-B493-37D33D1A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90A-2EF6-4EDB-AA29-F4D638F7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4CA-4A19-4E8D-A530-9EA8C42D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949-439A-436B-A21B-CE80E370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CA4-F6A5-471C-9F30-691090C2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3AD9-72F1-4C1B-A637-3C2ACC18449A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A428-E18E-4452-9BCA-454C428CD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99999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P RR in OP ROPI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oče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2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 2014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2949-DEDF-442D-BDB1-C5049D062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55B5-EDBB-4754-AE08-8D53F79CDC7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8229600" cy="394164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81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781A-1A29-4A76-A63D-0D957F64B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C4EB-44ED-4F48-8844-45C2A2A1704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8d8d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d8d8d8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6455-5218-45B4-8E19-604B7C922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2" name="Content Placeholder 20"/>
          <p:cNvSpPr/>
          <p:nvPr/>
        </p:nvSpPr>
        <p:spPr>
          <a:xfrm>
            <a:off x="684360" y="1628640"/>
            <a:ext cx="80499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55C8-1C55-4329-A606-FAF1F2FCF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00200" y="1523880"/>
          <a:ext cx="7975440" cy="4438800"/>
        </p:xfrm>
        <a:graphic>
          <a:graphicData uri="http://schemas.openxmlformats.org/drawingml/2006/table">
            <a:tbl>
              <a:tblPr/>
              <a:tblGrid>
                <a:gridCol w="3728880"/>
                <a:gridCol w="860400"/>
                <a:gridCol w="1490760"/>
                <a:gridCol w="1895400"/>
              </a:tblGrid>
              <a:tr h="83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orija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vilo napak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ednost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ni delež glede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vrednost napak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ni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upravičeni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atk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70.42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šena določila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ZJN-2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09.86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avilen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zbor operacij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74.693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avilen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zbor izvajalc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ovezane osebe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34.16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strez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išin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ržavne pomoč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7.00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340000" y="620640"/>
            <a:ext cx="634680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stemska napaka n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OP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RR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diranih 6 operacij na PU “dvig konkurenčnosti turističnega gospodarstva”, od tega napake pri 5 (napaka opredeljena kot sistemska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predlagal 5 % pavšalno finančno korekcijo za PU zaradi napak pri izboru (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.774.692 €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stemska napaka n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OP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ROPI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dirani 2 operaciji na PU “lokalna energetska oskrba” (obe neupravičeni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izvedel preglede na vseh ostalih operacijah na PU (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.934.168 €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E508A8-AE8F-4B07-BC20-54AD0422E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8896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968400" indent="-60948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EDNOTENJE NAPAK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1280" y="1989000"/>
          <a:ext cx="8208720" cy="4140360"/>
        </p:xfrm>
        <a:graphic>
          <a:graphicData uri="http://schemas.openxmlformats.org/drawingml/2006/table">
            <a:tbl>
              <a:tblPr/>
              <a:tblGrid>
                <a:gridCol w="6200640"/>
                <a:gridCol w="200808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is napake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ednost 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v EUR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icirana (ekstrapolirana) vrednost </a:t>
                      </a:r>
                      <a:r>
                        <a:rPr b="1" i="1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ključnih napak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35.54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jemne napake 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tična napaka (v in izven vzorca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08.861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ane napake (izven vzorca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75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l-SI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ajbolj verjetna napaka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en-GB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Most Likely Error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80%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od potrjenih izdatkov leta 2012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9324-13E4-4E93-A5FB-3AD4F90DA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Content Placeholder 20"/>
          <p:cNvSpPr/>
          <p:nvPr/>
        </p:nvSpPr>
        <p:spPr>
          <a:xfrm>
            <a:off x="395280" y="1619280"/>
            <a:ext cx="84978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ERJAVA NAPAK Z DOPUSTNO NAPAKO (2%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NAJBOLJ VERJETNA NAPAKA &gt; DOPUSTNA NAPAKA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MNENJE S PRIDRŽKOM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55640" y="2333520"/>
          <a:ext cx="8137440" cy="2171880"/>
        </p:xfrm>
        <a:graphic>
          <a:graphicData uri="http://schemas.openxmlformats.org/drawingml/2006/table">
            <a:tbl>
              <a:tblPr/>
              <a:tblGrid>
                <a:gridCol w="3944160"/>
                <a:gridCol w="1842840"/>
                <a:gridCol w="2350440"/>
              </a:tblGrid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paka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čunana vrednost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stotek od celotne populacije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rejemljiva (dopustna) napaka 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lerable Misstatement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%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kupna najbolj verjetna napaka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(MLE)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80 %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214A-7E5C-4287-90DE-F583A227B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913E-E5D9-41B4-A327-DF15FFCDAEC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631800" indent="0">
              <a:spcBef>
                <a:spcPts val="601"/>
              </a:spcBef>
              <a:buNone/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3068640"/>
          <a:ext cx="8002440" cy="2684160"/>
        </p:xfrm>
        <a:graphic>
          <a:graphicData uri="http://schemas.openxmlformats.org/drawingml/2006/table">
            <a:tbl>
              <a:tblPr/>
              <a:tblGrid>
                <a:gridCol w="1330200"/>
                <a:gridCol w="1849320"/>
                <a:gridCol w="1835280"/>
                <a:gridCol w="1468440"/>
                <a:gridCol w="1519200"/>
              </a:tblGrid>
              <a:tr h="8514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83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OP RČV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82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57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C316-4514-4FC9-8FB6-B9D4AE339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FA23-CE2C-4E58-A826-18861DD9A81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007B-E8F4-46EA-B3F6-DC582E8E4647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snutek revizijskega poročila EK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9.1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(slovenska verzija  19.3.2014 )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ostopek ustavitve plačil:                       6.3.201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dgovor RO, PO in PT MIZŠ: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4.2014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(angleška verzija    5.5.2014 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56A1-50BD-4B10-A123-41FE29C17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832F-0FB2-468B-A4A9-99EB864F9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v l. 2014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16 OP RČV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6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 Sloveniji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upravljalna preverjanja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A42A-A9E6-4278-A2E9-1D67790C3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24000" y="701640"/>
            <a:ext cx="67788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00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AF91-AE58-4EDD-B434-DAD51B231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 u="sng">
                <a:solidFill>
                  <a:srgbClr val="0000ff"/>
                </a:solidFill>
                <a:uFillTx/>
                <a:latin typeface="Calibri"/>
              </a:rPr>
              <a:t>Izvedene sistemske revizije do maja 2014</a:t>
            </a:r>
            <a:r>
              <a:rPr b="1" lang="sl-SI" sz="21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organa upravljanja - </a:t>
            </a:r>
            <a:r>
              <a:rPr b="1" lang="sl-SI" sz="2100" spc="-1" strike="noStrike">
                <a:solidFill>
                  <a:srgbClr val="000000"/>
                </a:solidFill>
                <a:latin typeface="Calibri"/>
              </a:rPr>
              <a:t>OU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(jul. 2009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feb 2013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organa za potrjevanje - </a:t>
            </a:r>
            <a:r>
              <a:rPr b="1" lang="sl-SI" sz="21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(nov. 2009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MVZT – OP RR (nov. 2009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SVLR – OP RR (nov. 2009) 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  MG - OP RR (mar. 2011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  MG - OP ROPI (feb. 2011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zP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OPI (feb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G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R (mar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zIP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OPI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(jan. 2013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KO</a:t>
            </a:r>
            <a:r>
              <a:rPr b="0" lang="sl-SI" sz="20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OP ROPI</a:t>
            </a:r>
            <a:r>
              <a:rPr b="0" lang="sl-SI" sz="2000" spc="-1" strike="noStrike">
                <a:solidFill>
                  <a:srgbClr val="0000ff"/>
                </a:solidFill>
                <a:latin typeface="Calibri"/>
              </a:rPr>
              <a:t> (dec. 2013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GRT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– OP RR (feb. 2014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IZŠ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–  OP RR (apr. 2014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14E1-F7DF-4C19-8DE6-1210F351D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naknadne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revizije sistema in pregledi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izpolnjevanja priporočil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do maja 2014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OU (mar. 2010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ff"/>
                </a:solidFill>
                <a:latin typeface="Arial"/>
              </a:rPr>
              <a:t>jan. 2014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VZT (mar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O (jul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SVLR (okt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GRT (dec. 2012) 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zP oz. MzIP (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D509-2F31-491B-A2C7-FC24FF3FE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izdanih PRIPOROČIL iz revizij: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POROČIL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GRT (OP RR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8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KO (OP ROPI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5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Š (OP RR)                                         3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 (OP RR, OP ROPI in OP RČV)              1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C4004-521B-4013-8E19-D8F70262B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8896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2241720" indent="-457200">
              <a:spcBef>
                <a:spcPts val="601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96840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5676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00763-DDE3-42D6-A20F-1453DEAFA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295280"/>
            <a:ext cx="813600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9F61-B4FB-4532-9DED-C40E78C6A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B442-732E-4098-A9DB-B3123C93E12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CB79-BAC0-4C3F-A97B-D0ADE08A5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19T12:46:30Z</dcterms:modified>
  <cp:revision>62</cp:revision>
  <dc:subject/>
  <dc:title>Slide 1</dc:title>
</cp:coreProperties>
</file>