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4948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BC99-6A79-4CC1-B739-C0928FD48600}" type="datetime">
              <a:rPr b="0" lang="sl-SI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4948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4628-F03E-479D-9035-CF269CF39A47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tistična izbira vzor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OU: odprto priporočilo NADOMEŠČENO z 29 priporočili horizontalne revizije ISAR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T MŠŠ: ni še bilo naknadne revizije. Priporočila: Opis sistema ni v celoti usklajen, problemi pri javnih razpis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T MVZT: 1 priporočilo DELNO IZPOLNJENO (izvajanje kontrol nalog, prenesenih na agenta (TIA)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T MG: </a:t>
            </a: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ločenost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 funkcij pri agentu JAPTI; </a:t>
            </a: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pomanjkljiva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evidenca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 administrativnih kontrol (evidenca ne vsebujejo  podatkov o opravljenem delu in datumu, osebah, ki so izvedle preverjanje, rezultatih preverjanj in sprejetih ukrepih); </a:t>
            </a: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kontrole na kraju samem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 (sami izvedli eno za OP RČV, z OU pa še se niso dokončno dogovoril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T MDDSZ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4AFA-3C93-4DC2-9073-9467A4D5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C243-057C-4132-A713-16D7C73D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B730-D38E-405F-B928-2B2C0A5DB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68D5-60EC-4652-BC54-BC1A13DA9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C8DC-81C2-4DE0-94B2-1DD5F58B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127E-48DA-4CA8-908F-2EA19914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6AA4-A6C9-433C-84E4-59AEFC83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4BCB-612A-487F-8B06-62B66900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4750-219C-45C9-9E83-AF3CFCDC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B336-3753-42B6-9949-082284F2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7AB4-DC26-4F90-8F68-DA988606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CC6C-82EB-4CC0-97EA-EAFC3DA8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7A4F-B7FC-4C1E-B75C-1B8CE24472BD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4560-A2C0-4AD3-B034-E6B863426E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9999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9999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9999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99999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P RR in OP ROPI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oče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2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 2014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C2F4-8277-4E87-AB71-D0B717D7FD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1F64-06A7-4697-906C-1DD53127D2C3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600200"/>
          <a:ext cx="8229600" cy="394164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81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999999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999999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999999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A87A-577F-452C-BC36-3A18FAFD7D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A92C-0BC3-427C-941A-3092C1F5DA92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8d8d8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d8d8d8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9DA0-A8FE-4019-8ABC-8E1702A5A3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40000" y="69192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2" name="Content Placeholder 20"/>
          <p:cNvSpPr/>
          <p:nvPr/>
        </p:nvSpPr>
        <p:spPr>
          <a:xfrm>
            <a:off x="684360" y="1628640"/>
            <a:ext cx="80499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2C35-5DE2-45CE-B18E-B15F196837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40000" y="69192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00200" y="1523880"/>
          <a:ext cx="7975440" cy="4438800"/>
        </p:xfrm>
        <a:graphic>
          <a:graphicData uri="http://schemas.openxmlformats.org/drawingml/2006/table">
            <a:tbl>
              <a:tblPr/>
              <a:tblGrid>
                <a:gridCol w="3728880"/>
                <a:gridCol w="860400"/>
                <a:gridCol w="1490760"/>
                <a:gridCol w="1895400"/>
              </a:tblGrid>
              <a:tr h="83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egorija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vilo napak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ednost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ivni delež glede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 vrednost napak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ni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eupravičeni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atk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970.42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šena določila 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ZJN-2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09.86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ravilen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zbor operacij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74.693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ravilen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zbor izvajalc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povezane osebe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34.16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strez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višin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ržavne pomoč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7.00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340000" y="620640"/>
            <a:ext cx="6346800" cy="8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istemska napaka na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 OP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RR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diranih 6 operacij na PU “dvig konkurenčnosti turističnega gospodarstva”, od tega napake pri 5 (napaka opredeljena kot sistemska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predlagal 5 % pavšalno finančno korekcijo za PU zaradi napak pri izboru (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2.774.692 €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istemska napaka na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 OP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ROPI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dirani 2 operaciji na PU “lokalna energetska oskrba” (obe neupravičeni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izvedel preglede na vseh ostalih operacijah na PU (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1.934.168 €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F3DB29-CAF2-4105-AFAB-502897B7AE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8896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968400" indent="-60948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REDNOTENJE NAPAK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11280" y="1989000"/>
          <a:ext cx="8208720" cy="4140360"/>
        </p:xfrm>
        <a:graphic>
          <a:graphicData uri="http://schemas.openxmlformats.org/drawingml/2006/table">
            <a:tbl>
              <a:tblPr/>
              <a:tblGrid>
                <a:gridCol w="6200640"/>
                <a:gridCol w="200808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is napake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ednost 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v EUR)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icirana (ekstrapolirana) vrednost </a:t>
                      </a:r>
                      <a:r>
                        <a:rPr b="1" i="1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ključnih napak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935.54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jemne napake 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stematična napaka (v in izven vzorca)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708.861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ane napake (izven vzorca)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75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sl-SI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ajbolj verjetna napaka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en-GB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Most Likely Error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,80%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 od potrjenih izdatkov leta 2012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429C-C3C9-4CC8-A452-5246D72EC3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Content Placeholder 20"/>
          <p:cNvSpPr/>
          <p:nvPr/>
        </p:nvSpPr>
        <p:spPr>
          <a:xfrm>
            <a:off x="395280" y="1619280"/>
            <a:ext cx="84978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ERJAVA NAPAK Z DOPUSTNO NAPAKO (2%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999999"/>
                </a:solidFill>
                <a:latin typeface="Calibri"/>
              </a:rPr>
              <a:t>NAJBOLJ VERJETNA NAPAKA &gt; DOPUSTNA NAPAKA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MNENJE S PRIDRŽKOM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55640" y="2333520"/>
          <a:ext cx="8137440" cy="2171880"/>
        </p:xfrm>
        <a:graphic>
          <a:graphicData uri="http://schemas.openxmlformats.org/drawingml/2006/table">
            <a:tbl>
              <a:tblPr/>
              <a:tblGrid>
                <a:gridCol w="3944160"/>
                <a:gridCol w="1842840"/>
                <a:gridCol w="2350440"/>
              </a:tblGrid>
              <a:tr h="82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paka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računana vrednost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stotek od celotne populacije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rejemljiva (dopustna) napaka 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lerable Misstatement</a:t>
                      </a: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0%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kupna najbolj verjetna napaka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(MLE)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,80 %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0451-3593-4C85-9DBC-D2483660A5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AE91-99F1-49BF-A9E1-B587CBD7AE1B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631800" indent="0">
              <a:spcBef>
                <a:spcPts val="601"/>
              </a:spcBef>
              <a:buNone/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11280" y="3068640"/>
          <a:ext cx="8002440" cy="2684160"/>
        </p:xfrm>
        <a:graphic>
          <a:graphicData uri="http://schemas.openxmlformats.org/drawingml/2006/table">
            <a:tbl>
              <a:tblPr/>
              <a:tblGrid>
                <a:gridCol w="1330200"/>
                <a:gridCol w="1849320"/>
                <a:gridCol w="1835280"/>
                <a:gridCol w="1468440"/>
                <a:gridCol w="1519200"/>
              </a:tblGrid>
              <a:tr h="85140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0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83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OP RČV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82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57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3A54-5EBF-4931-9595-84139B20F7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9DAE-4DEE-4530-9295-23712DAAA3DB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F29C-4EBE-47D5-886E-3A18A79E96FD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snutek revizijskega poročila EK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9.1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(slovenska verzija  19.3.2014 )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Postopek ustavitve plačil:                       6.3.201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dgovor RO, PO in PT MIZŠ: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.4.2014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(angleška verzija    5.5.2014 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19F0-3853-4FDE-9A2A-E6938B6EBC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935D-DFDA-4B41-A947-0996A1B794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v l. 2014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16 OP RČV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6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 Sloveniji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upravljalna preverjanja)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7769-A31A-4986-A9DB-F7A08A8C74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24000" y="701640"/>
            <a:ext cx="67788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00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A439-C1C3-47C5-97AF-CE372ED1A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RR in OP ROPI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200" spc="-1" strike="noStrike" u="sng">
                <a:solidFill>
                  <a:srgbClr val="0000ff"/>
                </a:solidFill>
                <a:uFillTx/>
                <a:latin typeface="Calibri"/>
              </a:rPr>
              <a:t>Izvedene sistemske revizije do maja 2014</a:t>
            </a:r>
            <a:r>
              <a:rPr b="1" lang="sl-SI" sz="21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organa upravljanja - </a:t>
            </a:r>
            <a:r>
              <a:rPr b="1" lang="sl-SI" sz="2100" spc="-1" strike="noStrike">
                <a:solidFill>
                  <a:srgbClr val="000000"/>
                </a:solidFill>
                <a:latin typeface="Calibri"/>
              </a:rPr>
              <a:t>OU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(jul. 2009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, feb 2013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organa za potrjevanje - </a:t>
            </a:r>
            <a:r>
              <a:rPr b="1" lang="sl-SI" sz="21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(nov. 2009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 MVZT – OP RR (nov. 2009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 SVLR – OP RR (nov. 2009) 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   MG - OP RR (mar. 2011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   MG - OP ROPI (feb. 2011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MzP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P ROPI (feb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MG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P RR (mar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MzIP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P ROPI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(jan. 2013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PT </a:t>
            </a:r>
            <a:r>
              <a:rPr b="1" lang="sl-SI" sz="2000" spc="-1" strike="noStrike">
                <a:solidFill>
                  <a:srgbClr val="0000ff"/>
                </a:solidFill>
                <a:latin typeface="Arial"/>
              </a:rPr>
              <a:t>MKO</a:t>
            </a:r>
            <a:r>
              <a:rPr b="0" lang="sl-SI" sz="20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OP ROPI</a:t>
            </a:r>
            <a:r>
              <a:rPr b="0" lang="sl-SI" sz="2000" spc="-1" strike="noStrike">
                <a:solidFill>
                  <a:srgbClr val="0000ff"/>
                </a:solidFill>
                <a:latin typeface="Calibri"/>
              </a:rPr>
              <a:t> (dec. 2013)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PT </a:t>
            </a:r>
            <a:r>
              <a:rPr b="1" lang="sl-SI" sz="2000" spc="-1" strike="noStrike">
                <a:solidFill>
                  <a:srgbClr val="0000ff"/>
                </a:solidFill>
                <a:latin typeface="Arial"/>
              </a:rPr>
              <a:t>MGRT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 – OP RR (feb. 2014)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PT </a:t>
            </a:r>
            <a:r>
              <a:rPr b="1" lang="sl-SI" sz="2000" spc="-1" strike="noStrike">
                <a:solidFill>
                  <a:srgbClr val="0000ff"/>
                </a:solidFill>
                <a:latin typeface="Arial"/>
              </a:rPr>
              <a:t>MIZŠ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 –  OP RR (apr. 2014)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BC30-4E72-4E2D-A7CE-BADD17B772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RR in OP ROPI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naknadne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revizije sistema in pregledi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izpolnjevanja priporočil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do maja 2014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OU (mar. 2010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2400" spc="-1" strike="noStrike">
                <a:solidFill>
                  <a:srgbClr val="0000ff"/>
                </a:solidFill>
                <a:latin typeface="Arial"/>
              </a:rPr>
              <a:t>jan. 2014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MVZT (mar. 2010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O (jul. 2010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SVLR (okt. 2010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MGRT (dec. 2012) 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MzP oz. MzIP (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E968-14ED-430E-8F0E-4BB075B4B6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RR in OP ROPI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izdanih PRIPOROČIL iz revizij: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64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POROČIL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GRT (OP RR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8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KO (OP ROPI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5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Š (OP RR)                                         3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 (OP RR, OP ROPI in OP RČV)              1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054B35-80BC-4657-B77F-DBD0D9A1C8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8896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601"/>
              </a:spcBef>
              <a:buClr>
                <a:srgbClr val="99999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2241720" indent="-457200">
              <a:spcBef>
                <a:spcPts val="601"/>
              </a:spcBef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marL="96840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56764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A97B44-8B00-43F5-9F66-C78F69E6C9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1295280"/>
            <a:ext cx="813600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698F-7FB6-47EE-8167-2D6D40E5AC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5F53-88C7-4D94-97A7-F6294D1B14BC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7BD9-0D7C-42F7-A23A-AAAB3EA610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19T12:46:30Z</dcterms:modified>
  <cp:revision>62</cp:revision>
  <dc:subject/>
  <dc:title>Slide 1</dc:title>
</cp:coreProperties>
</file>