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9FB6E-0BF0-46D6-8C5E-9CEBD07EC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14905-6C6C-4352-A7C1-EF76A3170A23}" type="slidenum">
              <a:rPr b="0" lang="en-US" sz="1200" spc="-1" strike="noStrike">
                <a:solidFill>
                  <a:srgbClr val="9999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2ABE-5723-4606-BB92-2E461E94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6C1-96D4-4BE0-BEFE-91EEF6D4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9A8-B26C-4CBC-A549-4F6466A6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7C0-E20D-4CDD-9E7E-44691736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FE67-7583-43E9-A80F-637A9093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5506-3BE1-482F-9272-EE78EFDD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D6D6-53B2-48A4-85E2-7B355575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BD17-35B1-4481-86C1-95C119C2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2CC2-3045-4BC9-96C5-0A8511CE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EEB2-671F-4123-9135-385539EE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D3B6-FD17-496E-84B2-5151A603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F4B-7CC8-4E25-98A4-DC6CCD4C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F47C-46B7-4FD8-B78F-77A640C0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847F-4FB6-46E3-84D9-18824DAF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C0C9-0164-4B9C-B285-52963927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799B-EB26-48A7-9699-A538BC4E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8BE1-63FA-443C-89B6-3E4BF9EB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E8C59-D626-4A94-BA4E-156E010F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47374-0524-4B4E-9254-4435F80D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40A8E-924B-437E-81CF-93A8F1AD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3059A-7E51-4491-A46B-EF7B83E2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39473-63C7-4145-A39D-3AFD1041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FF04-B0CB-4CF8-AA31-72CB4387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77898-9D4B-4F82-8BF0-49DA36F6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EE924-8515-43FE-96CE-9DB076A9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96C73-D5A7-48D1-AEDC-92F3ECD9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82606-2A1C-499A-A952-ACC43A70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6E20A-49E2-4263-AD63-D7E2B195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C782A-8789-4831-BED9-FCEF29FF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0F5D2-549F-427F-9DAA-161AA644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1867F-9650-4125-BDFF-2E52886E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A70C7-487C-48BF-9B4E-62FAF23E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987C5-8B77-4B18-A059-6EF5305E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44C-C762-4492-B43C-24437087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1DCB9-2B61-4689-8BBF-BBEA373B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D48E0-7B9D-4CB0-941F-BA8591CB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4DA37-5F16-488A-9EC3-F1311014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B777E-2D54-4113-93DB-4BAB8D03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09F79-0FA5-47F0-AE36-AC2E964B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4EE4B-CAD3-4D0C-8DC9-C3642C11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EED58-0827-4F7B-B8B1-25C5763E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06104-73C1-4DA5-92A9-06138DC9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5EF66-0901-4443-BB28-165EAB44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ECA7D-2283-4751-962C-4E9C459D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0E9-78DA-4E4B-AB67-F822643B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D4475-B545-4527-BF2E-35FF5DB1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77E04-5F74-4378-9A82-72A2F1D9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2A6FC-E470-4FA1-BF86-9180021B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31EA3-C054-46B1-AA57-26AAF389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49303-D4DB-47CC-837C-55A597E4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2477C-1E17-4292-8CAB-22DC781A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2268A-D4AB-4B76-8436-CF7C39F0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2D668-2318-4E97-9EFE-1CA9E6A8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C163D-AFCA-478D-9FE3-BE2799AB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FCC3E-6E96-43C7-B4BB-DF4A2C56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0770-3728-4EA7-B414-3AE4F520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720DD-6B05-460E-82B7-D7F8FD0D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A702B-761E-4D74-A833-A4A25B12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DDFB9-BA02-4E35-95A5-AD4CED0E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DE8F7-97D0-42FF-9493-AE4BAADB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57ABE-50F1-4EB3-B412-74E501F1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7340C-6881-4E4E-9117-F75BBB04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6E4C1-11C6-42FA-BADF-B34E95C5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91328-EAB5-4298-85AA-CE2CB250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E7EF3-C981-4F6A-86CC-5B935FDC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7CEDC-D4CC-48D0-B9B1-AB5DC299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087E-6AA0-43DA-BA86-8680BE6A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23182-5FFC-4D75-82CA-DFC92DFA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85E94-50C8-477C-B449-2043A61D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A03E7-9832-4902-8FBF-75C788F9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81A60-C97A-4D12-8A89-E37C9C38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B2CAE-03CE-4440-8CC3-D72A9DAC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E4797-0257-4C04-8795-10A0B9E9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2282E-69D3-4052-90CA-10B27DF5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80481-03B6-491B-9EE6-0B9DFA04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38BB0-C80B-46AC-A65C-4F4864B1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B8F65-E90E-4AD2-BEFD-110FEFD5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8C53-6BF3-4AEC-B053-6948BACD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ABCB9-559B-467B-A62C-9A826DF4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6FE39-F5F0-4326-B8A4-4BCAB598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856C6-9B18-4FBD-8C2E-2745DBEB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1D9B9-3245-4E4F-BE02-332B8D52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29021-A3CC-4DFF-BB0B-245075D9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9940-E88C-4BB1-8E39-8AE9ED47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16040"/>
            <a:ext cx="3245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abab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8877D1-5BFA-4E4D-8C4F-8022691F1B3E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0F53C-EF15-494E-A8FD-E2E99C89928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961920" y="708120"/>
            <a:ext cx="2970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961920" y="708120"/>
            <a:ext cx="27799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7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971640" y="6356520"/>
            <a:ext cx="149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abab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8E75C-86E3-4CC4-80AE-0654451AE8D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99999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8"/>
          <p:cNvSpPr/>
          <p:nvPr/>
        </p:nvSpPr>
        <p:spPr>
          <a:xfrm>
            <a:off x="961920" y="708120"/>
            <a:ext cx="2924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30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8E33A-65B4-4556-93B2-02E3470979F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8"/>
          <p:cNvSpPr/>
          <p:nvPr/>
        </p:nvSpPr>
        <p:spPr>
          <a:xfrm>
            <a:off x="961920" y="708120"/>
            <a:ext cx="3419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3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90F06-3702-4796-A376-A7DCF3333B8E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8"/>
          <p:cNvSpPr/>
          <p:nvPr/>
        </p:nvSpPr>
        <p:spPr>
          <a:xfrm>
            <a:off x="961920" y="708120"/>
            <a:ext cx="3029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E172C-049E-4BA2-9245-DFA1F840105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8"/>
          <p:cNvSpPr/>
          <p:nvPr/>
        </p:nvSpPr>
        <p:spPr>
          <a:xfrm>
            <a:off x="961920" y="708120"/>
            <a:ext cx="3781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59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D4DBE-63CF-4BAA-B2DE-EDBB5EF21A1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71640" y="1695240"/>
            <a:ext cx="720072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0000"/>
                </a:solidFill>
                <a:latin typeface="Arial"/>
                <a:ea typeface="Arial"/>
              </a:rPr>
              <a:t>Optimizacija </a:t>
            </a:r>
            <a:br>
              <a:rPr sz="4400"/>
            </a:br>
            <a:r>
              <a:rPr b="1" lang="sl-SI" sz="4400" spc="-1" strike="noStrike">
                <a:solidFill>
                  <a:srgbClr val="000000"/>
                </a:solidFill>
                <a:latin typeface="Arial"/>
                <a:ea typeface="Arial"/>
              </a:rPr>
              <a:t>in ostali načrti glede informacijskega sistema ISARR</a:t>
            </a:r>
            <a:br>
              <a:rPr sz="4400"/>
            </a:b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9" name="PoljeZBesedilom 5"/>
          <p:cNvSpPr/>
          <p:nvPr/>
        </p:nvSpPr>
        <p:spPr>
          <a:xfrm>
            <a:off x="464040" y="6134040"/>
            <a:ext cx="21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l-SI" sz="1600" spc="-1" strike="noStrike">
                <a:solidFill>
                  <a:srgbClr val="0070c0"/>
                </a:solidFill>
                <a:latin typeface="Arial"/>
              </a:rPr>
              <a:t>Otočec, 21. maj 2014</a:t>
            </a: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ripravljamo izboljšave na področju izmenjave podatkov med informacijskim sistemom organa upravljanja in informacijskim sistemom plačilnega organa in organa za potrjevanja  z namenom, da se avtomatizira izmenjava podatkov med vsemi sistemi in se s tem skrajša tudi potreben čas za izplačilo in pripravo zahtevka za povračilo </a:t>
            </a: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1" name="Magnetni disk 4"/>
          <p:cNvSpPr/>
          <p:nvPr/>
        </p:nvSpPr>
        <p:spPr>
          <a:xfrm>
            <a:off x="5438880" y="4552920"/>
            <a:ext cx="1276200" cy="1095480"/>
          </a:xfrm>
          <a:prstGeom prst="flowChartMagneticDisk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MFERAC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2" name="Magnetni disk 5"/>
          <p:cNvSpPr/>
          <p:nvPr/>
        </p:nvSpPr>
        <p:spPr>
          <a:xfrm>
            <a:off x="2247840" y="4552920"/>
            <a:ext cx="1276560" cy="1095480"/>
          </a:xfrm>
          <a:prstGeom prst="flowChartMagneticDisk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ISARR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3" name="Desna puščica 2"/>
          <p:cNvSpPr/>
          <p:nvPr/>
        </p:nvSpPr>
        <p:spPr>
          <a:xfrm>
            <a:off x="3666960" y="4691160"/>
            <a:ext cx="1648080" cy="390600"/>
          </a:xfrm>
          <a:prstGeom prst="rightArrow">
            <a:avLst>
              <a:gd name="adj1" fmla="val 50000"/>
              <a:gd name="adj2" fmla="val 5000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odatki za odredbe</a:t>
            </a:r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4" name="Leva puščica 3"/>
          <p:cNvSpPr/>
          <p:nvPr/>
        </p:nvSpPr>
        <p:spPr>
          <a:xfrm>
            <a:off x="3753000" y="5295960"/>
            <a:ext cx="1562040" cy="352440"/>
          </a:xfrm>
          <a:prstGeom prst="left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Calibri"/>
              </a:rPr>
              <a:t>Podatki o izplačilih</a:t>
            </a:r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V sodelovanju z Ministrstvom za notranje zadeve, ki je pristojen za področje državne informatike načrtujemo prehod informacijskega sistema v oblačno storitev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(e-cloud) </a:t>
            </a: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485640" y="3500280"/>
            <a:ext cx="8172720" cy="2524320"/>
          </a:xfrm>
          <a:prstGeom prst="rect">
            <a:avLst/>
          </a:prstGeom>
          <a:ln w="0">
            <a:noFill/>
          </a:ln>
        </p:spPr>
      </p:pic>
      <p:sp>
        <p:nvSpPr>
          <p:cNvPr id="317" name="Desna puščica 2"/>
          <p:cNvSpPr/>
          <p:nvPr/>
        </p:nvSpPr>
        <p:spPr>
          <a:xfrm>
            <a:off x="2666880" y="4219560"/>
            <a:ext cx="2686320" cy="122868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</a:rPr>
              <a:t>Prehod na zmogljivejšo in novejšo tehnologijo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8" name="PoljeZBesedilom 3"/>
          <p:cNvSpPr/>
          <p:nvPr/>
        </p:nvSpPr>
        <p:spPr>
          <a:xfrm>
            <a:off x="1110600" y="4578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ISARR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zmanjševanje števila posameznih  faz pri oddaji zahtevkov za povračilo na način, da se bo ob plačilu upravičenih stroškov v računovodski sistem plačilnega organa (MFERAC), preko odredb avtomatično tvoril zahtevek za povračilo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847800" y="4124160"/>
            <a:ext cx="2009880" cy="1393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6134040" y="4124160"/>
            <a:ext cx="2009880" cy="1393920"/>
          </a:xfrm>
          <a:prstGeom prst="rect">
            <a:avLst/>
          </a:prstGeom>
          <a:ln w="0">
            <a:noFill/>
          </a:ln>
        </p:spPr>
      </p:pic>
      <p:sp>
        <p:nvSpPr>
          <p:cNvPr id="322" name="Desna puščica 2"/>
          <p:cNvSpPr/>
          <p:nvPr/>
        </p:nvSpPr>
        <p:spPr>
          <a:xfrm>
            <a:off x="3000240" y="4303800"/>
            <a:ext cx="3133800" cy="1035000"/>
          </a:xfrm>
          <a:prstGeom prst="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800" spc="-1" strike="noStrike">
                <a:solidFill>
                  <a:srgbClr val="ff0000"/>
                </a:solidFill>
                <a:latin typeface="Calibri"/>
              </a:rPr>
              <a:t>Samodejna priprava na osnovi informacije o izplačil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spremembe na področju informacijske podpore izvajanja tehnične pomoči vključno s informacijsko podporo izvajanju vzorčne kontrole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2666880" y="4024440"/>
            <a:ext cx="3808440" cy="1738080"/>
          </a:xfrm>
          <a:prstGeom prst="rect">
            <a:avLst/>
          </a:prstGeom>
          <a:ln w="0">
            <a:noFill/>
          </a:ln>
        </p:spPr>
      </p:pic>
      <p:sp>
        <p:nvSpPr>
          <p:cNvPr id="325" name="PoljeZBesedilom 2"/>
          <p:cNvSpPr/>
          <p:nvPr/>
        </p:nvSpPr>
        <p:spPr>
          <a:xfrm>
            <a:off x="1635120" y="6076800"/>
            <a:ext cx="58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Arial"/>
              </a:rPr>
              <a:t>Poenostavitve in skrajšanje potrebnega časa za kontrolo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izboljšave s področja poročanja in izpisov za uporabnike ter izboljšanje nadzora Organa upravljanja nad izvajanjem kohezijske politik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3029040" y="3024360"/>
            <a:ext cx="30780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71640" y="129492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 OU intenzivno pripravljamo vse potrebne podlage za izvedbo javnega naročila v zvezi z novim informacijskim sistemom za podporo izvajanja kohezijske politike 2014-2020. V nov informacijski sistem bomo vključili tudi funkcionalnosti skladne z zahtevami e-kohezije, kot na primer e-razpis, e-podpis, v celoti elektronsko izmenjavo podatkov med upravičenci in posredniškimi telesi…)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3257640" y="4181400"/>
            <a:ext cx="26287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0:06:07Z</dcterms:created>
  <dc:creator>mitja</dc:creator>
  <dc:description/>
  <dc:language>en-US</dc:language>
  <cp:lastModifiedBy>Janika Gregorič Zečevič</cp:lastModifiedBy>
  <dcterms:modified xsi:type="dcterms:W3CDTF">2014-05-20T10:15:06Z</dcterms:modified>
  <cp:revision>21</cp:revision>
  <dc:subject/>
  <dc:title>Sprememba izvajanja črpanja EU sredstev z poenostavitvami</dc:title>
</cp:coreProperties>
</file>