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D41C-0C84-4603-919E-6A6E31D3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B24-4856-4984-9AF3-6AABAD91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E843-8F7E-409C-8166-44C4617C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C11-C636-4490-9BBD-E4BC44E4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8A5E-C6B3-466C-9063-D5B26B88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7C76-0444-49D3-A389-8DF4CA78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7CF0-1917-4882-8847-1B7B2DAD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0B98-494E-47E4-A69C-C6175AE7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FBE-24FE-4023-84D1-10BFF92F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A39B-B83E-43AC-AAB8-3AD3D311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A721-8C9A-4D7F-B517-DAB90D15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BD0-8BEC-4C02-976B-345FBB58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3205-3C12-4C24-A55F-99FE71BEBF26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642960" y="2552760"/>
            <a:ext cx="77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34ea2"/>
                </a:solidFill>
                <a:latin typeface="Arial"/>
              </a:rPr>
              <a:t>OPERATIVNI PROGRAM KREPITVE REGIONALNIH RAZVOJNIH POTENCIALOV ZA OBDOB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34ea2"/>
                </a:solidFill>
                <a:latin typeface="Arial"/>
              </a:rPr>
              <a:t>2007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000240" y="5316480"/>
            <a:ext cx="280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Gregor Pir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21.5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3. RP – Povezovanje naravnih in kulturnih potencial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3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7"/>
          <p:cNvSpPr/>
          <p:nvPr/>
        </p:nvSpPr>
        <p:spPr>
          <a:xfrm>
            <a:off x="468360" y="2075040"/>
            <a:ext cx="8229600" cy="345420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Že doseženi kazalniki:  število podprtih projektov s področja turizma vključujoč v MSP; prenočitve turistov; število obiskovalcev v obnovljenih objektih kulturne dedišč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preko 160 projektov  s področja turizma (infrastruktura in promoci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29 projektov kulturne infrastruk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12 projektov športno-rekreacijske infrastruk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4. RP – Razvoj reg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4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468360" y="2075040"/>
            <a:ext cx="8229600" cy="309528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Objava 7. javnega poziva za predložitev vlo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že skoraj 1000 projektov s področja razvoja reg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Že doseženi kazalnik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Kot rezultat sofinanciranja je priklopljenih že 95.000 prebivalcev na kanalizacijski sistem v aglomeracijah manjših od 2000 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Skoraj 145.000 prebivalcev s kvalitetnejšim vodovodnim siste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ravokotnik 1"/>
          <p:cNvSpPr/>
          <p:nvPr/>
        </p:nvSpPr>
        <p:spPr>
          <a:xfrm>
            <a:off x="468360" y="11206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5. RP – Tehnična pomo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482760" y="1928880"/>
            <a:ext cx="8215200" cy="50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spletna stran www.eu-skladi.s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Socialno omrežje Facebook:  www.facebook.com/EUsklad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Javne razprave o finančni perspektivi 2014-2020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E-kohezijski kotiče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Študije in vrednotenj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Vrednotenje 4. razvojne prioritete Operativnega programa krepitve regionalnih razvojnih potencialov za obdobje 2007-2013 - Razvoj regi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R (SVRK, MGRT, MIZŠ, MK, MZIP, MZ, SPS, SPIRIT, MIR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nakup administrativne in računalniške opreme, najem in vzdrževanje prostorov ter telekomunikacijske opreme za delo zaposlenih na področju kohezijske politik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332000" y="2144880"/>
          <a:ext cx="6192720" cy="3528720"/>
        </p:xfrm>
        <a:graphic>
          <a:graphicData uri="http://schemas.openxmlformats.org/drawingml/2006/table">
            <a:tbl>
              <a:tblPr/>
              <a:tblGrid>
                <a:gridCol w="784080"/>
                <a:gridCol w="679680"/>
                <a:gridCol w="342720"/>
                <a:gridCol w="752400"/>
                <a:gridCol w="750960"/>
                <a:gridCol w="450720"/>
                <a:gridCol w="525600"/>
                <a:gridCol w="525600"/>
                <a:gridCol w="344520"/>
                <a:gridCol w="345960"/>
                <a:gridCol w="344520"/>
                <a:gridCol w="345960"/>
              </a:tblGrid>
              <a:tr h="396720"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ziv kazalnik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rsta kazalnik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e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zhodišč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črtova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gridSpan="7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seže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DOGODK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ISKI SPLETNE STRAN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ČIN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.6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8.3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ŠTUDIJ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VREDNOTENJ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VE ZAPOSLITV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SEJ NADZORNEGA ODBO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Pravokotnik 2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5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971640" y="253368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2. Predstavitev izvajanja OPR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v letu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8360" y="1928880"/>
          <a:ext cx="8064360" cy="4003560"/>
        </p:xfrm>
        <a:graphic>
          <a:graphicData uri="http://schemas.openxmlformats.org/drawingml/2006/table">
            <a:tbl>
              <a:tblPr/>
              <a:tblGrid>
                <a:gridCol w="2556000"/>
                <a:gridCol w="1547640"/>
                <a:gridCol w="1297080"/>
                <a:gridCol w="1295280"/>
                <a:gridCol w="13683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3.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ice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ane pogod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plačila iz prorač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redov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ir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poudarki pri izvajanju OPRR v letu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7"/>
          <p:cNvSpPr/>
          <p:nvPr/>
        </p:nvSpPr>
        <p:spPr>
          <a:xfrm>
            <a:off x="468360" y="2075040"/>
            <a:ext cx="8229600" cy="446220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Dodeljevanje dodatnih pravic porabe (7,8 mio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Objava 8. javnega poziva s področja Razvoja reg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edbi pomembnejših projekt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ovogradnja FKKT &amp;F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ordijski center Pla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ajanju instrumentov finančnega inžen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Izvedena dodatna investicija tveganega kapi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Dodatno polnjenje programa na podlagi spremembe OP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Začetek gradnje v okviru projektov Urgentnih cent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rc_mi" descr="http://www.pomurec.com/data/galerija/8d93994edb3a19b686280e7cb365bacc7dca957d/21310494069Celozaslonski%20zajem%2012.7.2011%20195748.jpg"/>
          <p:cNvPicPr/>
          <p:nvPr/>
        </p:nvPicPr>
        <p:blipFill>
          <a:blip r:embed="rId1"/>
          <a:srcRect l="0" t="9131" r="3255" b="9567"/>
          <a:stretch/>
        </p:blipFill>
        <p:spPr>
          <a:xfrm>
            <a:off x="6012000" y="2725560"/>
            <a:ext cx="239544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971640" y="2492640"/>
            <a:ext cx="7200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1. Predstavitev Letnega poročila o izvajanju OPRR v letu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68360" y="1046160"/>
            <a:ext cx="8229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  <a:ea typeface="Arial"/>
              </a:rPr>
              <a:t>Ključni dogodki v letu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1916280"/>
            <a:ext cx="6985080" cy="40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Organiziran veliki dogodek  „Razvojni potencial v Zasavski regiji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Sprememba Operativneg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Vlada RS je sprejela odločitev o ustanovitvi Službe vlade RS za razvoj in evropsko kohezijsko politik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Potrjevanje instrumentov iz dodatnih pravic porabe (36,8 mio E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72bfc5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72bfc5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68360" y="1046160"/>
            <a:ext cx="8229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  <a:ea typeface="Arial"/>
              </a:rPr>
              <a:t>Finančno izvajanje OP RR</a:t>
            </a:r>
            <a:r>
              <a:rPr b="1" lang="sl-SI" sz="4000" spc="-1" strike="noStrike">
                <a:solidFill>
                  <a:srgbClr val="034ea2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Grafikon 4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2296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68360" y="1928880"/>
          <a:ext cx="8136000" cy="4003560"/>
        </p:xfrm>
        <a:graphic>
          <a:graphicData uri="http://schemas.openxmlformats.org/drawingml/2006/table">
            <a:tbl>
              <a:tblPr/>
              <a:tblGrid>
                <a:gridCol w="2577960"/>
                <a:gridCol w="1562040"/>
                <a:gridCol w="1308240"/>
                <a:gridCol w="1392120"/>
                <a:gridCol w="129564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ice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ane pogod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plačila iz prorač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redov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ir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1. RP – Konkurenčnost podjetij in raziskovalna odlič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Grafikon 4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1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7"/>
          <p:cNvSpPr/>
          <p:nvPr/>
        </p:nvSpPr>
        <p:spPr>
          <a:xfrm>
            <a:off x="468360" y="2075040"/>
            <a:ext cx="8229600" cy="465264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S subvencijami neposredno podprtih preko 1300 podjet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sofinanciranje R&amp;R dejavnosti in investicije v R&amp;R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sofinanciranje nakupa tehnološke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spodbujena dodatna vlaganja v razv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Centri odličnosti in kompetenčni centri uspešno zaključeni v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okrepitev povezovanja med akademsko sfero in gospodarstv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umeščanje v mednarodni pro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kazalniki so večinoma presež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Instrumenti finančnega inžen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z dolžniškimi viri podprtih preko 1500 podjetij in ustvarjenega pre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260 mio EUR garancijskega potenci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z lastniškimi viri podprtih 17 podjet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2. RP – Gospodarsko – razvojna infra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2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468360" y="2075040"/>
            <a:ext cx="8229600" cy="395892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Vsi kazalniki razen tistih s področje izgradnje izobraževalno-raziskovalne infrastrukture in urgentnih centrov že dosež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število delujočih subjektov podpornega oko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število projektov e-vsebin e-stor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GOŠO – preko 12.000 novih širokopasovnih priključkov (več kot 73.000 prebivalcev z možnostjo dostopa do interne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ajanju velikega projek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adaljevanje GOI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Izvedba JN za dobavo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trjenih 7 projektov urgentnih cent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OTO-UPR01</cp:lastModifiedBy>
  <cp:lastPrinted>2014-05-20T07:55:45Z</cp:lastPrinted>
  <dcterms:modified xsi:type="dcterms:W3CDTF">2014-05-21T08:54:47Z</dcterms:modified>
  <cp:revision>70</cp:revision>
  <dc:subject/>
  <dc:title>Naslov</dc:title>
</cp:coreProperties>
</file>