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3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3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3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B681-0CAE-41B4-BFE2-8D7943D652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1FCE-49F1-4898-96CB-313637477A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DF9A-C15C-46F2-8C0D-4B13CB9C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E471-E243-44F4-9682-016D3930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2B049-8A5E-4232-AC7B-630A6323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01644-8327-431D-8438-464423DB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8433C-59C1-4831-97E1-904040EE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EDF34-A098-405A-AFF3-966E3F00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F3714-E944-48EC-9266-43A10B05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AC7E0-4988-4C4E-950C-4E0AB95C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BBDEE-AA33-471A-9558-B35582A0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B73D2-BE27-4705-B2AB-74F01D16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07A6D-829F-46FF-BF7A-67BDD001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37A0B9-5C96-4905-B158-39DF7B0D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47E0-2540-4EF0-A990-491D4564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FDA83D-B4DA-4B71-BBA6-C581139A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ACE4ED-127E-4360-8651-B36F0526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8FF6E0-DD73-412A-9D8F-13DDA6B1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A82B43-9731-4CA6-BD6B-47E8645C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213D4B-2B43-4B3F-8637-A3B5C074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7A7D2F-46DC-4060-9DCF-7F545015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F07778-BC43-4335-BACC-AA06DD13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25550C-3B5C-48B3-801A-F0AA2225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881DDB-416E-4D4D-B6D8-F19625D3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0EB0F9-6A50-4144-8102-C344C470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9C75-F88B-4D7C-B341-7D1CB11A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5EBBFF-A6E6-45E1-B498-5E29ABF7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448C6-98E1-4327-9489-6518BF4B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6BC4F-ACCC-41DB-BF7B-28F6347F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F05F3-430C-4F47-842E-F836D249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307E6-6B73-4664-B1F5-44B009E1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4F32A-6B3B-4788-B7CF-B1ABB15B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17F72-D9E7-4E02-87A7-5F38F1B4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B21A8-871B-42AD-80FA-339D7134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6AC1C-0284-49B7-9C50-9A9324B6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E0359-D3A7-4024-AEEB-F499B311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8986-2068-4D85-BF38-317CE10D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4F4AB-CE32-4067-A9A4-02CBED84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D9341-4DC3-4E9E-BA6B-6F224EBA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A444F-8C3B-4331-A65E-40653F71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3B44-27A0-4541-A800-B998EED2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8FA2-8DC9-4167-AA00-8E3A458F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D07C-0CE5-4D23-96CE-81FFB604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A000-58DF-4B61-B2C4-597B55C3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ED37-BB8B-4476-B712-ABF90EAE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BE9D-70B2-476A-AD5D-96C5D63F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BAE5-74C0-475B-BB63-FA10ED5E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E272-F4B5-445B-B207-CC6ADFBA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D8B6-F0F9-4A84-B0E3-5EDF0143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5E7F-DC0D-404E-98D6-4B57AE0A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5325-2693-4308-98DE-ECF15E34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8A6E-8456-43EE-9C3C-8A3BA788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E6551-7010-4732-B4F4-031FF40E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054AB-A5D2-40EB-B2D8-4A977B91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8F2BE-A77B-4593-9478-9BDC2DD3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35765-5AA2-4FDA-B7DC-6BE1CE4B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FB898-E5E9-4419-B8FB-B61A4A5E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D265-DA8F-4062-A128-CD7699C5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B4976-DC8C-4F05-921E-436D1390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437FA-1DC1-45D2-B6B7-3CA9E545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39C9E-1FD9-4A7C-9823-EE81B7E4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2F50E-34A4-4DED-9855-836E4881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18BCE-9388-42B9-8AEC-BFEFBF6A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51411-2CD6-47B1-A576-3CE37573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B8BD9-7001-4ACA-BA14-4851010B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06CC16-1B80-4E36-A73E-28BF5992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B04C1C-2E67-4739-BAB0-6572C99D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69CD54-FEA4-439E-AB68-4562043D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998C-EB62-4843-B05A-9F36EDF2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AE1724-A519-4EB8-8B09-42ACCAF3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5B2CE1-1562-4990-A82E-16CF69AC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864AF7-09E8-476B-9A0B-3D0DEE85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0B1A11-125D-4AB8-BF3D-58DD607D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73FD00-0DF6-46F9-80C1-DCDC79ED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533012-1BC9-4F00-9735-A5611153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73FE39-DE65-4388-ADE4-09191EBC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B1E96C-9FEA-4075-8417-35E1276BA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420850-C02D-4FFC-9815-045FEA46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24D73D-B691-4109-BB86-3FEC583E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17F8-AD7D-4A40-BC1C-2D6F6EEC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A28212-1E35-4FE5-BAD6-F3B37EB0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3EC74B-FAA0-4A31-B4AD-14E05E79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ADE04D-9D94-414F-927C-C20783C6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AF2F36-4449-441D-AE4F-8FF8B948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B4A8EC-038D-42C0-B39C-C19A155D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A52289-F690-4E0E-91C2-0ABDA3A6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CC1E8D-9263-429D-A5AF-2D05273A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CF18CD-E5BD-49F6-ADFE-D68557D2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5C2214-1843-4D2D-9094-CB6721C2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A2F502-E66D-483A-953A-89783B36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00B7-B807-4ADC-9816-465A011A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367B71-B79E-4D4B-811A-7DBB8EBE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789B81-FC3F-4A02-B1E7-E6C389FD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D8A8CA-4814-48C1-BB98-3F2C4DD2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30182C-B6FC-45B5-A9FD-507D1448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D4A396-2F06-4170-A0AB-C63C3AE8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6181AE-C62A-430C-A301-AE65AAB0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3773A4-3B0B-4659-B24C-008B9A9A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CB73FF-2338-442C-8C1C-E375C2DE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AC7AC9-98F8-4B1C-83B5-EAEC35FB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9D3C27-9643-4623-9D10-0CC54FB0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5F38-19FC-4AA9-B28C-839870B4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31DDBE-AFCB-4D9E-9345-B598351A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45E8FF-5495-4714-A69D-DC4B7DA5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178BD9-601C-4066-97EE-3E2200DE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C5D81-1601-467F-B639-E7680132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0710B-A3FC-47CC-B1A6-AFA082EB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B49E0-A34E-4CD0-B9A1-27A73ECA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9C8DF-06D6-443E-9D09-1BDCA8C7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99469-E1C2-4B95-BF72-18B3CAF0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12690-7B4D-4268-97DB-618976E1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4B408-267A-458C-BE7A-F6E6DCDF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64DE-894D-4EB5-BF54-84B4527D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E3723-3303-488C-B15C-68814945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95EC4-955D-45F3-A9A4-201845E7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9E36E-25B2-481B-A7D1-6557E599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0E16C-5409-4E6D-B0FA-8EBD9504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275CE-0940-48CC-92B1-2BD4ED76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2A189-F8ED-43EE-88FF-FC6DA7D7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7F3F8-F471-4BB1-A8D6-5B0D502F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1E802-7EAF-46DC-A3AA-D9BFF11A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BC584-16FA-4509-A1E0-43996DF2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52EEA-281C-464E-8D84-C8511FF4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E550-979B-4F56-A11E-2F87A1E1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C6C9D-1053-40D8-A065-3E6E9D16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C5F17-0443-4C88-ACE1-277037FC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67CAB-828F-4ED9-AB2F-0DC2C992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F6CDF-047D-4CDC-89B3-3C9CEE6E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348E2-B00C-47A2-A308-C3571A14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E4A2B-E8AA-48E0-9E3E-CDB5495C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153F9-E3B8-4BCA-82F2-73BDA2DD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6F33B-C5EE-4AD4-B92C-20AA7753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8E29A-5377-4923-A486-E126C3C6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7FA3F-067B-4E1D-A307-5FD7AE9B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DF69-DB6E-4DFD-9BE4-EA332CCFE2CC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DA710750-142C-4E37-A6E6-F6534683D5B8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9:0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9B9A-E7A6-4A70-B88F-737CB95C6991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FC5F-709C-4246-BA51-A520D5626443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1F2553C6-7815-4B14-8FA5-C418A6C3BAEA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9:0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6584-4002-4D06-A68C-4508F0BF258B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A8E0-E21E-45DF-A8EB-050C8B40253E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A9268D80-CE7F-4C75-BB39-61E97D42EDC5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9:0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332D-8022-49A7-896F-0D0DFB505511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E508-437F-4700-B11B-8D594F530EAE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E1330C0A-C04D-43B0-9E8A-343DA108C770}" type="datetime10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:02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6D81-E9F9-4151-B4A5-A6DD87483F98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00A7-9C74-4621-9939-068E4811B129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4C2C07BE-1298-467A-8185-30CA59D21BD9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9:0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70AC-6DC0-4310-9F44-7D84524224B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B689-5355-456D-AC98-ACDED1C712E6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BF3A38B2-58D2-4CA2-973D-329A504A5D89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9:0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D37F-88C0-48C0-867E-95D7D748C43B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84C5-8DD5-4D5C-9466-045747F203FD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686C2BCB-5550-4A57-9EC5-E02C9F2FF899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9:0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330E-D3C2-48BB-8EA7-2B65E5C9138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C6DB-237B-4329-9BE5-68B2E27EEAB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D22BF2A9-A0B6-4B80-83D0-97A16C9EF783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9:0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3D08-94F7-4B41-9804-DB3B856C59E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7BCD-700D-4406-A0C4-B61B264373B5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EF754EDC-A18C-4F23-82C6-99FCDED0F8D0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9:0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6497-DEA2-47F6-9BFB-BE8972ECC4D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84EB-E328-4C7E-8741-2C9E2BDFBFA2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9EEA7CA4-3070-4AF3-B552-B21BC1A941F6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9:0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8378-0C84-439E-A1BA-88710A757F59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669F-4418-4168-9EE6-A63C11E5E1DE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3FAB0082-4E5D-4468-8E02-C43D45E6C5F2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9:0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C72B-4563-4462-80A5-49060949CC1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42960" y="1557360"/>
            <a:ext cx="6477120" cy="25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sl-SI" sz="4500" spc="-1" strike="noStrike">
                <a:solidFill>
                  <a:srgbClr val="eeece1"/>
                </a:solidFill>
                <a:latin typeface="Tw Cen MT"/>
              </a:rPr>
              <a:t>Javno naročanje v Sloveniji in ukrepi za njegovo učinkovitost</a:t>
            </a:r>
            <a:r>
              <a:rPr b="0" lang="en-GB" sz="4500" spc="-1" strike="noStrike">
                <a:solidFill>
                  <a:srgbClr val="eeece1"/>
                </a:solidFill>
                <a:latin typeface="Tw Cen MT"/>
              </a:rPr>
              <a:t>  </a:t>
            </a:r>
            <a:endParaRPr b="0" lang="en-US" sz="45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3203280" y="6049440"/>
            <a:ext cx="5864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w Cen MT"/>
              </a:rPr>
              <a:t>Direktorat za javno naročanje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w Cen MT"/>
              </a:rPr>
              <a:t>Maja Koković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1" name="TextBox 4"/>
          <p:cNvSpPr/>
          <p:nvPr/>
        </p:nvSpPr>
        <p:spPr>
          <a:xfrm>
            <a:off x="6443640" y="5300640"/>
            <a:ext cx="27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Otočec,  21. 5. 2014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2" name="Picture 3" descr=""/>
          <p:cNvPicPr/>
          <p:nvPr/>
        </p:nvPicPr>
        <p:blipFill>
          <a:blip r:embed="rId1"/>
          <a:stretch/>
        </p:blipFill>
        <p:spPr>
          <a:xfrm>
            <a:off x="0" y="6016680"/>
            <a:ext cx="30862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osebnosti nacionalne ureditve     I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900" spc="-1" strike="noStrike">
                <a:solidFill>
                  <a:srgbClr val="000000"/>
                </a:solidFill>
                <a:latin typeface="Tw Cen MT"/>
              </a:rPr>
              <a:t>Visoka raven transparentnosti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nizke mejne vrednosti za objave (20.000 EUR za blago in storitve, 40.000 EUR za gradnje)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o javno odpiranje ponudb in možnost vpogleda v ponudb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a objava “Prostovoljnega” obvestila za predhodno transparentnost v postopkih s pogajanji brez predhodne objav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a napoved zadnjega kroga pogajanj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javljanje obvestil o izvajanju okvirnih sporazumov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seznanitev vseh udeleženih v postopku o predvidenem izboru ponudnika za večjo transparentnost o morebitnem  konfliktu interesov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seznanitev nadzornega organa naročnika o sklenitvi aneksa, zavrnitvi vseh ponudb, odstopu od izvedbe naročil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kmalu objava ključnih delov JN pogodbe na portalu javnih naročil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osebnosti nacionalne ureditve     II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900" spc="-1" strike="noStrike">
                <a:solidFill>
                  <a:srgbClr val="000000"/>
                </a:solidFill>
                <a:latin typeface="Tw Cen MT"/>
              </a:rPr>
              <a:t>Poenostavitve in fleksibilnost postopkov J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od mejnimi vrednostmi EU en postopek z objavo povpraševanja na portalu javnih naročil in možnostjo vključitve pogajanj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roki niso izrecno določeni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najprej razvrstitev ponudb, nato preveritev najugodnejše, če to omogoča potek postopka JN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uporaba do 4 mesece starih dokazil iz prejšnjih postopkov javnega naročanj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dokazila iz uradnih evidenc mora pridobiti naročnik in jih ne sme zahtevati od ponudnika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onudniki lahko predložijo zgolj lastno izjavo, naročnik naknadno pozove k predložitvi dokazil le najugodnejšega ponudnik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dela na gradbišču lahko tečejo nemoteno kljub nezaključenim pogajanjem o dodatnih gradbenih delih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osebnosti nacionalne ureditve     III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Od formalizmov k vsebini in odpiranju trga JN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analiza trga kot podlaga za določitev ocenjene vrednosti JN in zagotovljenih sredstev (razvid izračuna ocenjene vrednosti,  obvezna opredelitev vrednosti in roka veljavnosti pogodbe)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dprava računskih napak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možnost odprave formalnih pomanjkljivosti in napak v ponudbi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max. delež dodatnih storitev ali gradenj 30 %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JN - instrument za doseganje ciljev okoljske, socialne in gospodarske politik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Integriteta, odgovornost in nadzor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oti-korupcijska klavzula in letno poročanje Komisiji za preprečevanje korupcije o premoženju sodelujočih v postopkih javnega naročanj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ekrški v primeru kršitev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Uvedba e-J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dosje ponudnika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za takojšnje preverjanje ponudb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sistem bo povezan z uradnimi evidencami in omogočal deponiranje certifikatov, referenc in drugih dokazil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dražba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a v primeru nesprejemljivih ponudb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oddaja ponudbe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nižji stroški postopka JN za ponudnika in naročnik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interni postopek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aplikacija za upravljanje, vodenje in sledljivost postopkov JN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računi in e-plači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ravno varstvo pri J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ekluzivni rok za zahtevke za revizijo zoper razpisno dokumentacijo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 morebitnih napakah v razpisni dokumentaciji mora potencialni ponudnik preko portala javnih naročil obvezno opozoriti naročnik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kljub vloženem zahtevku za revizijo se postopek javnega naročanja lahko nadaljuje, naročnik pa ne sme skleniti pogodb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taksa za predrevizijski in revizijski postopek je relativno visoka, vendar upošteva načelo sorazmernosti (predmet naročanja, vrednost naročila, sklopi)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avno varstvo se lahko uveljavlja le zoper bistvene kršitve v postopku JN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ednostna obravnava zahtevkov za revizijo, ki se nanašajo na naročila, sofinancirana s sredstvi EU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izjemo kratki roki v predrevizijskem in revizijskem postopku ter avtomatično nadaljevanja pravnega varstva pred Državno revizijsko komisijo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4284720" cy="380376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Za učinkovitejši sistem J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Zakonodaj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Oddaja javnih naročil v praks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Spremljanje stanja in nadzor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Povratna informacija in usposabljanj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936720" cy="10065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" descr="imagesCAQWGSER"/>
          <p:cNvPicPr/>
          <p:nvPr/>
        </p:nvPicPr>
        <p:blipFill>
          <a:blip r:embed="rId3"/>
          <a:stretch/>
        </p:blipFill>
        <p:spPr>
          <a:xfrm>
            <a:off x="1403280" y="4221000"/>
            <a:ext cx="2413080" cy="1598760"/>
          </a:xfrm>
          <a:prstGeom prst="rect">
            <a:avLst/>
          </a:prstGeom>
          <a:ln w="0">
            <a:noFill/>
          </a:ln>
        </p:spPr>
      </p:pic>
      <p:sp>
        <p:nvSpPr>
          <p:cNvPr id="508" name="PoljeZBesedilom 8"/>
          <p:cNvSpPr/>
          <p:nvPr/>
        </p:nvSpPr>
        <p:spPr>
          <a:xfrm>
            <a:off x="2340000" y="616572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Hvala za pozornost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08:55:39Z</dcterms:created>
  <dc:creator/>
  <dc:description/>
  <dc:language>en-US</dc:language>
  <cp:lastModifiedBy/>
  <dcterms:modified xsi:type="dcterms:W3CDTF">2014-05-20T10:26:12Z</dcterms:modified>
  <cp:revision>5</cp:revision>
  <dc:subject/>
  <dc:title>SPREMEMBE NA PODORČJU JAVNEGA NAROČANJA (ZJBN-2D, ZJVETPS-D, ZJNPOV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59990</vt:lpwstr>
  </property>
</Properties>
</file>