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24BA-A361-4057-97B4-BAA524EFE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9564-FCCE-479F-B80A-9C746764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00BA-D53A-4578-9407-B0931BF38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6A5F-0D59-4DBB-9816-9881E339E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9855-4EAE-4AC6-AD7C-EB3EB581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7E7B-1A99-42BD-B24C-CD56BD71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F851-B317-488B-B1E7-0D9CEC33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6D7A-5E57-45E3-92E2-A2D67B36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585A-6A37-4437-8ACF-CD3E6BB8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2665-EDCB-4149-A8F4-77933B2C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2344-318C-48B2-902B-D4966933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A1CD-C1DE-42E8-AF28-CA5AC76F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8DAC-3402-49AB-AB88-90BF819D4E96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3" descr="euskladi_template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2" name="Slika 3" descr="euskladi_template1.bmp"/>
          <p:cNvPicPr/>
          <p:nvPr/>
        </p:nvPicPr>
        <p:blipFill>
          <a:blip r:embed="rId3"/>
          <a:stretch/>
        </p:blipFill>
        <p:spPr>
          <a:xfrm>
            <a:off x="2700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4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44" name="Pravokotnik 2"/>
          <p:cNvSpPr/>
          <p:nvPr/>
        </p:nvSpPr>
        <p:spPr>
          <a:xfrm>
            <a:off x="644400" y="2362320"/>
            <a:ext cx="7545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Arial"/>
                <a:ea typeface="Arial"/>
              </a:rPr>
              <a:t>SKUPINA ZA PRESOJO SKLADNOSTI PROJEKTOV Z DIREKTIVO O P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ravokotnik 3"/>
          <p:cNvSpPr/>
          <p:nvPr/>
        </p:nvSpPr>
        <p:spPr>
          <a:xfrm>
            <a:off x="934920" y="466560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dstavitev aktivnosti za leto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ravokotnik 4"/>
          <p:cNvSpPr/>
          <p:nvPr/>
        </p:nvSpPr>
        <p:spPr>
          <a:xfrm>
            <a:off x="1100160" y="56736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Ljubljana, maj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11280" y="2144880"/>
            <a:ext cx="792144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Ozadje delovanja skup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Opis postopka pregleda projek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Načrt izvajanja aktivnosti za leto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Vključevanje evropske pobude JAS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1365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Arial"/>
              </a:rPr>
              <a:t>Ozad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1445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Dopis EK z dne 20.6.2013: RS, naj zagotovi skladnost svoje zakonodaje s standardi EU za P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Dopis DG Regio z dne 21.8.2013: OU, naj skupaj z okoljskimi organi pripravi smernice za presojo projek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Dopis OU z dne 30.9.2013: napoved imenovanja medresorske delovne skupine (formalno imenovanje na vladi 24.4.2014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36520"/>
            <a:ext cx="8445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Arial"/>
              </a:rPr>
              <a:t>Opis postopka pregleda projektov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172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Skupina pregleduje vse „infrastrukturne“ projekte v okviru OP ROPI in OP 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1. korak: zbiranje podatkov oz. priprava seznama infrastrukturni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2. korak: filtriranje podatk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Izločitev projektov, ki imajo izvedeno PVO (projekti iz priloge I direktive o PV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Izločitev projektov, za katere niti PVO niti “screening” nista zahtevani v skladu z direktivo o P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3. korak: podrobnejši pregled filtriranih projektov na osnovi meril iz priloge III direktive o P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36520"/>
            <a:ext cx="8445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Arial"/>
              </a:rPr>
              <a:t>Opis postopka pregleda projektov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0019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Podrobnejši pregled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1. faza: pregled projektov OP ROPI (pregled opravljajo izključno člani skupine v sodelovanju z upravičenc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2. faza: pregled ostalih projektov se opravi v sodelovanju z zunanjimi izvajalci (JN za izbiro zunanjih izvajalcev se izvede v mesecu juniju 201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Predhodno preverjan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egled dokumentacije, na osnovi katere se projekt izvaja (vrsta in značilnosti posega, okoljska soglasja in dovoljenja, gradbena dovoljenja, itd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Izpolnitev kontrolnega lista z namenom ugotovitve, ali gre pri projektu za poseg, za katerega je treba izvesti PVO v skladu z direktivo o P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36520"/>
            <a:ext cx="8445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ačrt izvajanja aktivnosti za leto 2014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0019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Evidentirano približno 5000 projektov iz OP ROPI in OP RR (od tega približno 418 infrastrukturnih projekt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Ugotovitve: PVO izvedeno za 17 projektov, predhodno mnenje MKO izdano za 5 projektov, kar pomeni, da bo delo skupine osredotočeno na pregledu približno 396 projek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Nadaljnji pregled projektov se izvaja od primera do primera, tako bo do junija 2014 pregledanih približno 10 dodatnih projektov, kar je manj kot je bilo načrtov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Glavni razlogi za dosedanji zaostan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do marca skupina še ni delovala v polni sestavi (nekateri člani so začeli delovati šele marca 2014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obseg dokumentacije, ki jo je treba pregledati v fazi predhodnega preverjan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136160"/>
            <a:ext cx="8445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ačrt izvajanja aktivnosti za leto 2014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85724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Časovni načrt nadaljnje izvedbe aktivnosti (1. de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egled projektov od primera do primera – 1. faza (člani delovne skupine): 2. kvartal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vo vmesno poročilo o pregledu projektov: 2. kvartal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egled projektov od primera – 2. faza (člani delovne skupine): 3. kvartal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drugo vmesno poročilo o pregledu projektov: 3. kvartal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izvedba JN za zunanje izvajalce: junij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egled projektov od primera do primera – 2. faza (člani delovne skupine + zunanji izvajalci): 3. in 4. kvartal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tretje vmesno poročilo o pregledu projektov: 4. kvartal 20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136160"/>
            <a:ext cx="8445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ačrt izvajanja aktivnosti za leto 2014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85724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Časovni načrt nadaljnje izvedbe aktivnosti (2. de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iprava predloga ukrepov in smernic za zagotovitev skladnosti projektov (v sodelovanju z evropsko pobudo JASPERS): 3. in 4. kvartal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osredovanje predloga ukrepov in smernic EK (4. kvartal 2014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iprava zaključnega poročila o delu delovne skupine: 1. kvartal 2015 oz. po usklajevanju predloga ukrepov in smernic z EK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Kako pospešiti delo članov skup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ntenzivno vključevanje upravičencev (predstavniki upravičencev sodelujejo tudi na sestankih delovne skupine, npr s prestavitvijo projekt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kupina je bila nekoliko preoblikovana in sedaj vključuje več ekspertov, ki lahko pokrivajo posamezne vsebin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136160"/>
            <a:ext cx="8445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ključevanje evropske pobude JAS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2888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Z evropsko pobudo JASPERS je usklajen delovni načrt (Project fiche), ki predvide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občasno udeležbo predstavnika JASPERS na sestankih delovne skupi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sodelovanje pri pripravi morebitnih sanacijskih ukrepov v primeru neskladnosti projektov z direktivo o PV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sodelovanje pri pripravi smernic za učinkovito izvedbo predpresoje (screening) projekto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Sodelovanje s pobudo JASPERS je v teku in bo najbolj intenzivno v tretjem in četrten kvartalu 2014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Gabriel Mezang Nkodo</cp:lastModifiedBy>
  <cp:lastPrinted>2014-05-19T08:07:01Z</cp:lastPrinted>
  <dcterms:modified xsi:type="dcterms:W3CDTF">2014-05-19T08:20:30Z</dcterms:modified>
  <cp:revision>52</cp:revision>
  <dc:subject/>
  <dc:title>Naslov</dc:title>
</cp:coreProperties>
</file>