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3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FD1E-6DC5-4236-ACA4-EA7E5199D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16AA-9C99-4684-A097-0BCDCA369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7729-4FAF-41B1-B8C1-2F69CFD3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776-9448-4ADA-A93C-35112C39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8FFD5-6892-4ED9-99A1-5397576C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B4F16-E442-412C-9E1E-6D1B47CC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CC41F-8884-417E-B4F2-30D8BB1A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EB118-516E-437E-94FB-40B58BAF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A4F31-DC18-4FE7-9C76-2E185B0B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6C24F-89CB-4781-B114-09DB7691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C90F3-90AD-4B1B-AEF6-E810CAD4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E2F0F-F51C-4E46-8F47-44060B9D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4DE8F-A3F0-4D80-AD05-56348DEB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727C87-C148-40F5-A6A1-5C4AF3DC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3AEA-58D0-4C94-AF13-2436641D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022EA5-A496-46B8-92AB-B5903749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88BB21-900D-4C75-B09D-0BB2D15B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B5883C-DB56-4E0E-AEE1-D447EC90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B9E3FE-8CDD-4829-A5B6-DD240AFB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676E03-2F6C-4486-965C-8DA93F47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40408B-858F-42A8-BF24-1619DA3E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A573C5-0A58-4701-8FB6-780D53E2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A2338E-65A1-423E-9536-E6E2C64C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21996E-6544-473D-B288-CD704983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BE19EB-86DC-48AF-B5D9-1879B0F2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1D00-9753-4D63-B221-13FCECD6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D7FF5D-2296-4331-9A4D-8605FDC6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6F4BA-A3DE-4309-A236-2BE0FBA3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4C938-7C63-4956-853B-D482AB54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07DA6-AE66-4E66-A680-B5D39B72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84370-F518-4A04-BADF-0623BD83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6E1BC-28F5-4634-B3D5-2A71E62D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49575-47E3-4A96-A47C-E984D559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B928A-5059-4499-9AF7-16069196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39FC8-3B6A-4015-80FB-896B29A1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09CA0-F954-4819-9648-A0CFD352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FE2D-ED2B-4C70-842E-77E82397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35963-66B9-4A72-88B1-D55D6D49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AE12B-A273-45B3-A465-1E17D11D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FE9A3-E137-49C4-B3D4-E4E62622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4398-293A-4492-9CAF-8AE87AD4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FCD9-A0B8-4BC5-830D-64DDDB28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4301-D797-4580-99F2-9F09FFBF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61D7-AFC4-4B55-BBCF-B4D3BFD2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F26C-E570-4204-94B9-A7A57349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4CEF-DBCE-4581-B0C9-D734203C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C083-B9EF-43D8-98C5-21CF905A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C1A5-D455-4755-8202-EF1477C1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B268-C8D4-4D8B-915F-D36926FF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991F-38E1-4654-B2BA-D842F0A9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4860-49BA-4B1C-BF63-1EE79A9A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566B-BBFB-4B2B-B530-097407F7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0A30E-8FA9-481E-9780-7020D4CE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7FC02-829D-4621-BE51-4F3B73DA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3FFA7-C757-4536-908C-5D90EBDB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8152C-C701-4181-910F-90583908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CC6A0-8815-4C30-A354-BED152E0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1D0-67E3-4C92-9BCE-5D8822D5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19718-83C9-4CBD-90CC-720FAF16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50696-091E-4B75-A615-DE2F81F9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8A17A-9276-4F44-92CA-136599B5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CD40E-95B3-4C23-B264-983085C8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BC44-DBBB-453E-8520-149B2520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7172E-EC53-4CA2-BB1F-05F3998F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EAAC0-FAA6-409E-BF25-23106C59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F64C31-D1F5-4F70-9596-5CC9F3E7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B0AB07-1782-490A-AB32-9B7B681B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1153E1-52EE-443C-951E-FBF456CC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DE9-7804-418B-9189-0EE2706F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93BBB3-BEAB-4B20-B5FF-8AF66086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674B2A-7F20-42E9-9D53-A4157CB7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6EF3A7-083B-4593-8CA7-043104BD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5D05FC-8435-4F6D-8311-0A4987F4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C23E14-7B32-428A-946E-DD06D35D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0AFF88-30F0-4D31-8E16-E4805C33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3D62B4-7C8A-4D2F-9470-73E6664F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163CF0-E6E6-46FC-85E3-0D789E6E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50DA1C-EE6E-4825-89FA-2D1F2FC5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7CEF9C-B381-4BD5-962F-AFA6FAD0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FB1-C4C7-401E-8404-69F61490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874076-14AD-45C2-9D2A-0166F2C4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2FE647-1F08-4F74-AB0B-0D1CA380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128BD0-066D-4A02-BA02-C9F4D055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533141-5168-4733-82D3-E71AF5AB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BF8498-4A39-41B9-AA1F-61DDEACA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540F39-6525-45BD-AFF7-D895869A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88B979-8ADB-43F5-976D-57091F81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6A4A08-7072-48E0-BA87-CE0621C1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D15BC-CEDC-4190-AFB8-0B5A53D8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7CAC90-BCA1-4FBE-9E67-07032EFA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8B2-595A-4AE5-B597-27C21C99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8B6CE-18C3-4CDA-8BB0-8393B664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4F734B-840E-466A-824D-22DDD3E5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6DC177-5E9E-43B8-8C72-A70A8929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52D9A-EEB7-47F4-8C3E-BCA3E892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40B3FA-7E41-4859-B1FE-CA278254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E24A25-2E72-40D4-87EA-BF0294B9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3FFDD6-5BE4-45BF-B7E9-2ED27EE7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D8E932-4AC4-46E8-82F5-31CF001F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228ECD-1A2D-4D09-82B7-B2EB8B4B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FC2AF9-3FB2-4B9D-9679-1CFB9D8F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374-87C0-4C20-9AF8-3ED7457D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2FC78-EEA4-4EA9-8A58-F1B87EB3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8A44B2-FB13-4465-AABC-36034378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971B0E-D356-4A83-B4EE-456FAE2F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39E7C-A80E-4EF0-8B41-D1336077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19DAF-30D5-4A04-9ECA-E65E42DB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6D37D-CCC4-4C7E-8D31-F6DB8261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C779A-545E-4B31-B42D-574236EC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8948D-90B0-4B5A-902F-96350AF0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88369-D891-451F-9C4E-0F020BDF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1FA51-B23F-44BB-BD36-CA2B28F2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543-D985-4F45-B455-592E09AD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EA92D-0AD6-4939-B77F-A5DCF582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0E943-0A98-4C47-8294-5C1E7637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F1E01-2425-42C8-95F1-EF8B1F6A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D4EE4-5203-48F1-9BEB-94393B28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BE62F-0C48-4F9A-A5B9-075EB851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18AD8-6554-4C7D-8884-9A01EF7C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1254F-013C-4E31-ACE3-F2EED995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D69CC-0250-4917-ACB8-EE11F401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CD067-FC5B-4E18-9E23-D8D72245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17196-6593-4931-9891-41BD90B6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BC5-7567-449E-BDE7-70312CBA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3AF55-44B9-4540-AD89-EF6D83F6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5CDE2-D4A1-40E0-8F15-D494FEDE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8ABF2-967E-41F0-843C-11ABFBB1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B6256-BF8A-44A7-801E-DF308051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8630F-F553-4C63-A2C0-2EAFCE65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7AAFF-772F-499E-97D3-9CE16679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5CD73-4B1E-4300-A8CC-B50FAE46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114D1-EC36-494F-BDF6-58277EFD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BE908-034D-40F6-B014-D2FAA7CF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D2BBC-8F14-47C7-A98A-BEC8732A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FA3C-394D-44CE-93AA-74D0BC66CF91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89FC5535-0879-40F8-A077-836523371692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0:3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EF14-432B-45B2-9C54-6AD00494DB15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B7A5-439A-425A-A87C-B936AC4C0B4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8D456445-F1F9-4CCA-93E8-F52077B961F4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0:3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6EF0-0717-4F62-A7F0-5389F71807AE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B592-F610-4FE6-B2A8-E52E167D90A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D35FF694-D4D5-4BE5-89E6-E032EAF14890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0:3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288E-5BAE-4081-B892-C0056E684E1A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BCE5-C2A9-4E08-B2BD-CBE9F388CC76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95C7F412-E57F-41BE-AAD8-B0944CB82B92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0:37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7CFF-23B0-4EF3-BC6C-84918E5D70C7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31C8-D3FB-4DA8-B1B0-31E629B0A83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8EF693C8-3529-472F-9ED7-242C8BF9421C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0:3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BB69-55DA-4B58-B86F-D39797B9BA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B56A-4203-4A73-BA4C-F6F2EF55AA2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5A3BF5D3-F593-42B9-B118-97741F0ED076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0:3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37DD-3DC1-41BD-9A15-86FCB69239CE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21D7-4708-444F-8B64-7D42ADED0ED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F2755AB4-EFB1-498C-8CCD-A5272ABCC489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0:3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F7F6-86C3-4E46-A9A3-3071066AFC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CA24-43D3-44C7-AC51-BABB78EBB88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51377AC5-D4C5-4598-8D0A-3E44A40AE843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0:3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2E0C-F94F-443E-8C20-181F45F238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E040-3F23-486E-A33D-F50ABC4D5B2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8D4C243E-79F1-411D-9364-6BA2A88519C8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0:3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B3E6-9BD1-4C44-9A8B-6194D67F72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EC34-C410-4BA5-9620-44B3CA2DC19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551306D7-850B-4A60-83B5-5EF6AE8DB2D9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0:3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8572-BEBD-4A10-B154-5C72356B9583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12D2-6A7A-462F-9A0B-94A83AE4AA7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9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02E624AF-C12A-4F0F-B03B-5892F186486F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0:3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49C0-4304-4987-AD81-DC1050C8CC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42960" y="1557360"/>
            <a:ext cx="647712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sl-SI" sz="4500" spc="-1" strike="noStrike">
                <a:solidFill>
                  <a:srgbClr val="eeece1"/>
                </a:solidFill>
                <a:latin typeface="Tw Cen MT"/>
              </a:rPr>
              <a:t>Javno naročanje v Sloveniji in ukrepi za njegovo učinkovitost</a:t>
            </a:r>
            <a:r>
              <a:rPr b="0" lang="en-GB" sz="4500" spc="-1" strike="noStrike">
                <a:solidFill>
                  <a:srgbClr val="eeece1"/>
                </a:solidFill>
                <a:latin typeface="Tw Cen MT"/>
              </a:rPr>
              <a:t>  </a:t>
            </a:r>
            <a:endParaRPr b="0" lang="en-US" sz="45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3203280" y="6049440"/>
            <a:ext cx="5864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w Cen MT"/>
              </a:rPr>
              <a:t>Direktorat za javno naročanje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w Cen MT"/>
              </a:rPr>
              <a:t>Maja Koković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6443640" y="5300640"/>
            <a:ext cx="27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Otočec,  21. 5. 2014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2" name="Picture 3" descr=""/>
          <p:cNvPicPr/>
          <p:nvPr/>
        </p:nvPicPr>
        <p:blipFill>
          <a:blip r:embed="rId1"/>
          <a:stretch/>
        </p:blipFill>
        <p:spPr>
          <a:xfrm>
            <a:off x="0" y="6016680"/>
            <a:ext cx="30862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000000"/>
                </a:solidFill>
                <a:latin typeface="Tw Cen MT"/>
              </a:rPr>
              <a:t>Visoka raven transparentnosti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izke mejne vrednosti za objave (20.000 EUR za blago in storitve, 40.000 EUR za gradnje)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o javno odpiranje ponudb in možnost vpogleda v ponudb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objava “Prostovoljnega” obvestila za predhodno transparentnost v postopkih s pogajanji brez predhodne objav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napoved zadnjega kroga pogajanj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javljanje obvestil o izvajanju okvirnih sporazumo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eznanitev vseh udeleženih v postopku o predvidenem izboru ponudnika za večjo transparentnost o morebitnem  konfliktu intereso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eznanitev nadzornega organa naročnika o sklenitvi aneksa, zavrnitvi vseh ponudb, odstopu od izvedbe naročil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kmalu objava ključnih delov JN pogodbe na portalu javnih naročil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000000"/>
                </a:solidFill>
                <a:latin typeface="Tw Cen MT"/>
              </a:rPr>
              <a:t>Poenostavitve in fleksibilnost postopkov J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od mejnimi vrednostmi EU en postopek z objavo povpraševanja na portalu javnih naročil in možnostjo vključitve pogajanj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roki niso izrecno določeni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ajprej razvrstitev ponudb, nato preveritev najugodnejše, če to omogoča potek postopka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uporaba do 4 mesece starih dokazil iz prejšnjih postopkov javnega naročanj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dokazila iz uradnih evidenc mora pridobiti naročnik in jih ne sme zahtevati od ponudnika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onudniki lahko predložijo zgolj lastno izjavo, naročnik naknadno pozove k predložitvi dokazil le najugodnejšega ponud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dela na gradbišču lahko tečejo nemoteno kljub nezaključenim pogajanjem o dodatnih gradbenih delih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I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Od formalizmov k vsebini in odpiranju trga J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analiza trga kot podlaga za določitev ocenjene vrednosti JN in zagotovljenih sredstev (razvid izračuna ocenjene vrednosti,  obvezna opredelitev vrednosti in roka veljavnosti pogodbe)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dprava računskih napak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možnost odprave formalnih pomanjkljivosti in napak v ponudbi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max. delež dodatnih storitev ali gradenj 30 %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JN - instrument za doseganje ciljev okoljske, socialne in gospodarske politik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Integriteta, odgovornost in nadzor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oti-korupcijska klavzula in letno poročanje Komisiji za preprečevanje korupcije o premoženju sodelujočih v postopkih javnega naročanj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krški v primeru kršite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Uvedba e-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dosje ponudnika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za takojšnje preverjanje ponudb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istem bo povezan z uradnimi evidencami in omogočal deponiranje certifikatov, referenc in drugih dokazil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dražb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v primeru nesprejemljivih ponudb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oddaja ponudbe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ižji stroški postopka JN za ponudnika in naroč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interni postopek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aplikacija za upravljanje, vodenje in sledljivost postopkov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računi in e-plači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ravno varstvo pri 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kluzivni rok za zahtevke za revizijo zoper razpisno dokumentacijo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 morebitnih napakah v razpisni dokumentaciji mora potencialni ponudnik preko portala javnih naročil obvezno opozoriti naroč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kljub vloženem zahtevku za revizijo se postopek javnega naročanja lahko nadaljuje, naročnik pa ne sme skleniti pogodb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taksa za predrevizijski in revizijski postopek je relativno visoka, vendar upošteva načelo sorazmernosti (predmet naročanja, vrednost naročila, sklopi)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avno varstvo se lahko uveljavlja le zoper bistvene kršitve v postopku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dnostna obravnava zahtevkov za revizijo, ki se nanašajo na naročila, sofinancirana s sredstvi EU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izjemo kratki roki v predrevizijskem in revizijskem postopku ter avtomatično nadaljevanja pravnega varstva pred Državno revizijsko komisijo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284720" cy="380376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Za učinkovitejši sistem 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Zakonodaj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Oddaja javnih naročil v praks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Spremljanje stanja in nadzo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Povratna informacija in usposabljanj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936720" cy="10065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imagesCAQWGSER"/>
          <p:cNvPicPr/>
          <p:nvPr/>
        </p:nvPicPr>
        <p:blipFill>
          <a:blip r:embed="rId3"/>
          <a:stretch/>
        </p:blipFill>
        <p:spPr>
          <a:xfrm>
            <a:off x="1403280" y="4221000"/>
            <a:ext cx="2413080" cy="1598760"/>
          </a:xfrm>
          <a:prstGeom prst="rect">
            <a:avLst/>
          </a:prstGeom>
          <a:ln w="0">
            <a:noFill/>
          </a:ln>
        </p:spPr>
      </p:pic>
      <p:sp>
        <p:nvSpPr>
          <p:cNvPr id="508" name="PoljeZBesedilom 8"/>
          <p:cNvSpPr/>
          <p:nvPr/>
        </p:nvSpPr>
        <p:spPr>
          <a:xfrm>
            <a:off x="2340000" y="616572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Hvala za pozornost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8:55:39Z</dcterms:created>
  <dc:creator/>
  <dc:description/>
  <dc:language>en-US</dc:language>
  <cp:lastModifiedBy/>
  <dcterms:modified xsi:type="dcterms:W3CDTF">2014-05-20T10:26:12Z</dcterms:modified>
  <cp:revision>5</cp:revision>
  <dc:subject/>
  <dc:title>SPREMEMBE NA PODORČJU JAVNEGA NAROČANJA (ZJBN-2D, ZJVETPS-D, ZJNPOV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9990</vt:lpwstr>
  </property>
</Properties>
</file>