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76F-2329-4CDA-BAF6-8ED9FCA6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037-963E-43B4-83A0-08572D1F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7CF-9E9A-440B-AD83-BF3D997D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3B8-CD2D-4C18-9E47-C48C4DE2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282-1913-4353-89F2-EB96F53C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7C5-D256-4E82-9B6C-46707755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2F5-8D59-4EA2-9925-752C8BD1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268-A9E4-4210-9B92-1B05A945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BBA-00E1-4B8A-B0ED-D0B936C6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5AB-9F3B-491E-B9E2-A6E4A551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B3A-A12D-49E4-A888-D577B7A3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054-3999-4A1C-BA4A-6F671323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11A3-32EC-4B58-94EE-50E3A89FC86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2700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Pravokotnik 2"/>
          <p:cNvSpPr/>
          <p:nvPr/>
        </p:nvSpPr>
        <p:spPr>
          <a:xfrm>
            <a:off x="644400" y="2362320"/>
            <a:ext cx="754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  <a:ea typeface="Arial"/>
              </a:rPr>
              <a:t>SKUPINA ZA PRESOJO SKLADNOSTI PROJEKTOV Z DIREKTIVO O P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avokotnik 3"/>
          <p:cNvSpPr/>
          <p:nvPr/>
        </p:nvSpPr>
        <p:spPr>
          <a:xfrm>
            <a:off x="934920" y="46656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dstavitev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avokotnik 4"/>
          <p:cNvSpPr/>
          <p:nvPr/>
        </p:nvSpPr>
        <p:spPr>
          <a:xfrm>
            <a:off x="1100160" y="5673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jubljana, maj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1280" y="2144880"/>
            <a:ext cx="7921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zadje delovanja sku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pis postopka pregleda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Načrt izvajanja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365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zad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1445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EK z dne 20.6.2013: RS, naj zagotovi skladnost svoje zakonodaje s standardi EU za P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DG Regio z dne 21.8.2013: OU, naj skupaj z okoljskimi organi pripravi smernice za presojo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OU z dne 30.9.2013: napoved imenovanja medresorske delovne skupine (formalno imenovanje na vladi 24.4.201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172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Skupina pregleduje vse „infrastrukturne“ projekte v okviru OP ROPI in OP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1. korak: zbiranje podatkov oz. priprava seznama infrastrukturni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2. korak: filtriranje podat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ki imajo izvedeno PVO (projekti iz priloge I direktive o P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za katere niti PVO niti “screening” nista zahtevani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3. korak: podrobnejši pregled filtriranih projektov na osnovi meril iz priloge III direktive o P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odrobnejši pregled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. faza: pregled projektov OP ROPI (pregled opravljajo izključno člani skupine v sodelovanju z upravičenc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. faza: pregled ostalih projektov se opravi v sodelovanju z zunanjimi izvajalci (JN za izbiro zunanjih izvajalcev se izvede v mesecu juniju 20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redhodno preverjan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dokumentacije, na osnovi katere se projekt izvaja (vrsta in značilnosti posega, okoljska soglasja in dovoljenja, gradbena dovoljenja, it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polnitev kontrolnega lista z namenom ugotovitve, ali gre pri projektu za poseg, za katerega je treba izvesti PVO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Evidentirano približno 5000 projektov iz OP ROPI in OP RR (od tega približno 418 infrastrukturnih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Ugotovitve: PVO izvedeno za 17 projektov, predhodno mnenje MKO izdano za 5 projektov, kar pomeni, da bo delo skupine osredotočeno na pregledu približno 396 proje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Nadaljnji pregled projektov se izvaja od primera do primera, tako bo do junija 2014 pregledanih približno 10 dodatnih projektov, kar je manj kot je bilo načrtov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Glavni razlogi za dosedanji zaosta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o marca skupina še ni delovala v polni sestavi (nekateri člani so začeli delovati šele marca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seg dokumentacije, ki jo je treba pregledati v fazi predhodnega preverj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1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1. faza (člani delovne skupine)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vo vmesno poročilo o pregledu projektov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– 2. faza (člani delovne skupine)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rugo vmesno poročilo o pregledu projektov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vedba JN za zunanje izvajalce: junij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2. faza (člani delovne skupine + zunanji izvajalci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tretje vmesno poročilo o pregledu projektov: 4. kvartal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2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predloga ukrepov in smernic za zagotovitev skladnosti projektov (v sodelovanju z evropsko pobudo JASPERS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osredovanje predloga ukrepov in smernic EK (4. kvartal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zaključnega poročila o delu delovne skupine: 1. kvartal 2015 oz. po usklajevanju predloga ukrepov in smernic z 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Kako pospešiti delo članov skup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tenzivno vključevanje upravičencev (predstavniki upravičencev sodelujejo tudi na sestankih delovne skupine, npr s prestavitvijo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upina je bila nekoliko preoblikovana in sedaj vključuje več ekspertov, ki lahko pokrivajo posamezne vseb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88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Z evropsko pobudo JASPERS je usklajen delovni načrt (Project fiche), ki predvide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časno udeležbo predstavnika JASPERS na sestankih delovne skup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morebitnih sanacijskih ukrepov v primeru neskladnosti projektov z direktivo o P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smernic za učinkovito izvedbo predpresoje (screening) projekt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s pobudo JASPERS je v teku in bo najbolj intenzivno v tretjem in četrten kvartalu 201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Gabriel Mezang Nkodo</cp:lastModifiedBy>
  <cp:lastPrinted>2014-05-19T08:07:01Z</cp:lastPrinted>
  <dcterms:modified xsi:type="dcterms:W3CDTF">2014-05-19T08:20:30Z</dcterms:modified>
  <cp:revision>52</cp:revision>
  <dc:subject/>
  <dc:title>Naslov</dc:title>
</cp:coreProperties>
</file>