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"/>
          <p:cNvSpPr/>
          <p:nvPr/>
        </p:nvSpPr>
        <p:spPr>
          <a:xfrm>
            <a:off x="0" y="0"/>
            <a:ext cx="67932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dt" idx="34"/>
          </p:nvPr>
        </p:nvSpPr>
        <p:spPr>
          <a:xfrm>
            <a:off x="384804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sldImg"/>
          </p:nvPr>
        </p:nvSpPr>
        <p:spPr>
          <a:xfrm>
            <a:off x="920880" y="742680"/>
            <a:ext cx="4952880" cy="3714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440" bIns="46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ce1"/>
                </a:solidFill>
                <a:latin typeface="Tw Cen MT"/>
              </a:rPr>
              <a:t>Click to move the slide</a:t>
            </a:r>
            <a:endParaRPr b="0" lang="en-US" sz="4400" spc="-1" strike="noStrike">
              <a:solidFill>
                <a:srgbClr val="eeece1"/>
              </a:solidFill>
              <a:latin typeface="Tw Cen MT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ftr" idx="35"/>
          </p:nvPr>
        </p:nvSpPr>
        <p:spPr>
          <a:xfrm>
            <a:off x="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6"/>
          <p:cNvSpPr>
            <a:spLocks noGrp="1"/>
          </p:cNvSpPr>
          <p:nvPr>
            <p:ph type="sldNum" idx="36"/>
          </p:nvPr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10227-0CB0-4931-AE9A-7E9045524F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l-S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Slide Number Placeholder 3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CC48B-30F2-4E83-A911-CB3C9CDCA9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C4170-4294-4782-B6EA-66D08E9DE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A4598-4D4D-49EA-BD60-869FBA11D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0666A5-128B-4A75-AB71-5121AEA25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F4B315-92A9-4EEA-A34D-0FA3810DB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89099D-498D-4459-BE87-2C543EC90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FEC3D4-7985-4DEB-8834-4D4C50391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DAF056-8D04-4F5B-8301-7F9FA6AD1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7C95AD-442E-4940-8B87-1402662D4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E14230-55FC-4B7F-8BE5-E8AEFE020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B690A1-A79E-4FEC-8AAD-D72C980C4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1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2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8CDD15-4A7E-4748-8BFD-D15473C2A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45F56E1-01B8-466B-A949-39281430B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EABA6-1E56-4539-8110-4ECC696CE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07F1C91-BE49-4D73-A289-E24329469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AD510E2-BBDC-461A-BF87-0836B4DC6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DDA196E-EF16-4284-A0A5-EB9278528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437D26D-B3E5-44A7-8A6D-3EB95BD3E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375089D-017D-4823-93D5-3237E8C86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297E372-AFD2-4A1B-956D-B5889745D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9A1F8F3-5EC2-4E67-96E2-CFC2F119A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22A207E-F4B7-440E-A2BE-8C49B6EB9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8199056-6AD1-46D4-A767-D9037DFB6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AEFC875-4332-46CF-B54F-A286B6B09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F4B9A-4235-4864-BA9F-CABFD984B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4A661F5-0971-464A-A598-2757923A5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032362-2AAB-4628-9246-D30DECD9E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831BBD-A697-4F4C-8844-3129D4FBB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BDE8AD-BB55-4154-9111-12E798596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81E336-2E6E-4E4D-8B9B-F218360A7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A77B6F-9F06-4AC2-B4EF-E066A3FA5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CA5183-8F05-4F51-9664-8D69AD8CC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AEA49D-D2EC-48B3-8A91-44624C3C3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C4DD93-02F9-4906-ACFF-62EC82214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087570-6C52-4968-8EA9-29934703A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9F27B-639A-431B-B7E5-C9D1EC5E0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37B621-CE09-43CE-8B22-C637705D9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FC02D2-176C-4FDB-9D71-5DD64F76A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2FFE6C-F16D-4DFD-A85F-320182296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97F24-9EEC-4CD5-A300-1A6721F89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3C401-069C-4F8B-BB02-4AD6DF524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34FAF-19A3-4A5E-98D0-876383418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2F54A-F924-494A-AF06-3C14C1CC4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53679-6AEC-4716-B3F1-69132F1F8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330A2-7BDA-489B-8D0A-673D91829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147C9-6803-48F6-821A-8EA8EEC65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C2C4D-CC54-4301-B8A4-30EC950FA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86088-0B06-4D95-B4A3-76E70F1E8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11696-0F9F-4493-AB3F-5E1359537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34468-B8CC-49B3-A5AF-DEAE37CF1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9793E-3E6B-4246-80C0-2749CE48F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F985E5-C900-4ABD-8B0D-A594D8E3D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4C82EB-3F89-4FE1-A96E-85163CCAB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192ED4-EF22-449B-A70B-209175584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9EBA0F-9B9E-4C07-A710-03BD5D112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C88FA8-D9DF-488B-99C6-44D9CEC4D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00CF5-DE60-4457-AB80-20E45CAB0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A8B6AF-BBE8-4734-8A1B-CE52E5EB5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BFCCD8-522B-47BE-9C24-6803B0577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16D368-D6B6-47E1-AAC1-396DC69DE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5394F6-CC89-43F9-A838-47C1D90BC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1EA557-B3E8-4131-BBF5-B11C2ECB5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A9AE8E-C5E2-4F1E-877E-6C925493D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CF03F1-14DB-4FB4-B273-0D973A822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6128F03-2393-4524-8DC0-C50E477D8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3802026-1716-4D99-994D-73579D340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C8DF53E-2CC6-42C5-AB5F-F311CE0E3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80B0A-4EAF-4EED-982F-6F5835934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C927E7A-CF58-49F7-8788-093CD2DE5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C53CFCA-B128-4115-8718-EA2FB140D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0510E7A-743C-4994-95FB-CAA838DB6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5C74554-B57F-4D5E-A639-0C1A35E7A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584B4D8-8A73-488C-B5E2-0D22D8959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FAA059C-24E0-4328-ADF6-D205A356C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DCACDB3-487C-4A8D-801F-6508A2920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E8A8F1F-F1E9-4A80-8A11-0B28916D3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CEF48C9-E40E-42EF-A420-91B53F5A4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751A382-9D2E-400F-9097-902F0142B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7D777-37C9-4BDD-8383-2E647D7EE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BE55D16-FC64-483F-A27E-418ADB50E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715D36C-5AAE-4674-ACA9-EE9C02FCE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4FCFC83-2442-4661-9E39-3758BE9F3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BC9D003-3706-4871-B0DA-2F89DE611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0519F61-D777-4AF4-AA71-E4CB8D9CC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4D4367C-1769-4615-B1B7-B4EB97FB2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486E1BC-5E29-44B2-863B-693178DA0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6AE1373-F342-4131-BFD4-88A964D47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91061CE-EACF-41D6-A7A2-96DA2FA6E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933AF09-D811-4F16-9EED-C228ECADB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66BDD-BF9B-4076-AAEE-36CB82197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77468D5-5631-443F-B6A2-D0CA05C79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DFECA78-E09D-41D5-A213-C91D3112E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B825076-2388-4375-B443-6C6834409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0B5C2A0-5ECD-4BFD-9D1E-301BFB7CC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73033A2-2056-4483-8234-5B2BA1B2D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D99B894-ABB1-4735-8A26-AFA42A829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47100A3-4C6C-4168-8CA6-04D82002E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753036C-4357-4A1C-8C0C-0356DB791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7B8068B-084A-4926-BEC5-B100CE299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9C26800-613D-4D4C-85C4-057E3D867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496BF-9D99-467D-BD45-7C63D0B2A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FE60979-CAB1-4294-9AE6-166B4A28A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B9DBD90-2DB3-4CD3-8D02-3BD7761E9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D18627E-673B-48DA-8F5B-1EF5E0365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EE7456-3119-4C3D-9D9B-23B5EEAB4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86D12D-75CB-4DD7-A983-31E6ABA61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E600C6-2657-4E28-AF7D-5ECACA222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1176A3-D3C8-41F8-A525-A01FFFCAD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51410E-FBBB-4C64-9209-E183BE4B5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DE3667-A6A8-4A88-ACA0-CB2C3F069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015169-F8AF-4033-BDFD-D4AE18620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1602F-D191-4F0C-83ED-559B2F962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7437DE-0E76-4389-BACF-DF428025C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8CCB14-42DD-4CB5-AD16-E90490568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B38E01-F269-4114-B128-D70E3BC3E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D70813-642D-43F0-8B04-E7E451C41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EB33F3-DC9B-45FE-A96B-EF80CF978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A41A12-32A4-4ECF-BBDA-B09F7F166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8DAE3D-C3EC-4160-8370-DF9A7DACC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E57F13-C01E-4603-ADE1-2074864F8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398A02-A8E7-4944-B9DA-10806D37B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52F84E-88B7-468A-97CB-7F6FCF884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9B32D-8FB1-4533-896E-4FDB2ACCC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A44F3D-F898-41A4-8032-24B4521B0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137514-7ADC-4D24-AE88-6DA141707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05528B-0250-437C-AB3A-E682D07FE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71229B-DF10-49CA-B451-082D2AF69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8AFEFA-F1B3-4D21-AD05-67C31A30F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4AFBFB-013A-48C7-BDD2-04DBA4CEF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3E754B-7A52-4DAD-94F7-8452B7A32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36D0CF-AC11-460F-AE11-F94589016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0D4A5D-EAA8-4EFE-84FD-E7A1D215E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0B1259-5554-488C-9A7D-9FD5477A2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d2cb6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95a39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5BE9A-64CF-48FD-BDA0-ECF8D69E5BE2}" type="datetime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7/30/26</a:t>
            </a:fld>
            <a:r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 </a:t>
            </a:r>
            <a:fld id="{CB0499C5-3FCE-4F90-94DC-9FA94E0169FD}" type="datetime10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19:44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BA28A-9DD0-4C28-A360-73ABB18F0A95}" type="slidenum">
              <a:rPr b="1" lang="en-US" sz="1200" spc="-1" strike="noStrike">
                <a:solidFill>
                  <a:srgbClr val="1f497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4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5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6" name="Rectangle 14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d2cb6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95a39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 type="dt" idx="28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B5351-2A29-4C6F-8C63-D4BDE95C6A53}" type="datetime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7/30/26</a:t>
            </a:fld>
            <a:r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 </a:t>
            </a:r>
            <a:fld id="{39EE63E6-DA08-4EC6-99F3-FE9685CA08C3}" type="datetime10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19:44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 type="sldNum" idx="29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C58DF-AD2D-44DB-84BE-2AA082D58DEB}" type="slidenum"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 type="ftr" idx="30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9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0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d2cb6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95a39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dt" idx="31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6949C-FBE1-4BCC-AAA4-58B66E17BC04}" type="datetime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7/30/26</a:t>
            </a:fld>
            <a:r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 </a:t>
            </a:r>
            <a:fld id="{72E3112A-BCBF-4DB0-8E71-CE20709FF27A}" type="datetime10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19:44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ftr" idx="32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sldNum" idx="33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65498-DE37-419C-9D02-822448D5A980}" type="slidenum">
              <a:rPr b="1" lang="en-US" sz="1200" spc="-1" strike="noStrike">
                <a:solidFill>
                  <a:srgbClr val="1f497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ce1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eece1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d2cb6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95a39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46FB4-7A3F-4389-BC5D-07D3568DD7D6}" type="datetime"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fld id="{0E69D9F6-CF66-463B-8A38-D0981E4CE7EE}" type="datetime10"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19:44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eece1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A10AD-3510-4B77-98A3-CD664899CA71}" type="slidenum">
              <a:rPr b="1" lang="en-US" sz="1400" spc="-1" strike="noStrike">
                <a:solidFill>
                  <a:srgbClr val="eeece1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0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d2cb6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95a39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7D2A4-F346-4033-835C-9FD1CE22BB2C}" type="datetime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7/30/26</a:t>
            </a:fld>
            <a:r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 </a:t>
            </a:r>
            <a:fld id="{B69F2679-247B-461E-92C0-F51D4A409952}" type="datetime10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19:44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534D0-75A9-4398-BCB1-5A918A4A83A2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3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4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d2cb6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95a39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D3844-CEAC-400B-84DC-59C95367D618}" type="datetime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7/30/26</a:t>
            </a:fld>
            <a:r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 </a:t>
            </a:r>
            <a:fld id="{50CF1E48-C036-4502-9B8F-C617D4CCC7AE}" type="datetime10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19:44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BBEFC-2657-4AAE-9D40-478CC89B12C1}" type="slidenum"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d2cb6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95a39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70222-26D8-41ED-ABAB-5809F00506AB}" type="datetime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7/30/26</a:t>
            </a:fld>
            <a:r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 </a:t>
            </a:r>
            <a:fld id="{947E1057-C952-473C-888A-09AF90D6F815}" type="datetime10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19:44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C2A2A-3AB1-4C1A-B203-95F8F6A34F87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d2cb6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95a39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034AE-A636-48BD-B538-5EDC7B2844FB}" type="datetime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7/30/26</a:t>
            </a:fld>
            <a:r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 </a:t>
            </a:r>
            <a:fld id="{C331F1B3-9C03-477C-BEEB-6264D6983699}" type="datetime10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19:44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sldNum" idx="17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A7899-D359-4E25-A108-5B1C6B9A2454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ftr" idx="18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d2cb6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95a39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B93EC-DBA5-4E3E-9839-5FF5902C9743}" type="datetime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7/30/26</a:t>
            </a:fld>
            <a:r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 </a:t>
            </a:r>
            <a:fld id="{BFFA64E5-B043-4D72-8676-EABAA14A211C}" type="datetime10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19:44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92A93-7DAD-411D-B289-E4389C89D028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d2cb6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95a39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22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EFB7D-4CFE-41A8-BE5B-9B13B5355681}" type="datetime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7/30/26</a:t>
            </a:fld>
            <a:r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 </a:t>
            </a:r>
            <a:fld id="{62BA1469-9A55-4C35-A803-723DF7A3A8CE}" type="datetime10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19:44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ftr" idx="23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 type="sldNum" idx="24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F28EA-93F0-4AF3-90C6-F836D0D6E37B}" type="slidenum">
              <a:rPr b="1" lang="en-US" sz="1400" spc="-1" strike="noStrike">
                <a:solidFill>
                  <a:srgbClr val="1f497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0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1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d2cb6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95a39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dt" idx="25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1594D-A0C6-4811-8800-32879A480C4A}" type="datetime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7/30/26</a:t>
            </a:fld>
            <a:r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 </a:t>
            </a:r>
            <a:fld id="{5A4243D2-8351-47B5-9C87-B7A0E9F09ED8}" type="datetime10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19:44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ftr" idx="26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sldNum" idx="27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5D61A-0D25-4249-8265-DE28913F0698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542960" y="1557360"/>
            <a:ext cx="6477120" cy="2519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r>
              <a:rPr b="0" lang="sl-SI" sz="4500" spc="-1" strike="noStrike">
                <a:solidFill>
                  <a:srgbClr val="eeece1"/>
                </a:solidFill>
                <a:latin typeface="Tw Cen MT"/>
              </a:rPr>
              <a:t>Javno naročanje v Sloveniji in ukrepi za njegovo učinkovitost</a:t>
            </a:r>
            <a:r>
              <a:rPr b="0" lang="en-GB" sz="4500" spc="-1" strike="noStrike">
                <a:solidFill>
                  <a:srgbClr val="eeece1"/>
                </a:solidFill>
                <a:latin typeface="Tw Cen MT"/>
              </a:rPr>
              <a:t>  </a:t>
            </a:r>
            <a:endParaRPr b="0" lang="en-US" sz="4500" spc="-1" strike="noStrike">
              <a:solidFill>
                <a:srgbClr val="eeece1"/>
              </a:solidFill>
              <a:latin typeface="Tw Cen M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subTitle"/>
          </p:nvPr>
        </p:nvSpPr>
        <p:spPr>
          <a:xfrm>
            <a:off x="3203280" y="6049440"/>
            <a:ext cx="5864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w Cen MT"/>
              </a:rPr>
              <a:t>Direktorat za javno naročanje 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w Cen MT"/>
              </a:rPr>
              <a:t>Maja Koković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1" name="TextBox 4"/>
          <p:cNvSpPr/>
          <p:nvPr/>
        </p:nvSpPr>
        <p:spPr>
          <a:xfrm>
            <a:off x="6443640" y="5300640"/>
            <a:ext cx="270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Tw Cen MT"/>
              </a:rPr>
              <a:t>Otočec,  21. 5. 2014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92" name="Picture 3" descr=""/>
          <p:cNvPicPr/>
          <p:nvPr/>
        </p:nvPicPr>
        <p:blipFill>
          <a:blip r:embed="rId1"/>
          <a:stretch/>
        </p:blipFill>
        <p:spPr>
          <a:xfrm>
            <a:off x="0" y="6016680"/>
            <a:ext cx="3086280" cy="8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1f497d"/>
                </a:solidFill>
                <a:latin typeface="Tw Cen MT"/>
              </a:rPr>
              <a:t>Posebnosti nacionalne ureditve     I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280440" indent="-28044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900" spc="-1" strike="noStrike">
                <a:solidFill>
                  <a:srgbClr val="000000"/>
                </a:solidFill>
                <a:latin typeface="Tw Cen MT"/>
              </a:rPr>
              <a:t>Visoka raven transparentnosti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562680" indent="-24012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w Cen MT"/>
              </a:rPr>
              <a:t>nizke mejne vrednosti za objave (20.000 EUR za blago in storitve, 40.000 EUR za gradnje);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562680" indent="-24012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w Cen MT"/>
              </a:rPr>
              <a:t>obvezno javno odpiranje ponudb in možnost vpogleda v ponudbe;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562680" indent="-24012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w Cen MT"/>
              </a:rPr>
              <a:t>obvezna objava “Prostovoljnega” obvestila za predhodno transparentnost v postopkih s pogajanji brez predhodne objave;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562680" indent="-24012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w Cen MT"/>
              </a:rPr>
              <a:t>obvezna napoved zadnjega kroga pogajanj;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562680" indent="-24012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w Cen MT"/>
              </a:rPr>
              <a:t>objavljanje obvestil o izvajanju okvirnih sporazumov;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562680" indent="-24012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w Cen MT"/>
              </a:rPr>
              <a:t>seznanitev vseh udeleženih v postopku o predvidenem izboru ponudnika za večjo transparentnost o morebitnem  konfliktu interesov;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562680" indent="-24012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w Cen MT"/>
              </a:rPr>
              <a:t>seznanitev nadzornega organa naročnika o sklenitvi aneksa, zavrnitvi vseh ponudb, odstopu od izvedbe naročila;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562680" indent="-24012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w Cen MT"/>
              </a:rPr>
              <a:t>kmalu objava ključnih delov JN pogodbe na portalu javnih naročil;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80440" indent="-28044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80440" indent="-28044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80440" indent="-28044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1f497d"/>
                </a:solidFill>
                <a:latin typeface="Tw Cen MT"/>
              </a:rPr>
              <a:t>Posebnosti nacionalne ureditve     II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83680" indent="-28368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900" spc="-1" strike="noStrike">
                <a:solidFill>
                  <a:srgbClr val="000000"/>
                </a:solidFill>
                <a:latin typeface="Tw Cen MT"/>
              </a:rPr>
              <a:t>Poenostavitve in fleksibilnost postopkov JN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569160" indent="-24264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w Cen MT"/>
              </a:rPr>
              <a:t>pod mejnimi vrednostmi EU en postopek z objavo povpraševanja na portalu javnih naročil in možnostjo vključitve pogajanj;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569160" indent="-24264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w Cen MT"/>
              </a:rPr>
              <a:t>roki niso izrecno določeni;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569160" indent="-24264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w Cen MT"/>
              </a:rPr>
              <a:t>najprej razvrstitev ponudb, nato preveritev najugodnejše, če to omogoča potek postopka JN;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569160" indent="-24264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w Cen MT"/>
              </a:rPr>
              <a:t>uporaba do 4 mesece starih dokazil iz prejšnjih postopkov javnega naročanja;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569160" indent="-24264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w Cen MT"/>
              </a:rPr>
              <a:t>dokazila iz uradnih evidenc mora pridobiti naročnik in jih ne sme zahtevati od ponudnika;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569160" indent="-24264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w Cen MT"/>
              </a:rPr>
              <a:t>ponudniki lahko predložijo zgolj lastno izjavo, naročnik naknadno pozove k predložitvi dokazil le najugodnejšega ponudnika;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569160" indent="-24264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w Cen MT"/>
              </a:rPr>
              <a:t>dela na gradbišču lahko tečejo nemoteno kljub nezaključenim pogajanjem o dodatnih gradbenih delih;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83680" indent="-28368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1f497d"/>
                </a:solidFill>
                <a:latin typeface="Tw Cen MT"/>
              </a:rPr>
              <a:t>Posebnosti nacionalne ureditve     III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9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280440" indent="-28044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w Cen MT"/>
              </a:rPr>
              <a:t>Od formalizmov k vsebini in odpiranju trga JN: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562680" indent="-24012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w Cen MT"/>
              </a:rPr>
              <a:t>analiza trga kot podlaga za določitev ocenjene vrednosti JN in zagotovljenih sredstev (razvid izračuna ocenjene vrednosti,  obvezna opredelitev vrednosti in roka veljavnosti pogodbe);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562680" indent="-24012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w Cen MT"/>
              </a:rPr>
              <a:t>odprava računskih napak;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562680" indent="-24012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w Cen MT"/>
              </a:rPr>
              <a:t>možnost odprave formalnih pomanjkljivosti in napak v ponudbi;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562680" indent="-24012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w Cen MT"/>
              </a:rPr>
              <a:t>max. delež dodatnih storitev ali gradenj 30 %;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562680" indent="-24012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w Cen MT"/>
              </a:rPr>
              <a:t>JN - instrument za doseganje ciljev okoljske, socialne in gospodarske politike;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80440" indent="-28044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w Cen MT"/>
              </a:rPr>
              <a:t>Integriteta, odgovornost in nadzor: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562680" indent="-24012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w Cen MT"/>
              </a:rPr>
              <a:t>proti-korupcijska klavzula in letno poročanje Komisiji za preprečevanje korupcije o premoženju sodelujočih v postopkih javnega naročanja;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562680" indent="-24012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w Cen MT"/>
              </a:rPr>
              <a:t>prekrški v primeru kršitev;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80440" indent="-28044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80440" indent="-28044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80440" indent="-28044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1f497d"/>
                </a:solidFill>
                <a:latin typeface="Tw Cen MT"/>
              </a:rPr>
              <a:t>Uvedba e-JN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0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w Cen MT"/>
              </a:rPr>
              <a:t>E-dosje ponudnika: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w Cen MT"/>
              </a:rPr>
              <a:t>za takojšnje preverjanje ponudb;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w Cen MT"/>
              </a:rPr>
              <a:t>sistem bo povezan z uradnimi evidencami in omogočal deponiranje certifikatov, referenc in drugih dokazil;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w Cen MT"/>
              </a:rPr>
              <a:t>E-dražba: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Tw Cen MT"/>
              </a:rPr>
              <a:t>obvezna v primeru nesprejemljivih ponudb;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w Cen MT"/>
              </a:rPr>
              <a:t>E-oddaja ponudbe: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w Cen MT"/>
              </a:rPr>
              <a:t>nižji stroški postopka JN za ponudnika in naročnika;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w Cen MT"/>
              </a:rPr>
              <a:t>E-interni postopek: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w Cen MT"/>
              </a:rPr>
              <a:t>aplikacija za upravljanje, vodenje in sledljivost postopkov JN;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w Cen MT"/>
              </a:rPr>
              <a:t>E-računi in e-plačila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1f497d"/>
                </a:solidFill>
                <a:latin typeface="Tw Cen MT"/>
              </a:rPr>
              <a:t>Pravno varstvo pri JN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77200" indent="-27720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w Cen MT"/>
              </a:rPr>
              <a:t>prekluzivni rok za zahtevke za revizijo zoper razpisno dokumentacijo;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77200" indent="-27720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w Cen MT"/>
              </a:rPr>
              <a:t>o morebitnih napakah v razpisni dokumentaciji mora potencialni ponudnik preko portala javnih naročil obvezno opozoriti naročnika;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77200" indent="-27720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w Cen MT"/>
              </a:rPr>
              <a:t>kljub vloženem zahtevku za revizijo se postopek javnega naročanja lahko nadaljuje, naročnik pa ne sme skleniti pogodbe;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77200" indent="-27720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w Cen MT"/>
              </a:rPr>
              <a:t>taksa za predrevizijski in revizijski postopek je relativno visoka, vendar upošteva načelo sorazmernosti (predmet naročanja, vrednost naročila, sklopi);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77200" indent="-27720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w Cen MT"/>
              </a:rPr>
              <a:t>pravno varstvo se lahko uveljavlja le zoper bistvene kršitve v postopku JN;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77200" indent="-27720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w Cen MT"/>
              </a:rPr>
              <a:t>prednostna obravnava zahtevkov za revizijo, ki se nanašajo na naročila, sofinancirana s sredstvi EU;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77200" indent="-27720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w Cen MT"/>
              </a:rPr>
              <a:t>izjemo kratki roki v predrevizijskem in revizijskem postopku ter avtomatično nadaljevanja pravnega varstva pred Državno revizijsko komisijo;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3" name="Picture 2" descr=""/>
          <p:cNvPicPr/>
          <p:nvPr/>
        </p:nvPicPr>
        <p:blipFill>
          <a:blip r:embed="rId1"/>
          <a:stretch/>
        </p:blipFill>
        <p:spPr>
          <a:xfrm>
            <a:off x="4859280" y="1628640"/>
            <a:ext cx="4284720" cy="3803760"/>
          </a:xfrm>
          <a:prstGeom prst="rect">
            <a:avLst/>
          </a:prstGeom>
          <a:ln w="0">
            <a:noFill/>
          </a:ln>
        </p:spPr>
      </p:pic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1f497d"/>
                </a:solidFill>
                <a:latin typeface="Tw Cen MT"/>
              </a:rPr>
              <a:t>Za učinkovitejši sistem JN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0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Tw Cen MT"/>
              </a:rPr>
              <a:t>Zakonodaja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Tw Cen MT"/>
              </a:rPr>
              <a:t>Oddaja javnih naročil v praksi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Tw Cen MT"/>
              </a:rPr>
              <a:t>Spremljanje stanja in nadzor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Tw Cen MT"/>
              </a:rPr>
              <a:t>Povratna informacija in usposabljanje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506" name="Picture 3" descr=""/>
          <p:cNvPicPr/>
          <p:nvPr/>
        </p:nvPicPr>
        <p:blipFill>
          <a:blip r:embed="rId2"/>
          <a:stretch/>
        </p:blipFill>
        <p:spPr>
          <a:xfrm>
            <a:off x="7812000" y="189000"/>
            <a:ext cx="936720" cy="1006560"/>
          </a:xfrm>
          <a:prstGeom prst="rect">
            <a:avLst/>
          </a:prstGeom>
          <a:ln w="0">
            <a:noFill/>
          </a:ln>
        </p:spPr>
      </p:pic>
      <p:pic>
        <p:nvPicPr>
          <p:cNvPr id="507" name="Picture 7" descr="imagesCAQWGSER"/>
          <p:cNvPicPr/>
          <p:nvPr/>
        </p:nvPicPr>
        <p:blipFill>
          <a:blip r:embed="rId3"/>
          <a:stretch/>
        </p:blipFill>
        <p:spPr>
          <a:xfrm>
            <a:off x="1403280" y="4221000"/>
            <a:ext cx="2413080" cy="1598760"/>
          </a:xfrm>
          <a:prstGeom prst="rect">
            <a:avLst/>
          </a:prstGeom>
          <a:ln w="0">
            <a:noFill/>
          </a:ln>
        </p:spPr>
      </p:pic>
      <p:sp>
        <p:nvSpPr>
          <p:cNvPr id="508" name="PoljeZBesedilom 8"/>
          <p:cNvSpPr/>
          <p:nvPr/>
        </p:nvSpPr>
        <p:spPr>
          <a:xfrm>
            <a:off x="2340000" y="6165720"/>
            <a:ext cx="3816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Tw Cen MT"/>
              </a:rPr>
              <a:t>Hvala za pozornost!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08:55:39Z</dcterms:created>
  <dc:creator/>
  <dc:description/>
  <dc:language>en-US</dc:language>
  <cp:lastModifiedBy/>
  <dcterms:modified xsi:type="dcterms:W3CDTF">2014-05-20T10:26:12Z</dcterms:modified>
  <cp:revision>5</cp:revision>
  <dc:subject/>
  <dc:title>SPREMEMBE NA PODORČJU JAVNEGA NAROČANJA (ZJBN-2D, ZJVETPS-D, ZJNPOV)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1671259990</vt:lpwstr>
  </property>
</Properties>
</file>