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B0D9-18C9-406F-A3C4-65A581214009}" type="datetime">
              <a:rPr b="0" lang="sl-SI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C275-96DB-4006-9694-7A7C2F620E4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tistična izbira vzor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OU: odprto priporočilo NADOMEŠČENO z 29 priporočili horizontalne revizije ISAR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ŠŠ: ni še bilo naknadne revizije. Priporočila: Opis sistema ni v celoti usklajen, problemi pri javnih razpis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VZT: 1 priporočilo DELNO IZPOLNJENO (izvajanje kontrol nalog, prenesenih na agenta (TIA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G: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ločenost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funkcij pri agentu JAPTI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pomanjkljiv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evidenc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administrativnih kontrol (evidenca ne vsebujejo  podatkov o opravljenem delu in datumu, osebah, ki so izvedle preverjanje, rezultatih preverjanj in sprejetih ukrepih)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kontrole na kraju samem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(sami izvedli eno za OP RČV, z OU pa še se niso dokončno dogovoril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DDS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551-95D1-41E3-B5EE-722F292A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DDD-C9A6-4489-8C06-000C0540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8D2-2B34-4912-85B5-558DBD47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5AF-A078-4D54-96D2-BC67BA8B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258-292E-430D-8A8B-9AC8C71A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18D-40DC-4AD0-B805-882BC6C6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DC9-B876-4F63-A9C2-216F6FB9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725-2345-4810-8667-63B9FF35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4ED-1551-4987-B113-40D374CD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330-7BEF-4AC8-A8D9-B050A893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D61-5D27-4502-8A83-7FA63A4A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388-AAD1-49DB-8970-51C71E17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6F77-816F-487A-919B-1A34B3A9A8B2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03D5-BB01-47EF-81CF-4523F0060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 RR in OP ROPI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če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2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 2014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3C99-1101-46BB-A519-65192B1FB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1F8D-4A6F-44E8-8BCF-62139AFC7E6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8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7F10-1936-4CB1-A88C-3E3E7F6F4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3448-B79C-4A58-97B6-3B07970CFB5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8d8d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d8d8d8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7228-2B9B-4BD4-BEF5-9174FB28C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Content Placeholder 20"/>
          <p:cNvSpPr/>
          <p:nvPr/>
        </p:nvSpPr>
        <p:spPr>
          <a:xfrm>
            <a:off x="684360" y="1628640"/>
            <a:ext cx="80499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E19-349D-4C9E-BC5D-7AAD9164D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00200" y="1523880"/>
          <a:ext cx="7975440" cy="4438800"/>
        </p:xfrm>
        <a:graphic>
          <a:graphicData uri="http://schemas.openxmlformats.org/drawingml/2006/table">
            <a:tbl>
              <a:tblPr/>
              <a:tblGrid>
                <a:gridCol w="3728880"/>
                <a:gridCol w="860400"/>
                <a:gridCol w="1490760"/>
                <a:gridCol w="18954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ilo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ni delež gled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vrednost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ni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upravičen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atk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0.42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šena določila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JN-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9.86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operacij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74.69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izvajal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ovezane osebe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4.16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strez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ši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ržavne pomoč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.00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40000" y="620640"/>
            <a:ext cx="63468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h 6 operacij na PU “dvig konkurenčnosti turističnega gospodarstva”, od tega napake pri 5 (napaka opredeljena kot sistemska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predlagal 5 % pavšalno finančno korekcijo za PU zaradi napak pri izbor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.774.692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OP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 2 operaciji na PU “lokalna energetska oskrba” (obe neupravičeni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izvedel preglede na vseh ostalih operacijah na P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.934.168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5C8B9-A76A-42C6-A040-4DE8DCF3C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DNOTENJE NAPAK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989000"/>
          <a:ext cx="8208720" cy="4140360"/>
        </p:xfrm>
        <a:graphic>
          <a:graphicData uri="http://schemas.openxmlformats.org/drawingml/2006/table">
            <a:tbl>
              <a:tblPr/>
              <a:tblGrid>
                <a:gridCol w="6200640"/>
                <a:gridCol w="20080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is napak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EUR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icirana (ekstrapolirana) vrednost </a:t>
                      </a:r>
                      <a:r>
                        <a:rPr b="1" i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ljučnih napak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35.54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jemne napake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tična napaka (v in 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8.86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ane napake (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75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ajbolj verjetna napaka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GB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Most Likely Error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%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od potrjenih izdatkov leta 201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792B-F92D-4F83-BD32-FA50FF667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Content Placeholder 20"/>
          <p:cNvSpPr/>
          <p:nvPr/>
        </p:nvSpPr>
        <p:spPr>
          <a:xfrm>
            <a:off x="395280" y="1619280"/>
            <a:ext cx="8497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RJAVA NAPAK Z DOPUSTNO NAPAKO (2%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NAJBOLJ VERJETNA NAPAKA &gt; DOPUSTNA NAPAKA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NENJE S PRIDRŽKOM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2333520"/>
          <a:ext cx="8137440" cy="2171880"/>
        </p:xfrm>
        <a:graphic>
          <a:graphicData uri="http://schemas.openxmlformats.org/drawingml/2006/table">
            <a:tbl>
              <a:tblPr/>
              <a:tblGrid>
                <a:gridCol w="3944160"/>
                <a:gridCol w="1842840"/>
                <a:gridCol w="235044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aka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na vrednost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totek od celotne populacije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ejemljiva (dopustna) napaka 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erable Misstatement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na najbolj verjetna napaka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(MLE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 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B31F-E560-4FC1-B013-B44C06EB0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13A6-458B-46F7-8636-304B47405BE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631800" indent="0">
              <a:spcBef>
                <a:spcPts val="601"/>
              </a:spcBef>
              <a:buNone/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068640"/>
          <a:ext cx="8002440" cy="2684160"/>
        </p:xfrm>
        <a:graphic>
          <a:graphicData uri="http://schemas.openxmlformats.org/drawingml/2006/table">
            <a:tbl>
              <a:tblPr/>
              <a:tblGrid>
                <a:gridCol w="1330200"/>
                <a:gridCol w="1849320"/>
                <a:gridCol w="1835280"/>
                <a:gridCol w="1468440"/>
                <a:gridCol w="1519200"/>
              </a:tblGrid>
              <a:tr h="8514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3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OP RČV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8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57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AD67-6D37-46DE-BF10-88C44CABB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B9D6-53D1-48E2-9A00-88FAF33C53F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2524-4EB1-4F52-9DB4-F4AA9EA9C8A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snutek revizijskega poročila E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9.1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slovenska verzija  19.3.2014 )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ostopek ustavitve plačil:                       6.3.20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dgovor RO, PO in PT MIZŠ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4.2014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angleška verzija    5.5.2014 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F506-AA3D-4FC8-9A9A-E5A19272C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1039-230F-48CB-8CC9-214E69824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v l. 201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16 OP RČV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 Sloveniji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upravljalna preverjanj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D8F7-DE8A-492A-88E4-672C800CC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4000" y="701640"/>
            <a:ext cx="67788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00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9228-8990-4B10-9240-67C2C9AC1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 u="sng">
                <a:solidFill>
                  <a:srgbClr val="0000ff"/>
                </a:solidFill>
                <a:uFillTx/>
                <a:latin typeface="Calibri"/>
              </a:rPr>
              <a:t>Izvedene sistemske revizije do maja 2014</a:t>
            </a:r>
            <a:r>
              <a:rPr b="1" lang="sl-SI" sz="21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upravljanja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jul. 2009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feb 2013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za potrjevanje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MVZT – OP RR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SVLR – OP RR (nov. 2009) 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R (mar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OPI (feb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(feb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R (mar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I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(jan. 2013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KO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OP ROPI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(dec. 2013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GRT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OP RR (feb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IZŠ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 OP RR (apr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6DA1-5820-4077-82D8-BA03AB281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aknadn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revizije sistema in pregledi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polnjevanja priporoči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do maja 2014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OU (mar. 201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ff"/>
                </a:solidFill>
                <a:latin typeface="Arial"/>
              </a:rPr>
              <a:t>jan. 2014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VZT (mar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O (jul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SVLR (okt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RT (dec. 2012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zP oz. MzIP (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3AB7-571A-4106-895D-D013A47B8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izdanih PRIPOROČIL iz revizij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OROČIL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GRT (OP RR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8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KO (OP ROPI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5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Š (OP RR)                                         3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 (OP RR, OP ROPI in OP RČV)              1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2CC15-BDD6-4EA1-8D90-AFC5765DF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2241720" indent="-457200">
              <a:spcBef>
                <a:spcPts val="6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96840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56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A297A-79EB-46AF-8FFC-93D2EC6BE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95280"/>
            <a:ext cx="8136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CD86-A560-48AC-873E-CE443C4AE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2266-7BA5-4878-BEC8-4BD26CB0677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2536-0395-4E73-A2DE-9D581C88D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19T12:46:30Z</dcterms:modified>
  <cp:revision>62</cp:revision>
  <dc:subject/>
  <dc:title>Slide 1</dc:title>
</cp:coreProperties>
</file>