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F01E-AB5D-4334-BFCE-0AF605C1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7792-489F-47AA-80C6-CF3C21D6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B7A8-784E-4E9F-9F0E-28D0EB78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7CDF-D815-463A-AD8C-5025297D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97D4-3B3D-4128-8EF0-584FB60A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7B2D-E31C-490E-AA3D-3D706590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ACE6-AC04-4DDF-B529-C669BC37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5B65-AD99-468D-9A39-A11905D0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AF3D-2C9A-4ABD-BF81-1E1A6D0A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361-AAF7-44D7-ACC7-DAF9E3C8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F7E2-486A-4F14-BA6A-AD40DAC8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A732-39FC-4793-837E-497587E6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F330-6E59-453C-8F67-9524E6734DF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0T08:14:40Z</dcterms:modified>
  <cp:revision>36</cp:revision>
  <dc:subject/>
  <dc:title>Naslov</dc:title>
</cp:coreProperties>
</file>