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E4E1-186F-45AD-A8ED-CCE9DB0F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99E-2459-4689-A532-65CDFD6B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BA91-B24C-4DAF-96A7-13190AA7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F1D-F7E9-4788-BD97-D4A59A2D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C373-5A9F-44D4-AE48-284CCB02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6D31-3278-4E35-BE14-2972F08F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688C-8828-4FDE-8B52-8A9E5851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A566-00B2-4954-A36C-C0F84B62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A9D-AB8E-474A-BFC2-37863A28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AFEC-6D3C-43AE-A3CB-8AB86B73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5B4-D764-4B92-BFA2-40C9D106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C683-B755-491F-AA73-63CC06B5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E125-185C-4035-A80E-1B7BA2B683A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0T08:14:40Z</dcterms:modified>
  <cp:revision>36</cp:revision>
  <dc:subject/>
  <dc:title>Naslov</dc:title>
</cp:coreProperties>
</file>