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E11A-2BDB-4FB6-B5E0-CAC25CC47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88645D-BC2F-43C0-B0FE-0E5D5513E115}"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F8F2FE-700D-4720-B0E2-DF77A18933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08863050-CBAE-4AB1-8DFA-47046CD0EE9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BF54715-22EA-4230-88E0-75D1A633695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056EB70-FC20-4358-AA36-DBE87B4EE62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5831986-E52E-4FE5-9072-80F320BE385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9D14202-AEC1-4147-89B6-58BEDCE7664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39B4DB6-5685-4883-A715-7BDA75876FA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6392F68-281E-4213-B335-3F15DACDFC6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5ACB677-8F07-4D3D-9015-47734CBECD3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4FB20B25-09FB-46FE-A028-93180687F7A3}"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9A105C6-FC39-4B17-9DA5-437CBAAB5D38}"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F2995CC7-C47B-4D1B-B831-39624F5554A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AE79A8EA-90B1-410A-8EFD-92DB751D86F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7321D16-93C8-4A30-99FC-2A2C3E5774C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2698349-A686-47D4-8FF0-12B30396C66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9D143FD-F151-4922-BCB9-D4E96671D73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96A9F72-B69D-46E7-8E94-E6822DAB00B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5D04C9F-7233-4DB6-B4FA-B59889D2A0E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4527652-75F5-4510-A5E1-6B76AA10B2F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BFAB3DF-CE92-47FC-97E9-E27347B403B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99FBBCC-2105-4AB8-9355-3EBFE8F2BB3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83CBE71-E862-4C16-8703-FF5126C8CB6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5E0D6F35-88DD-4028-8B0F-E62E66C6D36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DC229E2D-EF04-45D4-B3A5-5C4888B7E5E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7E472DAF-0A1F-4D74-A076-AB079786367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B734F38-C213-4D08-A4E7-BA75B851F8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73C5984-6593-4645-A738-FC3557A244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29F00F1-96A1-4837-AE57-FCD64A74C1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CD39C2D-36CC-4FF2-A3FA-65E55AF303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DA532E8-0E54-44FA-BBA3-7E6E4A119F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7695F4E-44D6-4575-B515-7AEF7C4E82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AD4AC56-4258-4E12-BD4D-1E2A51625A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B33DC42-25C1-4040-84FE-77CB9DD2CC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B6F1D6D-C7C7-470C-AEA1-9036927240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6BB2E7E-C165-4B8D-B0DA-92C1AC169C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6512A0D-58DC-405D-914B-2C49965652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E09C4281-550B-4FF1-85E9-E5A81F708E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07DC7DDC-7C9A-409E-B52E-9CCE332C4F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66157EBC-5C4B-4153-A546-3ECAD1BCA4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2DCCD7D-D6DA-4D31-826F-41C2586606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C29AE83-8E15-43E4-AB0B-5B59EF07FD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FAC9383-704A-4ED0-B7CA-263747BC61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3787449-64C7-4160-B398-4208698A0D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CBD02A2-96BB-47BB-A685-46BC8E684C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46F1AD7-844F-4988-A886-57A7996E68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FD3167-6A7E-4613-A82F-FDCEE43079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0978F68-85B5-4BDD-9355-282829A3F5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EDBE92A-378B-4E25-A575-8062E9EC6F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5C0CE7C-7E28-44C6-9265-2689DE4493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FAED660F-8381-4023-BD62-C0B4EF40BD0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AE6024B9-7D84-423B-940D-187860FF84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BBC96FE5-6A7C-4C34-8B1F-5DFA617E3D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33BE108-0738-4C24-A3A2-986A313B16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05CE08C-5E5B-4393-B03A-B49C0C1795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A45F0A2-2F55-44CF-8387-DDECE2CEA5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AEBF3D6-5C27-416F-8B32-688617CB41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CEF55D-1B8F-4222-8A81-1C1300AC4D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3309CE6-3474-4177-8EDB-D6C248D731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34A2D3D-54E9-4DCD-A2D3-DA596D1D42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E04D742-551B-4FB4-B580-1AA0B0848E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EF45514-3529-4C58-B549-F2566CA526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BF78515-2E44-4D9A-A72E-6C40B3DBB8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BC12179C-2E1F-455B-8C7B-A61BF812FE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BAD1B608-9C0E-474E-B14B-1B8E065F0C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AC32D14B-E704-4EC3-BD69-85A312FC795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A641F34-7487-44F5-BD47-035D9285FF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4CFD8B88-2351-426C-85FD-649C9A6262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D754C0C-858E-4819-9CAC-99EDF51800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FBA4D4B5-0AD1-4105-A75F-45BE357E2E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BDFE308-874F-4A85-AC60-878EA9033B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9C475E3-3518-48E0-9CC3-B2CC7628E7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3021B266-EC50-4E75-AB88-63D60C07DC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3CBB19E-6748-42CC-B6B8-9FD5310CCC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B9DBB71-A35F-457D-9B66-90C8CC9E36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F5BADBD-804A-4E37-95FC-E940F11AD2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DD21876D-A4E2-4BB3-B2C1-8D5E024F2C6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B14A2ADC-7869-4BC6-8505-AA2062F6FE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2014C3C1-5698-49B9-83EB-3E2E2DD5266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41D11C-048D-4BB1-9A29-F6D70C5379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900A80AA-5054-46F8-9D17-24353AFCE4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0CCFAC0-76DD-43F3-A806-C023E87AA3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F58DF721-3D29-4E3C-917F-3C1768B60B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F522CB6-AE95-427C-9C5A-66550C5CDC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D30F4E0-7CC8-4895-BF39-05BB90F963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4FED735-2CF5-4B11-8330-E6915F99A1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7FEBD0A-B9B4-4A37-BBFF-1162C6DC07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BB3CFE3-61FA-47D9-B4C5-AA9F2A17ED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C37F0116-DC19-4711-8EF1-A3997E5F00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1B04952E-1774-43E7-8C60-EC1214D5AF0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F4FAB2F-5EC5-41EF-890D-0C5428B0E0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F8F3AB88-B1DC-4C58-9404-6EFE30049F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00A27106-6F1A-41F5-A4FD-7501D2C7CE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02DBD734-3645-4C29-AF83-16C89C293B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2A40BCDA-95BF-4DCE-AF66-854B36C2E7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D37C5E00-602C-4FA5-8451-747EFFA586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2A52211-7B6A-4396-AB3A-9D7E959904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E2045675-C536-41A7-948C-CBD719BDC8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8127B2B-2DBD-4384-A02D-F2429F62FB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B9D3913-C8A2-4277-828A-5CD8EE07E1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8E8E369-5752-4B5B-A416-4E17D0F81A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F95885-8F27-4844-AF21-5B3D476D13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471BE17B-E3D8-4AF8-A009-DA4F308D6D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0AD14DFD-C564-4891-A237-0517FE8FFF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98C26377-26B9-4D8B-BDD0-A24EC837465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F43139B5-2C57-4876-B116-57AA1585A90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9A0436B0-E7E1-4A82-807C-B77B271C6A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60B65355-480C-4611-9534-595FB1B202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04F18EE9-CB86-4642-BB9D-CABE1DC52C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2E37605-165E-4C7B-8989-3231FC12E4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78C7458-B48E-42CD-B3BA-0E728C7627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413AC68-D789-4D69-93D7-11F6F75C03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C973AB20-042F-4EBD-A9E8-E3ACB1CC5B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C7BA9A-2062-4A6F-AE6B-5D676C39D6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C48D96A-9550-41DC-9D39-E3AD158B87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B140D42-A21C-4681-B06D-923FECD76F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71090E6-2042-4D23-AC4F-E0AEC37BBC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0053F695-A7C9-4BCC-9BA0-977BC002FF9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93A5BF84-86F9-4C08-96AB-863B9EF6C8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44D9F11B-9073-4B01-8B64-67A25BDF4E63}"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29BCFCDA-40BE-4FDD-A83D-118F40AF5D1C}"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16E372F4-64AB-4433-89FA-7F11F2546DC4}"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E4D4A9FC-12B4-4C99-985A-13B3BD3F3B3B}"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CF02BA8C-C6BE-4B4C-AB90-D4128B359A1E}"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5D1CAF-501F-4228-80A3-179ABEA9DE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CEFBD676-212C-492A-899D-B7100085CB4A}"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354D3DF-D650-404C-896D-F2CCF4D2E696}"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DC802EB-D9B5-4D43-B08C-4FC835C1256D}"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D9EBFCDE-6275-4D27-8429-219AE83635E5}"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99A632F2-56FA-4688-8BC6-3EB49F553498}"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A081D8CB-EDD9-4CF6-A762-ABA0755B50C6}"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53FB9D33-0B7E-4C4A-8F9C-1B78D270DED5}"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57112861-80B9-4A68-8427-31E41DA31F9B}"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90D95EB0-5EF4-4872-92DE-11C81311851A}"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7953F382-663E-422D-A941-DA0C3548FEC9}"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D4D52CF-0AF0-4F87-BA0B-10601F6D8C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AA0BCAC4-1D1E-4750-A700-8AB93A966573}"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9C586C00-01DE-4A42-A30C-1981E6DBCFA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034AE5FF-41BF-48A0-B814-EA777B14FE98}"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762BD07C-8739-450A-8884-4E8E8C624CDA}"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4629476-DBCF-48D8-B5AF-D7991011FCB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F2F52512-B398-47AA-95BF-2319DC3BFE3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FE58DB20-6938-4EE5-ACFA-20A7FFAD3953}"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4781BA23-2C99-4EC5-8CE8-CEAB4128A7E0}"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BA597A2F-3C7D-4095-AECC-F020710CFEF8}"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9CFED43C-B436-4776-A693-BF2C7E0A8597}"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00CFB2A-BF86-4888-BC4B-B53139DC768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988833D7-F9CA-4755-80CF-D13DB5B63D22}"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4EA4DD5C-307A-49A3-886C-B0C7FB877E8C}"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FE7047D2-7B3C-4632-A54D-99B84CD83094}"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FA50D223-6ACA-48C1-A1A6-E680250C58E2}"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61B23D37-3DE0-450E-AF00-D2A43CB6B6B1}"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7143BDAE-2B43-4144-AEE9-BDAE5601F3AB}"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917BADA9-BCF5-4A7C-BC73-3F064D4B2D1E}"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4EF41224-4A7A-4647-A659-F1D6BE99BFB7}"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055A5BC7-2D91-4309-B728-31F0B0C3130F}"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F152E3F4-29C2-4D7E-8789-4B8D1F020750}"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ECD9D9C-68F1-4A71-92F1-B2F2D9719FB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9398D652-E163-45FA-982E-43D1F9CF42E9}"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3AC333D6-CD6B-497A-9B76-CC4628E504E1}"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33384A26-0913-479C-A1CC-1162326BC589}"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D988164D-31A1-455C-9B2D-C8828F442A57}"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534E9199-1D85-4177-9CDD-8EDF558D798C}"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3863A7BD-7F54-4DA2-83A0-3EFB5E6EDE3C}"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9252CD75-11AF-4D11-9BA2-913388781570}"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80A5783D-EB2A-4384-991B-A98B5999E038}"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95644115-3E2E-4B88-AF28-A0AA7A2FEBB2}"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70B8D128-3331-46C9-90A9-3B9291246A8B}"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FF60CB8-448B-45BF-B036-6A2445269C7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E33FCA43-E13E-48A7-80A9-C6CC9C33D811}"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55F2C57E-1A90-46F6-B465-5FB08460C8F0}"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6F2655A8-01ED-42C9-8618-1643F667AA69}"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0B3B0B7A-4405-48B3-AB5B-532E09D3098E}"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1FDE68EA-DA30-4B2B-8E55-E478930BE9B6}"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6DEC0CE4-BC75-4AA2-BABA-DD2D358A28D3}"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C13C3EC4-D143-42C8-B51A-28F57DB87F8F}"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84A96300-21F3-4BFA-858B-D1583CCBE9ED}"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2D18AFD2-AED6-4FDF-8447-EC2E6D3BBFEE}"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AA514355-C739-4264-BD79-E6DB135E46AD}"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02169EC-1967-4A95-B7C5-023EC6AD7D9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B3C451AB-4501-4968-83FC-4D597CCDC438}"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F0EAE1E0-9297-48D0-B39E-9FED93EC271D}"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ECB61E26-FFE9-4015-914A-44BD938F1F98}"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2A23D543-636A-48BC-8EE8-3B9F8134CA57}"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C8EEB90A-0880-47BA-BCF0-09AB17D34FEA}"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7E550054-B564-4F6E-B3B7-566B180B6E02}"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CA8BAC83-9580-4FA2-AA78-091A75814B63}"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D4340B45-C8A8-4842-83A9-268F9C656829}"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75AF8F5C-A7DC-4E31-804C-CCA97511ADF5}"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23B79FF8-3E42-4C52-9B55-924CA43C5481}"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B0B39AC-C351-4CBC-A68C-94673CA9A84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9E13C6D8-11A0-4C15-A667-209D067D8ABE}"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A037C30A-18F3-48A2-9B86-6B15A9FD7952}"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7D2E963A-1736-4A26-AE96-C982F0261FD6}"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03609629-0453-4445-A61E-9E6FA33B2BBA}"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0D8112AD-7021-4A2D-9AD4-8F6285CE280E}"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3585CA01-F502-49FA-9C92-2D5F26D3779C}"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9E977A6B-6ADE-414A-B2AA-A29DD10FB649}"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E38977D0-DDC8-45C1-A367-42BF98EE47E2}"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709490A6-71B7-49DE-8951-1E2A6746EB90}"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23AA6C5C-63AD-4A61-A654-63BCDEE1FA68}"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1D877B8-D7B0-4CDF-9678-DEB01295038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134F0AB2-4635-4D6C-95FB-5CEFE540A350}"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42AC0988-FF4E-4AD5-AA90-E8BDF1910E31}"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E44F9129-520C-4717-946B-639AB0ED9F7C}"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74565B2C-C430-44B7-8A2B-BDB11A271089}"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467A3813-31F1-40D2-8CF9-C695A021A5D1}"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78F6F4BF-6226-4CE6-A26F-402B21E10E5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41A59C67-975E-415E-B3CA-283023BE723A}"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2873DD0B-0536-4063-9B6F-F472E405D7C1}"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18AB1DDB-21D7-4CC2-B39D-EC4539CAF434}"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BCA5EB6E-E6E3-4FE7-9DDB-FDDAEEF84A4B}"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D114282-E6E4-4529-88AA-47941B3EA80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D54C349C-FC79-4765-9652-6692EE366B5D}"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80972803-522F-4321-A87A-7DA360FA0DD1}"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452052F0-9C37-4B57-8F0E-C28D7CB44A01}"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8850049D-D00E-45B1-AF2A-108A9D6EEC30}"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31D58BAB-FE50-4ED6-8AA4-D452BF1FB55E}"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6401C7EA-B803-407B-82E4-A8D49418573A}"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97BA4BED-9B13-4EF8-98E3-2F3EDAA18267}"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A64EA188-116A-4799-BF03-1C8BF42D0EE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DCF1A37E-C54E-4F06-8DAB-C7D2DC6430CF}"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CF801214-E513-4632-93BA-DB811955F71E}"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7825A539-7990-4F0E-B2DA-2B956018F10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F5EA2AD-1F5B-49E6-BFFE-3C624103AF9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823F3548-827D-4BFA-996E-3EDBFF0DBD82}"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EC1CCDF-8E11-478A-9E84-7B91262B6DD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94DA3B1-9DC3-427F-814A-FA18A4D798F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8EA315E-2A73-4089-A33B-4B4A793E3EF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6BBF68A-E0C5-422E-8D97-EF03D9E66C7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62E97AF-DCF7-4746-BDDA-B48C24B21F6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7CC949F-2784-4EA1-97B0-8DF9E403009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3FD0917-F676-46DD-AF50-22EB6D7C008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B64B661-7D73-49A3-BB2E-CF56470153F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F8A1AB3-972E-4715-B6FE-9F99F78B713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1FF6E6AE-5076-4159-A891-29A2FDC982E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ADAD8EE-9C67-4D58-933B-F070BB2A564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108B979-8AD0-4512-BB66-8FF27FF4D57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29375E4-4338-4718-AAA2-7FEED93F165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E3A52A6-575E-4296-897C-C6C98F8A9B8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02A0491-B256-46D3-B162-1AB526E04B3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A4D2BEE-DBCE-44EB-8FB2-7429B675EF3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2DCDC00-EE4A-42E7-B6EA-336EA3B7DD5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560D2DA-3A64-4ADE-8B08-309C999761F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51B7B3C-F24C-43D3-B43B-15387816A08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71B9177-63E3-4634-A306-DCD65CA2E60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0C3B96A9-E83D-4E3E-AF12-E103FABCDBB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B8DBDC3-3419-432E-83BF-E72E803720F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02C5F4C-3C4E-4D94-95D1-9247A140632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5258646-F890-4F46-ABDC-867B5FDC3CB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4BCAFD5-4941-4047-8A23-92D3BBE11EE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889937F-DE74-4A5F-AAD6-7FE16E0176D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4837DA7-30A7-4BB7-884E-DD473270A40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F783EE6-4646-415A-A958-A55336E3046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0930ED7-1381-401D-8556-CA8DD05BF66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63848DF-B523-4625-8B09-CB507FE7FEB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0FCDDC8-17DE-47FF-A5A0-7BE6BD0A417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F218CF68-ED5E-49C4-A402-4A89D83D859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BA0DB47-F970-4588-9C24-4AFA5DA7CDA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3EE881B-4329-4C85-8AB0-A0EAFBAAAC1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AEA2703-7F0F-40DA-AC1E-E758E2BA9BB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A96B4A8-865D-449D-AFBA-98D59B2C363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8667143-1658-4B21-B3D1-ED5BA5E2613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A2228B4-2CC9-4BBC-A85D-C1AE655AB90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2F2A0AD-9C70-4074-B61F-9AF286C636A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65428FF-F3A2-403F-AA2C-7D4F8BBD42F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8DAE897-0C8F-4590-A89C-3EECC5EF997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346C082-62CB-4401-BC29-EFFB9C73722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9858D6D4-366C-4D65-A2F6-E8E1A535692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7C64B43-FA40-4DC8-8CF6-94C8938FAD7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AB610B8-C6E7-4AFE-B021-F41AA8CF7F25}"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A83DA93-05EA-4EF0-969B-EBDBDEC957C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9041E76-419B-4564-82A0-57DFD782327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257B1D4-BE0C-4430-9F50-A363D01538D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F726843-B7DC-4326-BF2C-2F243C596F2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78944EA-FC07-485A-8599-60C886E419C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F8724ED-0647-4BD4-BD2C-DCDA814F61D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4C02E7D-6018-474B-ABF0-558C8BC3634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5F5857E-D8E7-47CC-A88A-AE9EAA47A3C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D64E6FF7-48D1-4EAB-8C22-1B480C9F257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413AABF-C3CD-4F09-BDC2-40C9AFAF8FE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CC0B884-C604-43EB-8AFB-5560F185BBE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815BF63-62ED-4FB8-AB85-F70D50EDEDD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448717E-7895-4B81-BE6F-4167EB6C813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64F2D4F-80FD-497F-9746-22664883D76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1C850D8-018D-4958-96DF-B3AC8568C98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D1ED18D-38A5-4478-994E-68A4866AE9E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08FCDA4-C077-4EA6-AEED-1C94655B6C1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12667F4-CF87-426E-8990-F8C5C2FA774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95EB826-F7CF-4157-85DB-1FD0A56BA5A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BBC12C4B-6609-4A8E-8F38-05D206EFAD0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F4DFEC1-F5E9-49C7-86A5-83A871AB41F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8CF6068-7D95-4CA7-8614-13EFF9D2571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F7FE1C2-CC3C-469E-AF40-D56EAF5B8AA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D272CA0-375D-45D6-846D-D4F657412D1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C332722-82E3-4721-AFA3-BFDA09F83D9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CE4D9EB-6093-40A2-81E4-71E7C006E08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56AA97C-1A9D-46E6-A0C9-51E4A39C916E}"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1D2BE13-248E-4F3D-A654-4E9A9079870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D6B3882-860D-49E9-8DCF-1F602E22597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F58807B-BFA7-46E7-B324-0E3DA85345B5}"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0F3A4-B637-4B33-9EBD-4679601B8CD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3513-F727-49F3-8DEC-2FDBC649723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2EA22-1F6A-4389-9151-79F875BB84A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6EBE-3359-44E7-80B3-6BFCF3499FD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57C5-8E5A-440A-8D33-B741560D758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A1C70-3FC5-4F27-B931-7644695D54A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A4B3E-5B48-4D98-B44B-72670940F30E}"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57FF-B1C7-44E1-8F07-90957EDEC7C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BFBA-8014-41C7-8AEE-C96C3E9ED69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7DB3C-9A8A-43EE-801F-A17DFE9FDF0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1F3B-34DA-4212-93A8-B8F046658AD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049D-F1CB-4C8E-A6D4-954B3B7790B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ECD75-65BF-4511-A013-F2BF6D392D3B}"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85F3-8845-4E61-B02B-A3BADE2A698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730A1-9D4C-494D-9E3C-B346FCEBE8C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A9AE-D2F5-442F-A64B-459BBD61A2B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06A6-1E48-4A3D-A634-0483C82A5C9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2572-8B46-4BA3-BC6A-B0D3E56FE9E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5534-6259-4F32-9D16-CC7316090C3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2C45-BC5E-4272-8528-59CCAFE0D3C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64CDF-B110-4C07-B8B2-61199543F1D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49ACA-4349-4E18-ADD3-2387E7A0596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18D8-4692-4C6B-A5B2-D8919BFFF090}"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AA6B8-C554-44ED-8715-B02ACAB45AD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0F4C-8A05-4D8C-8B78-B8543C6DF9C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6A36D-F82A-478A-9E14-911D5FF8C78A}"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D4D3-AC32-47D9-9774-0E1426661FA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0DB8-4A52-4C86-984B-A6BAE356488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0F73E-73C2-4355-95C8-A6FA0E544AF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B861-3F6B-4899-A6ED-1A1E3F955E6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