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Lst>
  <p:sldSz cx="9144000" cy="73152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115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7" name="PlaceHolder 2"/>
          <p:cNvSpPr>
            <a:spLocks noGrp="1"/>
          </p:cNvSpPr>
          <p:nvPr>
            <p:ph type="dt" idx="7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58" name="PlaceHolder 3"/>
          <p:cNvSpPr>
            <a:spLocks noGrp="1"/>
          </p:cNvSpPr>
          <p:nvPr>
            <p:ph type="sldImg"/>
          </p:nvPr>
        </p:nvSpPr>
        <p:spPr>
          <a:xfrm>
            <a:off x="1073160" y="744120"/>
            <a:ext cx="4651200" cy="3722760"/>
          </a:xfrm>
          <a:prstGeom prst="rect">
            <a:avLst/>
          </a:prstGeom>
          <a:noFill/>
          <a:ln w="12600">
            <a:solidFill>
              <a:srgbClr val="000000"/>
            </a:solidFill>
            <a:miter/>
          </a:ln>
        </p:spPr>
        <p:txBody>
          <a:bodyPr lIns="90000" rIns="90000" tIns="46800" bIns="4680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5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60" name="PlaceHolder 5"/>
          <p:cNvSpPr>
            <a:spLocks noGrp="1"/>
          </p:cNvSpPr>
          <p:nvPr>
            <p:ph type="ftr" idx="7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1" name="PlaceHolder 6"/>
          <p:cNvSpPr>
            <a:spLocks noGrp="1"/>
          </p:cNvSpPr>
          <p:nvPr>
            <p:ph type="sldNum" idx="7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6923E-621A-4018-9D37-8D308542EC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73160" y="744480"/>
            <a:ext cx="4651200" cy="3722760"/>
          </a:xfrm>
          <a:prstGeom prst="rect">
            <a:avLst/>
          </a:prstGeom>
          <a:ln w="0">
            <a:noFill/>
          </a:ln>
        </p:spPr>
      </p:sp>
      <p:sp>
        <p:nvSpPr>
          <p:cNvPr id="118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Arial"/>
            </a:endParaRPr>
          </a:p>
        </p:txBody>
      </p:sp>
      <p:sp>
        <p:nvSpPr>
          <p:cNvPr id="1181" name="Ograda številke diapoz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A7B59C6-4D3A-4025-867E-B3C3B9FAB558}"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A55845-8CDC-48CF-87EB-1A66660EC0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88524D51-E15D-4429-BBD3-AD3F5CEA076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848D8F60-F0F9-4A6B-9DF1-3D4CD0122AA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8E144377-469D-43A8-87A1-A514675002F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BC765574-D9AD-405E-9AD3-994F992AAAD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D27F4B5-9496-46E3-8333-4B250E9F97C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B7B0A94-BB99-4D44-81FE-E33DF9FBCF7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CE8EE42-AC1C-4580-B785-EB5E8000A47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41FF324B-B340-4014-B375-224B47C7333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5BF7F5F4-7EF3-4938-9D57-29D02F8F8141}"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80C3878F-BFCF-474C-9788-20FE74803361}"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8F8A0151-1F9A-4738-9647-D89E7A07DF1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sldNum" idx="1"/>
          </p:nvPr>
        </p:nvSpPr>
        <p:spPr/>
        <p:txBody>
          <a:bodyPr/>
          <a:p>
            <a:fld id="{264135C0-1282-4D5B-AD40-8B615DC5E68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A67AE68E-CD58-46F4-96D9-D50D1114723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B0A64CA7-4F58-4AEE-9EB1-02872AD4C49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08BBC6BB-93F4-4D58-AFD5-F6BE486E2CA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3EFEBEEF-A92E-4A18-9153-71ED1454083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E35778FD-A0D3-4E10-9845-6544159D691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77BFC2E3-724F-4C80-BB3B-09AB18E5E97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D1A21ADA-8F90-4324-B091-D968E8BDF50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EEE4C83-ACF9-40ED-B880-A20959F76CF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FE619D6C-6F08-4403-845B-6F5634E2C5D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69D3AD70-B0A4-4768-AAA1-E86CD8734AA6}"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sldNum" idx="1"/>
          </p:nvPr>
        </p:nvSpPr>
        <p:spPr/>
        <p:txBody>
          <a:bodyPr/>
          <a:p>
            <a:fld id="{B2B374D5-2BF2-4B8A-A132-BC62EFC6126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A5A6EB9D-C589-4E27-852A-5978547878FC}"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7B36E59F-F95E-40C5-B6E8-A623325E27E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CC63262E-CE3E-42ED-8C84-FDD4068DB43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F90AE7AB-2770-4F98-9493-B628C182529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614E68E2-5A07-4A35-AB45-E8C92F8A73D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039DD436-1138-4F78-966C-74E98278464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85FCA0B0-504B-4FCA-AF81-1472B4FB324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65BB7F1A-BB8E-4B01-A67B-017B96655D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5C94880B-63F5-42E2-AFBC-C302BC3562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2A61C02-B00F-41DC-94BC-41FF456FA8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913B35A-491A-44CF-80ED-934E69893B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F2F8B82C-FAA1-41EE-AA90-AEDAA51A768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45C0A6E4-208C-4AE5-A17B-B73891C7BDF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AEFDDA0C-7C3F-4CF7-8C1D-861431AC43C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7174B2CF-61BA-4BA9-BBBD-01F40F9B7D0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CFE8C608-3F7F-4108-B5D2-931D1BBB46D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131B3AC7-1A63-4D86-93B4-93F9BC2D829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D6F8F373-040C-4145-825D-0F2F6460814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94FAE336-9D4B-4CB4-8E57-B664F524D5D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789ED38F-96DD-4F15-8F86-9A78025E206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C73785FF-84CB-4823-AC0D-7A77C5CABF1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3AC24F6-247E-4C02-B6B3-52DF8F3DDB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FF2A336B-A7D0-42DF-9F6E-B83E521978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F2F59E6A-B443-4F87-AEE1-88E4D04D75B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59BE801A-65BA-471A-9ACE-1185E2C3DC6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A6C0DFB3-6309-4CF4-9927-1EEBE5AF67F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18F05ED2-35E2-4DDD-BABB-6B15D84161D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02BDBA1F-F6F3-487F-A3EA-50489019EEB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1EF8AB01-345F-400F-8B94-09B6705CF49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F1599FE6-FB59-4219-887E-1E45889C714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19F818DC-6A7C-476E-8475-17411CE0796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B3462EDC-4425-4F8E-B51B-46D43EA9FEA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A7ADE58-B9D2-4F21-A0B7-DEA7451F75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81EAA003-3CD6-4109-BCD2-14FD877F688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A31A4F58-DD31-4FF9-94C1-371AEF98DE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DD811CB5-F442-4748-9584-FF760ED7C0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822E9340-B0E5-419B-9EEE-02E258E450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17B2248D-F601-45D5-8E01-CDA8F2C4ABE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A436604C-4951-4A6B-941A-0C19FCE253F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1C42FA32-1F24-4BDC-A8C6-19881FDFF31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7DA05BD4-B49A-4091-B7B7-736D3A391D4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5DDF10DA-A6A0-4F47-86C9-AD376DBEF5E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152D59DD-E43E-4189-958A-8626B3CC330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6979ED7-7059-4C94-968C-E551FE8497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8C590453-165B-411F-A7C7-6E068786BD0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4B314DF2-3BD4-4264-8E57-AB68D2C96D3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0C4186C4-74B0-423D-AE74-EF8452741E7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6AE19536-1C6D-4015-AF34-8969429D23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618225AF-17C3-41B6-99B6-ECB374C30F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5577A09A-E312-4FC6-A217-C1B48CBB9E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D0E7636D-3A03-48D2-AC04-C9B18D76359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BC15CC37-9461-4D0C-8E9E-FEEBF3CA891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FE838116-31C7-4F2E-9B0F-3167BDB77B5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376C6665-5519-4CE7-8F6A-AD4B45BAF1C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1783D87-BBD6-499B-82B4-533381D704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00C5D307-2811-47EB-BC60-232166C1AA2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AB441279-1B3A-42DF-B8F8-70ADDD9DA78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5662E14E-A094-4FDC-94C5-B7C2DFDD716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2275CE55-2032-45CD-943B-4C2878F2A6B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68B7C9B3-E84C-4616-8218-51101FF2DD5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207CA70D-12EF-4C0E-9F36-F785FD9F7C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91886586-0D51-4CA1-87F9-FAF4DA44D6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2F0E1B5A-DB43-4673-88A4-CCB831BFDA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7837C4D7-0019-44DA-880D-02D00877E71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9855331D-DE20-40DE-9E1E-923CCC142AE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34331DA-28DF-4F6F-9DBD-7BC203896F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FF9E5D64-311D-4107-9C69-8A69E0A84D6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5AB1A831-40B8-47FD-84C7-BA264DB610A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0629DF42-FDCE-47F6-B06D-BDDDB826434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A6539C21-42D2-4065-8874-3E734593545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4619BAEE-F613-40BD-90E0-88BF5E1873C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5F9D7C24-B893-4204-8BCC-9DB7EA19D69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2A6F5619-4901-464E-8A28-C17A5A80F45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490215F6-0B66-4AED-9B72-AC206784B0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155FAF8D-3D44-4ACA-85FA-A2012B70AA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9E98E1B5-069D-4A7C-B3C3-24F21FB00C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D6AFE9B-B484-4117-BE58-717CF0F90A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7B2CF14A-28E0-47A8-95F1-7278878BC4D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D8AE75E5-E205-48F3-8395-7B09E6C7FDC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6E358D3F-2EE1-4F1A-B1F9-78471ED8F30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3C89AAF4-CC54-4845-B81D-24D580BB43D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E4DDA3CC-75B7-4848-80BE-8F325433C90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8BCAB390-C41B-4CAE-BCA3-CE6D5B7A313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E14E636F-9C94-4276-96B8-3F46AD145EF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A9CA236F-499C-4CDF-B39B-C4D38735FC2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772CBBF8-1157-45E7-8662-3C60E10F3DD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38F850A1-5784-45D6-8B39-157FC919E00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AC77B601-BA41-4AA8-A77E-48F019FD1A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07AB20B-85CA-4E44-98C1-8BCE1FAEB7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EB901FCA-6BD4-4CF5-96B2-9D68E68D8E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7FBFF509-D953-4387-AD0C-2D89A12081B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91EF58C7-8805-41E6-9E82-71559CD25FD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AE17F82D-9E60-4B13-AE5C-F284B03779D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DFBD3204-FD83-48F4-86B6-74AC6F5374A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068B60A3-F5D3-42C3-B48A-DBEF2E65A215}"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ABB8AB59-B487-47F7-8182-908421721BB2}"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D3286973-8BBD-40BF-A0C8-9D8C5D609921}"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7F794979-C181-438C-8106-08FB8AB3EC96}"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C08B44C3-BD7E-4A7C-9446-21F02A7464A2}"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563F99A-B931-472F-8223-FDAC299898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9EFF5651-4208-4868-AAFF-C08684FCBDEC}"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723544E9-3FB0-46C5-B025-7F8CA0563BF4}"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199E7184-1B05-4991-9A4E-53CDF8DED179}"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03C9056C-D1F3-489F-99EC-0EEC9116E8D3}"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EDA0B9D5-BAA9-4C49-ADEC-EEDCB35126D5}"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B0DD2FFF-DBA9-4D41-A815-BF31D6D5FD33}"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3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711CA68D-85EB-4B8C-B6B0-DDB05EB4AB4C}"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834FBC4E-E99B-4586-B9F2-46E74ECD4F9F}"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4F863028-A2FC-4B8C-9369-8FE0ED1E36DA}"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5C25A404-338B-4F44-9820-EEF790E5B874}"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E28FC30-B649-41C5-A93D-1E243E41B0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31E0F315-EB28-4A1B-ACCB-A49A3DE500D0}"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4EC3BCEB-B6C8-418A-B92D-3F9730CCF04C}"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EB05F2E5-C83E-482F-BD5F-546AC7BAFC87}"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9D0F05B1-DBBB-49BA-9474-4C65314C983F}"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E29A0A19-C707-422B-BDE7-F118ACA242FE}"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4DE2A459-6DF0-4022-B8E0-4AE9BC700AAD}"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07CC3415-F2AD-4684-875A-1931C33540B1}"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D13DCF30-844C-4A29-94EA-489ED010AECC}"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7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F8F8A44A-96E6-45FE-AD2A-55C767E75217}"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61E31930-E283-4F00-AC54-0CD0EAA3C985}"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0D9F59C-260F-4493-9050-9B134FB47DE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972B07F4-0882-4F03-B6E9-7661A017CD94}"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D23A9A6B-C78D-4AFA-B7DF-41E6EDED618C}"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754C2149-0279-4CAA-B335-EC85F8C80C50}"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3462BAA8-4E5B-4D95-81CA-09A57D1926DE}"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BEC377B1-D334-4FB7-AC50-6B5726CAA1E3}"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E6B4F833-F516-429D-AF34-353D7630B97D}"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950B2D60-9FFD-418F-A1A8-45DE49652618}"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3930F73A-CDFC-41E9-B3A4-2F65A932E879}"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4B1CA576-2EB9-4905-A661-04920BD1E949}"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0B899F81-D85D-4686-B17D-4E09438F32A2}"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98012C8-4291-4D06-B66F-F7C8605E248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2E7ED747-22B4-43F5-ACAD-F9B15E61FC9B}"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17F42524-9B27-4A79-970F-A68C28ED6435}"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0B888AC0-BAD6-405D-A809-6D6CD5E6D5DA}"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607B28C6-D36A-4C9A-AA27-E8D17BA37A69}"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0CDFF9E8-9918-4B1A-B2CA-CEEED9AB15D1}"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D06674C6-EF45-4878-A8BF-346A1AFF4431}"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5158C99F-938D-4890-97C9-BA76FA8018BB}"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018C7912-B26D-42B6-A21E-62040776A068}"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A39A224E-85D4-48B5-A3BA-4340880348D5}"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BB3275BA-AE54-47D0-9842-C39B1D354465}"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460537C6-EDB7-4611-8388-294E6AD1D31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7AB7D9B0-2239-4AFF-B2C1-9B5B580F2279}"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D154724C-AEE1-425C-AD04-482D0237051F}"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25F1C076-F6EA-450B-9C48-D266521ED748}"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CF26EEAD-0C69-48DD-862E-A026736E47E4}"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3E6C292F-910F-4078-A5A3-C2DE6C43A986}"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AFEACB17-96EC-4D91-B240-3D453E7BA095}"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ED419ADD-46A6-481B-82D6-0D3DF9DEF514}"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54100D4B-11D3-4534-B576-5107DDBC0547}"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079C9359-97C8-449C-9CD1-E3355627EF6D}"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936FEB63-3416-43A4-97BE-6083C2EA0D5D}"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5DF3BA3-77AC-453E-AA02-FAFC04E4F37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5EC508D2-B938-4889-9AA5-EBBA20BF4268}"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A955A1D7-2FB2-419D-9894-51653076A14B}"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314BEFDF-EFF8-4CBC-96AA-E564BBC7354E}"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A5D1316D-4E17-464A-B3AD-DEE30683EA66}"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54577411-4C8E-429B-B65A-C55A42CC5897}"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5E62DCEE-8884-4621-8618-CC8A9F334D75}"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498383B5-AED4-4BD5-925C-C4074A691AE5}"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4427D516-88B6-48F9-97DF-0907080E12B4}"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769414E7-8B3D-4649-B0CA-D14893B0487F}"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B1109503-E8F4-45A6-A8C2-7F69607B7461}"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089E04E-2F64-4B67-B924-26DEB3FF04E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281AC77F-D2EF-4A81-BE35-3114C6FB5B7F}"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E67A015E-5989-416C-952C-8F139D80061C}"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3633CEED-F915-4E3B-8745-9713725D6594}"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2BD06FDE-C111-472B-A883-5EFCB7BFB7E6}"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98E8CCF8-3FCC-4C20-9DB1-8B5FA997C5CA}"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138490E3-F7C8-4304-A187-CF931B69F880}"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19EE73B1-B861-4C99-9913-F01231760461}"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CF7C0C00-5B1B-4B6C-A41A-1BFB03D918B3}"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3422CCA3-E3D5-485A-B0F2-0C1907EA6E81}"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19C6FB72-2869-4EF3-98AE-02947DF31B5F}"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A6296F7-22A4-42E6-964E-A3A1222CE8D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3ABB4E74-4D26-4C7B-9780-31A737B1E71D}"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997523B1-35D6-440E-9C3F-9CC549B03E5C}"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04999482-BF2E-410F-9B61-BB7993652A1A}"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ACF2E3A4-2837-4709-A896-70ECF8EF277C}"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B5F32B1E-F6E5-4500-9EF8-99AB1297E4E6}"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0BEAE4B2-3082-4626-9197-219151D5A5CE}"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0CA21CCE-F229-4891-94FF-2B976B7C1938}"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F8F58D2E-0B6F-4D68-A20B-A540E8CF00EB}"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057C9C65-ABD9-4A0D-9C76-E01366C7E9FE}"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5B4256AE-C320-424B-B089-129F7A60854C}"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3B9C347-4EC4-4BE0-AFFD-6D717803F3C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DC5B4C61-C6E2-44C2-AB04-4BB15CE9CDB0}"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3994DADF-97A8-46FD-993E-FE456D90960F}"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0DC9718D-7719-4E9F-9D1F-C109FD9B269C}"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1CFB1DA5-4A5F-4CBE-958B-26E52A118AAD}"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93C029AE-17EB-4200-B55E-ACD7FA5CD195}"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7C643157-8AA2-4A6A-B759-538413E675AE}"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2D23AE60-6BEC-4FF4-AC5D-D8C28E527451}"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D147BA30-7F14-4400-82A0-5497815298AE}"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802F1CB5-7111-40A4-8534-DBD6EAFDC458}"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2F308135-2941-4628-938D-AD480398185A}"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D2F9B1F5-9A0E-4AE1-8B1D-14F5D16887A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3572F85-BB22-4073-9B5D-71B2AC5F373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56D44F38-E812-4DFA-900F-420A6BA71522}"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5540049-980C-4404-8B2E-10D192E2BC3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6DDC8FD-8AF5-46E9-9243-F64BED45227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A0D247F-588C-4936-B420-252225E23D1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14AB60B-3FEB-4EA9-B92D-F859DD751DF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C95204F5-F9FD-4363-A954-86869A6B9BEE}"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695792B4-EF71-4908-94ED-7513659E3634}"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7C450860-54C2-4E46-8710-16151DE3B595}"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B4DA5DA-1E54-4904-A313-2CEB67133E3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34DB8A7-C849-4223-B747-61B85802201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C52F9E62-C22C-4DE2-9678-73CF9F43173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04F17E7-1A11-477E-A46B-C9C07130634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BCE5EE1-E9B7-4CF1-B32E-CA9314031C0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6C129A4-15A1-48FB-A21E-06FFC638B25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199D336-185C-4992-90BC-10445FA3EF6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F2D752C-6EC1-43C3-8FD5-D72E29100A3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33A4851-1570-4C6F-8D68-CE4638B5BBE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733321C-F21F-4C68-B53B-1838A95812E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2828FB40-4BF8-4DC6-8673-01EBD7B30B5D}"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A28E1B1D-1BE2-4B03-967F-344C6E62AE48}"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6BEFC99C-2FF1-420E-BDAC-5583335792F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sldNum" idx="1"/>
          </p:nvPr>
        </p:nvSpPr>
        <p:spPr/>
        <p:txBody>
          <a:bodyPr/>
          <a:p>
            <a:fld id="{DDE41CDA-20C3-4C97-9890-47CE6FBBA62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7E349B1-57BF-4694-A778-6A94BA89F4A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9337C5B-B5DC-4FE8-BB20-A9A8B77B468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2CDBE13-83C2-42A2-B651-430E7F7E8D4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7D674FA-9CE2-42D5-A4A8-A9FC9324723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975A3E7-E353-421E-A825-6EEF6F2CBC0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FCC9B57-8A4A-4CD6-AC90-D1453CE1529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05387B6-1856-470F-AFB6-D7D0A4C6A47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A783ECD-B53C-4A6B-9D8C-A9F6ACB7076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F74103D-B3D7-4025-AD0A-C5F31C26F62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F52E385F-F763-422A-B8C1-49934ED6C2FF}"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sldNum" idx="1"/>
          </p:nvPr>
        </p:nvSpPr>
        <p:spPr/>
        <p:txBody>
          <a:bodyPr/>
          <a:p>
            <a:fld id="{C1C13653-6B5A-431F-9370-A9973B356BF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3AC78433-D6B1-4743-A2C9-11B329B37909}"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8E679EC7-E8C4-4DD6-8143-6B0CEEBA6BD7}"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DA31141-34E2-4AC0-8CD6-31139177E44C}"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9F005C3-F3F9-421A-AB16-66EA7A3AD71B}"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C5D9014-4F60-4E3B-88D8-93FF033B05A7}"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596FDFDD-77A1-4043-9D79-C28068CD6EBB}"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17AD2DD-E145-4FBC-BE50-A3E44972738C}"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C1EBD7C-6FD4-4F2D-84E5-DC161C5A232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12F1A7C-8C8A-4E1E-9BCC-756B49D8430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1713D05-80F6-4333-B8C8-DB65FD5D0AA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39EA089E-6BB2-4057-974E-B9D4C6FDDE1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5F0B6B5D-25A8-40E4-B993-8844AB519AA0}"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ADF2D453-82DA-49E6-A941-E92EAD458A84}"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44BAEC20-9850-4B59-8B56-9B2C5ADC1F87}"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EBCE461E-CC92-4743-86D2-565F6AAD4A7D}"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A7BEC30-98E1-447E-9831-544CF0D0137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AEDB3C3-6FCB-4344-9E07-DA3BA1B28BA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FA88E16-75E0-4B55-A4C1-0EDC6AE4DAB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3E35150-378E-449D-BE01-73C9BDCA413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A9361BB-CEC1-4EE8-A3B1-AC909A19A03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4E7B219-FF40-4FA2-A442-7D1C0D654F3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7773AEE7-58A0-46E5-A720-9A4DE486BB6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7F03BCB-99DD-41C0-87AE-D2978A0B105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F30962B-9055-4C45-84FE-3FC0D80D542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193468F-9D02-426F-81F0-2D95DC16B83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9BF0E2D5-D831-4FBA-8BB8-B270ECE35EB6}"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6BA024B3-50B8-4002-8B22-BE87DB22B308}"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5E0540E0-825C-4EF3-A0BB-31911E878A02}"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F44C3D20-6743-4B85-AA16-D9A30B086D87}"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57D0D51-B8FD-4635-B2AF-B8DD5FCC4DF7}"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D4FD1E15-7E4A-45BC-A4B5-E94D2120C75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2996731-3228-40BC-A7A0-C5504E83C721}"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A550EC31-9E23-45D2-8649-3B0F993BBFF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4DFF6A3-8A08-46A9-951D-DE76E92DFDE0}"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C3EEA81-186B-4D16-92CF-17AB9EB5932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ADBA3A6-C5B3-40DE-9895-4A9AFE5058E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37F64B5-7FD9-4072-A7B1-0E1E8967BCB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7F410C6-A8E5-4563-919F-03A9D34764D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A82E3C33-279B-4EC6-8E92-B50E034F7628}"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80BE0CE8-7ADF-405E-99BA-A2744E689EE9}"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5D087E38-1B55-49B6-A2AE-95FC9E556AE4}"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19488CC-AC3C-4997-991F-AA9A2217155C}"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7542AC43-D22A-4F1B-9502-72A20022E0E6}"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7.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7.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7.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06400"/>
            <a:ext cx="8229600" cy="5608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462440" y="66607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00F34-1D6E-45FA-AB51-25B57D68330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5" name="Pravokotni trikotnik 13"/>
          <p:cNvGrpSpPr/>
          <p:nvPr/>
        </p:nvGrpSpPr>
        <p:grpSpPr>
          <a:xfrm>
            <a:off x="-6480" y="6175440"/>
            <a:ext cx="3402000" cy="1152360"/>
            <a:chOff x="-6480" y="6175440"/>
            <a:chExt cx="3402000" cy="1152360"/>
          </a:xfrm>
        </p:grpSpPr>
        <p:pic>
          <p:nvPicPr>
            <p:cNvPr id="416" name="Pravokotni trikotnik 13" descr=""/>
            <p:cNvPicPr/>
            <p:nvPr/>
          </p:nvPicPr>
          <p:blipFill>
            <a:blip r:embed="rId2"/>
            <a:stretch/>
          </p:blipFill>
          <p:spPr>
            <a:xfrm>
              <a:off x="-6480" y="6175440"/>
              <a:ext cx="3402000" cy="1152360"/>
            </a:xfrm>
            <a:prstGeom prst="rect">
              <a:avLst/>
            </a:prstGeom>
            <a:ln w="0">
              <a:noFill/>
            </a:ln>
          </p:spPr>
        </p:pic>
        <p:sp>
          <p:nvSpPr>
            <p:cNvPr id="41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18" name="Raven povezovalnik 14" descr=""/>
          <p:cNvPicPr/>
          <p:nvPr/>
        </p:nvPicPr>
        <p:blipFill>
          <a:blip r:embed="rId3"/>
          <a:stretch/>
        </p:blipFill>
        <p:spPr>
          <a:xfrm>
            <a:off x="-19080" y="6168960"/>
            <a:ext cx="3414600" cy="1170000"/>
          </a:xfrm>
          <a:prstGeom prst="rect">
            <a:avLst/>
          </a:prstGeom>
          <a:ln w="0">
            <a:noFill/>
          </a:ln>
        </p:spPr>
      </p:pic>
      <p:sp>
        <p:nvSpPr>
          <p:cNvPr id="4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2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21" name="PlaceHolder 3"/>
          <p:cNvSpPr>
            <a:spLocks noGrp="1"/>
          </p:cNvSpPr>
          <p:nvPr>
            <p:ph type="dt" idx="2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PlaceHolder 4"/>
          <p:cNvSpPr>
            <a:spLocks noGrp="1"/>
          </p:cNvSpPr>
          <p:nvPr>
            <p:ph type="ftr" idx="2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3" name="PlaceHolder 5"/>
          <p:cNvSpPr>
            <a:spLocks noGrp="1"/>
          </p:cNvSpPr>
          <p:nvPr>
            <p:ph type="sldNum" idx="2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E5263-BF48-4E1E-A241-3A6BA3E8C871}"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62" name="PlaceHolder 3"/>
          <p:cNvSpPr>
            <a:spLocks noGrp="1"/>
          </p:cNvSpPr>
          <p:nvPr>
            <p:ph type="dt" idx="2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PlaceHolder 4"/>
          <p:cNvSpPr>
            <a:spLocks noGrp="1"/>
          </p:cNvSpPr>
          <p:nvPr>
            <p:ph type="ftr" idx="3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PlaceHolder 5"/>
          <p:cNvSpPr>
            <a:spLocks noGrp="1"/>
          </p:cNvSpPr>
          <p:nvPr>
            <p:ph type="sldNum" idx="3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E81F4-B9F1-448E-93C5-16A408EB6389}"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1"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2"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03" name="Pravokotni trikotnik 15"/>
          <p:cNvGrpSpPr/>
          <p:nvPr/>
        </p:nvGrpSpPr>
        <p:grpSpPr>
          <a:xfrm>
            <a:off x="-6480" y="6175440"/>
            <a:ext cx="3402000" cy="1152360"/>
            <a:chOff x="-6480" y="6175440"/>
            <a:chExt cx="3402000" cy="1152360"/>
          </a:xfrm>
        </p:grpSpPr>
        <p:pic>
          <p:nvPicPr>
            <p:cNvPr id="504" name="Pravokotni trikotnik 15" descr=""/>
            <p:cNvPicPr/>
            <p:nvPr/>
          </p:nvPicPr>
          <p:blipFill>
            <a:blip r:embed="rId3"/>
            <a:stretch/>
          </p:blipFill>
          <p:spPr>
            <a:xfrm>
              <a:off x="-6480" y="6175440"/>
              <a:ext cx="3402000" cy="1152360"/>
            </a:xfrm>
            <a:prstGeom prst="rect">
              <a:avLst/>
            </a:prstGeom>
            <a:ln w="0">
              <a:noFill/>
            </a:ln>
          </p:spPr>
        </p:pic>
        <p:sp>
          <p:nvSpPr>
            <p:cNvPr id="50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06" name="Raven povezovalnik 16" descr=""/>
          <p:cNvPicPr/>
          <p:nvPr/>
        </p:nvPicPr>
        <p:blipFill>
          <a:blip r:embed="rId4"/>
          <a:stretch/>
        </p:blipFill>
        <p:spPr>
          <a:xfrm>
            <a:off x="-19080" y="6168960"/>
            <a:ext cx="3414600" cy="1170000"/>
          </a:xfrm>
          <a:prstGeom prst="rect">
            <a:avLst/>
          </a:prstGeom>
          <a:ln w="0">
            <a:noFill/>
          </a:ln>
        </p:spPr>
      </p:pic>
      <p:sp>
        <p:nvSpPr>
          <p:cNvPr id="507"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1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11" name="PlaceHolder 3"/>
          <p:cNvSpPr>
            <a:spLocks noGrp="1"/>
          </p:cNvSpPr>
          <p:nvPr>
            <p:ph type="dt" idx="3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4"/>
          <p:cNvSpPr>
            <a:spLocks noGrp="1"/>
          </p:cNvSpPr>
          <p:nvPr>
            <p:ph type="ftr" idx="3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PlaceHolder 5"/>
          <p:cNvSpPr>
            <a:spLocks noGrp="1"/>
          </p:cNvSpPr>
          <p:nvPr>
            <p:ph type="sldNum" idx="3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7C077-CBC4-414F-AA22-0768B92B8D00}"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52" name="Pravokotni trikotnik 13"/>
          <p:cNvGrpSpPr/>
          <p:nvPr/>
        </p:nvGrpSpPr>
        <p:grpSpPr>
          <a:xfrm>
            <a:off x="-6480" y="6175440"/>
            <a:ext cx="3402000" cy="1152360"/>
            <a:chOff x="-6480" y="6175440"/>
            <a:chExt cx="3402000" cy="1152360"/>
          </a:xfrm>
        </p:grpSpPr>
        <p:pic>
          <p:nvPicPr>
            <p:cNvPr id="553" name="Pravokotni trikotnik 13" descr=""/>
            <p:cNvPicPr/>
            <p:nvPr/>
          </p:nvPicPr>
          <p:blipFill>
            <a:blip r:embed="rId2"/>
            <a:stretch/>
          </p:blipFill>
          <p:spPr>
            <a:xfrm>
              <a:off x="-6480" y="6175440"/>
              <a:ext cx="3402000" cy="1152360"/>
            </a:xfrm>
            <a:prstGeom prst="rect">
              <a:avLst/>
            </a:prstGeom>
            <a:ln w="0">
              <a:noFill/>
            </a:ln>
          </p:spPr>
        </p:pic>
        <p:sp>
          <p:nvSpPr>
            <p:cNvPr id="55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55" name="Raven povezovalnik 14" descr=""/>
          <p:cNvPicPr/>
          <p:nvPr/>
        </p:nvPicPr>
        <p:blipFill>
          <a:blip r:embed="rId3"/>
          <a:stretch/>
        </p:blipFill>
        <p:spPr>
          <a:xfrm>
            <a:off x="-19080" y="6168960"/>
            <a:ext cx="3414600" cy="1170000"/>
          </a:xfrm>
          <a:prstGeom prst="rect">
            <a:avLst/>
          </a:prstGeom>
          <a:ln w="0">
            <a:noFill/>
          </a:ln>
        </p:spPr>
      </p:pic>
      <p:sp>
        <p:nvSpPr>
          <p:cNvPr id="5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5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58" name="PlaceHolder 3"/>
          <p:cNvSpPr>
            <a:spLocks noGrp="1"/>
          </p:cNvSpPr>
          <p:nvPr>
            <p:ph type="dt" idx="3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PlaceHolder 4"/>
          <p:cNvSpPr>
            <a:spLocks noGrp="1"/>
          </p:cNvSpPr>
          <p:nvPr>
            <p:ph type="ftr" idx="3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PlaceHolder 5"/>
          <p:cNvSpPr>
            <a:spLocks noGrp="1"/>
          </p:cNvSpPr>
          <p:nvPr>
            <p:ph type="sldNum" idx="3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9E1C2-1102-4095-BFB6-A4B881213176}"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99" name="Pravokotni trikotnik 13"/>
          <p:cNvGrpSpPr/>
          <p:nvPr/>
        </p:nvGrpSpPr>
        <p:grpSpPr>
          <a:xfrm>
            <a:off x="-6480" y="6175440"/>
            <a:ext cx="3402000" cy="1152360"/>
            <a:chOff x="-6480" y="6175440"/>
            <a:chExt cx="3402000" cy="1152360"/>
          </a:xfrm>
        </p:grpSpPr>
        <p:pic>
          <p:nvPicPr>
            <p:cNvPr id="600" name="Pravokotni trikotnik 13" descr=""/>
            <p:cNvPicPr/>
            <p:nvPr/>
          </p:nvPicPr>
          <p:blipFill>
            <a:blip r:embed="rId2"/>
            <a:stretch/>
          </p:blipFill>
          <p:spPr>
            <a:xfrm>
              <a:off x="-6480" y="6175440"/>
              <a:ext cx="3402000" cy="1152360"/>
            </a:xfrm>
            <a:prstGeom prst="rect">
              <a:avLst/>
            </a:prstGeom>
            <a:ln w="0">
              <a:noFill/>
            </a:ln>
          </p:spPr>
        </p:pic>
        <p:sp>
          <p:nvSpPr>
            <p:cNvPr id="60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02" name="Raven povezovalnik 14" descr=""/>
          <p:cNvPicPr/>
          <p:nvPr/>
        </p:nvPicPr>
        <p:blipFill>
          <a:blip r:embed="rId3"/>
          <a:stretch/>
        </p:blipFill>
        <p:spPr>
          <a:xfrm>
            <a:off x="-19080" y="6168960"/>
            <a:ext cx="3414600" cy="1170000"/>
          </a:xfrm>
          <a:prstGeom prst="rect">
            <a:avLst/>
          </a:prstGeom>
          <a:ln w="0">
            <a:noFill/>
          </a:ln>
        </p:spPr>
      </p:pic>
      <p:sp>
        <p:nvSpPr>
          <p:cNvPr id="60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0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05" name="PlaceHolder 3"/>
          <p:cNvSpPr>
            <a:spLocks noGrp="1"/>
          </p:cNvSpPr>
          <p:nvPr>
            <p:ph type="dt" idx="3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PlaceHolder 4"/>
          <p:cNvSpPr>
            <a:spLocks noGrp="1"/>
          </p:cNvSpPr>
          <p:nvPr>
            <p:ph type="ftr" idx="3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7" name="PlaceHolder 5"/>
          <p:cNvSpPr>
            <a:spLocks noGrp="1"/>
          </p:cNvSpPr>
          <p:nvPr>
            <p:ph type="sldNum" idx="4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9F781-3316-4363-9451-5873CACFF1C7}"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45" name="Skupina 15"/>
          <p:cNvGrpSpPr/>
          <p:nvPr/>
        </p:nvGrpSpPr>
        <p:grpSpPr>
          <a:xfrm>
            <a:off x="-3240" y="5283360"/>
            <a:ext cx="9147240" cy="2039760"/>
            <a:chOff x="-3240" y="5283360"/>
            <a:chExt cx="9147240" cy="2039760"/>
          </a:xfrm>
        </p:grpSpPr>
        <p:sp>
          <p:nvSpPr>
            <p:cNvPr id="646"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7"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48" name="Prostoročno 18"/>
            <p:cNvGrpSpPr/>
            <p:nvPr/>
          </p:nvGrpSpPr>
          <p:grpSpPr>
            <a:xfrm>
              <a:off x="8640" y="5334120"/>
              <a:ext cx="9135360" cy="1989000"/>
              <a:chOff x="8640" y="5334120"/>
              <a:chExt cx="9135360" cy="1989000"/>
            </a:xfrm>
          </p:grpSpPr>
          <p:pic>
            <p:nvPicPr>
              <p:cNvPr id="649" name="Prostoročno 18" descr=""/>
              <p:cNvPicPr/>
              <p:nvPr/>
            </p:nvPicPr>
            <p:blipFill>
              <a:blip r:embed="rId2"/>
              <a:stretch/>
            </p:blipFill>
            <p:spPr>
              <a:xfrm>
                <a:off x="8640" y="5334120"/>
                <a:ext cx="9135360" cy="1989000"/>
              </a:xfrm>
              <a:prstGeom prst="rect">
                <a:avLst/>
              </a:prstGeom>
              <a:ln w="0">
                <a:noFill/>
              </a:ln>
            </p:spPr>
          </p:pic>
          <p:sp>
            <p:nvSpPr>
              <p:cNvPr id="650"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51" name="Raven povezovalnik 19" descr=""/>
            <p:cNvPicPr/>
            <p:nvPr/>
          </p:nvPicPr>
          <p:blipFill>
            <a:blip r:embed="rId3"/>
            <a:stretch/>
          </p:blipFill>
          <p:spPr>
            <a:xfrm>
              <a:off x="-3240" y="5321880"/>
              <a:ext cx="9147240" cy="860040"/>
            </a:xfrm>
            <a:prstGeom prst="rect">
              <a:avLst/>
            </a:prstGeom>
            <a:ln w="0">
              <a:noFill/>
            </a:ln>
          </p:spPr>
        </p:pic>
      </p:grpSp>
      <p:sp>
        <p:nvSpPr>
          <p:cNvPr id="6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5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54" name="PlaceHolder 3"/>
          <p:cNvSpPr>
            <a:spLocks noGrp="1"/>
          </p:cNvSpPr>
          <p:nvPr>
            <p:ph type="dt" idx="4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5" name="PlaceHolder 4"/>
          <p:cNvSpPr>
            <a:spLocks noGrp="1"/>
          </p:cNvSpPr>
          <p:nvPr>
            <p:ph type="ftr" idx="4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6" name="PlaceHolder 5"/>
          <p:cNvSpPr>
            <a:spLocks noGrp="1"/>
          </p:cNvSpPr>
          <p:nvPr>
            <p:ph type="sldNum" idx="4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F0194-D181-4BDC-8C86-59945BD08784}"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95" name="Pravokotni trikotnik 13"/>
          <p:cNvGrpSpPr/>
          <p:nvPr/>
        </p:nvGrpSpPr>
        <p:grpSpPr>
          <a:xfrm>
            <a:off x="-6480" y="6175440"/>
            <a:ext cx="3402000" cy="1152360"/>
            <a:chOff x="-6480" y="6175440"/>
            <a:chExt cx="3402000" cy="1152360"/>
          </a:xfrm>
        </p:grpSpPr>
        <p:pic>
          <p:nvPicPr>
            <p:cNvPr id="696" name="Pravokotni trikotnik 13" descr=""/>
            <p:cNvPicPr/>
            <p:nvPr/>
          </p:nvPicPr>
          <p:blipFill>
            <a:blip r:embed="rId2"/>
            <a:stretch/>
          </p:blipFill>
          <p:spPr>
            <a:xfrm>
              <a:off x="-6480" y="6175440"/>
              <a:ext cx="3402000" cy="1152360"/>
            </a:xfrm>
            <a:prstGeom prst="rect">
              <a:avLst/>
            </a:prstGeom>
            <a:ln w="0">
              <a:noFill/>
            </a:ln>
          </p:spPr>
        </p:pic>
        <p:sp>
          <p:nvSpPr>
            <p:cNvPr id="69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98" name="Raven povezovalnik 14" descr=""/>
          <p:cNvPicPr/>
          <p:nvPr/>
        </p:nvPicPr>
        <p:blipFill>
          <a:blip r:embed="rId3"/>
          <a:stretch/>
        </p:blipFill>
        <p:spPr>
          <a:xfrm>
            <a:off x="-19080" y="6168960"/>
            <a:ext cx="3414600" cy="1170000"/>
          </a:xfrm>
          <a:prstGeom prst="rect">
            <a:avLst/>
          </a:prstGeom>
          <a:ln w="0">
            <a:noFill/>
          </a:ln>
        </p:spPr>
      </p:pic>
      <p:sp>
        <p:nvSpPr>
          <p:cNvPr id="6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0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701" name="PlaceHolder 3"/>
          <p:cNvSpPr>
            <a:spLocks noGrp="1"/>
          </p:cNvSpPr>
          <p:nvPr>
            <p:ph type="dt" idx="4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2" name="PlaceHolder 4"/>
          <p:cNvSpPr>
            <a:spLocks noGrp="1"/>
          </p:cNvSpPr>
          <p:nvPr>
            <p:ph type="ftr" idx="4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3" name="PlaceHolder 5"/>
          <p:cNvSpPr>
            <a:spLocks noGrp="1"/>
          </p:cNvSpPr>
          <p:nvPr>
            <p:ph type="sldNum" idx="4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66498-D526-4AF2-8E9F-0AF3754A61DE}"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42" name="Pravokotni trikotnik 13"/>
          <p:cNvGrpSpPr/>
          <p:nvPr/>
        </p:nvGrpSpPr>
        <p:grpSpPr>
          <a:xfrm>
            <a:off x="-6480" y="6175440"/>
            <a:ext cx="3402000" cy="1152360"/>
            <a:chOff x="-6480" y="6175440"/>
            <a:chExt cx="3402000" cy="1152360"/>
          </a:xfrm>
        </p:grpSpPr>
        <p:pic>
          <p:nvPicPr>
            <p:cNvPr id="743" name="Pravokotni trikotnik 13" descr=""/>
            <p:cNvPicPr/>
            <p:nvPr/>
          </p:nvPicPr>
          <p:blipFill>
            <a:blip r:embed="rId3"/>
            <a:stretch/>
          </p:blipFill>
          <p:spPr>
            <a:xfrm>
              <a:off x="-6480" y="6175440"/>
              <a:ext cx="3402000" cy="1152360"/>
            </a:xfrm>
            <a:prstGeom prst="rect">
              <a:avLst/>
            </a:prstGeom>
            <a:ln w="0">
              <a:noFill/>
            </a:ln>
          </p:spPr>
        </p:pic>
        <p:sp>
          <p:nvSpPr>
            <p:cNvPr id="74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45" name="Raven povezovalnik 14" descr=""/>
          <p:cNvPicPr/>
          <p:nvPr/>
        </p:nvPicPr>
        <p:blipFill>
          <a:blip r:embed="rId4"/>
          <a:stretch/>
        </p:blipFill>
        <p:spPr>
          <a:xfrm>
            <a:off x="-19080" y="6168960"/>
            <a:ext cx="3414600" cy="1170000"/>
          </a:xfrm>
          <a:prstGeom prst="rect">
            <a:avLst/>
          </a:prstGeom>
          <a:ln w="0">
            <a:noFill/>
          </a:ln>
        </p:spPr>
      </p:pic>
      <p:sp>
        <p:nvSpPr>
          <p:cNvPr id="746"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7"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4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50" name="PlaceHolder 3"/>
          <p:cNvSpPr>
            <a:spLocks noGrp="1"/>
          </p:cNvSpPr>
          <p:nvPr>
            <p:ph type="dt" idx="4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1" name="PlaceHolder 4"/>
          <p:cNvSpPr>
            <a:spLocks noGrp="1"/>
          </p:cNvSpPr>
          <p:nvPr>
            <p:ph type="ftr" idx="4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2" name="PlaceHolder 5"/>
          <p:cNvSpPr>
            <a:spLocks noGrp="1"/>
          </p:cNvSpPr>
          <p:nvPr>
            <p:ph type="sldNum" idx="4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08479-1340-4914-A980-1D6DC8AA3BCA}"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91" name="Pravokotni trikotnik 13"/>
          <p:cNvGrpSpPr/>
          <p:nvPr/>
        </p:nvGrpSpPr>
        <p:grpSpPr>
          <a:xfrm>
            <a:off x="-6480" y="6175440"/>
            <a:ext cx="3402000" cy="1152360"/>
            <a:chOff x="-6480" y="6175440"/>
            <a:chExt cx="3402000" cy="1152360"/>
          </a:xfrm>
        </p:grpSpPr>
        <p:pic>
          <p:nvPicPr>
            <p:cNvPr id="792" name="Pravokotni trikotnik 13" descr=""/>
            <p:cNvPicPr/>
            <p:nvPr/>
          </p:nvPicPr>
          <p:blipFill>
            <a:blip r:embed="rId3"/>
            <a:stretch/>
          </p:blipFill>
          <p:spPr>
            <a:xfrm>
              <a:off x="-6480" y="6175440"/>
              <a:ext cx="3402000" cy="1152360"/>
            </a:xfrm>
            <a:prstGeom prst="rect">
              <a:avLst/>
            </a:prstGeom>
            <a:ln w="0">
              <a:noFill/>
            </a:ln>
          </p:spPr>
        </p:pic>
        <p:sp>
          <p:nvSpPr>
            <p:cNvPr id="79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94" name="Raven povezovalnik 14" descr=""/>
          <p:cNvPicPr/>
          <p:nvPr/>
        </p:nvPicPr>
        <p:blipFill>
          <a:blip r:embed="rId4"/>
          <a:stretch/>
        </p:blipFill>
        <p:spPr>
          <a:xfrm>
            <a:off x="-19080" y="6168960"/>
            <a:ext cx="3414600" cy="1170000"/>
          </a:xfrm>
          <a:prstGeom prst="rect">
            <a:avLst/>
          </a:prstGeom>
          <a:ln w="0">
            <a:noFill/>
          </a:ln>
        </p:spPr>
      </p:pic>
      <p:sp>
        <p:nvSpPr>
          <p:cNvPr id="7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9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97" name="PlaceHolder 3"/>
          <p:cNvSpPr>
            <a:spLocks noGrp="1"/>
          </p:cNvSpPr>
          <p:nvPr>
            <p:ph type="dt" idx="5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8" name="PlaceHolder 4"/>
          <p:cNvSpPr>
            <a:spLocks noGrp="1"/>
          </p:cNvSpPr>
          <p:nvPr>
            <p:ph type="ftr" idx="5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9" name="PlaceHolder 5"/>
          <p:cNvSpPr>
            <a:spLocks noGrp="1"/>
          </p:cNvSpPr>
          <p:nvPr>
            <p:ph type="sldNum" idx="5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10ED2-3A92-43B2-A11D-33B5EE5E3186}"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83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38" name="PlaceHolder 3"/>
          <p:cNvSpPr>
            <a:spLocks noGrp="1"/>
          </p:cNvSpPr>
          <p:nvPr>
            <p:ph type="dt" idx="5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9" name="PlaceHolder 4"/>
          <p:cNvSpPr>
            <a:spLocks noGrp="1"/>
          </p:cNvSpPr>
          <p:nvPr>
            <p:ph type="ftr" idx="5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0" name="PlaceHolder 5"/>
          <p:cNvSpPr>
            <a:spLocks noGrp="1"/>
          </p:cNvSpPr>
          <p:nvPr>
            <p:ph type="sldNum" idx="5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E0BE3-6080-4FE5-A712-35715CF24C4C}"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 name="Pravokotni trikotnik 13"/>
          <p:cNvGrpSpPr/>
          <p:nvPr/>
        </p:nvGrpSpPr>
        <p:grpSpPr>
          <a:xfrm>
            <a:off x="-6480" y="6175440"/>
            <a:ext cx="3402000" cy="1152360"/>
            <a:chOff x="-6480" y="6175440"/>
            <a:chExt cx="3402000" cy="1152360"/>
          </a:xfrm>
        </p:grpSpPr>
        <p:pic>
          <p:nvPicPr>
            <p:cNvPr id="42" name="Pravokotni trikotnik 13" descr=""/>
            <p:cNvPicPr/>
            <p:nvPr/>
          </p:nvPicPr>
          <p:blipFill>
            <a:blip r:embed="rId2"/>
            <a:stretch/>
          </p:blipFill>
          <p:spPr>
            <a:xfrm>
              <a:off x="-6480" y="6175440"/>
              <a:ext cx="3402000" cy="1152360"/>
            </a:xfrm>
            <a:prstGeom prst="rect">
              <a:avLst/>
            </a:prstGeom>
            <a:ln w="0">
              <a:noFill/>
            </a:ln>
          </p:spPr>
        </p:pic>
        <p:sp>
          <p:nvSpPr>
            <p:cNvPr id="4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4" name="Raven povezovalnik 14" descr=""/>
          <p:cNvPicPr/>
          <p:nvPr/>
        </p:nvPicPr>
        <p:blipFill>
          <a:blip r:embed="rId3"/>
          <a:stretch/>
        </p:blipFill>
        <p:spPr>
          <a:xfrm>
            <a:off x="-19080" y="6168960"/>
            <a:ext cx="3414600" cy="1170000"/>
          </a:xfrm>
          <a:prstGeom prst="rect">
            <a:avLst/>
          </a:prstGeom>
          <a:ln w="0">
            <a:noFill/>
          </a:ln>
        </p:spPr>
      </p:pic>
      <p:sp>
        <p:nvSpPr>
          <p:cNvPr id="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7" name="PlaceHolder 3"/>
          <p:cNvSpPr>
            <a:spLocks noGrp="1"/>
          </p:cNvSpPr>
          <p:nvPr>
            <p:ph type="dt" idx="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4"/>
          <p:cNvSpPr>
            <a:spLocks noGrp="1"/>
          </p:cNvSpPr>
          <p:nvPr>
            <p:ph type="ftr" idx="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5"/>
          <p:cNvSpPr>
            <a:spLocks noGrp="1"/>
          </p:cNvSpPr>
          <p:nvPr>
            <p:ph type="sldNum" idx="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D49B7-6726-4E9E-A86D-C7D988C48227}"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79" name="Pravokotni trikotnik 13"/>
          <p:cNvGrpSpPr/>
          <p:nvPr/>
        </p:nvGrpSpPr>
        <p:grpSpPr>
          <a:xfrm>
            <a:off x="-6480" y="6175440"/>
            <a:ext cx="3402000" cy="1152360"/>
            <a:chOff x="-6480" y="6175440"/>
            <a:chExt cx="3402000" cy="1152360"/>
          </a:xfrm>
        </p:grpSpPr>
        <p:pic>
          <p:nvPicPr>
            <p:cNvPr id="880" name="Pravokotni trikotnik 13" descr=""/>
            <p:cNvPicPr/>
            <p:nvPr/>
          </p:nvPicPr>
          <p:blipFill>
            <a:blip r:embed="rId3"/>
            <a:stretch/>
          </p:blipFill>
          <p:spPr>
            <a:xfrm>
              <a:off x="-6480" y="6175440"/>
              <a:ext cx="3402000" cy="1152360"/>
            </a:xfrm>
            <a:prstGeom prst="rect">
              <a:avLst/>
            </a:prstGeom>
            <a:ln w="0">
              <a:noFill/>
            </a:ln>
          </p:spPr>
        </p:pic>
        <p:sp>
          <p:nvSpPr>
            <p:cNvPr id="88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882" name="Raven povezovalnik 14" descr=""/>
          <p:cNvPicPr/>
          <p:nvPr/>
        </p:nvPicPr>
        <p:blipFill>
          <a:blip r:embed="rId4"/>
          <a:stretch/>
        </p:blipFill>
        <p:spPr>
          <a:xfrm>
            <a:off x="-19080" y="6168960"/>
            <a:ext cx="3414600" cy="1170000"/>
          </a:xfrm>
          <a:prstGeom prst="rect">
            <a:avLst/>
          </a:prstGeom>
          <a:ln w="0">
            <a:noFill/>
          </a:ln>
        </p:spPr>
      </p:pic>
      <p:sp>
        <p:nvSpPr>
          <p:cNvPr id="8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88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885" name="PlaceHolder 3"/>
          <p:cNvSpPr>
            <a:spLocks noGrp="1"/>
          </p:cNvSpPr>
          <p:nvPr>
            <p:ph type="dt" idx="5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6" name="PlaceHolder 4"/>
          <p:cNvSpPr>
            <a:spLocks noGrp="1"/>
          </p:cNvSpPr>
          <p:nvPr>
            <p:ph type="ftr" idx="5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7" name="PlaceHolder 5"/>
          <p:cNvSpPr>
            <a:spLocks noGrp="1"/>
          </p:cNvSpPr>
          <p:nvPr>
            <p:ph type="sldNum" idx="5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5038C-0BDA-4F82-B3B9-87746F37EE2B}"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25"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926" name="Pravokotni trikotnik 13"/>
          <p:cNvGrpSpPr/>
          <p:nvPr/>
        </p:nvGrpSpPr>
        <p:grpSpPr>
          <a:xfrm>
            <a:off x="-6480" y="6175440"/>
            <a:ext cx="3402000" cy="1152360"/>
            <a:chOff x="-6480" y="6175440"/>
            <a:chExt cx="3402000" cy="1152360"/>
          </a:xfrm>
        </p:grpSpPr>
        <p:pic>
          <p:nvPicPr>
            <p:cNvPr id="927" name="Pravokotni trikotnik 13" descr=""/>
            <p:cNvPicPr/>
            <p:nvPr/>
          </p:nvPicPr>
          <p:blipFill>
            <a:blip r:embed="rId2"/>
            <a:stretch/>
          </p:blipFill>
          <p:spPr>
            <a:xfrm>
              <a:off x="-6480" y="6175440"/>
              <a:ext cx="3402000" cy="1152360"/>
            </a:xfrm>
            <a:prstGeom prst="rect">
              <a:avLst/>
            </a:prstGeom>
            <a:ln w="0">
              <a:noFill/>
            </a:ln>
          </p:spPr>
        </p:pic>
        <p:sp>
          <p:nvSpPr>
            <p:cNvPr id="928"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29" name="Raven povezovalnik 14" descr=""/>
          <p:cNvPicPr/>
          <p:nvPr/>
        </p:nvPicPr>
        <p:blipFill>
          <a:blip r:embed="rId3"/>
          <a:stretch/>
        </p:blipFill>
        <p:spPr>
          <a:xfrm>
            <a:off x="-19080" y="6168960"/>
            <a:ext cx="3414600" cy="1170000"/>
          </a:xfrm>
          <a:prstGeom prst="rect">
            <a:avLst/>
          </a:prstGeom>
          <a:ln w="0">
            <a:noFill/>
          </a:ln>
        </p:spPr>
      </p:pic>
      <p:sp>
        <p:nvSpPr>
          <p:cNvPr id="9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32" name="PlaceHolder 3"/>
          <p:cNvSpPr>
            <a:spLocks noGrp="1"/>
          </p:cNvSpPr>
          <p:nvPr>
            <p:ph type="dt" idx="5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3" name="PlaceHolder 4"/>
          <p:cNvSpPr>
            <a:spLocks noGrp="1"/>
          </p:cNvSpPr>
          <p:nvPr>
            <p:ph type="ftr" idx="6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4" name="PlaceHolder 5"/>
          <p:cNvSpPr>
            <a:spLocks noGrp="1"/>
          </p:cNvSpPr>
          <p:nvPr>
            <p:ph type="sldNum" idx="6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3CE3D-818B-46A4-B1D2-B7BCCB52A2D4}"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7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73" name="PlaceHolder 3"/>
          <p:cNvSpPr>
            <a:spLocks noGrp="1"/>
          </p:cNvSpPr>
          <p:nvPr>
            <p:ph type="dt" idx="6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4" name="PlaceHolder 4"/>
          <p:cNvSpPr>
            <a:spLocks noGrp="1"/>
          </p:cNvSpPr>
          <p:nvPr>
            <p:ph type="ftr" idx="6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5" name="PlaceHolder 5"/>
          <p:cNvSpPr>
            <a:spLocks noGrp="1"/>
          </p:cNvSpPr>
          <p:nvPr>
            <p:ph type="sldNum" idx="6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51CAB-189A-4CCD-B812-DB5AD360FB2C}"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2"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3"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14" name="Pravokotni trikotnik 15"/>
          <p:cNvGrpSpPr/>
          <p:nvPr/>
        </p:nvGrpSpPr>
        <p:grpSpPr>
          <a:xfrm>
            <a:off x="-6480" y="6175440"/>
            <a:ext cx="3402000" cy="1152360"/>
            <a:chOff x="-6480" y="6175440"/>
            <a:chExt cx="3402000" cy="1152360"/>
          </a:xfrm>
        </p:grpSpPr>
        <p:pic>
          <p:nvPicPr>
            <p:cNvPr id="1015" name="Pravokotni trikotnik 15" descr=""/>
            <p:cNvPicPr/>
            <p:nvPr/>
          </p:nvPicPr>
          <p:blipFill>
            <a:blip r:embed="rId3"/>
            <a:stretch/>
          </p:blipFill>
          <p:spPr>
            <a:xfrm>
              <a:off x="-6480" y="6175440"/>
              <a:ext cx="3402000" cy="1152360"/>
            </a:xfrm>
            <a:prstGeom prst="rect">
              <a:avLst/>
            </a:prstGeom>
            <a:ln w="0">
              <a:noFill/>
            </a:ln>
          </p:spPr>
        </p:pic>
        <p:sp>
          <p:nvSpPr>
            <p:cNvPr id="101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17" name="Raven povezovalnik 16" descr=""/>
          <p:cNvPicPr/>
          <p:nvPr/>
        </p:nvPicPr>
        <p:blipFill>
          <a:blip r:embed="rId4"/>
          <a:stretch/>
        </p:blipFill>
        <p:spPr>
          <a:xfrm>
            <a:off x="-19080" y="6168960"/>
            <a:ext cx="3414600" cy="1170000"/>
          </a:xfrm>
          <a:prstGeom prst="rect">
            <a:avLst/>
          </a:prstGeom>
          <a:ln w="0">
            <a:noFill/>
          </a:ln>
        </p:spPr>
      </p:pic>
      <p:sp>
        <p:nvSpPr>
          <p:cNvPr id="1018"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9"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2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22" name="PlaceHolder 3"/>
          <p:cNvSpPr>
            <a:spLocks noGrp="1"/>
          </p:cNvSpPr>
          <p:nvPr>
            <p:ph type="dt" idx="6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3" name="PlaceHolder 4"/>
          <p:cNvSpPr>
            <a:spLocks noGrp="1"/>
          </p:cNvSpPr>
          <p:nvPr>
            <p:ph type="ftr" idx="6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4" name="PlaceHolder 5"/>
          <p:cNvSpPr>
            <a:spLocks noGrp="1"/>
          </p:cNvSpPr>
          <p:nvPr>
            <p:ph type="sldNum" idx="6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A9585-E7D6-4A94-B314-7D5B02AA64D2}"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2"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63" name="Pravokotni trikotnik 13"/>
          <p:cNvGrpSpPr/>
          <p:nvPr/>
        </p:nvGrpSpPr>
        <p:grpSpPr>
          <a:xfrm>
            <a:off x="-6480" y="6175440"/>
            <a:ext cx="3402000" cy="1152360"/>
            <a:chOff x="-6480" y="6175440"/>
            <a:chExt cx="3402000" cy="1152360"/>
          </a:xfrm>
        </p:grpSpPr>
        <p:pic>
          <p:nvPicPr>
            <p:cNvPr id="1064" name="Pravokotni trikotnik 13" descr=""/>
            <p:cNvPicPr/>
            <p:nvPr/>
          </p:nvPicPr>
          <p:blipFill>
            <a:blip r:embed="rId2"/>
            <a:stretch/>
          </p:blipFill>
          <p:spPr>
            <a:xfrm>
              <a:off x="-6480" y="6175440"/>
              <a:ext cx="3402000" cy="1152360"/>
            </a:xfrm>
            <a:prstGeom prst="rect">
              <a:avLst/>
            </a:prstGeom>
            <a:ln w="0">
              <a:noFill/>
            </a:ln>
          </p:spPr>
        </p:pic>
        <p:sp>
          <p:nvSpPr>
            <p:cNvPr id="106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66" name="Raven povezovalnik 14" descr=""/>
          <p:cNvPicPr/>
          <p:nvPr/>
        </p:nvPicPr>
        <p:blipFill>
          <a:blip r:embed="rId3"/>
          <a:stretch/>
        </p:blipFill>
        <p:spPr>
          <a:xfrm>
            <a:off x="-19080" y="6168960"/>
            <a:ext cx="3414600" cy="1170000"/>
          </a:xfrm>
          <a:prstGeom prst="rect">
            <a:avLst/>
          </a:prstGeom>
          <a:ln w="0">
            <a:noFill/>
          </a:ln>
        </p:spPr>
      </p:pic>
      <p:sp>
        <p:nvSpPr>
          <p:cNvPr id="10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6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69" name="PlaceHolder 3"/>
          <p:cNvSpPr>
            <a:spLocks noGrp="1"/>
          </p:cNvSpPr>
          <p:nvPr>
            <p:ph type="dt" idx="6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0" name="PlaceHolder 4"/>
          <p:cNvSpPr>
            <a:spLocks noGrp="1"/>
          </p:cNvSpPr>
          <p:nvPr>
            <p:ph type="ftr" idx="6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1" name="PlaceHolder 5"/>
          <p:cNvSpPr>
            <a:spLocks noGrp="1"/>
          </p:cNvSpPr>
          <p:nvPr>
            <p:ph type="sldNum" idx="7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22F93-6EA6-493E-9809-242B09C183E0}"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110" name="Pravokotni trikotnik 13"/>
          <p:cNvGrpSpPr/>
          <p:nvPr/>
        </p:nvGrpSpPr>
        <p:grpSpPr>
          <a:xfrm>
            <a:off x="-6480" y="6175440"/>
            <a:ext cx="3402000" cy="1152360"/>
            <a:chOff x="-6480" y="6175440"/>
            <a:chExt cx="3402000" cy="1152360"/>
          </a:xfrm>
        </p:grpSpPr>
        <p:pic>
          <p:nvPicPr>
            <p:cNvPr id="1111" name="Pravokotni trikotnik 13" descr=""/>
            <p:cNvPicPr/>
            <p:nvPr/>
          </p:nvPicPr>
          <p:blipFill>
            <a:blip r:embed="rId2"/>
            <a:stretch/>
          </p:blipFill>
          <p:spPr>
            <a:xfrm>
              <a:off x="-6480" y="6175440"/>
              <a:ext cx="3402000" cy="1152360"/>
            </a:xfrm>
            <a:prstGeom prst="rect">
              <a:avLst/>
            </a:prstGeom>
            <a:ln w="0">
              <a:noFill/>
            </a:ln>
          </p:spPr>
        </p:pic>
        <p:sp>
          <p:nvSpPr>
            <p:cNvPr id="111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113" name="Raven povezovalnik 14" descr=""/>
          <p:cNvPicPr/>
          <p:nvPr/>
        </p:nvPicPr>
        <p:blipFill>
          <a:blip r:embed="rId3"/>
          <a:stretch/>
        </p:blipFill>
        <p:spPr>
          <a:xfrm>
            <a:off x="-19080" y="6168960"/>
            <a:ext cx="3414600" cy="1170000"/>
          </a:xfrm>
          <a:prstGeom prst="rect">
            <a:avLst/>
          </a:prstGeom>
          <a:ln w="0">
            <a:noFill/>
          </a:ln>
        </p:spPr>
      </p:pic>
      <p:sp>
        <p:nvSpPr>
          <p:cNvPr id="1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11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116" name="PlaceHolder 3"/>
          <p:cNvSpPr>
            <a:spLocks noGrp="1"/>
          </p:cNvSpPr>
          <p:nvPr>
            <p:ph type="dt" idx="7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7" name="PlaceHolder 4"/>
          <p:cNvSpPr>
            <a:spLocks noGrp="1"/>
          </p:cNvSpPr>
          <p:nvPr>
            <p:ph type="ftr" idx="7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8" name="PlaceHolder 5"/>
          <p:cNvSpPr>
            <a:spLocks noGrp="1"/>
          </p:cNvSpPr>
          <p:nvPr>
            <p:ph type="sldNum" idx="7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465C8-FCC1-45EB-A4DB-BA8E8655FECB}"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8" name="Pravokotni trikotnik 13"/>
          <p:cNvGrpSpPr/>
          <p:nvPr/>
        </p:nvGrpSpPr>
        <p:grpSpPr>
          <a:xfrm>
            <a:off x="-6480" y="6175440"/>
            <a:ext cx="3402000" cy="1152360"/>
            <a:chOff x="-6480" y="6175440"/>
            <a:chExt cx="3402000" cy="1152360"/>
          </a:xfrm>
        </p:grpSpPr>
        <p:pic>
          <p:nvPicPr>
            <p:cNvPr id="89" name="Pravokotni trikotnik 13" descr=""/>
            <p:cNvPicPr/>
            <p:nvPr/>
          </p:nvPicPr>
          <p:blipFill>
            <a:blip r:embed="rId2"/>
            <a:stretch/>
          </p:blipFill>
          <p:spPr>
            <a:xfrm>
              <a:off x="-6480" y="6175440"/>
              <a:ext cx="3402000" cy="1152360"/>
            </a:xfrm>
            <a:prstGeom prst="rect">
              <a:avLst/>
            </a:prstGeom>
            <a:ln w="0">
              <a:noFill/>
            </a:ln>
          </p:spPr>
        </p:pic>
        <p:sp>
          <p:nvSpPr>
            <p:cNvPr id="9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1" name="Raven povezovalnik 14" descr=""/>
          <p:cNvPicPr/>
          <p:nvPr/>
        </p:nvPicPr>
        <p:blipFill>
          <a:blip r:embed="rId3"/>
          <a:stretch/>
        </p:blipFill>
        <p:spPr>
          <a:xfrm>
            <a:off x="-19080" y="6168960"/>
            <a:ext cx="3414600" cy="1170000"/>
          </a:xfrm>
          <a:prstGeom prst="rect">
            <a:avLst/>
          </a:prstGeom>
          <a:ln w="0">
            <a:noFill/>
          </a:ln>
        </p:spPr>
      </p:pic>
      <p:sp>
        <p:nvSpPr>
          <p:cNvPr id="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4" name="PlaceHolder 3"/>
          <p:cNvSpPr>
            <a:spLocks noGrp="1"/>
          </p:cNvSpPr>
          <p:nvPr>
            <p:ph type="dt" idx="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type="ftr" idx="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5"/>
          <p:cNvSpPr>
            <a:spLocks noGrp="1"/>
          </p:cNvSpPr>
          <p:nvPr>
            <p:ph type="sldNum" idx="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F6DFB-2B0E-4B63-A579-274021E2CF63}"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4" name="Skupina 15"/>
          <p:cNvGrpSpPr/>
          <p:nvPr/>
        </p:nvGrpSpPr>
        <p:grpSpPr>
          <a:xfrm>
            <a:off x="-3240" y="5283360"/>
            <a:ext cx="9147240" cy="2039760"/>
            <a:chOff x="-3240" y="5283360"/>
            <a:chExt cx="9147240" cy="2039760"/>
          </a:xfrm>
        </p:grpSpPr>
        <p:sp>
          <p:nvSpPr>
            <p:cNvPr id="135"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37" name="Prostoročno 18"/>
            <p:cNvGrpSpPr/>
            <p:nvPr/>
          </p:nvGrpSpPr>
          <p:grpSpPr>
            <a:xfrm>
              <a:off x="8640" y="5334120"/>
              <a:ext cx="9135360" cy="1989000"/>
              <a:chOff x="8640" y="5334120"/>
              <a:chExt cx="9135360" cy="1989000"/>
            </a:xfrm>
          </p:grpSpPr>
          <p:pic>
            <p:nvPicPr>
              <p:cNvPr id="138" name="Prostoročno 18" descr=""/>
              <p:cNvPicPr/>
              <p:nvPr/>
            </p:nvPicPr>
            <p:blipFill>
              <a:blip r:embed="rId2"/>
              <a:stretch/>
            </p:blipFill>
            <p:spPr>
              <a:xfrm>
                <a:off x="8640" y="5334120"/>
                <a:ext cx="9135360" cy="1989000"/>
              </a:xfrm>
              <a:prstGeom prst="rect">
                <a:avLst/>
              </a:prstGeom>
              <a:ln w="0">
                <a:noFill/>
              </a:ln>
            </p:spPr>
          </p:pic>
          <p:sp>
            <p:nvSpPr>
              <p:cNvPr id="139"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40" name="Raven povezovalnik 19" descr=""/>
            <p:cNvPicPr/>
            <p:nvPr/>
          </p:nvPicPr>
          <p:blipFill>
            <a:blip r:embed="rId3"/>
            <a:stretch/>
          </p:blipFill>
          <p:spPr>
            <a:xfrm>
              <a:off x="-3240" y="5321880"/>
              <a:ext cx="9147240" cy="860040"/>
            </a:xfrm>
            <a:prstGeom prst="rect">
              <a:avLst/>
            </a:prstGeom>
            <a:ln w="0">
              <a:noFill/>
            </a:ln>
          </p:spPr>
        </p:pic>
      </p:grpSp>
      <p:sp>
        <p:nvSpPr>
          <p:cNvPr id="1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43" name="PlaceHolder 3"/>
          <p:cNvSpPr>
            <a:spLocks noGrp="1"/>
          </p:cNvSpPr>
          <p:nvPr>
            <p:ph type="dt" idx="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4"/>
          <p:cNvSpPr>
            <a:spLocks noGrp="1"/>
          </p:cNvSpPr>
          <p:nvPr>
            <p:ph type="ftr" idx="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5"/>
          <p:cNvSpPr>
            <a:spLocks noGrp="1"/>
          </p:cNvSpPr>
          <p:nvPr>
            <p:ph type="sldNum" idx="1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79C07-A008-42E1-B66E-C0064A001A33}"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3"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84" name="Pravokotni trikotnik 13"/>
          <p:cNvGrpSpPr/>
          <p:nvPr/>
        </p:nvGrpSpPr>
        <p:grpSpPr>
          <a:xfrm>
            <a:off x="-6480" y="6175440"/>
            <a:ext cx="3402000" cy="1152360"/>
            <a:chOff x="-6480" y="6175440"/>
            <a:chExt cx="3402000" cy="1152360"/>
          </a:xfrm>
        </p:grpSpPr>
        <p:pic>
          <p:nvPicPr>
            <p:cNvPr id="185" name="Pravokotni trikotnik 13" descr=""/>
            <p:cNvPicPr/>
            <p:nvPr/>
          </p:nvPicPr>
          <p:blipFill>
            <a:blip r:embed="rId2"/>
            <a:stretch/>
          </p:blipFill>
          <p:spPr>
            <a:xfrm>
              <a:off x="-6480" y="6175440"/>
              <a:ext cx="3402000" cy="1152360"/>
            </a:xfrm>
            <a:prstGeom prst="rect">
              <a:avLst/>
            </a:prstGeom>
            <a:ln w="0">
              <a:noFill/>
            </a:ln>
          </p:spPr>
        </p:pic>
        <p:sp>
          <p:nvSpPr>
            <p:cNvPr id="18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87" name="Raven povezovalnik 14" descr=""/>
          <p:cNvPicPr/>
          <p:nvPr/>
        </p:nvPicPr>
        <p:blipFill>
          <a:blip r:embed="rId3"/>
          <a:stretch/>
        </p:blipFill>
        <p:spPr>
          <a:xfrm>
            <a:off x="-19080" y="6168960"/>
            <a:ext cx="3414600" cy="1170000"/>
          </a:xfrm>
          <a:prstGeom prst="rect">
            <a:avLst/>
          </a:prstGeom>
          <a:ln w="0">
            <a:noFill/>
          </a:ln>
        </p:spPr>
      </p:pic>
      <p:sp>
        <p:nvSpPr>
          <p:cNvPr id="1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8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0" name="PlaceHolder 3"/>
          <p:cNvSpPr>
            <a:spLocks noGrp="1"/>
          </p:cNvSpPr>
          <p:nvPr>
            <p:ph type="dt" idx="1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PlaceHolder 4"/>
          <p:cNvSpPr>
            <a:spLocks noGrp="1"/>
          </p:cNvSpPr>
          <p:nvPr>
            <p:ph type="ftr" idx="1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5"/>
          <p:cNvSpPr>
            <a:spLocks noGrp="1"/>
          </p:cNvSpPr>
          <p:nvPr>
            <p:ph type="sldNum" idx="1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F3F4B-9DB2-42DA-8D9A-64CE39645EB7}"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31" name="Pravokotni trikotnik 13"/>
          <p:cNvGrpSpPr/>
          <p:nvPr/>
        </p:nvGrpSpPr>
        <p:grpSpPr>
          <a:xfrm>
            <a:off x="-6480" y="6175440"/>
            <a:ext cx="3402000" cy="1152360"/>
            <a:chOff x="-6480" y="6175440"/>
            <a:chExt cx="3402000" cy="1152360"/>
          </a:xfrm>
        </p:grpSpPr>
        <p:pic>
          <p:nvPicPr>
            <p:cNvPr id="232" name="Pravokotni trikotnik 13" descr=""/>
            <p:cNvPicPr/>
            <p:nvPr/>
          </p:nvPicPr>
          <p:blipFill>
            <a:blip r:embed="rId3"/>
            <a:stretch/>
          </p:blipFill>
          <p:spPr>
            <a:xfrm>
              <a:off x="-6480" y="6175440"/>
              <a:ext cx="3402000" cy="1152360"/>
            </a:xfrm>
            <a:prstGeom prst="rect">
              <a:avLst/>
            </a:prstGeom>
            <a:ln w="0">
              <a:noFill/>
            </a:ln>
          </p:spPr>
        </p:pic>
        <p:sp>
          <p:nvSpPr>
            <p:cNvPr id="23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34" name="Raven povezovalnik 14" descr=""/>
          <p:cNvPicPr/>
          <p:nvPr/>
        </p:nvPicPr>
        <p:blipFill>
          <a:blip r:embed="rId4"/>
          <a:stretch/>
        </p:blipFill>
        <p:spPr>
          <a:xfrm>
            <a:off x="-19080" y="6168960"/>
            <a:ext cx="3414600" cy="1170000"/>
          </a:xfrm>
          <a:prstGeom prst="rect">
            <a:avLst/>
          </a:prstGeom>
          <a:ln w="0">
            <a:noFill/>
          </a:ln>
        </p:spPr>
      </p:pic>
      <p:sp>
        <p:nvSpPr>
          <p:cNvPr id="235"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3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39" name="PlaceHolder 3"/>
          <p:cNvSpPr>
            <a:spLocks noGrp="1"/>
          </p:cNvSpPr>
          <p:nvPr>
            <p:ph type="dt" idx="1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4"/>
          <p:cNvSpPr>
            <a:spLocks noGrp="1"/>
          </p:cNvSpPr>
          <p:nvPr>
            <p:ph type="ftr" idx="1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5"/>
          <p:cNvSpPr>
            <a:spLocks noGrp="1"/>
          </p:cNvSpPr>
          <p:nvPr>
            <p:ph type="sldNum" idx="1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99510-B30D-4656-82D2-C22417FFAA02}"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80" name="Pravokotni trikotnik 13"/>
          <p:cNvGrpSpPr/>
          <p:nvPr/>
        </p:nvGrpSpPr>
        <p:grpSpPr>
          <a:xfrm>
            <a:off x="-6480" y="6175440"/>
            <a:ext cx="3402000" cy="1152360"/>
            <a:chOff x="-6480" y="6175440"/>
            <a:chExt cx="3402000" cy="1152360"/>
          </a:xfrm>
        </p:grpSpPr>
        <p:pic>
          <p:nvPicPr>
            <p:cNvPr id="281" name="Pravokotni trikotnik 13" descr=""/>
            <p:cNvPicPr/>
            <p:nvPr/>
          </p:nvPicPr>
          <p:blipFill>
            <a:blip r:embed="rId3"/>
            <a:stretch/>
          </p:blipFill>
          <p:spPr>
            <a:xfrm>
              <a:off x="-6480" y="6175440"/>
              <a:ext cx="3402000" cy="1152360"/>
            </a:xfrm>
            <a:prstGeom prst="rect">
              <a:avLst/>
            </a:prstGeom>
            <a:ln w="0">
              <a:noFill/>
            </a:ln>
          </p:spPr>
        </p:pic>
        <p:sp>
          <p:nvSpPr>
            <p:cNvPr id="28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83" name="Raven povezovalnik 14" descr=""/>
          <p:cNvPicPr/>
          <p:nvPr/>
        </p:nvPicPr>
        <p:blipFill>
          <a:blip r:embed="rId4"/>
          <a:stretch/>
        </p:blipFill>
        <p:spPr>
          <a:xfrm>
            <a:off x="-19080" y="6168960"/>
            <a:ext cx="3414600" cy="1170000"/>
          </a:xfrm>
          <a:prstGeom prst="rect">
            <a:avLst/>
          </a:prstGeom>
          <a:ln w="0">
            <a:noFill/>
          </a:ln>
        </p:spPr>
      </p:pic>
      <p:sp>
        <p:nvSpPr>
          <p:cNvPr id="2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8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86" name="PlaceHolder 3"/>
          <p:cNvSpPr>
            <a:spLocks noGrp="1"/>
          </p:cNvSpPr>
          <p:nvPr>
            <p:ph type="dt" idx="1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PlaceHolder 4"/>
          <p:cNvSpPr>
            <a:spLocks noGrp="1"/>
          </p:cNvSpPr>
          <p:nvPr>
            <p:ph type="ftr" idx="1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PlaceHolder 5"/>
          <p:cNvSpPr>
            <a:spLocks noGrp="1"/>
          </p:cNvSpPr>
          <p:nvPr>
            <p:ph type="sldNum" idx="1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DA40A-4BE4-49BA-B278-6C84E847FB85}"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2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27" name="PlaceHolder 3"/>
          <p:cNvSpPr>
            <a:spLocks noGrp="1"/>
          </p:cNvSpPr>
          <p:nvPr>
            <p:ph type="dt" idx="2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4"/>
          <p:cNvSpPr>
            <a:spLocks noGrp="1"/>
          </p:cNvSpPr>
          <p:nvPr>
            <p:ph type="ftr" idx="2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5"/>
          <p:cNvSpPr>
            <a:spLocks noGrp="1"/>
          </p:cNvSpPr>
          <p:nvPr>
            <p:ph type="sldNum" idx="2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21AAB-2B1D-44B7-951C-A6EB5714D7B1}"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368" name="Pravokotni trikotnik 13"/>
          <p:cNvGrpSpPr/>
          <p:nvPr/>
        </p:nvGrpSpPr>
        <p:grpSpPr>
          <a:xfrm>
            <a:off x="-6480" y="6175440"/>
            <a:ext cx="3402000" cy="1152360"/>
            <a:chOff x="-6480" y="6175440"/>
            <a:chExt cx="3402000" cy="1152360"/>
          </a:xfrm>
        </p:grpSpPr>
        <p:pic>
          <p:nvPicPr>
            <p:cNvPr id="369" name="Pravokotni trikotnik 13" descr=""/>
            <p:cNvPicPr/>
            <p:nvPr/>
          </p:nvPicPr>
          <p:blipFill>
            <a:blip r:embed="rId3"/>
            <a:stretch/>
          </p:blipFill>
          <p:spPr>
            <a:xfrm>
              <a:off x="-6480" y="6175440"/>
              <a:ext cx="3402000" cy="1152360"/>
            </a:xfrm>
            <a:prstGeom prst="rect">
              <a:avLst/>
            </a:prstGeom>
            <a:ln w="0">
              <a:noFill/>
            </a:ln>
          </p:spPr>
        </p:pic>
        <p:sp>
          <p:nvSpPr>
            <p:cNvPr id="37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371" name="Raven povezovalnik 14" descr=""/>
          <p:cNvPicPr/>
          <p:nvPr/>
        </p:nvPicPr>
        <p:blipFill>
          <a:blip r:embed="rId4"/>
          <a:stretch/>
        </p:blipFill>
        <p:spPr>
          <a:xfrm>
            <a:off x="-19080" y="6168960"/>
            <a:ext cx="3414600" cy="1170000"/>
          </a:xfrm>
          <a:prstGeom prst="rect">
            <a:avLst/>
          </a:prstGeom>
          <a:ln w="0">
            <a:noFill/>
          </a:ln>
        </p:spPr>
      </p:pic>
      <p:sp>
        <p:nvSpPr>
          <p:cNvPr id="3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7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74" name="PlaceHolder 3"/>
          <p:cNvSpPr>
            <a:spLocks noGrp="1"/>
          </p:cNvSpPr>
          <p:nvPr>
            <p:ph type="dt" idx="2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4"/>
          <p:cNvSpPr>
            <a:spLocks noGrp="1"/>
          </p:cNvSpPr>
          <p:nvPr>
            <p:ph type="ftr" idx="2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5"/>
          <p:cNvSpPr>
            <a:spLocks noGrp="1"/>
          </p:cNvSpPr>
          <p:nvPr>
            <p:ph type="sldNum" idx="2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D0D7F-6799-45DE-ABD1-0FC043D116A6}"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2" name="Picture 1" descr=""/>
          <p:cNvPicPr/>
          <p:nvPr/>
        </p:nvPicPr>
        <p:blipFill>
          <a:blip r:embed="rId2"/>
          <a:stretch/>
        </p:blipFill>
        <p:spPr>
          <a:xfrm>
            <a:off x="4680" y="0"/>
            <a:ext cx="9134640" cy="7315200"/>
          </a:xfrm>
          <a:prstGeom prst="rect">
            <a:avLst/>
          </a:prstGeom>
          <a:ln w="0">
            <a:noFill/>
          </a:ln>
        </p:spPr>
      </p:pic>
      <p:pic>
        <p:nvPicPr>
          <p:cNvPr id="1163" name="Picture 2" descr=""/>
          <p:cNvPicPr/>
          <p:nvPr/>
        </p:nvPicPr>
        <p:blipFill>
          <a:blip r:embed="rId3"/>
          <a:stretch/>
        </p:blipFill>
        <p:spPr>
          <a:xfrm>
            <a:off x="-3240" y="-12600"/>
            <a:ext cx="9134640" cy="7315200"/>
          </a:xfrm>
          <a:prstGeom prst="rect">
            <a:avLst/>
          </a:prstGeom>
          <a:ln w="0">
            <a:noFill/>
          </a:ln>
        </p:spPr>
      </p:pic>
      <p:pic>
        <p:nvPicPr>
          <p:cNvPr id="1164" name="Picture 3" descr=""/>
          <p:cNvPicPr/>
          <p:nvPr/>
        </p:nvPicPr>
        <p:blipFill>
          <a:blip r:embed="rId4"/>
          <a:stretch/>
        </p:blipFill>
        <p:spPr>
          <a:xfrm>
            <a:off x="457200" y="777960"/>
            <a:ext cx="4114800" cy="725400"/>
          </a:xfrm>
          <a:prstGeom prst="rect">
            <a:avLst/>
          </a:prstGeom>
          <a:ln w="0">
            <a:noFill/>
          </a:ln>
        </p:spPr>
      </p:pic>
      <p:sp>
        <p:nvSpPr>
          <p:cNvPr id="1165" name="Rectangle 4"/>
          <p:cNvSpPr/>
          <p:nvPr/>
        </p:nvSpPr>
        <p:spPr>
          <a:xfrm>
            <a:off x="1328760" y="2505240"/>
            <a:ext cx="6108840" cy="35812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PREDSTAVITEV IZVAJANJA NAČRT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VREDNOTNEJA OPERATIVNEGA PROGRAM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RAZVOJA ČLOVEŠKIH VIROV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ZA OBDOBJE 2007-2013</a:t>
            </a:r>
            <a:endParaRPr b="0" lang="en-US" sz="24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en-US" sz="2400" spc="-1" strike="noStrike">
                <a:solidFill>
                  <a:srgbClr val="000000"/>
                </a:solidFill>
                <a:latin typeface="Arial"/>
              </a:rPr>
              <a:t>Ljubljana, 2</a:t>
            </a:r>
            <a:r>
              <a:rPr b="0" lang="sl-SI" sz="2400" spc="-1" strike="noStrike">
                <a:solidFill>
                  <a:srgbClr val="000000"/>
                </a:solidFill>
                <a:latin typeface="Arial"/>
              </a:rPr>
              <a:t>8</a:t>
            </a:r>
            <a:r>
              <a:rPr b="0" lang="en-US" sz="2400" spc="-1" strike="noStrike">
                <a:solidFill>
                  <a:srgbClr val="000000"/>
                </a:solidFill>
                <a:latin typeface="Arial"/>
              </a:rPr>
              <a:t>.5.201</a:t>
            </a:r>
            <a:r>
              <a:rPr b="0" lang="sl-SI" sz="2400" spc="-1" strike="noStrike">
                <a:solidFill>
                  <a:srgbClr val="000000"/>
                </a:solidFill>
                <a:latin typeface="Arial"/>
              </a:rPr>
              <a:t>4</a:t>
            </a:r>
            <a:br>
              <a:rPr sz="2400"/>
            </a:b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
          <p:cNvSpPr txBox="1"/>
          <p:nvPr/>
        </p:nvSpPr>
        <p:spPr>
          <a:xfrm>
            <a:off x="822240" y="1569960"/>
            <a:ext cx="7521840" cy="3422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ajanja načrta</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edenih vrednotenj oz. vrednotenj v teku</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OU</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Znotraj projektov upravičencev</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1167"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1D5F9-FCEB-4006-B78A-7C5472423C2F}" type="slidenum">
              <a:rPr b="0" lang="sl-SI"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68" name="Naslov 1" descr=""/>
          <p:cNvPicPr/>
          <p:nvPr/>
        </p:nvPicPr>
        <p:blipFill>
          <a:blip r:embed="rId1"/>
          <a:stretch/>
        </p:blipFill>
        <p:spPr>
          <a:xfrm>
            <a:off x="274680" y="291960"/>
            <a:ext cx="8412120" cy="1219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
          <p:cNvSpPr txBox="1"/>
          <p:nvPr/>
        </p:nvSpPr>
        <p:spPr>
          <a:xfrm>
            <a:off x="394920" y="1496520"/>
            <a:ext cx="8497800" cy="5148360"/>
          </a:xfrm>
          <a:prstGeom prst="rect">
            <a:avLst/>
          </a:prstGeom>
          <a:noFill/>
          <a:ln w="0">
            <a:noFill/>
          </a:ln>
        </p:spPr>
        <p:txBody>
          <a:bodyPr anchor="t">
            <a:normAutofit/>
          </a:bodyPr>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javnega razpisa za sofinanciranje projektov horizontalnih NVO mrež in regionalnih stičišč za leto 2008</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razpisa za izbor razvojnih projektov za dvig zaposljivosti ranljivih družbenih skupin na področju kulture in podporo njihovi socialni vključenosti v letih 2008-2009 s pripravo poročil za nadaljnje izvajanje aktivnosti za doseganje ciljev prednostne usmeritve 4.3. v OP RČV</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1. in 2. prednostne usmeritve Izboljšanje kakovosti in učinkovitosti sistemov izobraževanja in usposabljanja ter Izboljšanje usposobljenosti posameznika za delo in življenje v družbi temelječi na znanju 3. Razvojne prioritete OP ESS Razvoj človeških virov in vseživljenjskega učenj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CE"/>
              </a:rPr>
              <a:t>Vmesno vrednotenje komunikacijskega načrta cilja Konvergenc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prednostnih usmeritev s področja trga dela, ki jih v okviru OP RČV izvaja Ministrstvo za delo, družino in socialne zadeve</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1170"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67FE8-C1E7-4306-8413-0C73F9A19EBA}"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1" name="Naslov 1" descr=""/>
          <p:cNvPicPr/>
          <p:nvPr/>
        </p:nvPicPr>
        <p:blipFill>
          <a:blip r:embed="rId1"/>
          <a:stretch/>
        </p:blipFill>
        <p:spPr>
          <a:xfrm>
            <a:off x="500040" y="225360"/>
            <a:ext cx="8034480" cy="140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
          <p:cNvSpPr txBox="1"/>
          <p:nvPr/>
        </p:nvSpPr>
        <p:spPr>
          <a:xfrm>
            <a:off x="457200" y="1579680"/>
            <a:ext cx="8229600" cy="482760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ukrepov za spodbujanje raziskovalno razvojnih aktivnosti v gospodarstvu in institucijah znanja (ESRR&amp;ESS)</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CRP PROJEKT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Institucionalna evalvacija Zavoda RS za zaposlovanje</a:t>
            </a: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največjih programov aktivne politike zaposlovanja, vključno z ukrepi proti gospodarski in finančni kriz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sp>
        <p:nvSpPr>
          <p:cNvPr id="1173"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9B9F8-50E3-49D0-8B3A-AD39FD193C10}"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
          <p:cNvSpPr txBox="1"/>
          <p:nvPr/>
        </p:nvSpPr>
        <p:spPr>
          <a:xfrm>
            <a:off x="108000" y="1174680"/>
            <a:ext cx="9036000" cy="4786560"/>
          </a:xfrm>
          <a:prstGeom prst="rect">
            <a:avLst/>
          </a:prstGeom>
          <a:noFill/>
          <a:ln w="0">
            <a:noFill/>
          </a:ln>
        </p:spPr>
        <p:txBody>
          <a:bodyPr anchor="t">
            <a:normAutofit fontScale="87000"/>
          </a:bodyPr>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4. RP </a:t>
            </a:r>
            <a:endParaRPr b="0" lang="en-US" sz="16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treznost: V kakšni meri cilji prednostnih usmeritev vsebinsko prispevajo k strateškim ciljem OP RČV in k ciljem NSRO? Ali so instrumenti predstavljali primeren odziv na spremenjene družbeno gospodarske razmere?  Ali so pokrita vsa ključna področja socialne vključenosti in enakosti možnosti glede na možnosti, ki izhajajo iz OP?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Skladnost: V kakšni meri izvajane aktivnosti prispevajo k splošnim ciljem OP RČV? Ali so instrumenti sledili postavljenim strategijam na nacionalni in na EU ravni?Koliko in kako se instrumenti dopolnjujejo z drugimi politikami razvoja človeških virov (predvsem na področju trga dela, izobraževanja in kulture)?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pešnost: Kateri so bili dejavniki vpliva na uspešnost doseganja teh ciljev? Kje je prišlo do odklonov od zastavljenih ciljev in zakaj in kako bi bilo mogoče doseči večjo uspešnost?  Kakšna so priporočila za bodoče izvajanje? Kako uspešno je izvajanje iz vidika ciljnih skupin/posameznikov?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činkovitost: 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V kolikšni meri regionalna razpršenost končnih upravičencev odraža regionalne potrebe (tudi vsebinsko)? V kolikšni meri so se programi socialnega vključevanja izvajali regionalno? Vpliv programov na razvoj NVO sektorja (pri relevantnih programih).</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Trajnost: Kakšni so konkretni vplivi operacij, še posebej iz vidika zaposljivosti vključenosti ciljnih skupin? Kako je vključenost v operacijo vplivala na posameznika? Kako bi morali biti oblikovani instrumenti, da bi se dosegla večja trajnost projektov? Kako je s projekti po prekinitvi financiranja?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PU 5.1, 5.3 in 5.4</a:t>
            </a:r>
            <a:endParaRPr b="0" lang="en-US" sz="16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treznost: </a:t>
            </a:r>
            <a:r>
              <a:rPr b="0" lang="sl-SI" sz="1100" spc="-1" strike="noStrike">
                <a:solidFill>
                  <a:srgbClr val="000000"/>
                </a:solidFill>
                <a:latin typeface="Arial"/>
                <a:ea typeface="Calibri"/>
              </a:rPr>
              <a:t>V kakšni meri cilji prednostnih usmeritev vsebinsko prispevajo k strateškim ciljem OP RČV in k ciljem NSRO? Ali so instrumenti predstavljali primeren odziv na ključne potreb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Calibri"/>
              </a:rPr>
              <a:t>Skladnost: V kakšni meri izvajane aktivnosti prispevajo k splošnim ciljem OP RČV? Ali so instrumenti sledili postavljenim strategijam na nacionalni in na EU ravni? Koliko in kako se instrumenti dopolnjujejo z drugimi politikami razvoja človeških virov (predvsem na področju konkurenčnosti)?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pešnost: </a:t>
            </a:r>
            <a:r>
              <a:rPr b="0" lang="sl-SI" sz="1100" spc="-1" strike="noStrike">
                <a:solidFill>
                  <a:srgbClr val="000000"/>
                </a:solidFill>
                <a:latin typeface="Arial"/>
                <a:ea typeface="Calibri"/>
              </a:rPr>
              <a:t>Kateri so bili dejavniki vpliva na uspešnost doseganja teh ciljev? Kje je prišlo do odklonov od zastavljenih ciljev in zakaj in kako bi bilo mogoče doseči večjo uspešnost?  Kakšna so priporočila za bodoče izvajanj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činkovitost:</a:t>
            </a:r>
            <a:r>
              <a:rPr b="0" lang="sl-SI" sz="1100" spc="-1" strike="noStrike">
                <a:solidFill>
                  <a:srgbClr val="000000"/>
                </a:solidFill>
                <a:latin typeface="Arial"/>
                <a:ea typeface="Calibri"/>
              </a:rPr>
              <a:t>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Trajnost:</a:t>
            </a:r>
            <a:r>
              <a:rPr b="0" lang="sl-SI" sz="1100" spc="-1" strike="noStrike">
                <a:solidFill>
                  <a:srgbClr val="000000"/>
                </a:solidFill>
                <a:latin typeface="Arial"/>
                <a:ea typeface="Calibri"/>
              </a:rPr>
              <a:t>Kakšni so konkretni vplivi operacij, še posebej iz vidika konkurenčnosti države in gospodarskega okolja? Kako je s projekti po prekinitvi financiranja?</a:t>
            </a:r>
            <a:endParaRPr b="0" lang="en-US" sz="1100" spc="-1" strike="noStrike">
              <a:solidFill>
                <a:srgbClr val="000000"/>
              </a:solidFill>
              <a:latin typeface="Lucida Sans Unicode"/>
            </a:endParaRPr>
          </a:p>
        </p:txBody>
      </p:sp>
      <p:sp>
        <p:nvSpPr>
          <p:cNvPr id="1175"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D1B1F-4881-4517-A48D-F14E10599308}"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6" name="Naslov 1" descr=""/>
          <p:cNvPicPr/>
          <p:nvPr/>
        </p:nvPicPr>
        <p:blipFill>
          <a:blip r:embed="rId1"/>
          <a:stretch/>
        </p:blipFill>
        <p:spPr>
          <a:xfrm>
            <a:off x="639720" y="298440"/>
            <a:ext cx="8034480" cy="92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
          <p:cNvSpPr txBox="1"/>
          <p:nvPr/>
        </p:nvSpPr>
        <p:spPr>
          <a:xfrm>
            <a:off x="457200" y="1579680"/>
            <a:ext cx="8229600" cy="4827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Lucida Sans Unicode"/>
              </a:rPr>
              <a:t>… </a:t>
            </a:r>
            <a:r>
              <a:rPr b="0" lang="sl-SI" sz="2700" spc="-1" strike="noStrike">
                <a:solidFill>
                  <a:srgbClr val="000000"/>
                </a:solidFill>
                <a:latin typeface="Lucida Sans Unicode"/>
              </a:rPr>
              <a:t>vrednotenja v okviru operacij</a:t>
            </a:r>
            <a:endParaRPr b="0" lang="en-US" sz="2700" spc="-1" strike="noStrike">
              <a:solidFill>
                <a:srgbClr val="000000"/>
              </a:solidFill>
              <a:latin typeface="Lucida Sans Unicode"/>
            </a:endParaRPr>
          </a:p>
        </p:txBody>
      </p:sp>
      <p:sp>
        <p:nvSpPr>
          <p:cNvPr id="1178"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04B11-3B2A-49CE-BFF7-2FF29F020607}"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Z</dc:creator>
  <dc:description/>
  <dc:language>en-US</dc:language>
  <cp:lastModifiedBy>Staša Mesec</cp:lastModifiedBy>
  <cp:lastPrinted>2014-05-28T06:42:49Z</cp:lastPrinted>
  <dcterms:modified xsi:type="dcterms:W3CDTF">2014-05-28T12:57:51Z</dcterms:modified>
  <cp:revision>25</cp:revision>
  <dc:subject/>
  <dc:title>Naslov</dc:title>
</cp:coreProperties>
</file>