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169B-8F58-4D00-8AB1-93249A60D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4AEF-ADF3-4C4F-B9CB-5419AE8C8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F36B-4537-4F7A-9ECA-2A603D4D1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F762-D03F-4E5F-8F5B-679F6790A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971E-C360-4800-BBC4-213A00564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F48F-EB13-4473-ADF0-F6205677C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22DC-FEC8-4F97-AE63-BC22F845F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E189-30B3-4AAC-B95F-CDAEBD45C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16F5-A76D-448D-B618-42DF933BC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936D-910A-4B05-98CA-02724C33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DF39-3296-478C-BF43-8A9FEF35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4922-E3C0-4129-9FD3-1BFB6028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Z:\JAVNA UPRAVA 2010\Si CGP\CGP_prirocnik_WEB\OUT\05 Medijsko promocijski elementi\11 PPT predstavitev\untitled folder\ozadje-0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Box 7"/>
          <p:cNvSpPr/>
          <p:nvPr/>
        </p:nvSpPr>
        <p:spPr>
          <a:xfrm>
            <a:off x="961920" y="708120"/>
            <a:ext cx="12049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</a:rPr>
              <a:t>MINISTRSTVO ZA </a:t>
            </a: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FINANCE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URAD REPUBLIKE SLOVENIJE ZA NADZOR PRORAČUN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" name="Picture 8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abab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BD476-E53B-43C7-8589-4123C2DB36EC}" type="datetime">
              <a:rPr b="0" lang="en-US" sz="1200" spc="-1" strike="noStrike">
                <a:solidFill>
                  <a:srgbClr val="bababa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31672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B8B68-F1A1-4F9C-9720-2853CFBD7A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78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Poročilo revizijskega organa</a:t>
            </a: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3908520"/>
            <a:ext cx="640080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8. seja nadzornega odbora 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P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ČV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jubljana, 28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ateja Vetrih</a:t>
            </a:r>
            <a:endParaRPr b="0" lang="en-US" sz="1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55C21-BFEB-4D36-94B5-60842B6D81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786A1-E4DD-4502-8075-098D0B765893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1773360"/>
          <a:ext cx="8229600" cy="4176360"/>
        </p:xfrm>
        <a:graphic>
          <a:graphicData uri="http://schemas.openxmlformats.org/drawingml/2006/table">
            <a:tbl>
              <a:tblPr/>
              <a:tblGrid>
                <a:gridCol w="2027160"/>
                <a:gridCol w="2951280"/>
                <a:gridCol w="3251160"/>
              </a:tblGrid>
              <a:tr h="111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rativni program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tevilo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OPERACIJ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ki so imele v letu 2012 certificirane izdatk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rtificirana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VREDNOST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operacij v letu 2012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 RR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7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9.766.899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OP RČV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.528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44.950.040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 ROPI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4.886.533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kupaj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.087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669.603.472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5" name="Rectangle 100"/>
          <p:cNvSpPr/>
          <p:nvPr/>
        </p:nvSpPr>
        <p:spPr>
          <a:xfrm>
            <a:off x="2556000" y="549360"/>
            <a:ext cx="6130800" cy="8683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101A3-7F25-4AEA-98BC-4CBC2798E2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CC400-3D79-4ED8-8387-C1B1A8EAB214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2195640" y="620640"/>
            <a:ext cx="65530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 statisti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i (MUS) vzorec izbranih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73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operacij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45 operacij OP RR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16 operacij OP RČV</a:t>
            </a:r>
            <a:r>
              <a:rPr b="0" lang="en-US" sz="3200" spc="-1" strike="noStrike">
                <a:solidFill>
                  <a:srgbClr val="999999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12 operacije OP ROPI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Revidirana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vredno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skupaj: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105.636.349 €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CEC47-9690-49AB-A8A8-D958E0DBD0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2340000" y="692280"/>
            <a:ext cx="6346800" cy="7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2" name="Content Placeholder 20"/>
          <p:cNvSpPr/>
          <p:nvPr/>
        </p:nvSpPr>
        <p:spPr>
          <a:xfrm>
            <a:off x="611280" y="1628640"/>
            <a:ext cx="8123040" cy="468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96840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APAK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¾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naključ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slučajne)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¼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sistematične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be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zjemne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pake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¾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 OP RR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¼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 OP ROPI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zanemarljiv delež napak na OP RČV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(previsoki izdatki za plače, nepravilni izračuni stroška dela)</a:t>
            </a:r>
            <a:endParaRPr b="0" lang="en-US" sz="2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71B8C-295D-4374-BE61-59A74A484D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55640" y="2924280"/>
          <a:ext cx="7858080" cy="2376360"/>
        </p:xfrm>
        <a:graphic>
          <a:graphicData uri="http://schemas.openxmlformats.org/drawingml/2006/table">
            <a:tbl>
              <a:tblPr/>
              <a:tblGrid>
                <a:gridCol w="1306080"/>
                <a:gridCol w="1815840"/>
                <a:gridCol w="1802160"/>
                <a:gridCol w="1442160"/>
                <a:gridCol w="1491840"/>
              </a:tblGrid>
              <a:tr h="85716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tevilo revidiranih operacij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dirana vrednost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rednost napake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napak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76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R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81.88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.38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9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94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OP RČV *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9</a:t>
                      </a:r>
                      <a:endParaRPr b="0" lang="en-US" sz="2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649.570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19.396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2,99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40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ROPI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350.95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306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8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660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Skupaj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8.482.414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79.08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0,93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86" name="Rectangle 3"/>
          <p:cNvSpPr/>
          <p:nvPr/>
        </p:nvSpPr>
        <p:spPr>
          <a:xfrm>
            <a:off x="611280" y="1600200"/>
            <a:ext cx="799308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39760"/>
                <a:tab algn="l" pos="47952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Revizije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dodatnih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2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operacij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631800" indent="-45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  <a:tab algn="l" pos="5033880"/>
                <a:tab algn="l" pos="527364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dopolniln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zorec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, izvedel zunanji izvajalec –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KPMG</a:t>
            </a:r>
            <a:r>
              <a:rPr b="1" lang="sl-SI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55371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* ugotovljena nepravilnost pri mladem raziskovalcu, ki je uveljavljal neupravičene stroške izobraževanja in tudi ni doktoriral v roku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4F507-927E-4DC0-BCCC-B500063366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topnj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napake za Cilj 1: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jbolj verjetna napak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2,80%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rejemljiva napak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,00%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Vrednost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napak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a Cilj 1: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116000" y="4781520"/>
          <a:ext cx="6985080" cy="1095480"/>
        </p:xfrm>
        <a:graphic>
          <a:graphicData uri="http://schemas.openxmlformats.org/drawingml/2006/table">
            <a:tbl>
              <a:tblPr/>
              <a:tblGrid>
                <a:gridCol w="4105440"/>
                <a:gridCol w="287964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kupna projicirana napaka 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(najbolj verjetna napaka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.726.157 EU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rejemljiva (dopustna) napaka 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392.069 EU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FAE0D-D142-43A7-93AA-92C7FD32FC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AD17B-2BE9-4ACB-A289-A4DBEE8B224C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268360" y="189000"/>
            <a:ext cx="6407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Letno poročilo o nadzoru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in mnenje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395280" y="1773360"/>
            <a:ext cx="87487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 u="sng">
                <a:solidFill>
                  <a:srgbClr val="000000"/>
                </a:solidFill>
                <a:uFillTx/>
                <a:latin typeface="Calibri"/>
              </a:rPr>
              <a:t>Korektivni ukrepi OU in PO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5 % finančna korekcija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na PU “turizem”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(PO 30.12.2013 decertificiral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 2.774.693 €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za OP RR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-   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samokorekcija 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nad 2 % dopustne napake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(PO 30.12.2013 decertificiral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 3.700.000 € 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za OP RR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 flipV="1" rot="10800000">
            <a:off x="249120" y="5012280"/>
            <a:ext cx="889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Calibri"/>
              </a:rPr>
              <a:t>NAJBOLJ VERJETNA NAPAKA &lt; DOPUSTNA NAPAKA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MNENJE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BREZ PRIDRŽKA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F9796-E374-44CB-B740-76A7BE5893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9477F-9142-4F23-B4A0-B51C53F336FA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9BE89-32B0-495A-8FF4-A578352B16D4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2268360" y="260280"/>
            <a:ext cx="6407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no poročilo o nadzoru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mnenje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268360" y="260280"/>
            <a:ext cx="6407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Letno poro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č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ilo o nadzoru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in mnenje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468360" y="1844640"/>
            <a:ext cx="828036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Korespondenca RO z EK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 LP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slano EK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31.12.2013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Postopek ustavitve plačil za OP RR in OP ROPI: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6.3.2014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/DG EMPL obravnava OP RČV posebej in ne zahteva zaustavitve plačil/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Ocena EK o sprejemljivosti LPN: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10.3.2014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A417B-A4F9-4BE9-B3A4-834DFA65C3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95280" y="765000"/>
            <a:ext cx="6491160" cy="5810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Aktualno v l. 2014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Revizije operacij za izdatke, certificirane leta 2013 - v izvajanju revizije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74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peracij, od tega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62120" indent="-220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39 OP RR , </a:t>
            </a:r>
            <a:r>
              <a:rPr b="1" lang="sl-SI" sz="2400" spc="-1" strike="noStrike">
                <a:solidFill>
                  <a:srgbClr val="0000ff"/>
                </a:solidFill>
                <a:latin typeface="Calibri"/>
              </a:rPr>
              <a:t>16 OP RČV</a:t>
            </a:r>
            <a:r>
              <a:rPr b="0" lang="sl-SI" sz="2400" spc="-1" strike="noStrike">
                <a:solidFill>
                  <a:srgbClr val="999999"/>
                </a:solidFill>
                <a:latin typeface="Calibri"/>
              </a:rPr>
              <a:t> in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19 OP ROPI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Dodatn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zorec revizij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25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peracij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sourcing)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lvl="1" marL="762120" indent="-2206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apovedane so </a:t>
            </a:r>
            <a:r>
              <a:rPr b="1" lang="sl-SI" sz="2800" spc="-1" strike="noStrike" u="sng">
                <a:solidFill>
                  <a:srgbClr val="0000ff"/>
                </a:solidFill>
                <a:uFillTx/>
                <a:latin typeface="Calibri"/>
              </a:rPr>
              <a:t>3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l-SI" sz="2800" spc="-1" strike="noStrike" u="sng">
                <a:solidFill>
                  <a:srgbClr val="0000ff"/>
                </a:solidFill>
                <a:uFillTx/>
                <a:latin typeface="Calibri"/>
              </a:rPr>
              <a:t>revizije EK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(DG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io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) v Sloveniji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junij: OP RR (izbor operacij in upravičenost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september: OP ROPI (javna naročila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ktober: PO, OU (izterjave nepravilnosti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4170E-ABF2-406C-9944-6DCA0C0660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4000" spc="-1" strike="noStrike">
                <a:solidFill>
                  <a:srgbClr val="0000ff"/>
                </a:solidFill>
                <a:latin typeface="Calibri"/>
              </a:rPr>
              <a:t>Hvala za pozornost</a:t>
            </a:r>
            <a:r>
              <a:rPr b="1" lang="sl-SI" sz="3600" spc="-1" strike="noStrike">
                <a:solidFill>
                  <a:srgbClr val="0000ff"/>
                </a:solidFill>
                <a:latin typeface="Calibri"/>
              </a:rPr>
              <a:t>!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Urad RS za nadzor proračuna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alibri"/>
              </a:rPr>
              <a:t>Revizijski organ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Fajfarjeva 33,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1502 Ljubljana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600" spc="-1" strike="noStrike">
                <a:solidFill>
                  <a:srgbClr val="0000ff"/>
                </a:solidFill>
                <a:latin typeface="Arial"/>
              </a:rPr>
              <a:t>Mateja Vetrih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, Sektor za revizijo evropskih strukturnih skladov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T: 01 369 69 39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www.unp.gov.si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EE2A1-EF5A-479E-81D4-459081BFE5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11280" y="764640"/>
            <a:ext cx="621216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Naloge revizijskega organa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zije sistema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zije operacij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etno poročilo o nadzoru in mnenje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AA566-3F5E-4A4D-BEC9-8CE34BE09D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28840" y="706320"/>
            <a:ext cx="627552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116000" y="1484280"/>
            <a:ext cx="7416720" cy="48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zvedene revizije sistema d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ja 2014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upravljanja – SVLR (jul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za potrjevanje (nov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VZT (nov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ŠŠ (mar. 2010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G (apr. 2011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DDSZ (apr. 2011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upravljanja – MGRT (feb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IZKŠ (apr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PT </a:t>
            </a:r>
            <a:r>
              <a:rPr b="1" lang="en-US" sz="2600" spc="-1" strike="noStrike">
                <a:solidFill>
                  <a:srgbClr val="0000ff"/>
                </a:solidFill>
                <a:latin typeface="Calibri"/>
              </a:rPr>
              <a:t>MNZ 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(dec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401B7-AB30-4FEB-B97A-C1DF3447E6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28840" y="706320"/>
            <a:ext cx="627552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zvedene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aknad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vizije sistema in pregledi izpolnjevanja priporočil do maja 2014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 (mar. 2010, feb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VZT (mar. 2010, sept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 (jul. 2010, feb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ŠŠ (jan. 2012, jan. 2013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G (dec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DDSZ (dec. 2011, dec. 2012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OU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MGRT (jan. 2014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T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MIZKŠ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(jan. 2014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60401-9477-4A62-8C16-380F9193F6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40000" y="634680"/>
            <a:ext cx="634680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218440" cy="435276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upaj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izdanih PRIPOROČI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z revizij:  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50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ŠE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ODPRT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RIPOROČILA (za OP RČV):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 upravljanja (OU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T MIZKŠ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T MNZ :                                            2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FB53E1-F2FE-4441-8D17-AA3930C276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114640" y="380880"/>
            <a:ext cx="6675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pred spremembo</a:t>
            </a:r>
            <a:r>
              <a:rPr b="0" lang="en-US" sz="4400" spc="-1" strike="noStrike">
                <a:solidFill>
                  <a:srgbClr val="99999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25440" y="1417680"/>
            <a:ext cx="836136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7ADBA7-88F6-48C6-8374-10E774B363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13120" y="274320"/>
            <a:ext cx="667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o spremembi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79930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6E8A2-1E58-493F-8591-259083E8B7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46547-C207-4F68-AA53-0B0F3EF5D844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2268360" y="692280"/>
            <a:ext cx="634716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blematika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talnih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prememb sistem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O je pripravil novo analizo tveganj za vsa PT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 je zopet pripravil novo revizijsko strategijo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na začetku leta 2014 dokumenta poslana na EK) </a:t>
            </a:r>
            <a:r>
              <a:rPr b="0" lang="en-US" sz="2400" spc="-1" strike="noStrike">
                <a:solidFill>
                  <a:srgbClr val="999999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EAE96-077D-4B3F-9019-B7F7B1D991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40000" y="764640"/>
            <a:ext cx="6346800" cy="6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OSNOVE: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zdatki, potrjeni v koledarskem letu 2012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kupna ocena sistema - kategorija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istično vzorčenje - MUS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 vzorec za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vse tri OP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5T07:29:29Z</dcterms:created>
  <dc:creator>Roman Rojko</dc:creator>
  <dc:description/>
  <dc:language>en-US</dc:language>
  <cp:lastModifiedBy>Jure Mekinc</cp:lastModifiedBy>
  <dcterms:modified xsi:type="dcterms:W3CDTF">2014-05-27T08:13:08Z</dcterms:modified>
  <cp:revision>73</cp:revision>
  <dc:subject/>
  <dc:title>Slide 1</dc:title>
</cp:coreProperties>
</file>