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87C5-4517-4B1E-A846-0A21CD5910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AE60-DEEF-4B19-9881-4087C1F6E0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B4B8-1801-4DCA-9395-786AFF76F3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1522-79C3-42B2-9DC9-688A96BADD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A796-C240-4587-B538-FE390EA28F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2D62-BE76-47B4-B120-78FFD5D9FF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E39A-D201-4BFC-A781-B481DF55CF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C36C-BC8A-4CFA-A23A-1D90A79321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F852-3FC7-48C6-B11D-1D0175AD24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EA1D-A1F2-4ED4-AB61-41F306999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988A-2DEA-4D64-B87C-07EBB7A3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FA38-47A7-4891-8ABF-ACDF43559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ABEE-75D3-43FA-BF1F-EE8DA829C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221C-49DC-4CF2-AE29-2F7C3151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8C31-117B-4FE3-9543-8DDF5407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4BB5-C5EB-461F-B2ED-BE7D1705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C0A7-A90B-4869-80F1-7C82FF74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69F1-1F7D-4BD2-A2FA-7DD64222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103E-6543-47EA-8D71-EC7FCBDC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CA07-57A0-4B4B-A2B2-294FA640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DA25-9FE8-442E-9E8C-4E81C539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9963-6C0C-4977-AFAE-5CE716CCE022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ddsz.gov.si/" TargetMode="External"/><Relationship Id="rId2" Type="http://schemas.openxmlformats.org/officeDocument/2006/relationships/hyperlink" Target="http://www.zdops.si/" TargetMode="External"/><Relationship Id="rId3" Type="http://schemas.openxmlformats.org/officeDocument/2006/relationships/hyperlink" Target="http://www.sops.s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ff"/>
                </a:solidFill>
                <a:latin typeface="Arial"/>
              </a:rPr>
              <a:t>DialogeS </a:t>
            </a:r>
            <a:br>
              <a:rPr sz="2800"/>
            </a:b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“ZDOPS in SOPS skupaj v socialnem dialogu do predlogov izvedbenih rešitev na področju pogojev dela in zaposlovanja    v obrti in podjetništvu”</a:t>
            </a:r>
            <a:br>
              <a:rPr sz="2600"/>
            </a:br>
            <a:br>
              <a:rPr sz="3600"/>
            </a:b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Nataša Cvetek, Tomaž Bernik</a:t>
            </a:r>
            <a:br>
              <a:rPr sz="2000"/>
            </a:br>
            <a:br>
              <a:rPr sz="3600"/>
            </a:br>
            <a:r>
              <a:rPr b="1" lang="sl-SI" sz="2200" spc="-1" strike="noStrike">
                <a:solidFill>
                  <a:srgbClr val="000000"/>
                </a:solidFill>
                <a:latin typeface="Tahoma"/>
                <a:ea typeface="Tahoma"/>
              </a:rPr>
              <a:t>28. 5. 2014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5589720"/>
            <a:ext cx="8353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51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53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000" spc="-1" strike="noStrike" u="sng">
                <a:solidFill>
                  <a:srgbClr val="ff0000"/>
                </a:solidFill>
                <a:uFillTx/>
                <a:latin typeface="Arial"/>
              </a:rPr>
              <a:t>Partnerji v projektu “DialogeS”</a:t>
            </a:r>
            <a:r>
              <a:rPr b="1" i="1" lang="sl-SI" sz="3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Razpisovalec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inistrstvo za delo, družino, socialne zadeve in enake možnosti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ddsz.gov.si</a:t>
            </a: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Izvajalca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Združenje delodajalcev obrti in podjetnikov Slovenije GIZ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zdops.si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Sindikat obrti in podjetnikov Slovenije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ops.si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ff0000"/>
                </a:solidFill>
                <a:uFillTx/>
                <a:latin typeface="Arial"/>
              </a:rPr>
              <a:t>Trajanje projekta: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1.8.2013 do 31.8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400"/>
            </a:br>
            <a:br>
              <a:rPr sz="24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Namen in cilji projekta: </a:t>
            </a:r>
            <a:br>
              <a:rPr sz="24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Okrepitev bipartitnega socialnega dialoga</a:t>
            </a:r>
            <a:br>
              <a:rPr sz="16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Priprava podlag za predloge rešitev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izboljšanje pogojev dela in zaposlova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krepov APZ in vse življenjskega učenja.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 * Priprava predlogov za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boljšo ureditev organizacije del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generacijsko sodelovanje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sklajevanje poklicnega in zasebnega življe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irno reševanje individualnih delovnih spor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 </a:t>
            </a:r>
            <a:br>
              <a:rPr sz="2800"/>
            </a:br>
            <a:br>
              <a:rPr sz="28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Dodana vrednost:</a:t>
            </a:r>
            <a:r>
              <a:rPr b="1" i="1" lang="sl-SI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boljše razumevanje potreb med socialnimi partnerji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zitivno okolje za soustvarjanje politik trga dela;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okrepljeno sodelovanje– delodajalci – delojemalci – ZRSZ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redlogi urejanja delovnega okolja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analiza potreb trga dela in kompetenčni model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a fleksibilnost in konkurenčnost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o razumevanje institutov ZDR in KPOP med  članstvom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ednarodno sodelovanje in prenos dobrih praks EU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Sodelovanje s tujimi partnerji:</a:t>
            </a:r>
            <a:br>
              <a:rPr sz="2000"/>
            </a:br>
            <a:r>
              <a:rPr b="1" i="1" lang="sl-SI" sz="1600" spc="-1" strike="noStrike">
                <a:solidFill>
                  <a:srgbClr val="0000ff"/>
                </a:solidFill>
                <a:latin typeface="Arial"/>
              </a:rPr>
              <a:t>z institucijami na področju zaposlovanja, izobraževanja, delodajalskimi organizacijami in sindikati</a:t>
            </a:r>
            <a:br>
              <a:rPr sz="2000"/>
            </a:b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Center znanja za poklicno izobraževanje (KBA, Nizozemsk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Javni zavod za zaposlovanje v Celovcu (AMS, Avstrij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Gospodarska zbornica za München in Zgorno Bavarsko, (IHK, Nemčija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dogodki in aktivnosti za partnerje in javnost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delodajalc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zaposlene 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osvet sindikatov - Žužkovi dnev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narodni posvet delodajalcev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o v strokovni delovni skupini ZDOPS-SOPS-ZRSZ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loženke, publikacij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spletne stra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kolektivna pogodba za obrt in podjetništvo s komentarjem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ključna mednarodna konferenc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izkušnje z izvajanjem projekta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+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med partnerj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z ZRSZ in inštitucijami iz tujin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pozitiven odziv članstv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elektronsko oddajanje dokumentov (poročanje naročniku)</a:t>
            </a:r>
            <a:br>
              <a:rPr sz="1600"/>
            </a:br>
            <a:br>
              <a:rPr sz="1600"/>
            </a:b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-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tehnična pomoč (EKC) za ISARR le preko e-pošte, odgovori so prepogosto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kasni, splošni in netoč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riročnik za uporabo ISARR (MVP) bi bil lahko dopolnjen s prilogo, kjer b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bile zapisane rešitve najpogostejših napak (posledična razbremenitev EKC)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htevno in zamudno je poročanje s sistemom ISARR (racionalnejše bi bilo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tudi, če bi lahko oddali osnutek poročila v predpregled in šele potem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zaključili vse postopke v ISARR-ju)</a:t>
            </a:r>
            <a:br>
              <a:rPr sz="1600"/>
            </a:b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  <a:ea typeface="Tahoma"/>
              </a:rPr>
              <a:t>HVALA ZA POZORNOS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95280" y="551628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69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19:06Z</dcterms:created>
  <dc:creator>Natasa Terzic</dc:creator>
  <dc:description/>
  <dc:language>en-US</dc:language>
  <cp:lastModifiedBy>Althea</cp:lastModifiedBy>
  <cp:lastPrinted>2014-05-27T07:25:43Z</cp:lastPrinted>
  <dcterms:modified xsi:type="dcterms:W3CDTF">2014-05-28T07:08:04Z</dcterms:modified>
  <cp:revision>39</cp:revision>
  <dc:subject/>
  <dc:title>Vstavite naslov dogodka   Predavatelj: ? Kraj?, ?. ?. 2013</dc:title>
</cp:coreProperties>
</file>