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73152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22CE-FAB4-41E8-9A33-02F83D1B8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359F-E153-4B9E-8F6D-E849BF57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C0E8-C72E-49E2-8D22-1EAE19C87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0604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856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0D34-B5D1-4CEB-8605-321B39481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6F3-AF2E-4758-B4FA-DEF6F330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DDC-7202-422C-AE07-5AEFFAF2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EF83-E49F-4F8B-85A5-4E025070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6453-A7B5-421C-9C6C-CBB4801D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518-E6C0-42E4-9DDE-9B1F1E31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893C-60BA-4F33-8749-E57961E2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856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48DC-992B-4C81-BDD2-09642A6D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0604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856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B7AC-44B0-419C-BBC5-47F5F957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040"/>
            <a:ext cx="8229600" cy="48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1080"/>
            <a:ext cx="289584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1080"/>
            <a:ext cx="213372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47A65-5C45-4503-B116-66016CA76177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258920" y="3586320"/>
            <a:ext cx="6400800" cy="186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Slika 1" descr=""/>
          <p:cNvPicPr/>
          <p:nvPr/>
        </p:nvPicPr>
        <p:blipFill>
          <a:blip r:embed="rId1"/>
          <a:stretch/>
        </p:blipFill>
        <p:spPr>
          <a:xfrm>
            <a:off x="34920" y="1209600"/>
            <a:ext cx="864072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1T06:19:56Z</dcterms:created>
  <dc:creator>Z</dc:creator>
  <dc:description/>
  <dc:language>en-US</dc:language>
  <cp:lastModifiedBy>Janika Gregorič Zečevič</cp:lastModifiedBy>
  <dcterms:modified xsi:type="dcterms:W3CDTF">2014-05-29T07:04:26Z</dcterms:modified>
  <cp:revision>37</cp:revision>
  <dc:subject/>
  <dc:title>Naslov</dc:title>
</cp:coreProperties>
</file>