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72800" y="744120"/>
            <a:ext cx="46530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754D251-79F3-47F4-B0CF-E0499BF0614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073160" y="744480"/>
            <a:ext cx="465300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31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grada številke diapozitiva 3"/>
          <p:cNvSpPr/>
          <p:nvPr/>
        </p:nvSpPr>
        <p:spPr>
          <a:xfrm>
            <a:off x="3852720" y="942984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98ABAE-26F7-48FE-8F39-86462A2B4A1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0F45-EC6B-4B79-A37F-609E8DFC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3044-87E6-4FB0-8B7E-2836304CB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09E6-5BEA-4C22-A319-F406BFCAE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D1C4-81D0-4F45-B476-89A584F22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54F8-88F8-43DA-B38B-9B38D32F7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C137-1F54-4A5F-85C1-2A5D58F0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24E-491F-4E6D-A15E-9651358C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16CE-C017-4DCA-BD87-8C81E4A3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6BA7-F8D1-4C67-A91F-65992BEF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F2DD-3E92-46A1-BB79-47911CC0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2CA7-7A49-4861-8CAC-DA1E4A3E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B023-E1B2-4DBE-AF15-CB74607B1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1A23-75A8-4E1D-9EE3-A3A63FF42D4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u-skladi.si/" TargetMode="External"/><Relationship Id="rId2" Type="http://schemas.openxmlformats.org/officeDocument/2006/relationships/hyperlink" Target="http://www.facebook.com/EUskladi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lika 3" descr="euskladi_template.bmp"/>
          <p:cNvPicPr/>
          <p:nvPr/>
        </p:nvPicPr>
        <p:blipFill>
          <a:blip r:embed="rId1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49" name="Slika 3" descr="euskladi_template1.bmp"/>
          <p:cNvPicPr/>
          <p:nvPr/>
        </p:nvPicPr>
        <p:blipFill>
          <a:blip r:embed="rId2"/>
          <a:stretch/>
        </p:blipFill>
        <p:spPr>
          <a:xfrm>
            <a:off x="4680" y="0"/>
            <a:ext cx="913464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"/>
          <p:cNvPicPr/>
          <p:nvPr/>
        </p:nvPicPr>
        <p:blipFill>
          <a:blip r:embed="rId3"/>
          <a:stretch/>
        </p:blipFill>
        <p:spPr>
          <a:xfrm>
            <a:off x="457200" y="777960"/>
            <a:ext cx="4114800" cy="7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Izvajanje 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Arial"/>
              </a:rPr>
              <a:t>Operativnega programa razvoja človeških virov 2007-20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14504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dr. Jasminka Dedić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Urad za kohezijsko politiko – Sektor za skl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000000"/>
                </a:solidFill>
                <a:latin typeface="Arial"/>
                <a:ea typeface="Arial"/>
              </a:rPr>
              <a:t>Ljubljana, 28.5.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28760" y="11574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V letu 2014 bo OU z izvajanjem projektov tehnične pomoči še naprej zagotavljal učinkovito izvajanje operativnega programa, razvojnih prioritet, prednostnih usmeritev ter operacij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izvedenih zaposlitev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usposabljanje zaposlenih na področju kohezijske politik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bveščanje javnosti v skladu s komunikacijskim načrto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financiranje študij in vrednotenj v skladu z zahtevami iz evropskih uredb in smernicami in načrtom OU za vrednotenje OP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Arial"/>
              </a:rPr>
              <a:t>ostale aktivnosti, potrebne za učinkovito izvedbo OP (delovna srečanja, kontrole na kraju samem, organizacija dogodkov, aktivnosti upravljanja in izvajanja, financiranje usposabljanj, storitev nadgradnje IS ISARR itd.)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34ea2"/>
                </a:solidFill>
                <a:latin typeface="Tahoma"/>
                <a:ea typeface="Tahoma"/>
              </a:rPr>
              <a:t>priprave na novo programsko obdobje 2014-202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34ea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Načrt izvajanja za preostanek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71240"/>
            <a:ext cx="77724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034ea2"/>
                </a:solidFill>
                <a:latin typeface="Arial"/>
              </a:rPr>
              <a:t>Vprašanja, pripombe, predlogi…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714240" y="4145040"/>
            <a:ext cx="742968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34ea2"/>
                </a:solidFill>
                <a:latin typeface="Arial"/>
              </a:rPr>
              <a:t>Obiščite nas tudi n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facebook.com/EUsklad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www.eu-skladi.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grada številke diapozitiva 1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EBA1-52B6-4253-B61E-CC20BF8D60B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1209600"/>
            <a:ext cx="896472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34ea2"/>
                </a:solidFill>
                <a:latin typeface="Arial"/>
              </a:rPr>
              <a:t>Napredek pri finančnem izvajanju OPRČV do 30.4.20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41623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grada vsebine 2"/>
          <p:cNvSpPr/>
          <p:nvPr/>
        </p:nvSpPr>
        <p:spPr>
          <a:xfrm>
            <a:off x="428760" y="4157640"/>
            <a:ext cx="82296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"/>
          <p:cNvPicPr/>
          <p:nvPr/>
        </p:nvPicPr>
        <p:blipFill>
          <a:blip r:embed="rId1"/>
          <a:stretch/>
        </p:blipFill>
        <p:spPr>
          <a:xfrm>
            <a:off x="108000" y="1425600"/>
            <a:ext cx="8856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67F2-C08B-490A-8A53-52399C1A123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108000" y="849240"/>
            <a:ext cx="87850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800" spc="-1" strike="noStrike">
                <a:solidFill>
                  <a:srgbClr val="034ea2"/>
                </a:solidFill>
                <a:latin typeface="Arial"/>
              </a:rPr>
              <a:t>Finančno izvajanje OPRČV po letih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8250-B3EB-4490-9168-BFF0B0D1EF1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179280" y="1281240"/>
            <a:ext cx="871380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15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34ea2"/>
                </a:solidFill>
                <a:latin typeface="Arial"/>
              </a:rPr>
              <a:t>Potrjeni instrumenti v 20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065240"/>
          <a:ext cx="8429400" cy="62737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1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7538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djetno v svet podjetništva 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761.4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42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Zaposli me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52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povednik zaposlov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  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94.7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64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do znanja – Uresničevanje ciljev Strategije vzgoje in izobraževanja Romov v Sloveni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5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304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olnomočenje ranljivih skupin preko informatorjev na centrih za socialno delo Sloven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971.6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41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 karierne perspektive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000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12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instrument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27.8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grada številke diapozitiva 2"/>
          <p:cNvSpPr/>
          <p:nvPr/>
        </p:nvSpPr>
        <p:spPr>
          <a:xfrm>
            <a:off x="655308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C2C90-35F7-41B9-A358-9B7B3EB0A67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065240"/>
          <a:ext cx="8429400" cy="5575320"/>
        </p:xfrm>
        <a:graphic>
          <a:graphicData uri="http://schemas.openxmlformats.org/drawingml/2006/table">
            <a:tbl>
              <a:tblPr/>
              <a:tblGrid>
                <a:gridCol w="1500120"/>
                <a:gridCol w="735120"/>
                <a:gridCol w="4206600"/>
                <a:gridCol w="1987560"/>
              </a:tblGrid>
              <a:tr h="63036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sredniško tel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nstru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Vrednost v EUR (EU + SI de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bacc6"/>
                    </a:solidFill>
                  </a:tcPr>
                </a:tc>
              </a:tr>
              <a:tr h="4507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Iz faksa takoj praksa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89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o kreativni poti do znanja 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3.0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 spodbujanja podjetnosti v VIZ z namenom razvoja podjetništva med mladi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52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Dvig poklicnih kompetenc učitelje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81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DDS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isarna za delodajal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estrimo šo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4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rav življenjski sl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30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IZ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nzivni tečaj slovenskega jezika za migr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76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olici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.25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632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MN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R za spodbujanje NVO in civilnega dialoga 2014-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5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2680"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SKUPAJ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instrumentov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6880" rIns="568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l-SI" sz="14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4.431.2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6880" marR="56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28760" y="3711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Izvajanje v letu 201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13840" y="1371240"/>
            <a:ext cx="8215560" cy="500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349"/>
              </a:spcBef>
              <a:buClr>
                <a:srgbClr val="034ea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Obveščanje javnost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pletna stran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skladi.s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ocialno omrežje Facebook: 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facebook.com/EUskladi</a:t>
            </a: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Dogodk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U Javne razprave o novi finančni perspektivi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znanja in trga del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okolja, urbanega razvoja, kmetijstva in ribištv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vključujoče družb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3148560" indent="-22392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s področja pravne države, učinkovitega javnega sektorja in nevladnih organizaci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srečanja Višegrajske skupi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IQ konfere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Veliki informativni dogodek »Razvojni potencial v Zasavski regiji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300"/>
              </a:spcBef>
              <a:buClr>
                <a:srgbClr val="034ea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Organizacija dogodka v okviru Pop-up doma v Tobač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300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34ea2"/>
                </a:solidFill>
                <a:latin typeface="Arial"/>
              </a:rPr>
              <a:t>E-kohezijski kotič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buClr>
                <a:srgbClr val="034ea2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400" spc="-1" strike="noStrike">
                <a:solidFill>
                  <a:srgbClr val="034ea2"/>
                </a:solidFill>
                <a:latin typeface="Arial"/>
              </a:rPr>
              <a:t>Upravljanje in izvajanje programa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financiranje zaposlitev iz sredstev tehnične pomoči pri upravičencih, vključenih v izvajanje OP RČV, (SVRK, MGRT, MDDSZ, JSRKŠ, ZRSZ, MIZŠ, MNZ, MK, SPIRIT, MZ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usposabljanja, delavnice za delo na področju evropske kohezijske politike in delovna srečanja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000" spc="-1" strike="noStrike">
                <a:solidFill>
                  <a:srgbClr val="034ea2"/>
                </a:solidFill>
                <a:latin typeface="Arial"/>
              </a:rPr>
              <a:t>razvoj in nadgradnja informacijskega sistema za spremljanje in vrednotenje – ISARR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249"/>
              </a:spcBef>
              <a:buClr>
                <a:srgbClr val="034ea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28760" y="51444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34ea2"/>
                </a:solidFill>
                <a:latin typeface="Arial"/>
              </a:rPr>
              <a:t>Kazalniki (presečni datum 31.12.201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4481640" y="-47340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0"/>
            <a:ext cx="30178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320" bIns="-403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79280" y="1714680"/>
            <a:ext cx="849636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sminka Dedić</cp:lastModifiedBy>
  <dcterms:modified xsi:type="dcterms:W3CDTF">2014-05-29T06:59:02Z</dcterms:modified>
  <cp:revision>202</cp:revision>
  <dc:subject/>
  <dc:title>Naslov</dc:title>
</cp:coreProperties>
</file>