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72800" y="744120"/>
            <a:ext cx="46530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8215E43-9D33-43E1-8803-3A2B3AF6C6AE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073160" y="744480"/>
            <a:ext cx="465300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grada številke diapozitiva 3"/>
          <p:cNvSpPr/>
          <p:nvPr/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39E8282-67F2-4869-9AEA-6AD60FBD5B80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D60A-EF0A-499C-A30F-90475127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207D-1434-4182-8DC8-B94D87BE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4094-3743-4F3B-98B1-83A5424C5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509A-2F97-4F62-A799-CB0683D07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4A41-C118-4AA6-A192-9FC1D7EE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FE56-F0C3-47F9-B9A4-5F559596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95C9-E693-43A5-A202-FDA0279F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E78C-7A26-48D7-82DA-A618B6C6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5940-834A-471D-92D4-51D21F45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61AC-72F9-4261-BAEC-13A591DB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4417-0624-4128-919A-8484CDAE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C9F8-3178-4E5E-875D-71EAB151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4387-8319-4E85-AB30-78EFDF58B49B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hyperlink" Target="http://www.facebook.com/EUskladi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ka 3" descr="euskladi_template.bmp"/>
          <p:cNvPicPr/>
          <p:nvPr/>
        </p:nvPicPr>
        <p:blipFill>
          <a:blip r:embed="rId1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9" name="Slika 3" descr="euskladi_template1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Izvajanje 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Operativnega programa razvoja človeških virov 2007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4504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dr. Jasminka Dedi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Urad za kohezijsko politiko – Sektor za skl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Ljubljana, 28.5.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11574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V letu 2014 bo OU z izvajanjem projektov tehnične pomoči še naprej zagotavljal učinkovito izvajanje operativnega programa, razvojnih prioritet, prednostnih usmeritev ter operaci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izvedenih zaposlitev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usposabljanje zaposlenih na področju kohezijske politik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bveščanje javnosti v skladu s komunikacijskim načrt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študij in vrednotenj v skladu z zahtevami iz evropskih uredb in smernicami in načrtom OU za vrednotenje OP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stale aktivnosti, potrebne za učinkovito izvedbo OP (delovna srečanja, kontrole na kraju samem, organizacija dogodkov, aktivnosti upravljanja in izvajanja, financiranje usposabljanj, storitev nadgradnje IS ISARR itd.)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Tahoma"/>
                <a:ea typeface="Tahoma"/>
              </a:rPr>
              <a:t>priprave na novo programsko obdobje 2014-20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Načrt izvajanja za preostanek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34ea2"/>
                </a:solidFill>
                <a:latin typeface="Arial"/>
              </a:rPr>
              <a:t>Vprašanja, pripombe, predlogi…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14240" y="4145040"/>
            <a:ext cx="742968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34ea2"/>
                </a:solidFill>
                <a:latin typeface="Arial"/>
              </a:rPr>
              <a:t>Obiščite nas tudi n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facebook.com/EUskla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eu-skladi.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grada številke diapozitiva 1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4529-7020-40C5-8AF1-C8C438F20E28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209600"/>
            <a:ext cx="8964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Napredek pri finančnem izvajanju OPRČV do 30.4.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4162320"/>
            <a:ext cx="822960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grada vsebine 2"/>
          <p:cNvSpPr/>
          <p:nvPr/>
        </p:nvSpPr>
        <p:spPr>
          <a:xfrm>
            <a:off x="428760" y="4157640"/>
            <a:ext cx="8229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08000" y="1425600"/>
            <a:ext cx="8856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6763-1450-4B7D-84D0-0906A0B7401D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8000" y="849240"/>
            <a:ext cx="8785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34ea2"/>
                </a:solidFill>
                <a:latin typeface="Arial"/>
              </a:rPr>
              <a:t>Finančno izvajanje OPRČV po leti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098D-3DE2-4D2A-96E9-033EEF60C120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79280" y="1281240"/>
            <a:ext cx="87138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15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Potrjeni instrumenti v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065240"/>
          <a:ext cx="8429400" cy="62737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1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538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jetno v svet podjetništva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61.4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aposli me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ovednik zaposlo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4.7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aj do znanja – Uresničevanje ciljev Strategije vzgoje in izobraževanja Romov v Sloveni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lnomočenje ranljivih skupin preko informatorjev na centrih za socialno delo Sloven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71.6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41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 karierne perspektiv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2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strument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27.8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DED1-DAFF-4523-8FFF-9A593EF3437E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065240"/>
          <a:ext cx="8429400" cy="55753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036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50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z faksa takoj praks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 kreativni poti do znanja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spodbujanja podjetnosti v VIZ z namenom razvoja podjetništva med mlad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vig poklicnih kompetenc učitelj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isarna za delodajal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estrimo š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rav življenjski sl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zivni tečaj slovenskega jezika za migr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lic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 za spodbujanje NVO in civilnega dialoga 2014-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26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instrumen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.431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711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Izvajanje v letu 201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3840" y="1371240"/>
            <a:ext cx="821556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pletna stran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ocialno omrežje Facebook: 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cebook.com/EUsklad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U Javne razprave o novi finančni perspektiv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znanja in trga del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okolja, urbanega razvoja, kmetijstva in ribištv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vključujoče družb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pravne države, učinkovitega javnega sektorja in nevladnih organizaci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dogodka v okviru Pop-up doma v Tobač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E-kohezijski kotič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ČV, (SVRK, MGRT, MDDSZ, JSRKŠ, ZRSZ, MIZŠ, MNZ, MK, SPIRIT, MZ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Kazalniki (presečni datum 31.12.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4481640" y="-4734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79280" y="1714680"/>
            <a:ext cx="8496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sminka Dedić</cp:lastModifiedBy>
  <dcterms:modified xsi:type="dcterms:W3CDTF">2014-05-29T06:59:02Z</dcterms:modified>
  <cp:revision>202</cp:revision>
  <dc:subject/>
  <dc:title>Naslov</dc:title>
</cp:coreProperties>
</file>