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jpeg" ContentType="image/jpeg"/>
  <Override PartName="/ppt/media/image11.png" ContentType="image/png"/>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Lst>
  <p:sldSz cx="9144000" cy="73152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115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7" name="PlaceHolder 2"/>
          <p:cNvSpPr>
            <a:spLocks noGrp="1"/>
          </p:cNvSpPr>
          <p:nvPr>
            <p:ph type="dt" idx="7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158" name="PlaceHolder 3"/>
          <p:cNvSpPr>
            <a:spLocks noGrp="1"/>
          </p:cNvSpPr>
          <p:nvPr>
            <p:ph type="sldImg"/>
          </p:nvPr>
        </p:nvSpPr>
        <p:spPr>
          <a:xfrm>
            <a:off x="1073160" y="744120"/>
            <a:ext cx="4651200" cy="3722760"/>
          </a:xfrm>
          <a:prstGeom prst="rect">
            <a:avLst/>
          </a:prstGeom>
          <a:noFill/>
          <a:ln w="12600">
            <a:solidFill>
              <a:srgbClr val="000000"/>
            </a:solidFill>
            <a:miter/>
          </a:ln>
        </p:spPr>
        <p:txBody>
          <a:bodyPr lIns="90000" rIns="90000" tIns="46800" bIns="4680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59"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60" name="PlaceHolder 5"/>
          <p:cNvSpPr>
            <a:spLocks noGrp="1"/>
          </p:cNvSpPr>
          <p:nvPr>
            <p:ph type="ftr" idx="75"/>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1" name="PlaceHolder 6"/>
          <p:cNvSpPr>
            <a:spLocks noGrp="1"/>
          </p:cNvSpPr>
          <p:nvPr>
            <p:ph type="sldNum" idx="7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454F7-C228-4C4D-A7F5-0CE46338CA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073160" y="744480"/>
            <a:ext cx="4651200" cy="3722760"/>
          </a:xfrm>
          <a:prstGeom prst="rect">
            <a:avLst/>
          </a:prstGeom>
          <a:ln w="0">
            <a:noFill/>
          </a:ln>
        </p:spPr>
      </p:sp>
      <p:sp>
        <p:nvSpPr>
          <p:cNvPr id="118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Arial"/>
            </a:endParaRPr>
          </a:p>
        </p:txBody>
      </p:sp>
      <p:sp>
        <p:nvSpPr>
          <p:cNvPr id="1181" name="Ograda številke diapozitiva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BED556A-008C-41BF-8403-F67E756618C9}"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DC5733-960E-4FC8-8332-1A6E488F60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sldNum" idx="1"/>
          </p:nvPr>
        </p:nvSpPr>
        <p:spPr/>
        <p:txBody>
          <a:bodyPr/>
          <a:p>
            <a:fld id="{9F12F7F9-0C21-4EDB-B8C3-B5C09FE8809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65B7C2F3-939F-4D37-A034-2E2A88281245}"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3416ADC2-239C-4D2F-B48D-DEF24DE3CA12}"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764B6C01-222E-44D8-9142-EBA982F055F9}"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9CB2C673-E1F3-4919-B8CE-7CE0D05E20FC}"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53AC33EF-62FF-4037-AC4E-9749EBA181F2}"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BD43EF3-BF6C-4B30-94DA-E014D7F8EC79}"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B132FA4E-0C2A-4F21-B7F0-4B8B93947F26}"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1B560800-C6B9-4A7E-9ED1-72AF8D8AB842}"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83619D71-4A36-4209-B7EA-A675FAF442C1}"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C038DF8B-DC49-4C44-8015-F8026ED3A94F}"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sldNum" idx="1"/>
          </p:nvPr>
        </p:nvSpPr>
        <p:spPr/>
        <p:txBody>
          <a:bodyPr/>
          <a:p>
            <a:fld id="{52EFAFE8-1CF6-4930-9FE1-813441C933F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5FA1A65F-D196-40F6-B7C5-72751D7C74DF}"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6087A3FD-80B3-4562-B668-50DA059D2EAC}"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7822B98C-13C4-49F8-8706-4E112748B24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5038520A-256C-4CE7-9B44-344E92D55D2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7E874F19-C55C-4E95-88C3-C2A45F44200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07DED1B4-C7CB-4385-8F04-27A74624C09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A86E132F-40A0-40A6-B8FB-32DBC627440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52C959EA-C9C0-4F1B-ADB7-A0F8A401DF0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3E68957B-8A1A-471F-A089-14548A342AC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6E372D25-7EB6-49C7-9143-C9A6D6157308}"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sldNum" idx="1"/>
          </p:nvPr>
        </p:nvSpPr>
        <p:spPr/>
        <p:txBody>
          <a:bodyPr/>
          <a:p>
            <a:fld id="{3149C02D-3EF3-48A1-A7F7-6BA229DF234C}"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C8957903-AD0B-4B07-9739-466D7D620A33}"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22574A05-BDB0-410C-9E21-7F4A9537D51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4CB2C2A9-3498-48D4-8B27-504024BBE34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4CBB9570-20B3-4FE4-A282-4D0011D8986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7F294330-83E9-498E-91BD-5E2FFF7BFF8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08743E57-5430-4E87-A599-A8FEB2F882A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013F5871-9D47-491D-B2DB-2C56C965A24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0AFE47B9-28A5-4A24-A716-5F899ECA36F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059A2919-D842-495C-A1BB-8D93BABFE7C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9B9813D7-99EF-4634-9BC6-6FE7C589776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E0E9A94-3788-4D57-9329-2A1D7328B8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74409EF3-92C7-4684-A1AC-94AC2E4F0D5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46CEC4B0-4FC6-4AAA-B979-CC6B2B428CD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F3284F8B-0F34-4C6F-BA89-9C906DBB45D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EFD8DC00-3CF9-4E02-9938-4DB5126117A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87F1D01F-4905-4831-BC21-37C4582C21F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42779CBF-9D99-496E-94BC-187666C5AF8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A8137CB3-37A0-4699-9C77-75DED3192B8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FBC77253-35B7-45A6-9D7C-537DF7124CA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07F4D57C-0145-45A3-B408-BF326C2FC7D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DFD95E98-B843-4954-952A-4F1F18B0FC8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C11E6DD-D564-4CCC-BD04-14D20CCAF5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48936006-8C45-447F-B0C7-39D99C7EA07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16DE303B-4014-40B4-A5A5-72DB44DFDD6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6BB4D55A-5A35-4381-B819-BE566A553FF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BCAEA646-C6B3-4CDD-BDC6-18990488CD6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1BA47502-B7E4-425B-9D63-6E383770623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251C377F-99C3-498D-B8CB-305B35E89C4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2"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25ACF941-E663-4B4D-B5F8-B60392DC5A4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4"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5D5382B8-5452-4C72-B962-E758AA64307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9D718368-F7F4-4F5E-8A0D-8148D67528B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A8F98DDA-B783-469B-84B7-52007DE9E55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59E455C-1BE6-429D-A4AD-1E8CE0B908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21D0CFA9-9569-4AB6-9A63-655417AA5BB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D05EDD6E-37E7-4079-BDE2-D02C29B4C4D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7"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F4A30599-DA46-4345-9478-355A4D52067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1"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F370AE2C-880D-428A-B753-42770AAF59E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3"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4"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6D4A9BD2-AD1C-42D6-AA6E-1F58E35A6D8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9"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1498A8C9-53BC-4D06-86C2-9C1D2DCBCD2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91"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2"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3"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4"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5"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6"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A2CF09B3-9DA3-4F5F-B208-D445D6B110D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EE27E0FC-A340-4740-9175-6E5D5F53EEB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9"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63931F06-C678-43DD-A565-E1675B18709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1"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FF814AF9-A118-4092-9A7D-8E778400493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B280E26-A545-49B0-95E5-35A68F65DC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6D9781A2-5975-4873-B26B-4B1F3E17F97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9B243618-5074-4C29-88BF-CEA8CC415AA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6"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7121FD0A-7280-46CA-803E-1E2F917CFE8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6F574133-D5B0-4EA4-8143-754D34FC1FC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4"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0C328B68-70D9-45D9-A1DF-B468475F782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8"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CC74A165-F6FD-4BFF-943C-4B41D674212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0"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1"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8D645F0B-5971-461C-876A-CCE5A50B3AF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6"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297980D8-F642-4484-940E-C5BDAB9DD0A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8"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9"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0"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1"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2"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3"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5F120006-9F55-406A-9A85-0A69DD12472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362F40CC-C674-40F2-84E8-A0EB9DA86A4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50BAD61-4912-4072-95ED-2494D6BDD0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3CB33AE1-A86C-4E41-B95B-8FD94F40D04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BF34BB42-0A9A-49E1-9D0B-F72DCA7BD01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0FE5703D-757B-4BB5-96F2-9F596B8D665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AD7B2D82-7217-42A8-A2E0-671E561EEF4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611E664C-7AE0-4B9C-A4BF-B3638F59BBA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0D06116E-3421-4542-8A9D-9CE69B51A53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5DCA25E0-D7B7-475F-B913-821CF24584B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CE6C81D8-8368-44C4-A1CF-B36E799CD4E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4076AF16-72A2-4C1E-BCDE-671D75CDBDA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9153D76D-0429-4EBF-B2ED-F4C025E27A7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2CD32E9-724B-42DB-A9F8-0A64F3EEB4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13A62A24-879B-4A12-B82E-20BBC813605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869B58A0-4186-49E2-A1EF-369A347C557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49E34CF1-0AC4-4CB4-A8D9-CC55F3DE24B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C96B1237-9FE0-4679-8A13-D51E15E7F65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8B752D94-502F-407B-A88D-E97ACC90A07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61290429-5537-4D1E-99E1-788DD935FD3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26906114-DCC1-4C1A-AA03-AB84FD6C5EE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267D8AB5-8567-4F36-86B7-F29E5E66327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7D2BDF54-8347-49DD-A536-9B674572D0F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4A31299B-CE62-49FE-A90A-95F11E7E3C0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9FFE8B1-33F4-4924-9D36-3A16D072BD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FDEB4070-CEEC-4AF4-B51D-248E4E97688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0A45C4C5-56F7-45E7-B4EC-4E990251630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3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1F204565-A932-4B92-BA4F-BCFDDBB9BA1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11FDFFAD-7CA8-4DE0-9F13-4B39A57FA98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83695047-42E8-465F-8B78-1EF17C4070B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5E45335F-45FF-4CB4-A71A-2011053C3C9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E101E90D-69A7-4129-A015-89936CAF976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18B8B4AE-C919-459B-AD14-611F91D665E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4C8BFC4A-3A46-45AA-9FA2-43D3331810A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2CD8302B-25A5-41A7-A7FE-4DEF8667559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1"/>
          </p:nvPr>
        </p:nvSpPr>
        <p:spPr/>
        <p:txBody>
          <a:bodyPr/>
          <a:p>
            <a:fld id="{53A74125-C03C-4B3F-8F0C-AC2F9F9D8F0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B9813DD-98E2-443A-9F9A-C12B46B9CD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615CD60C-1FE6-4CA1-9A94-441C4914C4B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7BA2AA9D-5F9E-4464-9FAE-FDF6098E24E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DB553F37-8A0A-4CC5-BEF3-8F451715F5F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0516DCD7-14F1-4CD7-BC74-655A84816F5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A3CCD0B3-AED4-412C-AC8E-78D180836F6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C3C17A96-9D35-4455-B0DB-F0D8F58371CC}"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AD533390-47EE-4C7B-B65E-761EC6E6D891}"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3B83760E-4A48-47C3-AA0D-AB7E3180E645}"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E966557B-0393-4F77-B94D-C6085AFD35BF}"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4680D902-95BE-42D0-AEDB-4E2898604CF1}"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3D56777-F9FC-40C9-A47A-F21AC08DBF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829BFE21-9D44-420D-9D76-1904E7A947E7}"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E5883570-5F6A-4EDD-927A-B2CDD1E4F48C}"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7722E18B-EAFF-46F6-9E56-EF8B65A16ABD}"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10EFBF16-04A6-49B0-9493-E5F15CADDD9F}"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42E07900-23DB-4FD4-A7FC-29021046716F}"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50222892-8C49-49B3-B157-61019EA08239}"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3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22148924-3AEE-4F02-BB02-D2CE127A5E1E}"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5"/>
          </p:nvPr>
        </p:nvSpPr>
        <p:spPr/>
        <p:txBody>
          <a:bodyPr/>
          <a:p>
            <a:fld id="{0E9716B8-34C6-435F-84F1-B7D7056F8E3D}"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2"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0B68075C-2933-4C21-99AA-186852353F65}"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4"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472172B6-71B8-49FB-A1AD-01C261CA662D}"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5C27A33-DF77-4205-9774-3F3EA535B7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327F9E48-A5E6-48CF-A89B-1D1ACE779F9E}"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5A8B496C-2099-4B20-A4C7-1705A354F6A0}"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DC2F9B16-AD1A-460C-92DD-61ECD4F5D7E7}"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D0842F58-DCBB-45BC-8282-A07A75F08BFB}"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7"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16497F22-1D15-41E7-BCC1-D54BF3F7F3CE}"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1"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73B4E02F-D5B9-447A-8ED5-06B6D5A8FA79}"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63"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4"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A622F6BA-F236-412E-91C7-8824CDF220B6}"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6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9"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5"/>
          </p:nvPr>
        </p:nvSpPr>
        <p:spPr/>
        <p:txBody>
          <a:bodyPr/>
          <a:p>
            <a:fld id="{D651B8C5-7760-4D0E-9C26-ED2D22A99E02}"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71"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2"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3"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4"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5"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6"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5"/>
          </p:nvPr>
        </p:nvSpPr>
        <p:spPr/>
        <p:txBody>
          <a:bodyPr/>
          <a:p>
            <a:fld id="{378B4FFF-3D6A-4C4F-9EAD-9209B4D82324}"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8"/>
          </p:nvPr>
        </p:nvSpPr>
        <p:spPr/>
        <p:txBody>
          <a:bodyPr/>
          <a:p>
            <a:fld id="{618AD21E-A3EE-4AE7-B260-443A125ACCB9}" type="slidenum">
              <a:t>&lt;#&gt;</a:t>
            </a:fld>
          </a:p>
        </p:txBody>
      </p:sp>
      <p:sp>
        <p:nvSpPr>
          <p:cNvPr id="4" name="PlaceHolder 3"/>
          <p:cNvSpPr>
            <a:spLocks noGrp="1"/>
          </p:cNvSpPr>
          <p:nvPr>
            <p:ph type="dt" idx="5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BAEF93A-BB13-44F7-9E9D-AFB074D646FB}"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89"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06F64D22-7A42-42A7-94E5-232392F35F63}"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1"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BCFE7FD1-0FD2-4E77-9846-201B0E4831F6}"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B1EB6A71-5BCF-4337-9EF5-0C2AD47A1941}"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E58528AB-8A97-4BDB-98B7-192314F6F9E4}"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6"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59B4204A-7253-483C-98A6-E7A4391CF412}"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DA328C41-051F-41D4-9359-2E39E6951E44}"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4"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8A843C1F-CE03-46A6-8CF9-53B9CE86B2B3}"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8"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D349C41E-7812-47B4-9581-EA790363D75F}"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0"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1"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E24D4C66-DCEC-4965-BA03-D30BE54F054E}"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6"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8"/>
          </p:nvPr>
        </p:nvSpPr>
        <p:spPr/>
        <p:txBody>
          <a:bodyPr/>
          <a:p>
            <a:fld id="{88613559-38E5-4F3C-8B80-582013A9D19F}" type="slidenum">
              <a:t>&lt;#&gt;</a:t>
            </a:fld>
          </a:p>
        </p:txBody>
      </p:sp>
      <p:sp>
        <p:nvSpPr>
          <p:cNvPr id="9" name="PlaceHolder 8"/>
          <p:cNvSpPr>
            <a:spLocks noGrp="1"/>
          </p:cNvSpPr>
          <p:nvPr>
            <p:ph type="dt" idx="5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67C59B7-19FA-44D4-B80D-A704AEE8AF56}"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8"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9"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0"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1"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2"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3"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8"/>
          </p:nvPr>
        </p:nvSpPr>
        <p:spPr/>
        <p:txBody>
          <a:bodyPr/>
          <a:p>
            <a:fld id="{903BA455-B736-4CC1-BF8E-9292A4BA002A}" type="slidenum">
              <a:t>&lt;#&gt;</a:t>
            </a:fld>
          </a:p>
        </p:txBody>
      </p:sp>
      <p:sp>
        <p:nvSpPr>
          <p:cNvPr id="11" name="PlaceHolder 10"/>
          <p:cNvSpPr>
            <a:spLocks noGrp="1"/>
          </p:cNvSpPr>
          <p:nvPr>
            <p:ph type="dt" idx="56"/>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61"/>
          </p:nvPr>
        </p:nvSpPr>
        <p:spPr/>
        <p:txBody>
          <a:bodyPr/>
          <a:p>
            <a:fld id="{E2452B54-E2DD-4831-808C-607F7ACE1837}"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3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0624278F-96A6-4863-B1CA-9CC7376FE8D7}"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3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144DCCD1-3DF0-4869-BB05-1F8D718FE519}"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6DD7D996-A553-461E-9A41-CFB54BB31EE8}"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BDA5EFCF-0D73-4CBF-90F5-42007FD8B267}"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D8131B60-8A92-4772-AE25-7DB74405826F}"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C8BCA057-A88C-4A52-9075-210C3F0DACE2}"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ABE7CC3F-2F9F-4020-9541-B7954FE49D8E}"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5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B3340859-5CA4-4A66-BF39-EA2CD3D18E7B}"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FE0A828D-0394-4ADF-BC50-784BFBCAA61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5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68BA75FF-4280-406B-A84A-1E9F696EFA9C}"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61"/>
          </p:nvPr>
        </p:nvSpPr>
        <p:spPr/>
        <p:txBody>
          <a:bodyPr/>
          <a:p>
            <a:fld id="{3D60E2FF-0ECF-40B5-A861-0512A3800055}" type="slidenum">
              <a:t>&lt;#&gt;</a:t>
            </a:fld>
          </a:p>
        </p:txBody>
      </p:sp>
      <p:sp>
        <p:nvSpPr>
          <p:cNvPr id="9" name="PlaceHolder 8"/>
          <p:cNvSpPr>
            <a:spLocks noGrp="1"/>
          </p:cNvSpPr>
          <p:nvPr>
            <p:ph type="dt" idx="59"/>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61"/>
          </p:nvPr>
        </p:nvSpPr>
        <p:spPr/>
        <p:txBody>
          <a:bodyPr/>
          <a:p>
            <a:fld id="{6BB55348-407D-45E9-B19F-61CE0059D32A}" type="slidenum">
              <a:t>&lt;#&gt;</a:t>
            </a:fld>
          </a:p>
        </p:txBody>
      </p:sp>
      <p:sp>
        <p:nvSpPr>
          <p:cNvPr id="11" name="PlaceHolder 10"/>
          <p:cNvSpPr>
            <a:spLocks noGrp="1"/>
          </p:cNvSpPr>
          <p:nvPr>
            <p:ph type="dt" idx="59"/>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4"/>
          </p:nvPr>
        </p:nvSpPr>
        <p:spPr/>
        <p:txBody>
          <a:bodyPr/>
          <a:p>
            <a:fld id="{D42CEA23-65AF-4F5E-ABC2-B2E133DB502B}" type="slidenum">
              <a:t>&lt;#&gt;</a:t>
            </a:fld>
          </a:p>
        </p:txBody>
      </p:sp>
      <p:sp>
        <p:nvSpPr>
          <p:cNvPr id="4" name="PlaceHolder 3"/>
          <p:cNvSpPr>
            <a:spLocks noGrp="1"/>
          </p:cNvSpPr>
          <p:nvPr>
            <p:ph type="dt" idx="62"/>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77"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F4BA5A44-CC6D-444F-AA2F-9DDEA0A1888D}"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79"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75A36733-5BAB-4600-BD80-4171E1872E18}"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11972102-230F-4228-AD42-0048C9037C86}"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7C6FC2E1-F96B-41CC-B6CB-2B35E79AE1D2}"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4"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4AD27472-8DAF-4C18-BE8B-F74E75822167}"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D13EA7BF-460F-4635-BC07-33A015E1E7A0}"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5B721F80-091D-471A-B342-CDE7D868C52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2"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36D2087D-4879-4BE3-A138-1319CD72F474}"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6"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96E699FF-DB1A-4924-ABE0-139207DEF9B2}"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8"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9"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FC80AB52-1CDA-43DE-918C-FB2FD090D338}"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4"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4"/>
          </p:nvPr>
        </p:nvSpPr>
        <p:spPr/>
        <p:txBody>
          <a:bodyPr/>
          <a:p>
            <a:fld id="{1EFA2666-656B-4D6E-AE3A-7A63F635C567}" type="slidenum">
              <a:t>&lt;#&gt;</a:t>
            </a:fld>
          </a:p>
        </p:txBody>
      </p:sp>
      <p:sp>
        <p:nvSpPr>
          <p:cNvPr id="9" name="PlaceHolder 8"/>
          <p:cNvSpPr>
            <a:spLocks noGrp="1"/>
          </p:cNvSpPr>
          <p:nvPr>
            <p:ph type="dt" idx="62"/>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6"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7"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8"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9"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0"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1"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4"/>
          </p:nvPr>
        </p:nvSpPr>
        <p:spPr/>
        <p:txBody>
          <a:bodyPr/>
          <a:p>
            <a:fld id="{7CF59927-27C1-4091-99F5-48481A31FA16}" type="slidenum">
              <a:t>&lt;#&gt;</a:t>
            </a:fld>
          </a:p>
        </p:txBody>
      </p:sp>
      <p:sp>
        <p:nvSpPr>
          <p:cNvPr id="11" name="PlaceHolder 10"/>
          <p:cNvSpPr>
            <a:spLocks noGrp="1"/>
          </p:cNvSpPr>
          <p:nvPr>
            <p:ph type="dt" idx="62"/>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7"/>
          </p:nvPr>
        </p:nvSpPr>
        <p:spPr/>
        <p:txBody>
          <a:bodyPr/>
          <a:p>
            <a:fld id="{BFCFE363-98A5-4BA4-B3BB-B17A445A55CF}"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3B9967F2-B58F-403F-9805-1A512A6691EE}"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935192C5-2747-4DA2-9F9E-C02135EC2004}"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C100D1AD-EC62-4450-A576-892C66FBA6DD}"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F73C2DC1-169F-4F61-8699-68464B91C6E2}"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4BC1C3C-7D8F-412C-B320-484A95222F7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C8F6D46E-F312-48EE-9715-F491B5A13805}"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1121FE68-C067-4C51-9A7E-64FC39E5819C}"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D83728EA-7DF4-4EC5-B54F-E3D4B2A93D59}"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D6746D2C-D6FE-474C-B2DC-845197D4A6BC}"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D770EDBF-B9CA-4A1F-BA11-C2AC4A0A6F4D}"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5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7"/>
          </p:nvPr>
        </p:nvSpPr>
        <p:spPr/>
        <p:txBody>
          <a:bodyPr/>
          <a:p>
            <a:fld id="{87C4C5DB-52D6-4CCB-8F13-0C5F3F716D3E}"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5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6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7"/>
          </p:nvPr>
        </p:nvSpPr>
        <p:spPr/>
        <p:txBody>
          <a:bodyPr/>
          <a:p>
            <a:fld id="{A176733A-78F7-4C4F-85B5-187255FEB46A}"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9"/>
          </p:nvPr>
        </p:nvSpPr>
        <p:spPr/>
        <p:txBody>
          <a:bodyPr/>
          <a:p>
            <a:r>
              <a:t>Footer</a:t>
            </a:r>
          </a:p>
        </p:txBody>
      </p:sp>
      <p:sp>
        <p:nvSpPr>
          <p:cNvPr id="3" name="PlaceHolder 2"/>
          <p:cNvSpPr>
            <a:spLocks noGrp="1"/>
          </p:cNvSpPr>
          <p:nvPr>
            <p:ph type="sldNum" idx="70"/>
          </p:nvPr>
        </p:nvSpPr>
        <p:spPr/>
        <p:txBody>
          <a:bodyPr/>
          <a:p>
            <a:fld id="{3F88B23F-B9E1-4B43-9240-EAECCA0C406A}" type="slidenum">
              <a:t>&lt;#&gt;</a:t>
            </a:fld>
          </a:p>
        </p:txBody>
      </p:sp>
      <p:sp>
        <p:nvSpPr>
          <p:cNvPr id="4" name="PlaceHolder 3"/>
          <p:cNvSpPr>
            <a:spLocks noGrp="1"/>
          </p:cNvSpPr>
          <p:nvPr>
            <p:ph type="dt" idx="68"/>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3"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A5988A5C-B4CE-4767-B157-64D6EC96FC4D}"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5"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E8B03B00-0A59-45A7-97D5-059C2B660D79}"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65B85E74-BD4B-4A50-9A23-2E169B28324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7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334985A8-0D9E-4B8F-9FB9-BFF7AD0C532A}"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A1F076F9-2593-4B26-992F-91E17E93B75E}"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0"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E91750D1-051A-470D-8583-31E73A8B6D0C}"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8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85EB1C14-F328-4965-B3CC-75903BEC0E61}"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8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8"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22EB5B00-35B2-4361-AACE-F4E98DFE1C26}"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2"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5EA431C3-5EEF-499A-852C-47CE6263D3CB}"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4"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5"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8D67DDC3-A251-47E6-A78A-C38AED63771D}"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0"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9"/>
          </p:nvPr>
        </p:nvSpPr>
        <p:spPr/>
        <p:txBody>
          <a:bodyPr/>
          <a:p>
            <a:r>
              <a:t>Footer</a:t>
            </a:r>
          </a:p>
        </p:txBody>
      </p:sp>
      <p:sp>
        <p:nvSpPr>
          <p:cNvPr id="8" name="PlaceHolder 7"/>
          <p:cNvSpPr>
            <a:spLocks noGrp="1"/>
          </p:cNvSpPr>
          <p:nvPr>
            <p:ph type="sldNum" idx="70"/>
          </p:nvPr>
        </p:nvSpPr>
        <p:spPr/>
        <p:txBody>
          <a:bodyPr/>
          <a:p>
            <a:fld id="{51426AFF-DC9B-4523-8F70-173CB2B54FA6}" type="slidenum">
              <a:t>&lt;#&gt;</a:t>
            </a:fld>
          </a:p>
        </p:txBody>
      </p:sp>
      <p:sp>
        <p:nvSpPr>
          <p:cNvPr id="9" name="PlaceHolder 8"/>
          <p:cNvSpPr>
            <a:spLocks noGrp="1"/>
          </p:cNvSpPr>
          <p:nvPr>
            <p:ph type="dt" idx="68"/>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2"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3"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4"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5"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6"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7"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9"/>
          </p:nvPr>
        </p:nvSpPr>
        <p:spPr/>
        <p:txBody>
          <a:bodyPr/>
          <a:p>
            <a:r>
              <a:t>Footer</a:t>
            </a:r>
          </a:p>
        </p:txBody>
      </p:sp>
      <p:sp>
        <p:nvSpPr>
          <p:cNvPr id="10" name="PlaceHolder 9"/>
          <p:cNvSpPr>
            <a:spLocks noGrp="1"/>
          </p:cNvSpPr>
          <p:nvPr>
            <p:ph type="sldNum" idx="70"/>
          </p:nvPr>
        </p:nvSpPr>
        <p:spPr/>
        <p:txBody>
          <a:bodyPr/>
          <a:p>
            <a:fld id="{DCD20DC2-C9FB-49E5-AECA-82E494F7BBE1}" type="slidenum">
              <a:t>&lt;#&gt;</a:t>
            </a:fld>
          </a:p>
        </p:txBody>
      </p:sp>
      <p:sp>
        <p:nvSpPr>
          <p:cNvPr id="11" name="PlaceHolder 10"/>
          <p:cNvSpPr>
            <a:spLocks noGrp="1"/>
          </p:cNvSpPr>
          <p:nvPr>
            <p:ph type="dt" idx="68"/>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3"/>
          </p:nvPr>
        </p:nvSpPr>
        <p:spPr/>
        <p:txBody>
          <a:bodyPr/>
          <a:p>
            <a:fld id="{EE3D86FD-A5BF-462D-8D2D-BDC92621F79E}"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8ECE5BCF-6FE7-4620-8CC6-37EED1F3929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0"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4F1D3A29-E5F9-4F37-ACC6-35EE00CEEDAA}"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2"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558F2F18-19D4-48D9-B989-09F34BFB0CA2}"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2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72F7E416-CA78-46AB-B699-4F76D2FECF5E}"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CA67F3AE-232F-41E4-B3B9-6EF82C7DE42F}"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7"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17420E68-AFF5-4BD5-9CAE-D240124A1F4B}"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13E46387-FFA1-4801-94AE-A69241572F15}"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5"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52B35D86-B35C-4407-8C53-7B9A6A262CD9}"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9"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BC4FB7A6-293F-4729-8E73-5150F1BEC38A}"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1"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2"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3DD3BB88-9AAC-4AA2-8BDA-D224130FF544}"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7"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3"/>
          </p:nvPr>
        </p:nvSpPr>
        <p:spPr/>
        <p:txBody>
          <a:bodyPr/>
          <a:p>
            <a:fld id="{3C84E847-E630-4446-A391-24DDDCFC4088}" type="slidenum">
              <a:t>&lt;#&gt;</a:t>
            </a:fld>
          </a:p>
        </p:txBody>
      </p:sp>
      <p:sp>
        <p:nvSpPr>
          <p:cNvPr id="9" name="PlaceHolder 8"/>
          <p:cNvSpPr>
            <a:spLocks noGrp="1"/>
          </p:cNvSpPr>
          <p:nvPr>
            <p:ph type="dt" idx="7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1"/>
          </p:nvPr>
        </p:nvSpPr>
        <p:spPr/>
        <p:txBody>
          <a:bodyPr/>
          <a:p>
            <a:fld id="{4D4D975E-D824-4DB1-89D9-111AF775B20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B0B318A1-DF76-4765-9DF5-98A861A2372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9"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0"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1"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2"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3"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4"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3"/>
          </p:nvPr>
        </p:nvSpPr>
        <p:spPr/>
        <p:txBody>
          <a:bodyPr/>
          <a:p>
            <a:fld id="{EA318510-AAFC-4121-A132-42BD179E9680}" type="slidenum">
              <a:t>&lt;#&gt;</a:t>
            </a:fld>
          </a:p>
        </p:txBody>
      </p:sp>
      <p:sp>
        <p:nvSpPr>
          <p:cNvPr id="11" name="PlaceHolder 10"/>
          <p:cNvSpPr>
            <a:spLocks noGrp="1"/>
          </p:cNvSpPr>
          <p:nvPr>
            <p:ph type="dt" idx="7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4E826A4-D985-452E-8236-B901B464F26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B90A836-3F1B-49B5-A3E0-3549B977690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043D907-F676-4190-9D03-C08F43897E4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6FB221F-23F3-493B-9735-EA794D327DF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A00770FE-26E4-4F08-BC64-696C22D59279}"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FD2FD8B4-EB03-45EE-880B-A3FE53863596}"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A4DBF0CF-27AE-4E48-ABA1-DFC2D6FAA40F}"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7"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EABA65B4-A044-4829-917D-3EFB98FE5D63}"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9"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80B79CB-38A5-4177-86DF-F636754C50D0}"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sldNum" idx="1"/>
          </p:nvPr>
        </p:nvSpPr>
        <p:spPr/>
        <p:txBody>
          <a:bodyPr/>
          <a:p>
            <a:fld id="{C67BCA11-8C31-401D-902C-FF530B837AE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4A9390DC-B2E1-4805-B61D-DCE0A0165470}"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551BD13E-D7C6-4B34-8C6B-9E2ABA6D49B7}"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38B899EA-AF62-4C3A-834B-DC2BECCE5C39}"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CA70DF1-B861-45F3-A8C5-5AA466384B7C}"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751B027-DFCE-49A8-A955-909CAD28D3CA}"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FF380A0-02B4-48D8-800A-24D49D5B790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8"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9"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003F002E-B1B7-4E17-A093-53B0B6DAD887}"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4"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AFC3D314-E9F6-4A61-8F6D-D24460466052}"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6"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0"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AC5FB0CA-08C2-41B3-A166-F591D846C12F}"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CB790B78-F0C8-4762-9A73-198E0009856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sldNum" idx="1"/>
          </p:nvPr>
        </p:nvSpPr>
        <p:spPr/>
        <p:txBody>
          <a:bodyPr/>
          <a:p>
            <a:fld id="{BB7189B1-37A8-4CA9-B3CF-1A3E87312F5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D57E7832-2374-4461-9998-FE4D45BD2A1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45FC39B5-8A81-4AA4-B715-D17EBFCBFA9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A9898770-45C0-41D6-B737-7C59C195E82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B272C4F7-0AEC-4C1C-8F1C-B83ED191044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453BF1EA-18E4-46BA-A927-FD346D5E2BF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E163C02-2106-416F-A639-2653179251C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DAC07F6A-578F-4285-8CA8-50960D33439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DDC4080-3195-438C-A336-BEA5A06FB88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58B9FB81-237A-4B5D-9EA2-0968279490B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C190652C-EFB3-44BC-B5A7-997D3E6C95EE}"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sldNum" idx="1"/>
          </p:nvPr>
        </p:nvSpPr>
        <p:spPr/>
        <p:txBody>
          <a:bodyPr/>
          <a:p>
            <a:fld id="{A0B4F6BF-D20F-4EF0-A8C7-EA5E15DE4B0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65863FBC-0B83-48C6-B4D4-40F2D779DC16}"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8F77D88C-1B41-4FDE-AA57-264EF513E90F}"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3"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67110F4F-44F2-4A8C-875C-193429EBDECC}"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E6924AC8-B697-44C2-96FB-2337D1AA3BCE}"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E32F7B58-2A28-4B3D-9962-1C42148ABC01}"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A232F406-1774-47E0-9D49-715011B9DBA3}"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40F19542-BBB1-4675-A331-C1E2C8FE18ED}"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839BEB3A-9B5D-40EB-A30C-9469461231C0}"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8"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896F405E-0D10-41A7-9941-CAE0B885883B}"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2"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D45562C3-5126-43C0-BDB1-8A6A001786A0}"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C97C0554-ED4F-467A-AA7E-AA3A45400F9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4"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5"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012D65FA-9BB3-4975-BC84-AE7B62D77A5B}"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A8129E00-A475-4B4B-81CF-BE37EB999A88}"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2"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3"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4"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DF888DBB-7E90-4F5C-872F-C09F3032FE7F}"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0D51FF0C-D939-466A-9CE8-88514FE9A98D}"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B6B7CA38-6907-4BA7-A906-ADABD605AF59}"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2"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8824A5A9-17C5-43AC-B01F-9740DD501BE5}"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A2570BFD-0499-4921-9DA7-8BB5210D0311}"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D41E3C6C-233C-4523-8653-B22C3EA9FDCE}"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D82EF17F-236A-448B-A835-7D531EC876EA}"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3907302-7D86-4622-A7BD-21542ED155C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413A55C0-BD95-42F3-AA9E-CEE4576FA8C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885CF2B-32D9-4A77-B866-A13047B746F1}"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1B99E51-E52B-474A-BED7-BF7F1B57A561}"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1"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3E2B518A-BE2D-4FB2-945D-5F1FE18C3F0C}"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FEACB47E-93A7-45B2-9C61-044DA3B91BC1}"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9"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1"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18CA88D5-D12C-467F-9FF9-E1230CC1676D}"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125D3D21-B2A1-41B5-A8B8-18193866F333}"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29A69432-2B69-4F06-9F9C-A41FE7254D66}"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04A9AB42-1117-4691-899A-E3D7BD40C250}"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7663913C-D676-4040-8890-62D63CC28838}"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6E3A5C31-E2D0-497B-9854-F6E7775E3654}"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6A59AB52-CF3D-41F2-892F-A61BDB7FDD1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2A803558-9D04-4363-BBCE-42AE9DAC6D33}"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293532A5-6078-43FD-8413-236D6D22DF88}"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7D8964C-9B7C-4B70-8AE6-E08F0A86A967}"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0A6CA94-7C62-4B0B-9675-633079E22C56}"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3FADA2CC-8B1C-4420-AF08-31717AA9F0E8}"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5B519E97-E9CB-43E2-A7E9-7DF60EB3553A}"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A124EC56-6153-4C0D-B5A2-9E9C8E284A0F}"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57FD3548-02CD-4FFC-9A32-FDBD8688954B}"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0C9C10EE-48B5-47EE-9C21-3F61AE6E4E3D}"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F5788434-E576-4742-9B9E-44F743513D66}"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7.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93.xml"/><Relationship Id="rId6" Type="http://schemas.openxmlformats.org/officeDocument/2006/relationships/slideLayout" Target="../slideLayouts/slideLayout194.xml"/><Relationship Id="rId7" Type="http://schemas.openxmlformats.org/officeDocument/2006/relationships/slideLayout" Target="../slideLayouts/slideLayout195.xml"/><Relationship Id="rId8" Type="http://schemas.openxmlformats.org/officeDocument/2006/relationships/slideLayout" Target="../slideLayouts/slideLayout196.xml"/><Relationship Id="rId9" Type="http://schemas.openxmlformats.org/officeDocument/2006/relationships/slideLayout" Target="../slideLayouts/slideLayout197.xml"/><Relationship Id="rId10" Type="http://schemas.openxmlformats.org/officeDocument/2006/relationships/slideLayout" Target="../slideLayouts/slideLayout198.xml"/><Relationship Id="rId11" Type="http://schemas.openxmlformats.org/officeDocument/2006/relationships/slideLayout" Target="../slideLayouts/slideLayout199.xml"/><Relationship Id="rId12" Type="http://schemas.openxmlformats.org/officeDocument/2006/relationships/slideLayout" Target="../slideLayouts/slideLayout200.xml"/><Relationship Id="rId13" Type="http://schemas.openxmlformats.org/officeDocument/2006/relationships/slideLayout" Target="../slideLayouts/slideLayout201.xml"/><Relationship Id="rId14" Type="http://schemas.openxmlformats.org/officeDocument/2006/relationships/slideLayout" Target="../slideLayouts/slideLayout202.xml"/><Relationship Id="rId15" Type="http://schemas.openxmlformats.org/officeDocument/2006/relationships/slideLayout" Target="../slideLayouts/slideLayout203.xml"/><Relationship Id="rId16"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05.xml"/><Relationship Id="rId6" Type="http://schemas.openxmlformats.org/officeDocument/2006/relationships/slideLayout" Target="../slideLayouts/slideLayout206.xml"/><Relationship Id="rId7" Type="http://schemas.openxmlformats.org/officeDocument/2006/relationships/slideLayout" Target="../slideLayouts/slideLayout207.xml"/><Relationship Id="rId8" Type="http://schemas.openxmlformats.org/officeDocument/2006/relationships/slideLayout" Target="../slideLayouts/slideLayout208.xml"/><Relationship Id="rId9" Type="http://schemas.openxmlformats.org/officeDocument/2006/relationships/slideLayout" Target="../slideLayouts/slideLayout209.xml"/><Relationship Id="rId10" Type="http://schemas.openxmlformats.org/officeDocument/2006/relationships/slideLayout" Target="../slideLayouts/slideLayout210.xml"/><Relationship Id="rId11" Type="http://schemas.openxmlformats.org/officeDocument/2006/relationships/slideLayout" Target="../slideLayouts/slideLayout211.xml"/><Relationship Id="rId12" Type="http://schemas.openxmlformats.org/officeDocument/2006/relationships/slideLayout" Target="../slideLayouts/slideLayout212.xml"/><Relationship Id="rId13" Type="http://schemas.openxmlformats.org/officeDocument/2006/relationships/slideLayout" Target="../slideLayouts/slideLayout213.xml"/><Relationship Id="rId14" Type="http://schemas.openxmlformats.org/officeDocument/2006/relationships/slideLayout" Target="../slideLayouts/slideLayout214.xml"/><Relationship Id="rId15" Type="http://schemas.openxmlformats.org/officeDocument/2006/relationships/slideLayout" Target="../slideLayouts/slideLayout215.xml"/><Relationship Id="rId16"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7.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29.xml"/><Relationship Id="rId6" Type="http://schemas.openxmlformats.org/officeDocument/2006/relationships/slideLayout" Target="../slideLayouts/slideLayout230.xml"/><Relationship Id="rId7" Type="http://schemas.openxmlformats.org/officeDocument/2006/relationships/slideLayout" Target="../slideLayouts/slideLayout231.xml"/><Relationship Id="rId8" Type="http://schemas.openxmlformats.org/officeDocument/2006/relationships/slideLayout" Target="../slideLayouts/slideLayout232.xml"/><Relationship Id="rId9" Type="http://schemas.openxmlformats.org/officeDocument/2006/relationships/slideLayout" Target="../slideLayouts/slideLayout233.xml"/><Relationship Id="rId10" Type="http://schemas.openxmlformats.org/officeDocument/2006/relationships/slideLayout" Target="../slideLayouts/slideLayout234.xml"/><Relationship Id="rId11" Type="http://schemas.openxmlformats.org/officeDocument/2006/relationships/slideLayout" Target="../slideLayouts/slideLayout235.xml"/><Relationship Id="rId12" Type="http://schemas.openxmlformats.org/officeDocument/2006/relationships/slideLayout" Target="../slideLayouts/slideLayout236.xml"/><Relationship Id="rId13" Type="http://schemas.openxmlformats.org/officeDocument/2006/relationships/slideLayout" Target="../slideLayouts/slideLayout237.xml"/><Relationship Id="rId14" Type="http://schemas.openxmlformats.org/officeDocument/2006/relationships/slideLayout" Target="../slideLayouts/slideLayout238.xml"/><Relationship Id="rId15" Type="http://schemas.openxmlformats.org/officeDocument/2006/relationships/slideLayout" Target="../slideLayouts/slideLayout239.xml"/><Relationship Id="rId16"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7.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65.xml"/><Relationship Id="rId6" Type="http://schemas.openxmlformats.org/officeDocument/2006/relationships/slideLayout" Target="../slideLayouts/slideLayout266.xml"/><Relationship Id="rId7" Type="http://schemas.openxmlformats.org/officeDocument/2006/relationships/slideLayout" Target="../slideLayouts/slideLayout267.xml"/><Relationship Id="rId8" Type="http://schemas.openxmlformats.org/officeDocument/2006/relationships/slideLayout" Target="../slideLayouts/slideLayout268.xml"/><Relationship Id="rId9" Type="http://schemas.openxmlformats.org/officeDocument/2006/relationships/slideLayout" Target="../slideLayouts/slideLayout269.xml"/><Relationship Id="rId10" Type="http://schemas.openxmlformats.org/officeDocument/2006/relationships/slideLayout" Target="../slideLayouts/slideLayout270.xml"/><Relationship Id="rId11" Type="http://schemas.openxmlformats.org/officeDocument/2006/relationships/slideLayout" Target="../slideLayouts/slideLayout271.xml"/><Relationship Id="rId12" Type="http://schemas.openxmlformats.org/officeDocument/2006/relationships/slideLayout" Target="../slideLayouts/slideLayout272.xml"/><Relationship Id="rId13" Type="http://schemas.openxmlformats.org/officeDocument/2006/relationships/slideLayout" Target="../slideLayouts/slideLayout273.xml"/><Relationship Id="rId14" Type="http://schemas.openxmlformats.org/officeDocument/2006/relationships/slideLayout" Target="../slideLayouts/slideLayout274.xml"/><Relationship Id="rId15" Type="http://schemas.openxmlformats.org/officeDocument/2006/relationships/slideLayout" Target="../slideLayouts/slideLayout275.xml"/><Relationship Id="rId16"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06400"/>
            <a:ext cx="8229600" cy="5608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7462440" y="66607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13CEA-E050-48FF-94C8-898727FC3BF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4"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415" name="Pravokotni trikotnik 13"/>
          <p:cNvGrpSpPr/>
          <p:nvPr/>
        </p:nvGrpSpPr>
        <p:grpSpPr>
          <a:xfrm>
            <a:off x="-6480" y="6175440"/>
            <a:ext cx="3402000" cy="1152360"/>
            <a:chOff x="-6480" y="6175440"/>
            <a:chExt cx="3402000" cy="1152360"/>
          </a:xfrm>
        </p:grpSpPr>
        <p:pic>
          <p:nvPicPr>
            <p:cNvPr id="416" name="Pravokotni trikotnik 13" descr=""/>
            <p:cNvPicPr/>
            <p:nvPr/>
          </p:nvPicPr>
          <p:blipFill>
            <a:blip r:embed="rId2"/>
            <a:stretch/>
          </p:blipFill>
          <p:spPr>
            <a:xfrm>
              <a:off x="-6480" y="6175440"/>
              <a:ext cx="3402000" cy="1152360"/>
            </a:xfrm>
            <a:prstGeom prst="rect">
              <a:avLst/>
            </a:prstGeom>
            <a:ln w="0">
              <a:noFill/>
            </a:ln>
          </p:spPr>
        </p:pic>
        <p:sp>
          <p:nvSpPr>
            <p:cNvPr id="417"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418" name="Raven povezovalnik 14" descr=""/>
          <p:cNvPicPr/>
          <p:nvPr/>
        </p:nvPicPr>
        <p:blipFill>
          <a:blip r:embed="rId3"/>
          <a:stretch/>
        </p:blipFill>
        <p:spPr>
          <a:xfrm>
            <a:off x="-19080" y="6168960"/>
            <a:ext cx="3414600" cy="1170000"/>
          </a:xfrm>
          <a:prstGeom prst="rect">
            <a:avLst/>
          </a:prstGeom>
          <a:ln w="0">
            <a:noFill/>
          </a:ln>
        </p:spPr>
      </p:pic>
      <p:sp>
        <p:nvSpPr>
          <p:cNvPr id="41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2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21" name="PlaceHolder 3"/>
          <p:cNvSpPr>
            <a:spLocks noGrp="1"/>
          </p:cNvSpPr>
          <p:nvPr>
            <p:ph type="dt" idx="26"/>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2" name="PlaceHolder 4"/>
          <p:cNvSpPr>
            <a:spLocks noGrp="1"/>
          </p:cNvSpPr>
          <p:nvPr>
            <p:ph type="ftr" idx="27"/>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3" name="PlaceHolder 5"/>
          <p:cNvSpPr>
            <a:spLocks noGrp="1"/>
          </p:cNvSpPr>
          <p:nvPr>
            <p:ph type="sldNum" idx="28"/>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E9FCF-397E-4F48-B3AA-8BF50974251B}"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6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62" name="PlaceHolder 3"/>
          <p:cNvSpPr>
            <a:spLocks noGrp="1"/>
          </p:cNvSpPr>
          <p:nvPr>
            <p:ph type="dt" idx="29"/>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3" name="PlaceHolder 4"/>
          <p:cNvSpPr>
            <a:spLocks noGrp="1"/>
          </p:cNvSpPr>
          <p:nvPr>
            <p:ph type="ftr" idx="30"/>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4" name="PlaceHolder 5"/>
          <p:cNvSpPr>
            <a:spLocks noGrp="1"/>
          </p:cNvSpPr>
          <p:nvPr>
            <p:ph type="sldNum" idx="31"/>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08E92-3AD1-446E-B4AC-8B032E379FDF}"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1" name="Prostoročno 10"/>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02" name="Prostoročno 15"/>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03" name="Pravokotni trikotnik 15"/>
          <p:cNvGrpSpPr/>
          <p:nvPr/>
        </p:nvGrpSpPr>
        <p:grpSpPr>
          <a:xfrm>
            <a:off x="-6480" y="6175440"/>
            <a:ext cx="3402000" cy="1152360"/>
            <a:chOff x="-6480" y="6175440"/>
            <a:chExt cx="3402000" cy="1152360"/>
          </a:xfrm>
        </p:grpSpPr>
        <p:pic>
          <p:nvPicPr>
            <p:cNvPr id="504" name="Pravokotni trikotnik 15" descr=""/>
            <p:cNvPicPr/>
            <p:nvPr/>
          </p:nvPicPr>
          <p:blipFill>
            <a:blip r:embed="rId3"/>
            <a:stretch/>
          </p:blipFill>
          <p:spPr>
            <a:xfrm>
              <a:off x="-6480" y="6175440"/>
              <a:ext cx="3402000" cy="1152360"/>
            </a:xfrm>
            <a:prstGeom prst="rect">
              <a:avLst/>
            </a:prstGeom>
            <a:ln w="0">
              <a:noFill/>
            </a:ln>
          </p:spPr>
        </p:pic>
        <p:sp>
          <p:nvSpPr>
            <p:cNvPr id="505"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506" name="Raven povezovalnik 16" descr=""/>
          <p:cNvPicPr/>
          <p:nvPr/>
        </p:nvPicPr>
        <p:blipFill>
          <a:blip r:embed="rId4"/>
          <a:stretch/>
        </p:blipFill>
        <p:spPr>
          <a:xfrm>
            <a:off x="-19080" y="6168960"/>
            <a:ext cx="3414600" cy="1170000"/>
          </a:xfrm>
          <a:prstGeom prst="rect">
            <a:avLst/>
          </a:prstGeom>
          <a:ln w="0">
            <a:noFill/>
          </a:ln>
        </p:spPr>
      </p:pic>
      <p:sp>
        <p:nvSpPr>
          <p:cNvPr id="507" name="Škarnice 18"/>
          <p:cNvSpPr/>
          <p:nvPr/>
        </p:nvSpPr>
        <p:spPr>
          <a:xfrm>
            <a:off x="86644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8" name="Škarnice 19"/>
          <p:cNvSpPr/>
          <p:nvPr/>
        </p:nvSpPr>
        <p:spPr>
          <a:xfrm>
            <a:off x="84772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51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511" name="PlaceHolder 3"/>
          <p:cNvSpPr>
            <a:spLocks noGrp="1"/>
          </p:cNvSpPr>
          <p:nvPr>
            <p:ph type="dt" idx="3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2" name="PlaceHolder 4"/>
          <p:cNvSpPr>
            <a:spLocks noGrp="1"/>
          </p:cNvSpPr>
          <p:nvPr>
            <p:ph type="ftr" idx="3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3" name="PlaceHolder 5"/>
          <p:cNvSpPr>
            <a:spLocks noGrp="1"/>
          </p:cNvSpPr>
          <p:nvPr>
            <p:ph type="sldNum" idx="3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B27B3-980D-459F-8311-A0D1C90FA8C1}"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51"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52" name="Pravokotni trikotnik 13"/>
          <p:cNvGrpSpPr/>
          <p:nvPr/>
        </p:nvGrpSpPr>
        <p:grpSpPr>
          <a:xfrm>
            <a:off x="-6480" y="6175440"/>
            <a:ext cx="3402000" cy="1152360"/>
            <a:chOff x="-6480" y="6175440"/>
            <a:chExt cx="3402000" cy="1152360"/>
          </a:xfrm>
        </p:grpSpPr>
        <p:pic>
          <p:nvPicPr>
            <p:cNvPr id="553" name="Pravokotni trikotnik 13" descr=""/>
            <p:cNvPicPr/>
            <p:nvPr/>
          </p:nvPicPr>
          <p:blipFill>
            <a:blip r:embed="rId2"/>
            <a:stretch/>
          </p:blipFill>
          <p:spPr>
            <a:xfrm>
              <a:off x="-6480" y="6175440"/>
              <a:ext cx="3402000" cy="1152360"/>
            </a:xfrm>
            <a:prstGeom prst="rect">
              <a:avLst/>
            </a:prstGeom>
            <a:ln w="0">
              <a:noFill/>
            </a:ln>
          </p:spPr>
        </p:pic>
        <p:sp>
          <p:nvSpPr>
            <p:cNvPr id="554"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555" name="Raven povezovalnik 14" descr=""/>
          <p:cNvPicPr/>
          <p:nvPr/>
        </p:nvPicPr>
        <p:blipFill>
          <a:blip r:embed="rId3"/>
          <a:stretch/>
        </p:blipFill>
        <p:spPr>
          <a:xfrm>
            <a:off x="-19080" y="6168960"/>
            <a:ext cx="3414600" cy="1170000"/>
          </a:xfrm>
          <a:prstGeom prst="rect">
            <a:avLst/>
          </a:prstGeom>
          <a:ln w="0">
            <a:noFill/>
          </a:ln>
        </p:spPr>
      </p:pic>
      <p:sp>
        <p:nvSpPr>
          <p:cNvPr id="55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57"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58" name="PlaceHolder 3"/>
          <p:cNvSpPr>
            <a:spLocks noGrp="1"/>
          </p:cNvSpPr>
          <p:nvPr>
            <p:ph type="dt" idx="3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9" name="PlaceHolder 4"/>
          <p:cNvSpPr>
            <a:spLocks noGrp="1"/>
          </p:cNvSpPr>
          <p:nvPr>
            <p:ph type="ftr" idx="3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0" name="PlaceHolder 5"/>
          <p:cNvSpPr>
            <a:spLocks noGrp="1"/>
          </p:cNvSpPr>
          <p:nvPr>
            <p:ph type="sldNum" idx="3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134D6-08F1-4764-9A0A-3797ED09B9BC}"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98"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99" name="Pravokotni trikotnik 13"/>
          <p:cNvGrpSpPr/>
          <p:nvPr/>
        </p:nvGrpSpPr>
        <p:grpSpPr>
          <a:xfrm>
            <a:off x="-6480" y="6175440"/>
            <a:ext cx="3402000" cy="1152360"/>
            <a:chOff x="-6480" y="6175440"/>
            <a:chExt cx="3402000" cy="1152360"/>
          </a:xfrm>
        </p:grpSpPr>
        <p:pic>
          <p:nvPicPr>
            <p:cNvPr id="600" name="Pravokotni trikotnik 13" descr=""/>
            <p:cNvPicPr/>
            <p:nvPr/>
          </p:nvPicPr>
          <p:blipFill>
            <a:blip r:embed="rId2"/>
            <a:stretch/>
          </p:blipFill>
          <p:spPr>
            <a:xfrm>
              <a:off x="-6480" y="6175440"/>
              <a:ext cx="3402000" cy="1152360"/>
            </a:xfrm>
            <a:prstGeom prst="rect">
              <a:avLst/>
            </a:prstGeom>
            <a:ln w="0">
              <a:noFill/>
            </a:ln>
          </p:spPr>
        </p:pic>
        <p:sp>
          <p:nvSpPr>
            <p:cNvPr id="601"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02" name="Raven povezovalnik 14" descr=""/>
          <p:cNvPicPr/>
          <p:nvPr/>
        </p:nvPicPr>
        <p:blipFill>
          <a:blip r:embed="rId3"/>
          <a:stretch/>
        </p:blipFill>
        <p:spPr>
          <a:xfrm>
            <a:off x="-19080" y="6168960"/>
            <a:ext cx="3414600" cy="1170000"/>
          </a:xfrm>
          <a:prstGeom prst="rect">
            <a:avLst/>
          </a:prstGeom>
          <a:ln w="0">
            <a:noFill/>
          </a:ln>
        </p:spPr>
      </p:pic>
      <p:sp>
        <p:nvSpPr>
          <p:cNvPr id="60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04"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05" name="PlaceHolder 3"/>
          <p:cNvSpPr>
            <a:spLocks noGrp="1"/>
          </p:cNvSpPr>
          <p:nvPr>
            <p:ph type="dt" idx="3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6" name="PlaceHolder 4"/>
          <p:cNvSpPr>
            <a:spLocks noGrp="1"/>
          </p:cNvSpPr>
          <p:nvPr>
            <p:ph type="ftr" idx="3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7" name="PlaceHolder 5"/>
          <p:cNvSpPr>
            <a:spLocks noGrp="1"/>
          </p:cNvSpPr>
          <p:nvPr>
            <p:ph type="sldNum" idx="4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BB286-DFE4-42F1-8890-310BB2C838FE}"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ravokotni trikotnik 10"/>
          <p:cNvSpPr/>
          <p:nvPr/>
        </p:nvSpPr>
        <p:spPr>
          <a:xfrm>
            <a:off x="0" y="497520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645" name="Skupina 15"/>
          <p:cNvGrpSpPr/>
          <p:nvPr/>
        </p:nvGrpSpPr>
        <p:grpSpPr>
          <a:xfrm>
            <a:off x="-3240" y="5283360"/>
            <a:ext cx="9147240" cy="2039760"/>
            <a:chOff x="-3240" y="5283360"/>
            <a:chExt cx="9147240" cy="2039760"/>
          </a:xfrm>
        </p:grpSpPr>
        <p:sp>
          <p:nvSpPr>
            <p:cNvPr id="646" name="Prostoročno 15"/>
            <p:cNvSpPr/>
            <p:nvPr/>
          </p:nvSpPr>
          <p:spPr>
            <a:xfrm>
              <a:off x="1694520" y="5283360"/>
              <a:ext cx="7449480" cy="520920"/>
            </a:xfrm>
            <a:custGeom>
              <a:avLst/>
              <a:gdLst>
                <a:gd name="textAreaLeft" fmla="*/ 0 w 7449480"/>
                <a:gd name="textAreaRight" fmla="*/ 7449840 w 7449480"/>
                <a:gd name="textAreaTop" fmla="*/ 0 h 520920"/>
                <a:gd name="textAreaBottom" fmla="*/ 521280 h 5209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47" name="Prostoročno 18"/>
            <p:cNvSpPr/>
            <p:nvPr/>
          </p:nvSpPr>
          <p:spPr>
            <a:xfrm>
              <a:off x="44640" y="5587200"/>
              <a:ext cx="9099360" cy="842040"/>
            </a:xfrm>
            <a:custGeom>
              <a:avLst/>
              <a:gdLst>
                <a:gd name="textAreaLeft" fmla="*/ 0 w 9099360"/>
                <a:gd name="textAreaRight" fmla="*/ 9099720 w 9099360"/>
                <a:gd name="textAreaTop" fmla="*/ 0 h 842040"/>
                <a:gd name="textAreaBottom" fmla="*/ 842400 h 8420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648" name="Prostoročno 18"/>
            <p:cNvGrpSpPr/>
            <p:nvPr/>
          </p:nvGrpSpPr>
          <p:grpSpPr>
            <a:xfrm>
              <a:off x="8640" y="5334120"/>
              <a:ext cx="9135360" cy="1989000"/>
              <a:chOff x="8640" y="5334120"/>
              <a:chExt cx="9135360" cy="1989000"/>
            </a:xfrm>
          </p:grpSpPr>
          <p:pic>
            <p:nvPicPr>
              <p:cNvPr id="649" name="Prostoročno 18" descr=""/>
              <p:cNvPicPr/>
              <p:nvPr/>
            </p:nvPicPr>
            <p:blipFill>
              <a:blip r:embed="rId2"/>
              <a:stretch/>
            </p:blipFill>
            <p:spPr>
              <a:xfrm>
                <a:off x="8640" y="5334120"/>
                <a:ext cx="9135360" cy="1989000"/>
              </a:xfrm>
              <a:prstGeom prst="rect">
                <a:avLst/>
              </a:prstGeom>
              <a:ln w="0">
                <a:noFill/>
              </a:ln>
            </p:spPr>
          </p:pic>
          <p:sp>
            <p:nvSpPr>
              <p:cNvPr id="650" name=""/>
              <p:cNvSpPr/>
              <p:nvPr/>
            </p:nvSpPr>
            <p:spPr>
              <a:xfrm>
                <a:off x="9000" y="533448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51" name="Raven povezovalnik 19" descr=""/>
            <p:cNvPicPr/>
            <p:nvPr/>
          </p:nvPicPr>
          <p:blipFill>
            <a:blip r:embed="rId3"/>
            <a:stretch/>
          </p:blipFill>
          <p:spPr>
            <a:xfrm>
              <a:off x="-3240" y="5321880"/>
              <a:ext cx="9147240" cy="860040"/>
            </a:xfrm>
            <a:prstGeom prst="rect">
              <a:avLst/>
            </a:prstGeom>
            <a:ln w="0">
              <a:noFill/>
            </a:ln>
          </p:spPr>
        </p:pic>
      </p:grpSp>
      <p:sp>
        <p:nvSpPr>
          <p:cNvPr id="6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5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54" name="PlaceHolder 3"/>
          <p:cNvSpPr>
            <a:spLocks noGrp="1"/>
          </p:cNvSpPr>
          <p:nvPr>
            <p:ph type="dt" idx="4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5" name="PlaceHolder 4"/>
          <p:cNvSpPr>
            <a:spLocks noGrp="1"/>
          </p:cNvSpPr>
          <p:nvPr>
            <p:ph type="ftr" idx="4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6" name="PlaceHolder 5"/>
          <p:cNvSpPr>
            <a:spLocks noGrp="1"/>
          </p:cNvSpPr>
          <p:nvPr>
            <p:ph type="sldNum" idx="4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58EAC-15F4-4A0B-8516-E3DE0690A7CE}"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94"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695" name="Pravokotni trikotnik 13"/>
          <p:cNvGrpSpPr/>
          <p:nvPr/>
        </p:nvGrpSpPr>
        <p:grpSpPr>
          <a:xfrm>
            <a:off x="-6480" y="6175440"/>
            <a:ext cx="3402000" cy="1152360"/>
            <a:chOff x="-6480" y="6175440"/>
            <a:chExt cx="3402000" cy="1152360"/>
          </a:xfrm>
        </p:grpSpPr>
        <p:pic>
          <p:nvPicPr>
            <p:cNvPr id="696" name="Pravokotni trikotnik 13" descr=""/>
            <p:cNvPicPr/>
            <p:nvPr/>
          </p:nvPicPr>
          <p:blipFill>
            <a:blip r:embed="rId2"/>
            <a:stretch/>
          </p:blipFill>
          <p:spPr>
            <a:xfrm>
              <a:off x="-6480" y="6175440"/>
              <a:ext cx="3402000" cy="1152360"/>
            </a:xfrm>
            <a:prstGeom prst="rect">
              <a:avLst/>
            </a:prstGeom>
            <a:ln w="0">
              <a:noFill/>
            </a:ln>
          </p:spPr>
        </p:pic>
        <p:sp>
          <p:nvSpPr>
            <p:cNvPr id="697"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98" name="Raven povezovalnik 14" descr=""/>
          <p:cNvPicPr/>
          <p:nvPr/>
        </p:nvPicPr>
        <p:blipFill>
          <a:blip r:embed="rId3"/>
          <a:stretch/>
        </p:blipFill>
        <p:spPr>
          <a:xfrm>
            <a:off x="-19080" y="6168960"/>
            <a:ext cx="3414600" cy="1170000"/>
          </a:xfrm>
          <a:prstGeom prst="rect">
            <a:avLst/>
          </a:prstGeom>
          <a:ln w="0">
            <a:noFill/>
          </a:ln>
        </p:spPr>
      </p:pic>
      <p:sp>
        <p:nvSpPr>
          <p:cNvPr id="69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0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701" name="PlaceHolder 3"/>
          <p:cNvSpPr>
            <a:spLocks noGrp="1"/>
          </p:cNvSpPr>
          <p:nvPr>
            <p:ph type="dt" idx="44"/>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2" name="PlaceHolder 4"/>
          <p:cNvSpPr>
            <a:spLocks noGrp="1"/>
          </p:cNvSpPr>
          <p:nvPr>
            <p:ph type="ftr" idx="45"/>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3" name="PlaceHolder 5"/>
          <p:cNvSpPr>
            <a:spLocks noGrp="1"/>
          </p:cNvSpPr>
          <p:nvPr>
            <p:ph type="sldNum" idx="46"/>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064EF-7828-4733-A0BC-C5A77C8E07B1}"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40"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41"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742" name="Pravokotni trikotnik 13"/>
          <p:cNvGrpSpPr/>
          <p:nvPr/>
        </p:nvGrpSpPr>
        <p:grpSpPr>
          <a:xfrm>
            <a:off x="-6480" y="6175440"/>
            <a:ext cx="3402000" cy="1152360"/>
            <a:chOff x="-6480" y="6175440"/>
            <a:chExt cx="3402000" cy="1152360"/>
          </a:xfrm>
        </p:grpSpPr>
        <p:pic>
          <p:nvPicPr>
            <p:cNvPr id="743" name="Pravokotni trikotnik 13" descr=""/>
            <p:cNvPicPr/>
            <p:nvPr/>
          </p:nvPicPr>
          <p:blipFill>
            <a:blip r:embed="rId3"/>
            <a:stretch/>
          </p:blipFill>
          <p:spPr>
            <a:xfrm>
              <a:off x="-6480" y="6175440"/>
              <a:ext cx="3402000" cy="1152360"/>
            </a:xfrm>
            <a:prstGeom prst="rect">
              <a:avLst/>
            </a:prstGeom>
            <a:ln w="0">
              <a:noFill/>
            </a:ln>
          </p:spPr>
        </p:pic>
        <p:sp>
          <p:nvSpPr>
            <p:cNvPr id="744"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745" name="Raven povezovalnik 14" descr=""/>
          <p:cNvPicPr/>
          <p:nvPr/>
        </p:nvPicPr>
        <p:blipFill>
          <a:blip r:embed="rId4"/>
          <a:stretch/>
        </p:blipFill>
        <p:spPr>
          <a:xfrm>
            <a:off x="-19080" y="6168960"/>
            <a:ext cx="3414600" cy="1170000"/>
          </a:xfrm>
          <a:prstGeom prst="rect">
            <a:avLst/>
          </a:prstGeom>
          <a:ln w="0">
            <a:noFill/>
          </a:ln>
        </p:spPr>
      </p:pic>
      <p:sp>
        <p:nvSpPr>
          <p:cNvPr id="746" name="Škarnice 10"/>
          <p:cNvSpPr/>
          <p:nvPr/>
        </p:nvSpPr>
        <p:spPr>
          <a:xfrm>
            <a:off x="3637080" y="3205080"/>
            <a:ext cx="182520" cy="244440"/>
          </a:xfrm>
          <a:custGeom>
            <a:avLst/>
            <a:gdLst>
              <a:gd name="textAreaLeft" fmla="*/ 0 w 182520"/>
              <a:gd name="textAreaRight" fmla="*/ 182880 w 1825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7" name="Škarnice 11"/>
          <p:cNvSpPr/>
          <p:nvPr/>
        </p:nvSpPr>
        <p:spPr>
          <a:xfrm>
            <a:off x="3449520" y="3205080"/>
            <a:ext cx="184320" cy="244440"/>
          </a:xfrm>
          <a:custGeom>
            <a:avLst/>
            <a:gdLst>
              <a:gd name="textAreaLeft" fmla="*/ 0 w 184320"/>
              <a:gd name="textAreaRight" fmla="*/ 184680 w 1843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749"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750" name="PlaceHolder 3"/>
          <p:cNvSpPr>
            <a:spLocks noGrp="1"/>
          </p:cNvSpPr>
          <p:nvPr>
            <p:ph type="dt" idx="47"/>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1" name="PlaceHolder 4"/>
          <p:cNvSpPr>
            <a:spLocks noGrp="1"/>
          </p:cNvSpPr>
          <p:nvPr>
            <p:ph type="ftr" idx="48"/>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2" name="PlaceHolder 5"/>
          <p:cNvSpPr>
            <a:spLocks noGrp="1"/>
          </p:cNvSpPr>
          <p:nvPr>
            <p:ph type="sldNum" idx="49"/>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AAE66-E581-43CD-B784-91387B6FDB69}"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5"/>
    <p:sldLayoutId id="2147483858" r:id="rId6"/>
    <p:sldLayoutId id="2147483859" r:id="rId7"/>
    <p:sldLayoutId id="2147483860" r:id="rId8"/>
    <p:sldLayoutId id="2147483861" r:id="rId9"/>
    <p:sldLayoutId id="2147483862" r:id="rId10"/>
    <p:sldLayoutId id="2147483863" r:id="rId11"/>
    <p:sldLayoutId id="2147483864" r:id="rId12"/>
    <p:sldLayoutId id="2147483865" r:id="rId13"/>
    <p:sldLayoutId id="2147483866" r:id="rId14"/>
    <p:sldLayoutId id="2147483867" r:id="rId15"/>
    <p:sldLayoutId id="2147483868" r:id="rId16"/>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9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791" name="Pravokotni trikotnik 13"/>
          <p:cNvGrpSpPr/>
          <p:nvPr/>
        </p:nvGrpSpPr>
        <p:grpSpPr>
          <a:xfrm>
            <a:off x="-6480" y="6175440"/>
            <a:ext cx="3402000" cy="1152360"/>
            <a:chOff x="-6480" y="6175440"/>
            <a:chExt cx="3402000" cy="1152360"/>
          </a:xfrm>
        </p:grpSpPr>
        <p:pic>
          <p:nvPicPr>
            <p:cNvPr id="792" name="Pravokotni trikotnik 13" descr=""/>
            <p:cNvPicPr/>
            <p:nvPr/>
          </p:nvPicPr>
          <p:blipFill>
            <a:blip r:embed="rId3"/>
            <a:stretch/>
          </p:blipFill>
          <p:spPr>
            <a:xfrm>
              <a:off x="-6480" y="6175440"/>
              <a:ext cx="3402000" cy="1152360"/>
            </a:xfrm>
            <a:prstGeom prst="rect">
              <a:avLst/>
            </a:prstGeom>
            <a:ln w="0">
              <a:noFill/>
            </a:ln>
          </p:spPr>
        </p:pic>
        <p:sp>
          <p:nvSpPr>
            <p:cNvPr id="79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794" name="Raven povezovalnik 14" descr=""/>
          <p:cNvPicPr/>
          <p:nvPr/>
        </p:nvPicPr>
        <p:blipFill>
          <a:blip r:embed="rId4"/>
          <a:stretch/>
        </p:blipFill>
        <p:spPr>
          <a:xfrm>
            <a:off x="-19080" y="6168960"/>
            <a:ext cx="3414600" cy="1170000"/>
          </a:xfrm>
          <a:prstGeom prst="rect">
            <a:avLst/>
          </a:prstGeom>
          <a:ln w="0">
            <a:noFill/>
          </a:ln>
        </p:spPr>
      </p:pic>
      <p:sp>
        <p:nvSpPr>
          <p:cNvPr id="7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79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797" name="PlaceHolder 3"/>
          <p:cNvSpPr>
            <a:spLocks noGrp="1"/>
          </p:cNvSpPr>
          <p:nvPr>
            <p:ph type="dt" idx="50"/>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8" name="PlaceHolder 4"/>
          <p:cNvSpPr>
            <a:spLocks noGrp="1"/>
          </p:cNvSpPr>
          <p:nvPr>
            <p:ph type="ftr" idx="51"/>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9" name="PlaceHolder 5"/>
          <p:cNvSpPr>
            <a:spLocks noGrp="1"/>
          </p:cNvSpPr>
          <p:nvPr>
            <p:ph type="sldNum" idx="52"/>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F49A2-0C0C-4E7F-ADDC-7B56667E02BD}"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5"/>
    <p:sldLayoutId id="2147483871" r:id="rId6"/>
    <p:sldLayoutId id="2147483872" r:id="rId7"/>
    <p:sldLayoutId id="2147483873" r:id="rId8"/>
    <p:sldLayoutId id="2147483874" r:id="rId9"/>
    <p:sldLayoutId id="2147483875" r:id="rId10"/>
    <p:sldLayoutId id="2147483876" r:id="rId11"/>
    <p:sldLayoutId id="2147483877" r:id="rId12"/>
    <p:sldLayoutId id="2147483878" r:id="rId13"/>
    <p:sldLayoutId id="2147483879" r:id="rId14"/>
    <p:sldLayoutId id="2147483880" r:id="rId15"/>
    <p:sldLayoutId id="2147483881" r:id="rId16"/>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837"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38" name="PlaceHolder 3"/>
          <p:cNvSpPr>
            <a:spLocks noGrp="1"/>
          </p:cNvSpPr>
          <p:nvPr>
            <p:ph type="dt" idx="53"/>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9" name="PlaceHolder 4"/>
          <p:cNvSpPr>
            <a:spLocks noGrp="1"/>
          </p:cNvSpPr>
          <p:nvPr>
            <p:ph type="ftr" idx="54"/>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0" name="PlaceHolder 5"/>
          <p:cNvSpPr>
            <a:spLocks noGrp="1"/>
          </p:cNvSpPr>
          <p:nvPr>
            <p:ph type="sldNum" idx="55"/>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C1B85-85CE-4C7E-B10F-AA9E8D5F4FBC}"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41" name="Pravokotni trikotnik 13"/>
          <p:cNvGrpSpPr/>
          <p:nvPr/>
        </p:nvGrpSpPr>
        <p:grpSpPr>
          <a:xfrm>
            <a:off x="-6480" y="6175440"/>
            <a:ext cx="3402000" cy="1152360"/>
            <a:chOff x="-6480" y="6175440"/>
            <a:chExt cx="3402000" cy="1152360"/>
          </a:xfrm>
        </p:grpSpPr>
        <p:pic>
          <p:nvPicPr>
            <p:cNvPr id="42" name="Pravokotni trikotnik 13" descr=""/>
            <p:cNvPicPr/>
            <p:nvPr/>
          </p:nvPicPr>
          <p:blipFill>
            <a:blip r:embed="rId2"/>
            <a:stretch/>
          </p:blipFill>
          <p:spPr>
            <a:xfrm>
              <a:off x="-6480" y="6175440"/>
              <a:ext cx="3402000" cy="1152360"/>
            </a:xfrm>
            <a:prstGeom prst="rect">
              <a:avLst/>
            </a:prstGeom>
            <a:ln w="0">
              <a:noFill/>
            </a:ln>
          </p:spPr>
        </p:pic>
        <p:sp>
          <p:nvSpPr>
            <p:cNvPr id="4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44" name="Raven povezovalnik 14" descr=""/>
          <p:cNvPicPr/>
          <p:nvPr/>
        </p:nvPicPr>
        <p:blipFill>
          <a:blip r:embed="rId3"/>
          <a:stretch/>
        </p:blipFill>
        <p:spPr>
          <a:xfrm>
            <a:off x="-19080" y="6168960"/>
            <a:ext cx="3414600" cy="1170000"/>
          </a:xfrm>
          <a:prstGeom prst="rect">
            <a:avLst/>
          </a:prstGeom>
          <a:ln w="0">
            <a:noFill/>
          </a:ln>
        </p:spPr>
      </p:pic>
      <p:sp>
        <p:nvSpPr>
          <p:cNvPr id="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7" name="PlaceHolder 3"/>
          <p:cNvSpPr>
            <a:spLocks noGrp="1"/>
          </p:cNvSpPr>
          <p:nvPr>
            <p:ph type="dt" idx="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4"/>
          <p:cNvSpPr>
            <a:spLocks noGrp="1"/>
          </p:cNvSpPr>
          <p:nvPr>
            <p:ph type="ftr" idx="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5"/>
          <p:cNvSpPr>
            <a:spLocks noGrp="1"/>
          </p:cNvSpPr>
          <p:nvPr>
            <p:ph type="sldNum" idx="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EA776-8FCE-42FC-AE70-A968D7F5A706}"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7"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8"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879" name="Pravokotni trikotnik 13"/>
          <p:cNvGrpSpPr/>
          <p:nvPr/>
        </p:nvGrpSpPr>
        <p:grpSpPr>
          <a:xfrm>
            <a:off x="-6480" y="6175440"/>
            <a:ext cx="3402000" cy="1152360"/>
            <a:chOff x="-6480" y="6175440"/>
            <a:chExt cx="3402000" cy="1152360"/>
          </a:xfrm>
        </p:grpSpPr>
        <p:pic>
          <p:nvPicPr>
            <p:cNvPr id="880" name="Pravokotni trikotnik 13" descr=""/>
            <p:cNvPicPr/>
            <p:nvPr/>
          </p:nvPicPr>
          <p:blipFill>
            <a:blip r:embed="rId3"/>
            <a:stretch/>
          </p:blipFill>
          <p:spPr>
            <a:xfrm>
              <a:off x="-6480" y="6175440"/>
              <a:ext cx="3402000" cy="1152360"/>
            </a:xfrm>
            <a:prstGeom prst="rect">
              <a:avLst/>
            </a:prstGeom>
            <a:ln w="0">
              <a:noFill/>
            </a:ln>
          </p:spPr>
        </p:pic>
        <p:sp>
          <p:nvSpPr>
            <p:cNvPr id="881"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882" name="Raven povezovalnik 14" descr=""/>
          <p:cNvPicPr/>
          <p:nvPr/>
        </p:nvPicPr>
        <p:blipFill>
          <a:blip r:embed="rId4"/>
          <a:stretch/>
        </p:blipFill>
        <p:spPr>
          <a:xfrm>
            <a:off x="-19080" y="6168960"/>
            <a:ext cx="3414600" cy="1170000"/>
          </a:xfrm>
          <a:prstGeom prst="rect">
            <a:avLst/>
          </a:prstGeom>
          <a:ln w="0">
            <a:noFill/>
          </a:ln>
        </p:spPr>
      </p:pic>
      <p:sp>
        <p:nvSpPr>
          <p:cNvPr id="88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884"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885" name="PlaceHolder 3"/>
          <p:cNvSpPr>
            <a:spLocks noGrp="1"/>
          </p:cNvSpPr>
          <p:nvPr>
            <p:ph type="dt" idx="56"/>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6" name="PlaceHolder 4"/>
          <p:cNvSpPr>
            <a:spLocks noGrp="1"/>
          </p:cNvSpPr>
          <p:nvPr>
            <p:ph type="ftr" idx="57"/>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7" name="PlaceHolder 5"/>
          <p:cNvSpPr>
            <a:spLocks noGrp="1"/>
          </p:cNvSpPr>
          <p:nvPr>
            <p:ph type="sldNum" idx="58"/>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78646-B646-42D4-B823-28FE0B5A307B}"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5"/>
    <p:sldLayoutId id="2147483897" r:id="rId6"/>
    <p:sldLayoutId id="2147483898" r:id="rId7"/>
    <p:sldLayoutId id="2147483899" r:id="rId8"/>
    <p:sldLayoutId id="2147483900" r:id="rId9"/>
    <p:sldLayoutId id="2147483901" r:id="rId10"/>
    <p:sldLayoutId id="2147483902" r:id="rId11"/>
    <p:sldLayoutId id="2147483903" r:id="rId12"/>
    <p:sldLayoutId id="2147483904" r:id="rId13"/>
    <p:sldLayoutId id="2147483905" r:id="rId14"/>
    <p:sldLayoutId id="2147483906" r:id="rId15"/>
    <p:sldLayoutId id="2147483907" r:id="rId16"/>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25"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926" name="Pravokotni trikotnik 13"/>
          <p:cNvGrpSpPr/>
          <p:nvPr/>
        </p:nvGrpSpPr>
        <p:grpSpPr>
          <a:xfrm>
            <a:off x="-6480" y="6175440"/>
            <a:ext cx="3402000" cy="1152360"/>
            <a:chOff x="-6480" y="6175440"/>
            <a:chExt cx="3402000" cy="1152360"/>
          </a:xfrm>
        </p:grpSpPr>
        <p:pic>
          <p:nvPicPr>
            <p:cNvPr id="927" name="Pravokotni trikotnik 13" descr=""/>
            <p:cNvPicPr/>
            <p:nvPr/>
          </p:nvPicPr>
          <p:blipFill>
            <a:blip r:embed="rId2"/>
            <a:stretch/>
          </p:blipFill>
          <p:spPr>
            <a:xfrm>
              <a:off x="-6480" y="6175440"/>
              <a:ext cx="3402000" cy="1152360"/>
            </a:xfrm>
            <a:prstGeom prst="rect">
              <a:avLst/>
            </a:prstGeom>
            <a:ln w="0">
              <a:noFill/>
            </a:ln>
          </p:spPr>
        </p:pic>
        <p:sp>
          <p:nvSpPr>
            <p:cNvPr id="928"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929" name="Raven povezovalnik 14" descr=""/>
          <p:cNvPicPr/>
          <p:nvPr/>
        </p:nvPicPr>
        <p:blipFill>
          <a:blip r:embed="rId3"/>
          <a:stretch/>
        </p:blipFill>
        <p:spPr>
          <a:xfrm>
            <a:off x="-19080" y="6168960"/>
            <a:ext cx="3414600" cy="1170000"/>
          </a:xfrm>
          <a:prstGeom prst="rect">
            <a:avLst/>
          </a:prstGeom>
          <a:ln w="0">
            <a:noFill/>
          </a:ln>
        </p:spPr>
      </p:pic>
      <p:sp>
        <p:nvSpPr>
          <p:cNvPr id="93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3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32" name="PlaceHolder 3"/>
          <p:cNvSpPr>
            <a:spLocks noGrp="1"/>
          </p:cNvSpPr>
          <p:nvPr>
            <p:ph type="dt" idx="59"/>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3" name="PlaceHolder 4"/>
          <p:cNvSpPr>
            <a:spLocks noGrp="1"/>
          </p:cNvSpPr>
          <p:nvPr>
            <p:ph type="ftr" idx="60"/>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4" name="PlaceHolder 5"/>
          <p:cNvSpPr>
            <a:spLocks noGrp="1"/>
          </p:cNvSpPr>
          <p:nvPr>
            <p:ph type="sldNum" idx="61"/>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B6CC7-3E82-45CF-9952-558D773F2FDD}"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72"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73" name="PlaceHolder 3"/>
          <p:cNvSpPr>
            <a:spLocks noGrp="1"/>
          </p:cNvSpPr>
          <p:nvPr>
            <p:ph type="dt" idx="6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4" name="PlaceHolder 4"/>
          <p:cNvSpPr>
            <a:spLocks noGrp="1"/>
          </p:cNvSpPr>
          <p:nvPr>
            <p:ph type="ftr" idx="6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5" name="PlaceHolder 5"/>
          <p:cNvSpPr>
            <a:spLocks noGrp="1"/>
          </p:cNvSpPr>
          <p:nvPr>
            <p:ph type="sldNum" idx="6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E0509-72D0-4372-B27F-895049E4E2FC}"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12" name="Prostoročno 10"/>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13" name="Prostoročno 15"/>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014" name="Pravokotni trikotnik 15"/>
          <p:cNvGrpSpPr/>
          <p:nvPr/>
        </p:nvGrpSpPr>
        <p:grpSpPr>
          <a:xfrm>
            <a:off x="-6480" y="6175440"/>
            <a:ext cx="3402000" cy="1152360"/>
            <a:chOff x="-6480" y="6175440"/>
            <a:chExt cx="3402000" cy="1152360"/>
          </a:xfrm>
        </p:grpSpPr>
        <p:pic>
          <p:nvPicPr>
            <p:cNvPr id="1015" name="Pravokotni trikotnik 15" descr=""/>
            <p:cNvPicPr/>
            <p:nvPr/>
          </p:nvPicPr>
          <p:blipFill>
            <a:blip r:embed="rId3"/>
            <a:stretch/>
          </p:blipFill>
          <p:spPr>
            <a:xfrm>
              <a:off x="-6480" y="6175440"/>
              <a:ext cx="3402000" cy="1152360"/>
            </a:xfrm>
            <a:prstGeom prst="rect">
              <a:avLst/>
            </a:prstGeom>
            <a:ln w="0">
              <a:noFill/>
            </a:ln>
          </p:spPr>
        </p:pic>
        <p:sp>
          <p:nvSpPr>
            <p:cNvPr id="1016"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017" name="Raven povezovalnik 16" descr=""/>
          <p:cNvPicPr/>
          <p:nvPr/>
        </p:nvPicPr>
        <p:blipFill>
          <a:blip r:embed="rId4"/>
          <a:stretch/>
        </p:blipFill>
        <p:spPr>
          <a:xfrm>
            <a:off x="-19080" y="6168960"/>
            <a:ext cx="3414600" cy="1170000"/>
          </a:xfrm>
          <a:prstGeom prst="rect">
            <a:avLst/>
          </a:prstGeom>
          <a:ln w="0">
            <a:noFill/>
          </a:ln>
        </p:spPr>
      </p:pic>
      <p:sp>
        <p:nvSpPr>
          <p:cNvPr id="1018" name="Škarnice 18"/>
          <p:cNvSpPr/>
          <p:nvPr/>
        </p:nvSpPr>
        <p:spPr>
          <a:xfrm>
            <a:off x="86644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9" name="Škarnice 19"/>
          <p:cNvSpPr/>
          <p:nvPr/>
        </p:nvSpPr>
        <p:spPr>
          <a:xfrm>
            <a:off x="84772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2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22" name="PlaceHolder 3"/>
          <p:cNvSpPr>
            <a:spLocks noGrp="1"/>
          </p:cNvSpPr>
          <p:nvPr>
            <p:ph type="dt" idx="6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3" name="PlaceHolder 4"/>
          <p:cNvSpPr>
            <a:spLocks noGrp="1"/>
          </p:cNvSpPr>
          <p:nvPr>
            <p:ph type="ftr" idx="6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4" name="PlaceHolder 5"/>
          <p:cNvSpPr>
            <a:spLocks noGrp="1"/>
          </p:cNvSpPr>
          <p:nvPr>
            <p:ph type="sldNum" idx="6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08A0E-6C42-4E40-8D0D-9B327B87492C}"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5"/>
    <p:sldLayoutId id="2147483936" r:id="rId6"/>
    <p:sldLayoutId id="2147483937" r:id="rId7"/>
    <p:sldLayoutId id="2147483938" r:id="rId8"/>
    <p:sldLayoutId id="2147483939" r:id="rId9"/>
    <p:sldLayoutId id="2147483940" r:id="rId10"/>
    <p:sldLayoutId id="2147483941" r:id="rId11"/>
    <p:sldLayoutId id="2147483942" r:id="rId12"/>
    <p:sldLayoutId id="2147483943" r:id="rId13"/>
    <p:sldLayoutId id="2147483944" r:id="rId14"/>
    <p:sldLayoutId id="2147483945" r:id="rId15"/>
    <p:sldLayoutId id="2147483946" r:id="rId16"/>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62"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063" name="Pravokotni trikotnik 13"/>
          <p:cNvGrpSpPr/>
          <p:nvPr/>
        </p:nvGrpSpPr>
        <p:grpSpPr>
          <a:xfrm>
            <a:off x="-6480" y="6175440"/>
            <a:ext cx="3402000" cy="1152360"/>
            <a:chOff x="-6480" y="6175440"/>
            <a:chExt cx="3402000" cy="1152360"/>
          </a:xfrm>
        </p:grpSpPr>
        <p:pic>
          <p:nvPicPr>
            <p:cNvPr id="1064" name="Pravokotni trikotnik 13" descr=""/>
            <p:cNvPicPr/>
            <p:nvPr/>
          </p:nvPicPr>
          <p:blipFill>
            <a:blip r:embed="rId2"/>
            <a:stretch/>
          </p:blipFill>
          <p:spPr>
            <a:xfrm>
              <a:off x="-6480" y="6175440"/>
              <a:ext cx="3402000" cy="1152360"/>
            </a:xfrm>
            <a:prstGeom prst="rect">
              <a:avLst/>
            </a:prstGeom>
            <a:ln w="0">
              <a:noFill/>
            </a:ln>
          </p:spPr>
        </p:pic>
        <p:sp>
          <p:nvSpPr>
            <p:cNvPr id="1065"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066" name="Raven povezovalnik 14" descr=""/>
          <p:cNvPicPr/>
          <p:nvPr/>
        </p:nvPicPr>
        <p:blipFill>
          <a:blip r:embed="rId3"/>
          <a:stretch/>
        </p:blipFill>
        <p:spPr>
          <a:xfrm>
            <a:off x="-19080" y="6168960"/>
            <a:ext cx="3414600" cy="1170000"/>
          </a:xfrm>
          <a:prstGeom prst="rect">
            <a:avLst/>
          </a:prstGeom>
          <a:ln w="0">
            <a:noFill/>
          </a:ln>
        </p:spPr>
      </p:pic>
      <p:sp>
        <p:nvSpPr>
          <p:cNvPr id="10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068"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069" name="PlaceHolder 3"/>
          <p:cNvSpPr>
            <a:spLocks noGrp="1"/>
          </p:cNvSpPr>
          <p:nvPr>
            <p:ph type="dt" idx="6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0" name="PlaceHolder 4"/>
          <p:cNvSpPr>
            <a:spLocks noGrp="1"/>
          </p:cNvSpPr>
          <p:nvPr>
            <p:ph type="ftr" idx="6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1" name="PlaceHolder 5"/>
          <p:cNvSpPr>
            <a:spLocks noGrp="1"/>
          </p:cNvSpPr>
          <p:nvPr>
            <p:ph type="sldNum" idx="7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A3E68-252E-4A0A-8138-5FE678F76D8B}"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09"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110" name="Pravokotni trikotnik 13"/>
          <p:cNvGrpSpPr/>
          <p:nvPr/>
        </p:nvGrpSpPr>
        <p:grpSpPr>
          <a:xfrm>
            <a:off x="-6480" y="6175440"/>
            <a:ext cx="3402000" cy="1152360"/>
            <a:chOff x="-6480" y="6175440"/>
            <a:chExt cx="3402000" cy="1152360"/>
          </a:xfrm>
        </p:grpSpPr>
        <p:pic>
          <p:nvPicPr>
            <p:cNvPr id="1111" name="Pravokotni trikotnik 13" descr=""/>
            <p:cNvPicPr/>
            <p:nvPr/>
          </p:nvPicPr>
          <p:blipFill>
            <a:blip r:embed="rId2"/>
            <a:stretch/>
          </p:blipFill>
          <p:spPr>
            <a:xfrm>
              <a:off x="-6480" y="6175440"/>
              <a:ext cx="3402000" cy="1152360"/>
            </a:xfrm>
            <a:prstGeom prst="rect">
              <a:avLst/>
            </a:prstGeom>
            <a:ln w="0">
              <a:noFill/>
            </a:ln>
          </p:spPr>
        </p:pic>
        <p:sp>
          <p:nvSpPr>
            <p:cNvPr id="1112"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113" name="Raven povezovalnik 14" descr=""/>
          <p:cNvPicPr/>
          <p:nvPr/>
        </p:nvPicPr>
        <p:blipFill>
          <a:blip r:embed="rId3"/>
          <a:stretch/>
        </p:blipFill>
        <p:spPr>
          <a:xfrm>
            <a:off x="-19080" y="6168960"/>
            <a:ext cx="3414600" cy="1170000"/>
          </a:xfrm>
          <a:prstGeom prst="rect">
            <a:avLst/>
          </a:prstGeom>
          <a:ln w="0">
            <a:noFill/>
          </a:ln>
        </p:spPr>
      </p:pic>
      <p:sp>
        <p:nvSpPr>
          <p:cNvPr id="11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115"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116" name="PlaceHolder 3"/>
          <p:cNvSpPr>
            <a:spLocks noGrp="1"/>
          </p:cNvSpPr>
          <p:nvPr>
            <p:ph type="dt" idx="7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7" name="PlaceHolder 4"/>
          <p:cNvSpPr>
            <a:spLocks noGrp="1"/>
          </p:cNvSpPr>
          <p:nvPr>
            <p:ph type="ftr" idx="7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8" name="PlaceHolder 5"/>
          <p:cNvSpPr>
            <a:spLocks noGrp="1"/>
          </p:cNvSpPr>
          <p:nvPr>
            <p:ph type="sldNum" idx="7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72696-61F2-44A4-87BF-E5102B8BE249}"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88" name="Pravokotni trikotnik 13"/>
          <p:cNvGrpSpPr/>
          <p:nvPr/>
        </p:nvGrpSpPr>
        <p:grpSpPr>
          <a:xfrm>
            <a:off x="-6480" y="6175440"/>
            <a:ext cx="3402000" cy="1152360"/>
            <a:chOff x="-6480" y="6175440"/>
            <a:chExt cx="3402000" cy="1152360"/>
          </a:xfrm>
        </p:grpSpPr>
        <p:pic>
          <p:nvPicPr>
            <p:cNvPr id="89" name="Pravokotni trikotnik 13" descr=""/>
            <p:cNvPicPr/>
            <p:nvPr/>
          </p:nvPicPr>
          <p:blipFill>
            <a:blip r:embed="rId2"/>
            <a:stretch/>
          </p:blipFill>
          <p:spPr>
            <a:xfrm>
              <a:off x="-6480" y="6175440"/>
              <a:ext cx="3402000" cy="1152360"/>
            </a:xfrm>
            <a:prstGeom prst="rect">
              <a:avLst/>
            </a:prstGeom>
            <a:ln w="0">
              <a:noFill/>
            </a:ln>
          </p:spPr>
        </p:pic>
        <p:sp>
          <p:nvSpPr>
            <p:cNvPr id="90"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91" name="Raven povezovalnik 14" descr=""/>
          <p:cNvPicPr/>
          <p:nvPr/>
        </p:nvPicPr>
        <p:blipFill>
          <a:blip r:embed="rId3"/>
          <a:stretch/>
        </p:blipFill>
        <p:spPr>
          <a:xfrm>
            <a:off x="-19080" y="6168960"/>
            <a:ext cx="3414600" cy="1170000"/>
          </a:xfrm>
          <a:prstGeom prst="rect">
            <a:avLst/>
          </a:prstGeom>
          <a:ln w="0">
            <a:noFill/>
          </a:ln>
        </p:spPr>
      </p:pic>
      <p:sp>
        <p:nvSpPr>
          <p:cNvPr id="9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4" name="PlaceHolder 3"/>
          <p:cNvSpPr>
            <a:spLocks noGrp="1"/>
          </p:cNvSpPr>
          <p:nvPr>
            <p:ph type="dt" idx="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4"/>
          <p:cNvSpPr>
            <a:spLocks noGrp="1"/>
          </p:cNvSpPr>
          <p:nvPr>
            <p:ph type="ftr" idx="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5"/>
          <p:cNvSpPr>
            <a:spLocks noGrp="1"/>
          </p:cNvSpPr>
          <p:nvPr>
            <p:ph type="sldNum" idx="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C8D9E-1328-4D06-94FA-E6A995FB48F6}"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ravokotni trikotnik 10"/>
          <p:cNvSpPr/>
          <p:nvPr/>
        </p:nvSpPr>
        <p:spPr>
          <a:xfrm>
            <a:off x="0" y="497520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34" name="Skupina 15"/>
          <p:cNvGrpSpPr/>
          <p:nvPr/>
        </p:nvGrpSpPr>
        <p:grpSpPr>
          <a:xfrm>
            <a:off x="-3240" y="5283360"/>
            <a:ext cx="9147240" cy="2039760"/>
            <a:chOff x="-3240" y="5283360"/>
            <a:chExt cx="9147240" cy="2039760"/>
          </a:xfrm>
        </p:grpSpPr>
        <p:sp>
          <p:nvSpPr>
            <p:cNvPr id="135" name="Prostoročno 15"/>
            <p:cNvSpPr/>
            <p:nvPr/>
          </p:nvSpPr>
          <p:spPr>
            <a:xfrm>
              <a:off x="1694520" y="5283360"/>
              <a:ext cx="7449480" cy="520920"/>
            </a:xfrm>
            <a:custGeom>
              <a:avLst/>
              <a:gdLst>
                <a:gd name="textAreaLeft" fmla="*/ 0 w 7449480"/>
                <a:gd name="textAreaRight" fmla="*/ 7449840 w 7449480"/>
                <a:gd name="textAreaTop" fmla="*/ 0 h 520920"/>
                <a:gd name="textAreaBottom" fmla="*/ 521280 h 5209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6" name="Prostoročno 18"/>
            <p:cNvSpPr/>
            <p:nvPr/>
          </p:nvSpPr>
          <p:spPr>
            <a:xfrm>
              <a:off x="44640" y="5587200"/>
              <a:ext cx="9099360" cy="842040"/>
            </a:xfrm>
            <a:custGeom>
              <a:avLst/>
              <a:gdLst>
                <a:gd name="textAreaLeft" fmla="*/ 0 w 9099360"/>
                <a:gd name="textAreaRight" fmla="*/ 9099720 w 9099360"/>
                <a:gd name="textAreaTop" fmla="*/ 0 h 842040"/>
                <a:gd name="textAreaBottom" fmla="*/ 842400 h 8420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37" name="Prostoročno 18"/>
            <p:cNvGrpSpPr/>
            <p:nvPr/>
          </p:nvGrpSpPr>
          <p:grpSpPr>
            <a:xfrm>
              <a:off x="8640" y="5334120"/>
              <a:ext cx="9135360" cy="1989000"/>
              <a:chOff x="8640" y="5334120"/>
              <a:chExt cx="9135360" cy="1989000"/>
            </a:xfrm>
          </p:grpSpPr>
          <p:pic>
            <p:nvPicPr>
              <p:cNvPr id="138" name="Prostoročno 18" descr=""/>
              <p:cNvPicPr/>
              <p:nvPr/>
            </p:nvPicPr>
            <p:blipFill>
              <a:blip r:embed="rId2"/>
              <a:stretch/>
            </p:blipFill>
            <p:spPr>
              <a:xfrm>
                <a:off x="8640" y="5334120"/>
                <a:ext cx="9135360" cy="1989000"/>
              </a:xfrm>
              <a:prstGeom prst="rect">
                <a:avLst/>
              </a:prstGeom>
              <a:ln w="0">
                <a:noFill/>
              </a:ln>
            </p:spPr>
          </p:pic>
          <p:sp>
            <p:nvSpPr>
              <p:cNvPr id="139" name=""/>
              <p:cNvSpPr/>
              <p:nvPr/>
            </p:nvSpPr>
            <p:spPr>
              <a:xfrm>
                <a:off x="9000" y="533448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40" name="Raven povezovalnik 19" descr=""/>
            <p:cNvPicPr/>
            <p:nvPr/>
          </p:nvPicPr>
          <p:blipFill>
            <a:blip r:embed="rId3"/>
            <a:stretch/>
          </p:blipFill>
          <p:spPr>
            <a:xfrm>
              <a:off x="-3240" y="5321880"/>
              <a:ext cx="9147240" cy="860040"/>
            </a:xfrm>
            <a:prstGeom prst="rect">
              <a:avLst/>
            </a:prstGeom>
            <a:ln w="0">
              <a:noFill/>
            </a:ln>
          </p:spPr>
        </p:pic>
      </p:grpSp>
      <p:sp>
        <p:nvSpPr>
          <p:cNvPr id="1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42"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43" name="PlaceHolder 3"/>
          <p:cNvSpPr>
            <a:spLocks noGrp="1"/>
          </p:cNvSpPr>
          <p:nvPr>
            <p:ph type="dt" idx="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4"/>
          <p:cNvSpPr>
            <a:spLocks noGrp="1"/>
          </p:cNvSpPr>
          <p:nvPr>
            <p:ph type="ftr" idx="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5"/>
          <p:cNvSpPr>
            <a:spLocks noGrp="1"/>
          </p:cNvSpPr>
          <p:nvPr>
            <p:ph type="sldNum" idx="1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2AB7E-21C2-460B-BA68-AAE66438AD94}"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83"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84" name="Pravokotni trikotnik 13"/>
          <p:cNvGrpSpPr/>
          <p:nvPr/>
        </p:nvGrpSpPr>
        <p:grpSpPr>
          <a:xfrm>
            <a:off x="-6480" y="6175440"/>
            <a:ext cx="3402000" cy="1152360"/>
            <a:chOff x="-6480" y="6175440"/>
            <a:chExt cx="3402000" cy="1152360"/>
          </a:xfrm>
        </p:grpSpPr>
        <p:pic>
          <p:nvPicPr>
            <p:cNvPr id="185" name="Pravokotni trikotnik 13" descr=""/>
            <p:cNvPicPr/>
            <p:nvPr/>
          </p:nvPicPr>
          <p:blipFill>
            <a:blip r:embed="rId2"/>
            <a:stretch/>
          </p:blipFill>
          <p:spPr>
            <a:xfrm>
              <a:off x="-6480" y="6175440"/>
              <a:ext cx="3402000" cy="1152360"/>
            </a:xfrm>
            <a:prstGeom prst="rect">
              <a:avLst/>
            </a:prstGeom>
            <a:ln w="0">
              <a:noFill/>
            </a:ln>
          </p:spPr>
        </p:pic>
        <p:sp>
          <p:nvSpPr>
            <p:cNvPr id="186"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87" name="Raven povezovalnik 14" descr=""/>
          <p:cNvPicPr/>
          <p:nvPr/>
        </p:nvPicPr>
        <p:blipFill>
          <a:blip r:embed="rId3"/>
          <a:stretch/>
        </p:blipFill>
        <p:spPr>
          <a:xfrm>
            <a:off x="-19080" y="6168960"/>
            <a:ext cx="3414600" cy="1170000"/>
          </a:xfrm>
          <a:prstGeom prst="rect">
            <a:avLst/>
          </a:prstGeom>
          <a:ln w="0">
            <a:noFill/>
          </a:ln>
        </p:spPr>
      </p:pic>
      <p:sp>
        <p:nvSpPr>
          <p:cNvPr id="18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89"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0" name="PlaceHolder 3"/>
          <p:cNvSpPr>
            <a:spLocks noGrp="1"/>
          </p:cNvSpPr>
          <p:nvPr>
            <p:ph type="dt" idx="1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PlaceHolder 4"/>
          <p:cNvSpPr>
            <a:spLocks noGrp="1"/>
          </p:cNvSpPr>
          <p:nvPr>
            <p:ph type="ftr" idx="1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 name="PlaceHolder 5"/>
          <p:cNvSpPr>
            <a:spLocks noGrp="1"/>
          </p:cNvSpPr>
          <p:nvPr>
            <p:ph type="sldNum" idx="1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16765-C551-4D45-82B1-95D05909D7DC}"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3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231" name="Pravokotni trikotnik 13"/>
          <p:cNvGrpSpPr/>
          <p:nvPr/>
        </p:nvGrpSpPr>
        <p:grpSpPr>
          <a:xfrm>
            <a:off x="-6480" y="6175440"/>
            <a:ext cx="3402000" cy="1152360"/>
            <a:chOff x="-6480" y="6175440"/>
            <a:chExt cx="3402000" cy="1152360"/>
          </a:xfrm>
        </p:grpSpPr>
        <p:pic>
          <p:nvPicPr>
            <p:cNvPr id="232" name="Pravokotni trikotnik 13" descr=""/>
            <p:cNvPicPr/>
            <p:nvPr/>
          </p:nvPicPr>
          <p:blipFill>
            <a:blip r:embed="rId3"/>
            <a:stretch/>
          </p:blipFill>
          <p:spPr>
            <a:xfrm>
              <a:off x="-6480" y="6175440"/>
              <a:ext cx="3402000" cy="1152360"/>
            </a:xfrm>
            <a:prstGeom prst="rect">
              <a:avLst/>
            </a:prstGeom>
            <a:ln w="0">
              <a:noFill/>
            </a:ln>
          </p:spPr>
        </p:pic>
        <p:sp>
          <p:nvSpPr>
            <p:cNvPr id="23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234" name="Raven povezovalnik 14" descr=""/>
          <p:cNvPicPr/>
          <p:nvPr/>
        </p:nvPicPr>
        <p:blipFill>
          <a:blip r:embed="rId4"/>
          <a:stretch/>
        </p:blipFill>
        <p:spPr>
          <a:xfrm>
            <a:off x="-19080" y="6168960"/>
            <a:ext cx="3414600" cy="1170000"/>
          </a:xfrm>
          <a:prstGeom prst="rect">
            <a:avLst/>
          </a:prstGeom>
          <a:ln w="0">
            <a:noFill/>
          </a:ln>
        </p:spPr>
      </p:pic>
      <p:sp>
        <p:nvSpPr>
          <p:cNvPr id="235" name="Škarnice 10"/>
          <p:cNvSpPr/>
          <p:nvPr/>
        </p:nvSpPr>
        <p:spPr>
          <a:xfrm>
            <a:off x="3637080" y="3205080"/>
            <a:ext cx="182520" cy="244440"/>
          </a:xfrm>
          <a:custGeom>
            <a:avLst/>
            <a:gdLst>
              <a:gd name="textAreaLeft" fmla="*/ 0 w 182520"/>
              <a:gd name="textAreaRight" fmla="*/ 182880 w 1825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6" name="Škarnice 11"/>
          <p:cNvSpPr/>
          <p:nvPr/>
        </p:nvSpPr>
        <p:spPr>
          <a:xfrm>
            <a:off x="3449520" y="3205080"/>
            <a:ext cx="184320" cy="244440"/>
          </a:xfrm>
          <a:custGeom>
            <a:avLst/>
            <a:gdLst>
              <a:gd name="textAreaLeft" fmla="*/ 0 w 184320"/>
              <a:gd name="textAreaRight" fmla="*/ 184680 w 1843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38"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39" name="PlaceHolder 3"/>
          <p:cNvSpPr>
            <a:spLocks noGrp="1"/>
          </p:cNvSpPr>
          <p:nvPr>
            <p:ph type="dt" idx="14"/>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 name="PlaceHolder 4"/>
          <p:cNvSpPr>
            <a:spLocks noGrp="1"/>
          </p:cNvSpPr>
          <p:nvPr>
            <p:ph type="ftr" idx="15"/>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 name="PlaceHolder 5"/>
          <p:cNvSpPr>
            <a:spLocks noGrp="1"/>
          </p:cNvSpPr>
          <p:nvPr>
            <p:ph type="sldNum" idx="16"/>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CD6C0-2F93-41F9-A839-3D9348E00E00}"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8"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79"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280" name="Pravokotni trikotnik 13"/>
          <p:cNvGrpSpPr/>
          <p:nvPr/>
        </p:nvGrpSpPr>
        <p:grpSpPr>
          <a:xfrm>
            <a:off x="-6480" y="6175440"/>
            <a:ext cx="3402000" cy="1152360"/>
            <a:chOff x="-6480" y="6175440"/>
            <a:chExt cx="3402000" cy="1152360"/>
          </a:xfrm>
        </p:grpSpPr>
        <p:pic>
          <p:nvPicPr>
            <p:cNvPr id="281" name="Pravokotni trikotnik 13" descr=""/>
            <p:cNvPicPr/>
            <p:nvPr/>
          </p:nvPicPr>
          <p:blipFill>
            <a:blip r:embed="rId3"/>
            <a:stretch/>
          </p:blipFill>
          <p:spPr>
            <a:xfrm>
              <a:off x="-6480" y="6175440"/>
              <a:ext cx="3402000" cy="1152360"/>
            </a:xfrm>
            <a:prstGeom prst="rect">
              <a:avLst/>
            </a:prstGeom>
            <a:ln w="0">
              <a:noFill/>
            </a:ln>
          </p:spPr>
        </p:pic>
        <p:sp>
          <p:nvSpPr>
            <p:cNvPr id="282"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283" name="Raven povezovalnik 14" descr=""/>
          <p:cNvPicPr/>
          <p:nvPr/>
        </p:nvPicPr>
        <p:blipFill>
          <a:blip r:embed="rId4"/>
          <a:stretch/>
        </p:blipFill>
        <p:spPr>
          <a:xfrm>
            <a:off x="-19080" y="6168960"/>
            <a:ext cx="3414600" cy="1170000"/>
          </a:xfrm>
          <a:prstGeom prst="rect">
            <a:avLst/>
          </a:prstGeom>
          <a:ln w="0">
            <a:noFill/>
          </a:ln>
        </p:spPr>
      </p:pic>
      <p:sp>
        <p:nvSpPr>
          <p:cNvPr id="28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85"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86" name="PlaceHolder 3"/>
          <p:cNvSpPr>
            <a:spLocks noGrp="1"/>
          </p:cNvSpPr>
          <p:nvPr>
            <p:ph type="dt" idx="17"/>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7" name="PlaceHolder 4"/>
          <p:cNvSpPr>
            <a:spLocks noGrp="1"/>
          </p:cNvSpPr>
          <p:nvPr>
            <p:ph type="ftr" idx="18"/>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PlaceHolder 5"/>
          <p:cNvSpPr>
            <a:spLocks noGrp="1"/>
          </p:cNvSpPr>
          <p:nvPr>
            <p:ph type="sldNum" idx="19"/>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311FC-7B6B-49FC-BD79-1E1CEE1E4A67}"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2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27" name="PlaceHolder 3"/>
          <p:cNvSpPr>
            <a:spLocks noGrp="1"/>
          </p:cNvSpPr>
          <p:nvPr>
            <p:ph type="dt" idx="20"/>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8" name="PlaceHolder 4"/>
          <p:cNvSpPr>
            <a:spLocks noGrp="1"/>
          </p:cNvSpPr>
          <p:nvPr>
            <p:ph type="ftr" idx="21"/>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9" name="PlaceHolder 5"/>
          <p:cNvSpPr>
            <a:spLocks noGrp="1"/>
          </p:cNvSpPr>
          <p:nvPr>
            <p:ph type="sldNum" idx="22"/>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D2DFF-6E24-40B9-AB62-4985B5C8E043}"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6"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67"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368" name="Pravokotni trikotnik 13"/>
          <p:cNvGrpSpPr/>
          <p:nvPr/>
        </p:nvGrpSpPr>
        <p:grpSpPr>
          <a:xfrm>
            <a:off x="-6480" y="6175440"/>
            <a:ext cx="3402000" cy="1152360"/>
            <a:chOff x="-6480" y="6175440"/>
            <a:chExt cx="3402000" cy="1152360"/>
          </a:xfrm>
        </p:grpSpPr>
        <p:pic>
          <p:nvPicPr>
            <p:cNvPr id="369" name="Pravokotni trikotnik 13" descr=""/>
            <p:cNvPicPr/>
            <p:nvPr/>
          </p:nvPicPr>
          <p:blipFill>
            <a:blip r:embed="rId3"/>
            <a:stretch/>
          </p:blipFill>
          <p:spPr>
            <a:xfrm>
              <a:off x="-6480" y="6175440"/>
              <a:ext cx="3402000" cy="1152360"/>
            </a:xfrm>
            <a:prstGeom prst="rect">
              <a:avLst/>
            </a:prstGeom>
            <a:ln w="0">
              <a:noFill/>
            </a:ln>
          </p:spPr>
        </p:pic>
        <p:sp>
          <p:nvSpPr>
            <p:cNvPr id="370"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371" name="Raven povezovalnik 14" descr=""/>
          <p:cNvPicPr/>
          <p:nvPr/>
        </p:nvPicPr>
        <p:blipFill>
          <a:blip r:embed="rId4"/>
          <a:stretch/>
        </p:blipFill>
        <p:spPr>
          <a:xfrm>
            <a:off x="-19080" y="6168960"/>
            <a:ext cx="3414600" cy="1170000"/>
          </a:xfrm>
          <a:prstGeom prst="rect">
            <a:avLst/>
          </a:prstGeom>
          <a:ln w="0">
            <a:noFill/>
          </a:ln>
        </p:spPr>
      </p:pic>
      <p:sp>
        <p:nvSpPr>
          <p:cNvPr id="3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7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74" name="PlaceHolder 3"/>
          <p:cNvSpPr>
            <a:spLocks noGrp="1"/>
          </p:cNvSpPr>
          <p:nvPr>
            <p:ph type="dt" idx="23"/>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5" name="PlaceHolder 4"/>
          <p:cNvSpPr>
            <a:spLocks noGrp="1"/>
          </p:cNvSpPr>
          <p:nvPr>
            <p:ph type="ftr" idx="24"/>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6" name="PlaceHolder 5"/>
          <p:cNvSpPr>
            <a:spLocks noGrp="1"/>
          </p:cNvSpPr>
          <p:nvPr>
            <p:ph type="sldNum" idx="25"/>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F27A5-BFD3-4B6C-B5A2-13C210B35146}"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8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62" name="Picture 1" descr=""/>
          <p:cNvPicPr/>
          <p:nvPr/>
        </p:nvPicPr>
        <p:blipFill>
          <a:blip r:embed="rId2"/>
          <a:stretch/>
        </p:blipFill>
        <p:spPr>
          <a:xfrm>
            <a:off x="4680" y="0"/>
            <a:ext cx="9134640" cy="7315200"/>
          </a:xfrm>
          <a:prstGeom prst="rect">
            <a:avLst/>
          </a:prstGeom>
          <a:ln w="0">
            <a:noFill/>
          </a:ln>
        </p:spPr>
      </p:pic>
      <p:pic>
        <p:nvPicPr>
          <p:cNvPr id="1163" name="Picture 2" descr=""/>
          <p:cNvPicPr/>
          <p:nvPr/>
        </p:nvPicPr>
        <p:blipFill>
          <a:blip r:embed="rId3"/>
          <a:stretch/>
        </p:blipFill>
        <p:spPr>
          <a:xfrm>
            <a:off x="-3240" y="-12600"/>
            <a:ext cx="9134640" cy="7315200"/>
          </a:xfrm>
          <a:prstGeom prst="rect">
            <a:avLst/>
          </a:prstGeom>
          <a:ln w="0">
            <a:noFill/>
          </a:ln>
        </p:spPr>
      </p:pic>
      <p:pic>
        <p:nvPicPr>
          <p:cNvPr id="1164" name="Picture 3" descr=""/>
          <p:cNvPicPr/>
          <p:nvPr/>
        </p:nvPicPr>
        <p:blipFill>
          <a:blip r:embed="rId4"/>
          <a:stretch/>
        </p:blipFill>
        <p:spPr>
          <a:xfrm>
            <a:off x="457200" y="777960"/>
            <a:ext cx="4114800" cy="725400"/>
          </a:xfrm>
          <a:prstGeom prst="rect">
            <a:avLst/>
          </a:prstGeom>
          <a:ln w="0">
            <a:noFill/>
          </a:ln>
        </p:spPr>
      </p:pic>
      <p:sp>
        <p:nvSpPr>
          <p:cNvPr id="1165" name="Rectangle 4"/>
          <p:cNvSpPr/>
          <p:nvPr/>
        </p:nvSpPr>
        <p:spPr>
          <a:xfrm>
            <a:off x="1328760" y="2505240"/>
            <a:ext cx="6108840" cy="35812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PREDSTAVITEV IZVAJANJA NAČRTA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VREDNOTNEJA OPERATIVNEGA PROGRAMA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RAZVOJA ČLOVEŠKIH VIROV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ZA OBDOBJE 2007-2013</a:t>
            </a:r>
            <a:endParaRPr b="0" lang="en-US" sz="2400" spc="-1" strike="noStrike">
              <a:solidFill>
                <a:srgbClr val="000000"/>
              </a:solidFill>
              <a:latin typeface="Arial"/>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0" lang="en-US" sz="2400" spc="-1" strike="noStrike">
                <a:solidFill>
                  <a:srgbClr val="000000"/>
                </a:solidFill>
                <a:latin typeface="Arial"/>
              </a:rPr>
              <a:t>Ljubljana, 2</a:t>
            </a:r>
            <a:r>
              <a:rPr b="0" lang="sl-SI" sz="2400" spc="-1" strike="noStrike">
                <a:solidFill>
                  <a:srgbClr val="000000"/>
                </a:solidFill>
                <a:latin typeface="Arial"/>
              </a:rPr>
              <a:t>8</a:t>
            </a:r>
            <a:r>
              <a:rPr b="0" lang="en-US" sz="2400" spc="-1" strike="noStrike">
                <a:solidFill>
                  <a:srgbClr val="000000"/>
                </a:solidFill>
                <a:latin typeface="Arial"/>
              </a:rPr>
              <a:t>.5.201</a:t>
            </a:r>
            <a:r>
              <a:rPr b="0" lang="sl-SI" sz="2400" spc="-1" strike="noStrike">
                <a:solidFill>
                  <a:srgbClr val="000000"/>
                </a:solidFill>
                <a:latin typeface="Arial"/>
              </a:rPr>
              <a:t>4</a:t>
            </a:r>
            <a:br>
              <a:rPr sz="2400"/>
            </a:b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
          <p:cNvSpPr txBox="1"/>
          <p:nvPr/>
        </p:nvSpPr>
        <p:spPr>
          <a:xfrm>
            <a:off x="822240" y="1569960"/>
            <a:ext cx="7521840" cy="34228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Lucida Sans Unicode"/>
              </a:rPr>
              <a:t>Pregled izvajanja načrta</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Lucida Sans Unicode"/>
              </a:rPr>
              <a:t>Pregled izvedenih vrednotenj oz. vrednotenj v teku</a:t>
            </a:r>
            <a:endParaRPr b="0" lang="en-US" sz="28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Lucida Sans Unicode"/>
              </a:rPr>
              <a:t>OU</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Lucida Sans Unicode"/>
              </a:rPr>
              <a:t>Znotraj projektov upravičencev</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1167"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B8893-43CD-4BED-BD6F-08C1669A9DC0}" type="slidenum">
              <a:rPr b="0" lang="sl-SI"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68" name="Naslov 1" descr=""/>
          <p:cNvPicPr/>
          <p:nvPr/>
        </p:nvPicPr>
        <p:blipFill>
          <a:blip r:embed="rId1"/>
          <a:stretch/>
        </p:blipFill>
        <p:spPr>
          <a:xfrm>
            <a:off x="274680" y="291960"/>
            <a:ext cx="8412120" cy="1219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
          <p:cNvSpPr txBox="1"/>
          <p:nvPr/>
        </p:nvSpPr>
        <p:spPr>
          <a:xfrm>
            <a:off x="394920" y="1496520"/>
            <a:ext cx="8497800" cy="5148360"/>
          </a:xfrm>
          <a:prstGeom prst="rect">
            <a:avLst/>
          </a:prstGeom>
          <a:noFill/>
          <a:ln w="0">
            <a:noFill/>
          </a:ln>
        </p:spPr>
        <p:txBody>
          <a:bodyPr anchor="t">
            <a:normAutofit/>
          </a:bodyPr>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javnega razpisa za sofinanciranje projektov horizontalnih NVO mrež in regionalnih stičišč za leto 2008</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razpisa za izbor razvojnih projektov za dvig zaposljivosti ranljivih družbenih skupin na področju kulture in podporo njihovi socialni vključenosti v letih 2008-2009 s pripravo poročil za nadaljnje izvajanje aktivnosti za doseganje ciljev prednostne usmeritve 4.3. v OP RČV</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1. in 2. prednostne usmeritve Izboljšanje kakovosti in učinkovitosti sistemov izobraževanja in usposabljanja ter Izboljšanje usposobljenosti posameznika za delo in življenje v družbi temelječi na znanju 3. Razvojne prioritete OP ESS Razvoj človeških virov in vseživljenjskega učenja</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CE"/>
              </a:rPr>
              <a:t>Vmesno vrednotenje komunikacijskega načrta cilja Konvergenca</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prednostnih usmeritev s področja trga dela, ki jih v okviru OP RČV izvaja Ministrstvo za delo, družino in socialne zadeve</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
        <p:nvSpPr>
          <p:cNvPr id="1170"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A3CAF-3BCA-49BF-8C6B-2C469EC520D7}"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pic>
        <p:nvPicPr>
          <p:cNvPr id="1171" name="Naslov 1" descr=""/>
          <p:cNvPicPr/>
          <p:nvPr/>
        </p:nvPicPr>
        <p:blipFill>
          <a:blip r:embed="rId1"/>
          <a:stretch/>
        </p:blipFill>
        <p:spPr>
          <a:xfrm>
            <a:off x="500040" y="225360"/>
            <a:ext cx="8034480" cy="1408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
          <p:cNvSpPr txBox="1"/>
          <p:nvPr/>
        </p:nvSpPr>
        <p:spPr>
          <a:xfrm>
            <a:off x="457200" y="1579680"/>
            <a:ext cx="8229600" cy="482760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Vrednotenje ukrepov za spodbujanje raziskovalno razvojnih aktivnosti v gospodarstvu in institucijah znanja (ESRR&amp;ESS)</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CRP PROJEKTI</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Institucionalna evalvacija Zavoda RS za zaposlovanje</a:t>
            </a: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Vrednotenje največjih programov aktivne politike zaposlovanja, vključno z ukrepi proti gospodarski in finančni krizi</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sp>
        <p:nvSpPr>
          <p:cNvPr id="1173"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BCFF4-C3F8-48A7-ADC0-C2D0ECED305F}"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
          <p:cNvSpPr txBox="1"/>
          <p:nvPr/>
        </p:nvSpPr>
        <p:spPr>
          <a:xfrm>
            <a:off x="108000" y="1174680"/>
            <a:ext cx="9036000" cy="4786560"/>
          </a:xfrm>
          <a:prstGeom prst="rect">
            <a:avLst/>
          </a:prstGeom>
          <a:noFill/>
          <a:ln w="0">
            <a:noFill/>
          </a:ln>
        </p:spPr>
        <p:txBody>
          <a:bodyPr anchor="t">
            <a:normAutofit fontScale="87000"/>
          </a:bodyPr>
          <a:p>
            <a:pPr marL="317520" indent="-22212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a:t>
            </a:r>
            <a:r>
              <a:rPr b="0" lang="sl-SI" sz="1600" spc="-1" strike="noStrike">
                <a:solidFill>
                  <a:srgbClr val="000000"/>
                </a:solidFill>
                <a:latin typeface="Arial"/>
              </a:rPr>
              <a:t>začetek postopka za izvedbo vrednotenja 4. RP </a:t>
            </a:r>
            <a:endParaRPr b="0" lang="en-US" sz="16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streznost: V kakšni meri cilji prednostnih usmeritev vsebinsko prispevajo k strateškim ciljem OP RČV in k ciljem NSRO? Ali so instrumenti predstavljali primeren odziv na spremenjene družbeno gospodarske razmere?  Ali so pokrita vsa ključna področja socialne vključenosti in enakosti možnosti glede na možnosti, ki izhajajo iz OP?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Skladnost: V kakšni meri izvajane aktivnosti prispevajo k splošnim ciljem OP RČV? Ali so instrumenti sledili postavljenim strategijam na nacionalni in na EU ravni?Koliko in kako se instrumenti dopolnjujejo z drugimi politikami razvoja človeških virov (predvsem na področju trga dela, izobraževanja in kulture)?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spešnost: Kateri so bili dejavniki vpliva na uspešnost doseganja teh ciljev? Kje je prišlo do odklonov od zastavljenih ciljev in zakaj in kako bi bilo mogoče doseči večjo uspešnost?  Kakšna so priporočila za bodoče izvajanje? Kako uspešno je izvajanje iz vidika ciljnih skupin/posameznikov?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činkovitost: Kakšna je bila učinkovitost posameznih instrumentov? Kaj bi bilo potrebno spremeniti pri instrumentih, kjer je bila učinkovitost nizka (ukinitev / katere spremembe /…)? Kakšna je učinkovitost projektov, v katerih so bile kot temeljne aktivnosti opredeljene kot priprava strokovnih podlag, analiz, študij? V kolikšni meri regionalna razpršenost končnih upravičencev odraža regionalne potrebe (tudi vsebinsko)? V kolikšni meri so se programi socialnega vključevanja izvajali regionalno? Vpliv programov na razvoj NVO sektorja (pri relevantnih programih).</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Trajnost: Kakšni so konkretni vplivi operacij, še posebej iz vidika zaposljivosti vključenosti ciljnih skupin? Kako je vključenost v operacijo vplivala na posameznika? Kako bi morali biti oblikovani instrumenti, da bi se dosegla večja trajnost projektov? Kako je s projekti po prekinitvi financiranja?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17520" indent="-22212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a:t>
            </a:r>
            <a:r>
              <a:rPr b="0" lang="sl-SI" sz="1600" spc="-1" strike="noStrike">
                <a:solidFill>
                  <a:srgbClr val="000000"/>
                </a:solidFill>
                <a:latin typeface="Arial"/>
              </a:rPr>
              <a:t>začetek postopka za izvedbo vrednotenja PU 5.1, 5.3 in 5.4</a:t>
            </a:r>
            <a:endParaRPr b="0" lang="en-US" sz="16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streznost: </a:t>
            </a:r>
            <a:r>
              <a:rPr b="0" lang="sl-SI" sz="1100" spc="-1" strike="noStrike">
                <a:solidFill>
                  <a:srgbClr val="000000"/>
                </a:solidFill>
                <a:latin typeface="Arial"/>
                <a:ea typeface="Calibri"/>
              </a:rPr>
              <a:t>V kakšni meri cilji prednostnih usmeritev vsebinsko prispevajo k strateškim ciljem OP RČV in k ciljem NSRO? Ali so instrumenti predstavljali primeren odziv na ključne potrebe?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Calibri"/>
              </a:rPr>
              <a:t>Skladnost: V kakšni meri izvajane aktivnosti prispevajo k splošnim ciljem OP RČV? Ali so instrumenti sledili postavljenim strategijam na nacionalni in na EU ravni? Koliko in kako se instrumenti dopolnjujejo z drugimi politikami razvoja človeških virov (predvsem na področju konkurenčnosti)?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spešnost: </a:t>
            </a:r>
            <a:r>
              <a:rPr b="0" lang="sl-SI" sz="1100" spc="-1" strike="noStrike">
                <a:solidFill>
                  <a:srgbClr val="000000"/>
                </a:solidFill>
                <a:latin typeface="Arial"/>
                <a:ea typeface="Calibri"/>
              </a:rPr>
              <a:t>Kateri so bili dejavniki vpliva na uspešnost doseganja teh ciljev? Kje je prišlo do odklonov od zastavljenih ciljev in zakaj in kako bi bilo mogoče doseči večjo uspešnost?  Kakšna so priporočila za bodoče izvajanje?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činkovitost:</a:t>
            </a:r>
            <a:r>
              <a:rPr b="0" lang="sl-SI" sz="1100" spc="-1" strike="noStrike">
                <a:solidFill>
                  <a:srgbClr val="000000"/>
                </a:solidFill>
                <a:latin typeface="Arial"/>
                <a:ea typeface="Calibri"/>
              </a:rPr>
              <a:t>Kakšna je bila učinkovitost posameznih instrumentov? Kaj bi bilo potrebno spremeniti pri instrumentih, kjer je bila učinkovitost nizka (ukinitev / katere spremembe /…)? Kakšna je učinkovitost projektov, v katerih so bile kot temeljne aktivnosti opredeljene kot priprava strokovnih podlag, analiz, študij?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Trajnost:</a:t>
            </a:r>
            <a:r>
              <a:rPr b="0" lang="sl-SI" sz="1100" spc="-1" strike="noStrike">
                <a:solidFill>
                  <a:srgbClr val="000000"/>
                </a:solidFill>
                <a:latin typeface="Arial"/>
                <a:ea typeface="Calibri"/>
              </a:rPr>
              <a:t>Kakšni so konkretni vplivi operacij, še posebej iz vidika konkurenčnosti države in gospodarskega okolja? Kako je s projekti po prekinitvi financiranja?</a:t>
            </a:r>
            <a:endParaRPr b="0" lang="en-US" sz="1100" spc="-1" strike="noStrike">
              <a:solidFill>
                <a:srgbClr val="000000"/>
              </a:solidFill>
              <a:latin typeface="Lucida Sans Unicode"/>
            </a:endParaRPr>
          </a:p>
        </p:txBody>
      </p:sp>
      <p:sp>
        <p:nvSpPr>
          <p:cNvPr id="1175"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AEE1B-B1F7-4B04-9C55-DF99FF44FA17}"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pic>
        <p:nvPicPr>
          <p:cNvPr id="1176" name="Naslov 1" descr=""/>
          <p:cNvPicPr/>
          <p:nvPr/>
        </p:nvPicPr>
        <p:blipFill>
          <a:blip r:embed="rId1"/>
          <a:stretch/>
        </p:blipFill>
        <p:spPr>
          <a:xfrm>
            <a:off x="639720" y="298440"/>
            <a:ext cx="8034480" cy="920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
          <p:cNvSpPr txBox="1"/>
          <p:nvPr/>
        </p:nvSpPr>
        <p:spPr>
          <a:xfrm>
            <a:off x="457200" y="1579680"/>
            <a:ext cx="8229600" cy="48276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Lucida Sans Unicode"/>
              </a:rPr>
              <a:t>… </a:t>
            </a:r>
            <a:r>
              <a:rPr b="0" lang="sl-SI" sz="2700" spc="-1" strike="noStrike">
                <a:solidFill>
                  <a:srgbClr val="000000"/>
                </a:solidFill>
                <a:latin typeface="Lucida Sans Unicode"/>
              </a:rPr>
              <a:t>vrednotenja v okviru operacij</a:t>
            </a:r>
            <a:endParaRPr b="0" lang="en-US" sz="2700" spc="-1" strike="noStrike">
              <a:solidFill>
                <a:srgbClr val="000000"/>
              </a:solidFill>
              <a:latin typeface="Lucida Sans Unicode"/>
            </a:endParaRPr>
          </a:p>
        </p:txBody>
      </p:sp>
      <p:sp>
        <p:nvSpPr>
          <p:cNvPr id="1178"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7E5DB-FED8-4FFC-AD3B-7AB9C7D4CB12}"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Z</dc:creator>
  <dc:description/>
  <dc:language>en-US</dc:language>
  <cp:lastModifiedBy>Staša Mesec</cp:lastModifiedBy>
  <cp:lastPrinted>2014-05-28T06:42:49Z</cp:lastPrinted>
  <dcterms:modified xsi:type="dcterms:W3CDTF">2014-05-28T12:57:51Z</dcterms:modified>
  <cp:revision>25</cp:revision>
  <dc:subject/>
  <dc:title>Naslov</dc:title>
</cp:coreProperties>
</file>