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Lst>
  <p:sldSz cx="9144000" cy="73152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115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7" name="PlaceHolder 2"/>
          <p:cNvSpPr>
            <a:spLocks noGrp="1"/>
          </p:cNvSpPr>
          <p:nvPr>
            <p:ph type="dt" idx="7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58" name="PlaceHolder 3"/>
          <p:cNvSpPr>
            <a:spLocks noGrp="1"/>
          </p:cNvSpPr>
          <p:nvPr>
            <p:ph type="sldImg"/>
          </p:nvPr>
        </p:nvSpPr>
        <p:spPr>
          <a:xfrm>
            <a:off x="1073160" y="744120"/>
            <a:ext cx="4651200" cy="3722760"/>
          </a:xfrm>
          <a:prstGeom prst="rect">
            <a:avLst/>
          </a:prstGeom>
          <a:noFill/>
          <a:ln w="12600">
            <a:solidFill>
              <a:srgbClr val="000000"/>
            </a:solidFill>
            <a:miter/>
          </a:ln>
        </p:spPr>
        <p:txBody>
          <a:bodyPr lIns="90000" rIns="90000" tIns="46800" bIns="4680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5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60" name="PlaceHolder 5"/>
          <p:cNvSpPr>
            <a:spLocks noGrp="1"/>
          </p:cNvSpPr>
          <p:nvPr>
            <p:ph type="ftr" idx="7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1" name="PlaceHolder 6"/>
          <p:cNvSpPr>
            <a:spLocks noGrp="1"/>
          </p:cNvSpPr>
          <p:nvPr>
            <p:ph type="sldNum" idx="7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16672-55D9-4C03-8FE0-CC28ADF887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73160" y="744480"/>
            <a:ext cx="4651200" cy="3722760"/>
          </a:xfrm>
          <a:prstGeom prst="rect">
            <a:avLst/>
          </a:prstGeom>
          <a:ln w="0">
            <a:noFill/>
          </a:ln>
        </p:spPr>
      </p:sp>
      <p:sp>
        <p:nvSpPr>
          <p:cNvPr id="118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Arial"/>
            </a:endParaRPr>
          </a:p>
        </p:txBody>
      </p:sp>
      <p:sp>
        <p:nvSpPr>
          <p:cNvPr id="1181" name="Ograda številke diapoz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92DB403-C560-44F0-A572-19C7FFD23376}"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443A93-708F-4459-887F-C4A886CB06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6D5846EA-7556-434A-8C31-B690E4DE51C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7ACA714-F577-426E-90D9-A1CC21D479C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8F14ADA6-903B-4521-B3C2-2668E4FCCDD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41DBF54B-566A-42F1-BEDF-59A6BA7A035C}"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557205A-32F0-4C80-BAA7-12869797C81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CEDC565-4F01-4889-A5EC-5C9E41225FA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BAEAFEC-6A54-49B3-BA43-975E336D953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FD61137-97E7-4ADD-BB3C-EFCDBA9E4A0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C31A5F31-265D-4C37-A26D-B23CF98B6E1E}"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C9FF4D8A-6904-47D1-B195-A9D28B798745}"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8E738A67-EEB6-4117-A4F0-24DF103C1B1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sldNum" idx="1"/>
          </p:nvPr>
        </p:nvSpPr>
        <p:spPr/>
        <p:txBody>
          <a:bodyPr/>
          <a:p>
            <a:fld id="{24AC5A22-C76C-42C0-8309-0DF42B4EB8C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71A7FC50-CF3D-48D4-A54C-177CB09A568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BD71A9A1-F093-4844-9D04-DB7E787928A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52342DBF-F949-4667-9DBE-5B782C2A11B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7E7E285D-FB7D-493F-8568-CA54229C6CF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B039F118-82F1-4351-A2BA-72C5A886F59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1F0B845-8C03-4B26-A451-D4F10CCA811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50CC529-5341-4AA0-8F29-69822A41205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436E32B2-C3A4-48C4-A779-73D89774AAA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DE7CD95F-140A-41BA-9273-D09F6B3E723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4642563F-5096-4FED-B811-A3D3A91E6CC9}"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sldNum" idx="1"/>
          </p:nvPr>
        </p:nvSpPr>
        <p:spPr/>
        <p:txBody>
          <a:bodyPr/>
          <a:p>
            <a:fld id="{DFD971D3-B19D-4AF0-B2B5-E78A617E148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4ADA7131-62C7-417A-A20C-9AFF60077AB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71566238-B96B-4FBB-A7D7-6749BAE0891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D6C0D88C-4328-493B-AC47-BE35958F218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292C5D6A-B951-4694-8C2F-23354420DDB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D368D36D-AD55-470F-9FDE-029C0B75C82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872934ED-7866-4985-9FB3-FC649DDAB31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5148B8F4-7EE2-43D4-9E16-2BFC73D06C2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AB5C36B5-D414-43CE-A855-13787C93EA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109D5F83-619B-48AA-9A0B-CA6A9F0225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795A2B8E-97A5-4A58-B55A-E34604C0C9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F5F2789-740E-4FBA-9C11-EAF810C833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673D0BBD-F800-4575-B865-FB11188B94D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2B172D7B-0AA0-4934-A00B-65BF20CB44F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A020C0D4-8660-4AF5-9545-A263EB7CB00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BD4C5B91-EC04-449E-B022-80705E0C56F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1D9D653C-A928-4581-93E5-7F91B61A390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33768EB1-136A-4E17-866C-BE1008A4F0C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FCFA5CA5-5CD2-4DC3-B1F8-7A6B03DD3CD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7F2D7B95-CB97-4AC3-AE76-2EF55257C8C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158D6777-845B-4A93-A52E-0B1B28DC3FD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0B9796C-61D3-40E7-9C89-08917138C9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95A6602-1301-44E1-BA1A-C1D8377734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6E6A031F-0E78-4B17-8BD6-EABC99E6D39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5983E346-5648-4A76-A892-8B01E742E8E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45AAD400-2FC8-4617-B081-4E3BC963F67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1D8EB2E8-7D92-4D21-91E5-9E862075FB0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3F5A8DF3-5DC2-4EF9-8A81-A2BAD0E3F9B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DC8FA2EC-2B0B-4162-BBC2-A5F2E641D57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6A6D33C9-7208-489F-893D-417EAE9A89F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D46EB809-6596-4329-AED6-BD1A68BFA26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5D424554-E8A2-4256-AAA2-A9D6BC0C0C8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2D81B5A7-9746-4B9F-A79C-4184BCEDAF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836A521-6A90-481A-A96B-DEBB41ED60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C90074B1-0FB9-4050-87D1-6B6CEAD56E8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27BF27F1-08BB-4B1C-9D8B-584EFE0D89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C3D5D893-FEA3-4B76-B292-A0C326D307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221E805F-D3D1-4249-9CB2-C41C86CBD8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9B5DB595-0776-4634-AF80-3C3559CBBEF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211730F8-42F6-4B19-9D4E-87A601B986F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57F27100-7ADE-4058-91D4-38F3AEA9C94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CBAF00EB-5314-4D0A-A09C-29C2858777A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AAD4455D-ABDD-414A-8FE4-7352E71AB14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6E8E44A5-B61C-4F28-9B70-B9C90ACA283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847CB27-38AC-429D-8F57-8551E692FA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620BF5B6-3263-4A59-A15F-8B1826F1911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022348E7-A39E-4B44-AF94-3C2EE789C4E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4A0C19D5-59F2-4740-98DD-EC15C854236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150A1AAA-7094-4D05-82B8-B9DB13BF8D9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BBCDF3D4-7F98-48F2-95AC-F5EE3E1BA9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1F237A8A-5285-44F6-A1C3-31B31BB0F2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D64D42F3-9A7F-4A27-B35D-1B6280FEE80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6D257B6A-D013-48F4-B8E2-148C5392826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DA791990-499F-49FD-BE6D-BCA24275946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158B64B4-A522-44A5-85BA-285967046DF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64B3DD0-89D2-478A-A127-D3D0C512CF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5731B242-B260-4060-A0F9-7240417491B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F18FE035-AEBA-4581-B315-F80E261FCC5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654D4BB6-AB80-4800-85A4-E1BD507E07D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49896A98-6A84-4FA7-8011-CB04C40EE20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7BF54426-DAD5-40DC-9961-9DB838C7BA2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B83A599F-9FA2-4166-8FAB-E49C265779E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992393F9-DBF5-4546-8F42-C25A39E92D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C985AF1D-F5CB-4B54-83C6-74E1020985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65A0C538-3551-47F3-872A-F7D72A0990C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A772EAC2-9171-4AD1-83A0-F1A186EF67E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C56F9D5-CD26-4573-BE27-A893380D62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0EE887B2-0639-431F-A420-F1B7C979C89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0D09C902-BDE9-460F-8F98-D284C03CCAA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E068F90D-C733-4685-9B5C-E1DD60D960C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3463492F-40F7-4DEE-83EC-0F1DB7ECBCF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0B4C1FF1-580F-4AEE-8106-E484C593C04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303511FE-0A9E-40D1-890C-500451E64F5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08884A90-444B-4AE1-BD9C-4E9CE6C2787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3DE9A26B-4BC1-499F-9BCB-60C28853EF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C9E30B66-7293-4290-BB62-D61A5EC2AA3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866E6C4D-5D07-47AE-B915-AE0533310C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706B248-B671-41CA-A059-901F4E6AE6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F7B0506D-5BC6-499C-B299-96039790DC1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431B1702-A5B7-4B32-851F-14A256EC291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FBD8D166-8B48-4764-8276-C88BBE6D5F6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4C1C6941-FA00-45B6-9A76-7B0DB5FE919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5C81A4F4-C506-4C7D-9757-B03AF3D325C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6F0204FF-93AC-4149-A822-063BF2B5B35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F879BCAF-1CAA-4714-B045-7F81D71DFFA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1A77B4EA-F28D-477B-BFE0-4A45DE76E5E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7087A425-C691-4CC6-AD4D-B3E9FFC686D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1C33B5A2-CF3F-475A-8210-7054B94371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84DFCF87-C265-42EF-B6D4-2D36B3CF47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6A8BA69-C698-4415-AFF6-41DF0BE0BC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FA50267C-3BBA-4FE5-A57C-0C3B3AF317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DE82BA50-4038-4A3A-841D-3489388484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5E151354-489F-48F9-9DE0-2C40706E6C9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17F9EBD4-34FA-42B0-957E-8524F44B49D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D2123CB1-86FA-478B-A8C0-BD262543715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A6A5EADD-3CF8-41D5-BC7F-4C7812C8E476}"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3F3E05BE-A42C-4F7B-96F0-DA213F70BA31}"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528DBAF5-DA72-41F8-965B-4F81A5242784}"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93137046-554A-46EA-8BF8-CAAD343FA9CB}"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2EE284FE-B2B2-40D4-AEC1-DD62F34AF682}"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8A43C5E-B444-4B82-AB5F-6720823C74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5852F17F-083E-49F6-8C4E-D509F4ECBCAF}"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5C676100-5FD3-408D-9361-8FC4A9AFC658}"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CE4253A9-4BAF-4BDC-9A1D-1EF72CF9AE7B}"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68E5675B-2D15-4A69-ADCA-430AB4715451}"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AEB891D6-4ED0-4960-B63F-8F0442AC744C}"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81E98832-BFFA-4761-AC18-DC90F812B25C}"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3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E97A067E-EEDD-4393-B964-811850427833}"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5A298C69-1C5E-44FD-A24D-DF1FDD44F12F}"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171A4852-8F33-4494-AC6D-D53120721430}"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673299E4-AF10-4B5D-AEAA-086389D06013}"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9ED79B4-6511-4749-86FF-F53023211C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AF1742F9-1DFF-4C6C-A827-8909504C1405}"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790460FF-FA5A-4EBD-A6A3-8C6666CA3A12}"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5C52E4A4-DC1A-4BF5-A2C9-5093F4E40714}"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5FD5A01D-BE2C-4BAD-B546-CEBA7C0EE260}"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3324CE15-5781-486D-8B1B-BA34DEFC64DC}"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FC581C1B-C68F-4814-983C-D31B8695A6DD}"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23122251-D3D6-459F-BAB4-9256EFFF7A3D}"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4E1A4AAA-BF3F-4C10-98F1-5634A9F404A3}"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7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66004203-D715-41FD-8AE0-6858AA967E7D}"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EEE61676-90DB-4078-AC63-E3A9907E484C}"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BC088D7-3455-4EA1-A7AA-00A137627B2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919C66A9-6FC1-4033-A81F-ED5B9CF4700E}"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466AEFC4-F77A-475D-8C39-B8B98B311B39}"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8F350C0C-12BA-448B-B702-77CBAA9D990D}"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009C9895-196E-492C-9C3C-18C9EC0DEA66}"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C2AAFEC2-C3E9-40F7-91B3-4DC2B8F4117F}"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C68DCF65-5989-46E3-9B49-C9E8DD1314EF}"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608A5326-D879-4815-877C-A20D0EF5F768}"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E9E80B89-80FB-45E9-B491-4BD41CE60219}"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24F728E6-096B-4C97-A950-7349387AB286}"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62326489-4E78-40FC-9ABA-5006C4173594}"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8AF1124-1FF5-401F-9B0F-80EB7407A92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A155B68F-B7DF-4047-BECF-ADB76CFA7F88}"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1D694432-F6EF-4D85-880D-1DEB2088A8A7}"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5D046B4E-854A-4833-9D0C-68C4BC9FB568}"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87065A29-60B8-4B48-9A73-218FE4AFF04F}"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F6099963-0467-4075-9EE3-425A7F11695A}"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F56F903C-1AB1-4715-8BD4-B05E5FBE9EC8}"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12378042-5E2F-45B2-B596-069BE6603D4F}"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ADBE8DA7-D282-4785-94DB-6F82274A2BF0}"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9AD3AD88-7041-413E-83C8-7CBD9533DA36}"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85CC31A6-D05E-46FF-B4E9-60B95CDAD32A}"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8D416DE5-C806-46AA-B684-1D87F0E24C1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1F63C35D-5E6E-43D2-B816-A447518200E5}"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4D8F74CD-5819-4B1F-A975-0951FCC4782E}"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1D938802-014A-4D6E-AC3D-07BAB4E4DA03}"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9634839E-9876-40E3-BBD6-F63964ACA7EB}"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B55EE9E2-2FCE-4DF4-BD6C-0ACF3083E1B0}"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52FA24D7-C501-44A7-98F9-DEA8B5A1AA97}"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1C03728E-A46B-46EC-A4AD-E692D7862AAE}"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BB665A13-C947-4062-B465-369EBA51FA48}"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C4C86971-3BDB-4468-A939-020312AE1208}"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14F722E0-FBAF-40B8-8094-CBCA7A79C77B}"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C1492EE-0600-4BDB-A283-7AF96773489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DC749BD4-790C-4055-98FA-257B33CF6A41}"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F9F308BE-933A-4378-9C41-39004BB4A0CB}"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9DD706A5-2F95-43C1-BEAD-4E0FF2B0A870}"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E90B4780-AF3E-447F-A6B8-0773C8C1D4DD}"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FBC16DC0-9CE2-43A3-8D71-62CFEA2256D6}"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9808A86B-07E7-4FDF-98C9-6564896D7338}"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2D3B5F1F-755B-4616-848C-8CDDF1FE6194}"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4B228F27-8E00-4385-ACE8-DD39E989509C}"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66BC1D8B-1AD1-4B8E-8CE0-F92684D4005D}"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5B3F5F89-43E5-4CC3-89CE-A345C02A87A8}"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1CB4448-56C0-470C-9426-DCB66B54BE0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5639D830-C068-4675-9750-69CBE12AE72F}"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C3D93F0A-BF3F-4DAE-8596-1183DD0223CB}"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E7B050E9-06F1-4DC2-938E-E2A2D75E5842}"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B5DC9D1B-CA8A-43AB-9880-1ABEB2EE0450}"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1410FE42-B003-42F3-BC63-BDB9FE1840F1}"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C25E08DC-BC82-47D9-8FD2-040F15F3AF0A}"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91941906-419F-4288-9664-0D2D93176A7D}"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87DF445C-F2DD-4436-BAD8-E26C794FFF0B}"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6FE2E54B-8972-458F-8CD6-047BEC5F57A0}"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E14FF557-BC83-4D78-BD69-6F0966BE8EA0}"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3AAA4D1-2DC2-4B80-900A-11DE84D0711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7C303944-557A-4C5D-AD61-B4F87D666ED9}"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F5860955-0787-4AA2-ABC3-A7AB988E4E14}"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9000FAB2-895D-4DB1-8873-3E45590055D4}"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4CE2BBA8-E157-4337-AEB0-DD802F281201}"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E2B194C5-E1C1-465C-954E-CAB3F928D98E}"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F606D5F7-CBBE-41F5-B835-D6545E2FCA04}"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F9EDAA06-27B8-4405-967A-0193B7F756B6}"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C19030DE-828A-499A-852A-A2D1E1CA1788}"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DE2E6B76-3E24-4B52-86FC-03EA7A697EE6}"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07329BA9-9EC6-40BB-AA3B-029EC7592D1D}"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82BC6C6-558C-47CC-98CB-71FCCCFF9FF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FF68B9DF-B9E6-4056-8F56-65973195D6F8}"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2884F0AB-F361-4E2A-8828-9CEDC4A93E08}"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DA68B2AD-D408-4B1C-BC7A-CC8BF7903CA5}"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7C3658D5-CE59-4F82-B879-560D8404A916}"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096289B9-4385-4207-B2A5-C939AA084B55}"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FDD5782A-130D-4005-9033-A834E97184FC}"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4086C944-481B-4797-82BD-81281EF2294F}"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2C52F0F5-AE7A-408A-985C-51A3F4CAA723}"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5A147128-7F63-4516-A80C-14360D5CC89B}"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A005E3FB-BF08-4DB4-95DF-1D615EC17341}"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7185C7E8-DF05-41F7-BE6B-D3C4DD24105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32F7451-19FB-496F-A214-EA1D024E678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CE2024FB-7115-44A5-BDB9-AF13728CD794}"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6583CE9-179F-4190-845E-F3C18457D79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88BA420-3231-4E9F-A918-E6EB100B84A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D0D06A1-9F9E-444E-B497-189D609E71B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BE7EEC0-E21E-4508-BA82-68FDC4E040B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EEDA17E5-8F20-4A0F-8C5E-F8980D88EF2E}"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73A8B4D5-DA6E-4EC7-870D-12E9DFFFD75D}"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63F330FF-DAF2-4E3D-81C4-5ACA90FD27AF}"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7F8D8DB-4B24-41C9-BB6D-793DCEC49BE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D9B3EE5-6632-4070-B17D-49E53DF98A7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08E27160-FDED-4EB8-9CD2-AFA352480D8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78872CF-6CAC-45BA-9D4B-AFBF1B631E8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62DD163-9706-4266-9E00-47027EB6FDC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2D3A0DC-452F-4945-9C0F-5DB2AE9A95A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E933D30-8B4B-484A-B425-E3CE7F54DD1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CAF5318-C1D0-424D-A1F9-9DB7B7573F3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A62AC2A-8DBE-4021-9935-4E972DE933E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653C94A-B506-4BDF-A1C7-709475639EB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ED03FACF-CDBA-466D-BDAB-87DE93E6055E}"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2F4CB81B-4F04-45EC-863D-CF6F5D176480}"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80AD207E-C3DF-456E-AC58-5DEAB2DC5EF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sldNum" idx="1"/>
          </p:nvPr>
        </p:nvSpPr>
        <p:spPr/>
        <p:txBody>
          <a:bodyPr/>
          <a:p>
            <a:fld id="{3BE97787-79B2-41AF-BDED-586A4959B02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AFA5C54D-8497-47BF-A09E-067F5D14354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AB0ADE6-9D77-43AF-84DA-7B292EA5D9D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CB31A82-2540-42D4-9822-CA23140583F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87112097-91BA-4D2A-9025-124BB19F985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77F9DBA-2BF8-4AFA-A078-D22401A5D50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2B5D937-64A4-4AFE-9BDC-575068E70F8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824C4AF-0807-4755-B8E4-8CA43EB7C55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E5A0C75-3818-4BCB-9AB8-F1B7C12D903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55F4D34-88F1-4F15-924D-728DF2AEBFC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3D8B8C3C-CF25-4810-934D-C1D671558F8A}"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sldNum" idx="1"/>
          </p:nvPr>
        </p:nvSpPr>
        <p:spPr/>
        <p:txBody>
          <a:bodyPr/>
          <a:p>
            <a:fld id="{C8438130-B1F3-4BE7-9CE6-0FC15C2A29F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F75198CC-D5F0-4F6A-8F00-247F273F37A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41881A7B-BED0-411E-9597-967B05FDFDCE}"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352A6DB-E405-4B9E-8747-B40E4BA16CF5}"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FA8B2B0-547C-46DA-BC0B-0D9E88E60266}"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1D03742F-F683-465D-A63D-AF01598FE3DC}"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CC16541-3247-4B4E-9DEA-85025D7759C5}"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8B8165E-B2CE-47B6-80B2-65871CEB6D98}"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D4E5E04-C1BD-4871-B690-B76E38C399D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8563849-6E15-4325-AEA3-554DFE4C23B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BD793AA-0B8B-4752-B887-D1A6FD5EA71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A5F53E5C-0BD4-4117-BC19-59C587DA2A0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803952B-184E-4922-8D08-B43A3EFB24D6}"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703DA3EE-6A12-43AF-A15B-07DE1B98EB88}"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6DE42458-3D32-459C-88FD-DEC19DB5BDED}"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988DB389-9604-46D3-94F7-B97449A383FB}"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F050CAD-F8DF-40E2-83EE-E97D3F49F5C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E34D78C-97F3-4E5C-8608-18211B1E9E0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FA473C0-489F-4906-BE9E-FFDC6BA8485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2F1DFE3-A6DE-4AE0-B509-A59549FECEF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E7A79FD-7A49-49F9-BD5E-F2DB9028414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02DDE56-6BB1-4C3C-91ED-947A3FA9C09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6A6AC9DD-60B6-4C3F-8B1E-EFC3797CF2E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2E36A72-3EA8-42C8-8896-7588FB87D05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70F48BD-ABF4-4C15-BC39-F3D02540B45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BA7A5F3-CA3F-4EA3-BA88-E6251A2F9C8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3255A2DB-173B-4F8A-A83F-05E041499F61}"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45D81833-7D29-4EE0-9407-80A378C053E1}"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56B81846-4EB3-4468-8C46-03653A68DE07}"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4AC2F9D9-613B-43ED-9105-992EA2CF542D}"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DFBE386-A798-42A4-BFE0-55104E7C819F}"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29EF7B8-D2BF-4513-A6FF-0910F0495BB4}"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0DCF542-D65B-422E-9C9A-E2BB6A617E3E}"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5F4287E6-D4A0-49E8-8424-D215F63599F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4489345-5CAE-4E69-8B75-7646D92BE40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50A4C14-4FF4-4816-A5D9-7F81C7589414}"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79CA769-52E6-459C-9986-08B884CE53E4}"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A4664BE-574B-40F1-B61B-910C0C1109C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32D8543-D0B1-44AA-B782-F41163ECD74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B75A19A0-2757-492D-B92D-F22CAFA81C03}"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E8DD7CE2-F2A6-42B0-B1DA-9CC08C3F9D4B}"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645260D7-276C-429B-BB96-D0C52B0A9AA0}"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A1761CCA-0E51-4691-A604-C354BFC547DC}"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EABDAA8-E767-4059-83AF-243E52D11307}"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7.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7.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7.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06400"/>
            <a:ext cx="8229600" cy="5608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462440" y="66607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001FB-49DA-41D1-8594-A9A70870C32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5" name="Pravokotni trikotnik 13"/>
          <p:cNvGrpSpPr/>
          <p:nvPr/>
        </p:nvGrpSpPr>
        <p:grpSpPr>
          <a:xfrm>
            <a:off x="-6480" y="6175440"/>
            <a:ext cx="3402000" cy="1152360"/>
            <a:chOff x="-6480" y="6175440"/>
            <a:chExt cx="3402000" cy="1152360"/>
          </a:xfrm>
        </p:grpSpPr>
        <p:pic>
          <p:nvPicPr>
            <p:cNvPr id="416" name="Pravokotni trikotnik 13" descr=""/>
            <p:cNvPicPr/>
            <p:nvPr/>
          </p:nvPicPr>
          <p:blipFill>
            <a:blip r:embed="rId2"/>
            <a:stretch/>
          </p:blipFill>
          <p:spPr>
            <a:xfrm>
              <a:off x="-6480" y="6175440"/>
              <a:ext cx="3402000" cy="1152360"/>
            </a:xfrm>
            <a:prstGeom prst="rect">
              <a:avLst/>
            </a:prstGeom>
            <a:ln w="0">
              <a:noFill/>
            </a:ln>
          </p:spPr>
        </p:pic>
        <p:sp>
          <p:nvSpPr>
            <p:cNvPr id="41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18" name="Raven povezovalnik 14" descr=""/>
          <p:cNvPicPr/>
          <p:nvPr/>
        </p:nvPicPr>
        <p:blipFill>
          <a:blip r:embed="rId3"/>
          <a:stretch/>
        </p:blipFill>
        <p:spPr>
          <a:xfrm>
            <a:off x="-19080" y="6168960"/>
            <a:ext cx="3414600" cy="1170000"/>
          </a:xfrm>
          <a:prstGeom prst="rect">
            <a:avLst/>
          </a:prstGeom>
          <a:ln w="0">
            <a:noFill/>
          </a:ln>
        </p:spPr>
      </p:pic>
      <p:sp>
        <p:nvSpPr>
          <p:cNvPr id="4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2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21" name="PlaceHolder 3"/>
          <p:cNvSpPr>
            <a:spLocks noGrp="1"/>
          </p:cNvSpPr>
          <p:nvPr>
            <p:ph type="dt" idx="2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PlaceHolder 4"/>
          <p:cNvSpPr>
            <a:spLocks noGrp="1"/>
          </p:cNvSpPr>
          <p:nvPr>
            <p:ph type="ftr" idx="2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3" name="PlaceHolder 5"/>
          <p:cNvSpPr>
            <a:spLocks noGrp="1"/>
          </p:cNvSpPr>
          <p:nvPr>
            <p:ph type="sldNum" idx="2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B268F-518D-4D39-9FFF-5C14B55B7FF2}"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62" name="PlaceHolder 3"/>
          <p:cNvSpPr>
            <a:spLocks noGrp="1"/>
          </p:cNvSpPr>
          <p:nvPr>
            <p:ph type="dt" idx="2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PlaceHolder 4"/>
          <p:cNvSpPr>
            <a:spLocks noGrp="1"/>
          </p:cNvSpPr>
          <p:nvPr>
            <p:ph type="ftr" idx="3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PlaceHolder 5"/>
          <p:cNvSpPr>
            <a:spLocks noGrp="1"/>
          </p:cNvSpPr>
          <p:nvPr>
            <p:ph type="sldNum" idx="3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3C438-1AB0-40C0-82D2-4D55036AF6BF}"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1"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2"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03" name="Pravokotni trikotnik 15"/>
          <p:cNvGrpSpPr/>
          <p:nvPr/>
        </p:nvGrpSpPr>
        <p:grpSpPr>
          <a:xfrm>
            <a:off x="-6480" y="6175440"/>
            <a:ext cx="3402000" cy="1152360"/>
            <a:chOff x="-6480" y="6175440"/>
            <a:chExt cx="3402000" cy="1152360"/>
          </a:xfrm>
        </p:grpSpPr>
        <p:pic>
          <p:nvPicPr>
            <p:cNvPr id="504" name="Pravokotni trikotnik 15" descr=""/>
            <p:cNvPicPr/>
            <p:nvPr/>
          </p:nvPicPr>
          <p:blipFill>
            <a:blip r:embed="rId3"/>
            <a:stretch/>
          </p:blipFill>
          <p:spPr>
            <a:xfrm>
              <a:off x="-6480" y="6175440"/>
              <a:ext cx="3402000" cy="1152360"/>
            </a:xfrm>
            <a:prstGeom prst="rect">
              <a:avLst/>
            </a:prstGeom>
            <a:ln w="0">
              <a:noFill/>
            </a:ln>
          </p:spPr>
        </p:pic>
        <p:sp>
          <p:nvSpPr>
            <p:cNvPr id="50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06" name="Raven povezovalnik 16" descr=""/>
          <p:cNvPicPr/>
          <p:nvPr/>
        </p:nvPicPr>
        <p:blipFill>
          <a:blip r:embed="rId4"/>
          <a:stretch/>
        </p:blipFill>
        <p:spPr>
          <a:xfrm>
            <a:off x="-19080" y="6168960"/>
            <a:ext cx="3414600" cy="1170000"/>
          </a:xfrm>
          <a:prstGeom prst="rect">
            <a:avLst/>
          </a:prstGeom>
          <a:ln w="0">
            <a:noFill/>
          </a:ln>
        </p:spPr>
      </p:pic>
      <p:sp>
        <p:nvSpPr>
          <p:cNvPr id="507"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1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11" name="PlaceHolder 3"/>
          <p:cNvSpPr>
            <a:spLocks noGrp="1"/>
          </p:cNvSpPr>
          <p:nvPr>
            <p:ph type="dt" idx="3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4"/>
          <p:cNvSpPr>
            <a:spLocks noGrp="1"/>
          </p:cNvSpPr>
          <p:nvPr>
            <p:ph type="ftr" idx="3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PlaceHolder 5"/>
          <p:cNvSpPr>
            <a:spLocks noGrp="1"/>
          </p:cNvSpPr>
          <p:nvPr>
            <p:ph type="sldNum" idx="3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F6D9D-75A2-458A-83C4-E01479ED33BF}"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52" name="Pravokotni trikotnik 13"/>
          <p:cNvGrpSpPr/>
          <p:nvPr/>
        </p:nvGrpSpPr>
        <p:grpSpPr>
          <a:xfrm>
            <a:off x="-6480" y="6175440"/>
            <a:ext cx="3402000" cy="1152360"/>
            <a:chOff x="-6480" y="6175440"/>
            <a:chExt cx="3402000" cy="1152360"/>
          </a:xfrm>
        </p:grpSpPr>
        <p:pic>
          <p:nvPicPr>
            <p:cNvPr id="553" name="Pravokotni trikotnik 13" descr=""/>
            <p:cNvPicPr/>
            <p:nvPr/>
          </p:nvPicPr>
          <p:blipFill>
            <a:blip r:embed="rId2"/>
            <a:stretch/>
          </p:blipFill>
          <p:spPr>
            <a:xfrm>
              <a:off x="-6480" y="6175440"/>
              <a:ext cx="3402000" cy="1152360"/>
            </a:xfrm>
            <a:prstGeom prst="rect">
              <a:avLst/>
            </a:prstGeom>
            <a:ln w="0">
              <a:noFill/>
            </a:ln>
          </p:spPr>
        </p:pic>
        <p:sp>
          <p:nvSpPr>
            <p:cNvPr id="55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55" name="Raven povezovalnik 14" descr=""/>
          <p:cNvPicPr/>
          <p:nvPr/>
        </p:nvPicPr>
        <p:blipFill>
          <a:blip r:embed="rId3"/>
          <a:stretch/>
        </p:blipFill>
        <p:spPr>
          <a:xfrm>
            <a:off x="-19080" y="6168960"/>
            <a:ext cx="3414600" cy="1170000"/>
          </a:xfrm>
          <a:prstGeom prst="rect">
            <a:avLst/>
          </a:prstGeom>
          <a:ln w="0">
            <a:noFill/>
          </a:ln>
        </p:spPr>
      </p:pic>
      <p:sp>
        <p:nvSpPr>
          <p:cNvPr id="5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5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58" name="PlaceHolder 3"/>
          <p:cNvSpPr>
            <a:spLocks noGrp="1"/>
          </p:cNvSpPr>
          <p:nvPr>
            <p:ph type="dt" idx="3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PlaceHolder 4"/>
          <p:cNvSpPr>
            <a:spLocks noGrp="1"/>
          </p:cNvSpPr>
          <p:nvPr>
            <p:ph type="ftr" idx="3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PlaceHolder 5"/>
          <p:cNvSpPr>
            <a:spLocks noGrp="1"/>
          </p:cNvSpPr>
          <p:nvPr>
            <p:ph type="sldNum" idx="3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A466F-CC8B-48D3-8F80-9E7C957362B8}"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99" name="Pravokotni trikotnik 13"/>
          <p:cNvGrpSpPr/>
          <p:nvPr/>
        </p:nvGrpSpPr>
        <p:grpSpPr>
          <a:xfrm>
            <a:off x="-6480" y="6175440"/>
            <a:ext cx="3402000" cy="1152360"/>
            <a:chOff x="-6480" y="6175440"/>
            <a:chExt cx="3402000" cy="1152360"/>
          </a:xfrm>
        </p:grpSpPr>
        <p:pic>
          <p:nvPicPr>
            <p:cNvPr id="600" name="Pravokotni trikotnik 13" descr=""/>
            <p:cNvPicPr/>
            <p:nvPr/>
          </p:nvPicPr>
          <p:blipFill>
            <a:blip r:embed="rId2"/>
            <a:stretch/>
          </p:blipFill>
          <p:spPr>
            <a:xfrm>
              <a:off x="-6480" y="6175440"/>
              <a:ext cx="3402000" cy="1152360"/>
            </a:xfrm>
            <a:prstGeom prst="rect">
              <a:avLst/>
            </a:prstGeom>
            <a:ln w="0">
              <a:noFill/>
            </a:ln>
          </p:spPr>
        </p:pic>
        <p:sp>
          <p:nvSpPr>
            <p:cNvPr id="60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02" name="Raven povezovalnik 14" descr=""/>
          <p:cNvPicPr/>
          <p:nvPr/>
        </p:nvPicPr>
        <p:blipFill>
          <a:blip r:embed="rId3"/>
          <a:stretch/>
        </p:blipFill>
        <p:spPr>
          <a:xfrm>
            <a:off x="-19080" y="6168960"/>
            <a:ext cx="3414600" cy="1170000"/>
          </a:xfrm>
          <a:prstGeom prst="rect">
            <a:avLst/>
          </a:prstGeom>
          <a:ln w="0">
            <a:noFill/>
          </a:ln>
        </p:spPr>
      </p:pic>
      <p:sp>
        <p:nvSpPr>
          <p:cNvPr id="60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0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05" name="PlaceHolder 3"/>
          <p:cNvSpPr>
            <a:spLocks noGrp="1"/>
          </p:cNvSpPr>
          <p:nvPr>
            <p:ph type="dt" idx="3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PlaceHolder 4"/>
          <p:cNvSpPr>
            <a:spLocks noGrp="1"/>
          </p:cNvSpPr>
          <p:nvPr>
            <p:ph type="ftr" idx="3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7" name="PlaceHolder 5"/>
          <p:cNvSpPr>
            <a:spLocks noGrp="1"/>
          </p:cNvSpPr>
          <p:nvPr>
            <p:ph type="sldNum" idx="4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34939-E410-46ED-BBD9-4A61C29B29C1}"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45" name="Skupina 15"/>
          <p:cNvGrpSpPr/>
          <p:nvPr/>
        </p:nvGrpSpPr>
        <p:grpSpPr>
          <a:xfrm>
            <a:off x="-3240" y="5283360"/>
            <a:ext cx="9147240" cy="2039760"/>
            <a:chOff x="-3240" y="5283360"/>
            <a:chExt cx="9147240" cy="2039760"/>
          </a:xfrm>
        </p:grpSpPr>
        <p:sp>
          <p:nvSpPr>
            <p:cNvPr id="646"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7"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48" name="Prostoročno 18"/>
            <p:cNvGrpSpPr/>
            <p:nvPr/>
          </p:nvGrpSpPr>
          <p:grpSpPr>
            <a:xfrm>
              <a:off x="8640" y="5334120"/>
              <a:ext cx="9135360" cy="1989000"/>
              <a:chOff x="8640" y="5334120"/>
              <a:chExt cx="9135360" cy="1989000"/>
            </a:xfrm>
          </p:grpSpPr>
          <p:pic>
            <p:nvPicPr>
              <p:cNvPr id="649" name="Prostoročno 18" descr=""/>
              <p:cNvPicPr/>
              <p:nvPr/>
            </p:nvPicPr>
            <p:blipFill>
              <a:blip r:embed="rId2"/>
              <a:stretch/>
            </p:blipFill>
            <p:spPr>
              <a:xfrm>
                <a:off x="8640" y="5334120"/>
                <a:ext cx="9135360" cy="1989000"/>
              </a:xfrm>
              <a:prstGeom prst="rect">
                <a:avLst/>
              </a:prstGeom>
              <a:ln w="0">
                <a:noFill/>
              </a:ln>
            </p:spPr>
          </p:pic>
          <p:sp>
            <p:nvSpPr>
              <p:cNvPr id="650"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51" name="Raven povezovalnik 19" descr=""/>
            <p:cNvPicPr/>
            <p:nvPr/>
          </p:nvPicPr>
          <p:blipFill>
            <a:blip r:embed="rId3"/>
            <a:stretch/>
          </p:blipFill>
          <p:spPr>
            <a:xfrm>
              <a:off x="-3240" y="5321880"/>
              <a:ext cx="9147240" cy="860040"/>
            </a:xfrm>
            <a:prstGeom prst="rect">
              <a:avLst/>
            </a:prstGeom>
            <a:ln w="0">
              <a:noFill/>
            </a:ln>
          </p:spPr>
        </p:pic>
      </p:grpSp>
      <p:sp>
        <p:nvSpPr>
          <p:cNvPr id="6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5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54" name="PlaceHolder 3"/>
          <p:cNvSpPr>
            <a:spLocks noGrp="1"/>
          </p:cNvSpPr>
          <p:nvPr>
            <p:ph type="dt" idx="4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5" name="PlaceHolder 4"/>
          <p:cNvSpPr>
            <a:spLocks noGrp="1"/>
          </p:cNvSpPr>
          <p:nvPr>
            <p:ph type="ftr" idx="4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6" name="PlaceHolder 5"/>
          <p:cNvSpPr>
            <a:spLocks noGrp="1"/>
          </p:cNvSpPr>
          <p:nvPr>
            <p:ph type="sldNum" idx="4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A2004-BB89-4E29-A48D-80B884196807}"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95" name="Pravokotni trikotnik 13"/>
          <p:cNvGrpSpPr/>
          <p:nvPr/>
        </p:nvGrpSpPr>
        <p:grpSpPr>
          <a:xfrm>
            <a:off x="-6480" y="6175440"/>
            <a:ext cx="3402000" cy="1152360"/>
            <a:chOff x="-6480" y="6175440"/>
            <a:chExt cx="3402000" cy="1152360"/>
          </a:xfrm>
        </p:grpSpPr>
        <p:pic>
          <p:nvPicPr>
            <p:cNvPr id="696" name="Pravokotni trikotnik 13" descr=""/>
            <p:cNvPicPr/>
            <p:nvPr/>
          </p:nvPicPr>
          <p:blipFill>
            <a:blip r:embed="rId2"/>
            <a:stretch/>
          </p:blipFill>
          <p:spPr>
            <a:xfrm>
              <a:off x="-6480" y="6175440"/>
              <a:ext cx="3402000" cy="1152360"/>
            </a:xfrm>
            <a:prstGeom prst="rect">
              <a:avLst/>
            </a:prstGeom>
            <a:ln w="0">
              <a:noFill/>
            </a:ln>
          </p:spPr>
        </p:pic>
        <p:sp>
          <p:nvSpPr>
            <p:cNvPr id="69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98" name="Raven povezovalnik 14" descr=""/>
          <p:cNvPicPr/>
          <p:nvPr/>
        </p:nvPicPr>
        <p:blipFill>
          <a:blip r:embed="rId3"/>
          <a:stretch/>
        </p:blipFill>
        <p:spPr>
          <a:xfrm>
            <a:off x="-19080" y="6168960"/>
            <a:ext cx="3414600" cy="1170000"/>
          </a:xfrm>
          <a:prstGeom prst="rect">
            <a:avLst/>
          </a:prstGeom>
          <a:ln w="0">
            <a:noFill/>
          </a:ln>
        </p:spPr>
      </p:pic>
      <p:sp>
        <p:nvSpPr>
          <p:cNvPr id="6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0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701" name="PlaceHolder 3"/>
          <p:cNvSpPr>
            <a:spLocks noGrp="1"/>
          </p:cNvSpPr>
          <p:nvPr>
            <p:ph type="dt" idx="4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2" name="PlaceHolder 4"/>
          <p:cNvSpPr>
            <a:spLocks noGrp="1"/>
          </p:cNvSpPr>
          <p:nvPr>
            <p:ph type="ftr" idx="4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3" name="PlaceHolder 5"/>
          <p:cNvSpPr>
            <a:spLocks noGrp="1"/>
          </p:cNvSpPr>
          <p:nvPr>
            <p:ph type="sldNum" idx="4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D9F47-498F-410E-AABA-8345287676F5}"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42" name="Pravokotni trikotnik 13"/>
          <p:cNvGrpSpPr/>
          <p:nvPr/>
        </p:nvGrpSpPr>
        <p:grpSpPr>
          <a:xfrm>
            <a:off x="-6480" y="6175440"/>
            <a:ext cx="3402000" cy="1152360"/>
            <a:chOff x="-6480" y="6175440"/>
            <a:chExt cx="3402000" cy="1152360"/>
          </a:xfrm>
        </p:grpSpPr>
        <p:pic>
          <p:nvPicPr>
            <p:cNvPr id="743" name="Pravokotni trikotnik 13" descr=""/>
            <p:cNvPicPr/>
            <p:nvPr/>
          </p:nvPicPr>
          <p:blipFill>
            <a:blip r:embed="rId3"/>
            <a:stretch/>
          </p:blipFill>
          <p:spPr>
            <a:xfrm>
              <a:off x="-6480" y="6175440"/>
              <a:ext cx="3402000" cy="1152360"/>
            </a:xfrm>
            <a:prstGeom prst="rect">
              <a:avLst/>
            </a:prstGeom>
            <a:ln w="0">
              <a:noFill/>
            </a:ln>
          </p:spPr>
        </p:pic>
        <p:sp>
          <p:nvSpPr>
            <p:cNvPr id="74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45" name="Raven povezovalnik 14" descr=""/>
          <p:cNvPicPr/>
          <p:nvPr/>
        </p:nvPicPr>
        <p:blipFill>
          <a:blip r:embed="rId4"/>
          <a:stretch/>
        </p:blipFill>
        <p:spPr>
          <a:xfrm>
            <a:off x="-19080" y="6168960"/>
            <a:ext cx="3414600" cy="1170000"/>
          </a:xfrm>
          <a:prstGeom prst="rect">
            <a:avLst/>
          </a:prstGeom>
          <a:ln w="0">
            <a:noFill/>
          </a:ln>
        </p:spPr>
      </p:pic>
      <p:sp>
        <p:nvSpPr>
          <p:cNvPr id="746"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7"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4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50" name="PlaceHolder 3"/>
          <p:cNvSpPr>
            <a:spLocks noGrp="1"/>
          </p:cNvSpPr>
          <p:nvPr>
            <p:ph type="dt" idx="4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1" name="PlaceHolder 4"/>
          <p:cNvSpPr>
            <a:spLocks noGrp="1"/>
          </p:cNvSpPr>
          <p:nvPr>
            <p:ph type="ftr" idx="4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2" name="PlaceHolder 5"/>
          <p:cNvSpPr>
            <a:spLocks noGrp="1"/>
          </p:cNvSpPr>
          <p:nvPr>
            <p:ph type="sldNum" idx="4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A47BB-D6BA-4514-A01D-3D2527598775}"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91" name="Pravokotni trikotnik 13"/>
          <p:cNvGrpSpPr/>
          <p:nvPr/>
        </p:nvGrpSpPr>
        <p:grpSpPr>
          <a:xfrm>
            <a:off x="-6480" y="6175440"/>
            <a:ext cx="3402000" cy="1152360"/>
            <a:chOff x="-6480" y="6175440"/>
            <a:chExt cx="3402000" cy="1152360"/>
          </a:xfrm>
        </p:grpSpPr>
        <p:pic>
          <p:nvPicPr>
            <p:cNvPr id="792" name="Pravokotni trikotnik 13" descr=""/>
            <p:cNvPicPr/>
            <p:nvPr/>
          </p:nvPicPr>
          <p:blipFill>
            <a:blip r:embed="rId3"/>
            <a:stretch/>
          </p:blipFill>
          <p:spPr>
            <a:xfrm>
              <a:off x="-6480" y="6175440"/>
              <a:ext cx="3402000" cy="1152360"/>
            </a:xfrm>
            <a:prstGeom prst="rect">
              <a:avLst/>
            </a:prstGeom>
            <a:ln w="0">
              <a:noFill/>
            </a:ln>
          </p:spPr>
        </p:pic>
        <p:sp>
          <p:nvSpPr>
            <p:cNvPr id="79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94" name="Raven povezovalnik 14" descr=""/>
          <p:cNvPicPr/>
          <p:nvPr/>
        </p:nvPicPr>
        <p:blipFill>
          <a:blip r:embed="rId4"/>
          <a:stretch/>
        </p:blipFill>
        <p:spPr>
          <a:xfrm>
            <a:off x="-19080" y="6168960"/>
            <a:ext cx="3414600" cy="1170000"/>
          </a:xfrm>
          <a:prstGeom prst="rect">
            <a:avLst/>
          </a:prstGeom>
          <a:ln w="0">
            <a:noFill/>
          </a:ln>
        </p:spPr>
      </p:pic>
      <p:sp>
        <p:nvSpPr>
          <p:cNvPr id="7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9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97" name="PlaceHolder 3"/>
          <p:cNvSpPr>
            <a:spLocks noGrp="1"/>
          </p:cNvSpPr>
          <p:nvPr>
            <p:ph type="dt" idx="5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8" name="PlaceHolder 4"/>
          <p:cNvSpPr>
            <a:spLocks noGrp="1"/>
          </p:cNvSpPr>
          <p:nvPr>
            <p:ph type="ftr" idx="5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9" name="PlaceHolder 5"/>
          <p:cNvSpPr>
            <a:spLocks noGrp="1"/>
          </p:cNvSpPr>
          <p:nvPr>
            <p:ph type="sldNum" idx="5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7AD89-D6A7-4449-B2F2-837BDE4B2D0C}"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83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38" name="PlaceHolder 3"/>
          <p:cNvSpPr>
            <a:spLocks noGrp="1"/>
          </p:cNvSpPr>
          <p:nvPr>
            <p:ph type="dt" idx="5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9" name="PlaceHolder 4"/>
          <p:cNvSpPr>
            <a:spLocks noGrp="1"/>
          </p:cNvSpPr>
          <p:nvPr>
            <p:ph type="ftr" idx="5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0" name="PlaceHolder 5"/>
          <p:cNvSpPr>
            <a:spLocks noGrp="1"/>
          </p:cNvSpPr>
          <p:nvPr>
            <p:ph type="sldNum" idx="5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21C7A-D9DB-4511-A8BC-1CD3E65A7CA1}"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 name="Pravokotni trikotnik 13"/>
          <p:cNvGrpSpPr/>
          <p:nvPr/>
        </p:nvGrpSpPr>
        <p:grpSpPr>
          <a:xfrm>
            <a:off x="-6480" y="6175440"/>
            <a:ext cx="3402000" cy="1152360"/>
            <a:chOff x="-6480" y="6175440"/>
            <a:chExt cx="3402000" cy="1152360"/>
          </a:xfrm>
        </p:grpSpPr>
        <p:pic>
          <p:nvPicPr>
            <p:cNvPr id="42" name="Pravokotni trikotnik 13" descr=""/>
            <p:cNvPicPr/>
            <p:nvPr/>
          </p:nvPicPr>
          <p:blipFill>
            <a:blip r:embed="rId2"/>
            <a:stretch/>
          </p:blipFill>
          <p:spPr>
            <a:xfrm>
              <a:off x="-6480" y="6175440"/>
              <a:ext cx="3402000" cy="1152360"/>
            </a:xfrm>
            <a:prstGeom prst="rect">
              <a:avLst/>
            </a:prstGeom>
            <a:ln w="0">
              <a:noFill/>
            </a:ln>
          </p:spPr>
        </p:pic>
        <p:sp>
          <p:nvSpPr>
            <p:cNvPr id="4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4" name="Raven povezovalnik 14" descr=""/>
          <p:cNvPicPr/>
          <p:nvPr/>
        </p:nvPicPr>
        <p:blipFill>
          <a:blip r:embed="rId3"/>
          <a:stretch/>
        </p:blipFill>
        <p:spPr>
          <a:xfrm>
            <a:off x="-19080" y="6168960"/>
            <a:ext cx="3414600" cy="1170000"/>
          </a:xfrm>
          <a:prstGeom prst="rect">
            <a:avLst/>
          </a:prstGeom>
          <a:ln w="0">
            <a:noFill/>
          </a:ln>
        </p:spPr>
      </p:pic>
      <p:sp>
        <p:nvSpPr>
          <p:cNvPr id="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7" name="PlaceHolder 3"/>
          <p:cNvSpPr>
            <a:spLocks noGrp="1"/>
          </p:cNvSpPr>
          <p:nvPr>
            <p:ph type="dt" idx="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4"/>
          <p:cNvSpPr>
            <a:spLocks noGrp="1"/>
          </p:cNvSpPr>
          <p:nvPr>
            <p:ph type="ftr" idx="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5"/>
          <p:cNvSpPr>
            <a:spLocks noGrp="1"/>
          </p:cNvSpPr>
          <p:nvPr>
            <p:ph type="sldNum" idx="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74086-EBE9-4D57-A433-90805C78E099}"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79" name="Pravokotni trikotnik 13"/>
          <p:cNvGrpSpPr/>
          <p:nvPr/>
        </p:nvGrpSpPr>
        <p:grpSpPr>
          <a:xfrm>
            <a:off x="-6480" y="6175440"/>
            <a:ext cx="3402000" cy="1152360"/>
            <a:chOff x="-6480" y="6175440"/>
            <a:chExt cx="3402000" cy="1152360"/>
          </a:xfrm>
        </p:grpSpPr>
        <p:pic>
          <p:nvPicPr>
            <p:cNvPr id="880" name="Pravokotni trikotnik 13" descr=""/>
            <p:cNvPicPr/>
            <p:nvPr/>
          </p:nvPicPr>
          <p:blipFill>
            <a:blip r:embed="rId3"/>
            <a:stretch/>
          </p:blipFill>
          <p:spPr>
            <a:xfrm>
              <a:off x="-6480" y="6175440"/>
              <a:ext cx="3402000" cy="1152360"/>
            </a:xfrm>
            <a:prstGeom prst="rect">
              <a:avLst/>
            </a:prstGeom>
            <a:ln w="0">
              <a:noFill/>
            </a:ln>
          </p:spPr>
        </p:pic>
        <p:sp>
          <p:nvSpPr>
            <p:cNvPr id="88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882" name="Raven povezovalnik 14" descr=""/>
          <p:cNvPicPr/>
          <p:nvPr/>
        </p:nvPicPr>
        <p:blipFill>
          <a:blip r:embed="rId4"/>
          <a:stretch/>
        </p:blipFill>
        <p:spPr>
          <a:xfrm>
            <a:off x="-19080" y="6168960"/>
            <a:ext cx="3414600" cy="1170000"/>
          </a:xfrm>
          <a:prstGeom prst="rect">
            <a:avLst/>
          </a:prstGeom>
          <a:ln w="0">
            <a:noFill/>
          </a:ln>
        </p:spPr>
      </p:pic>
      <p:sp>
        <p:nvSpPr>
          <p:cNvPr id="8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88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885" name="PlaceHolder 3"/>
          <p:cNvSpPr>
            <a:spLocks noGrp="1"/>
          </p:cNvSpPr>
          <p:nvPr>
            <p:ph type="dt" idx="5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6" name="PlaceHolder 4"/>
          <p:cNvSpPr>
            <a:spLocks noGrp="1"/>
          </p:cNvSpPr>
          <p:nvPr>
            <p:ph type="ftr" idx="5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7" name="PlaceHolder 5"/>
          <p:cNvSpPr>
            <a:spLocks noGrp="1"/>
          </p:cNvSpPr>
          <p:nvPr>
            <p:ph type="sldNum" idx="5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BF8AF-373E-427A-AEFC-12C8D45D7AEF}"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25"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926" name="Pravokotni trikotnik 13"/>
          <p:cNvGrpSpPr/>
          <p:nvPr/>
        </p:nvGrpSpPr>
        <p:grpSpPr>
          <a:xfrm>
            <a:off x="-6480" y="6175440"/>
            <a:ext cx="3402000" cy="1152360"/>
            <a:chOff x="-6480" y="6175440"/>
            <a:chExt cx="3402000" cy="1152360"/>
          </a:xfrm>
        </p:grpSpPr>
        <p:pic>
          <p:nvPicPr>
            <p:cNvPr id="927" name="Pravokotni trikotnik 13" descr=""/>
            <p:cNvPicPr/>
            <p:nvPr/>
          </p:nvPicPr>
          <p:blipFill>
            <a:blip r:embed="rId2"/>
            <a:stretch/>
          </p:blipFill>
          <p:spPr>
            <a:xfrm>
              <a:off x="-6480" y="6175440"/>
              <a:ext cx="3402000" cy="1152360"/>
            </a:xfrm>
            <a:prstGeom prst="rect">
              <a:avLst/>
            </a:prstGeom>
            <a:ln w="0">
              <a:noFill/>
            </a:ln>
          </p:spPr>
        </p:pic>
        <p:sp>
          <p:nvSpPr>
            <p:cNvPr id="928"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29" name="Raven povezovalnik 14" descr=""/>
          <p:cNvPicPr/>
          <p:nvPr/>
        </p:nvPicPr>
        <p:blipFill>
          <a:blip r:embed="rId3"/>
          <a:stretch/>
        </p:blipFill>
        <p:spPr>
          <a:xfrm>
            <a:off x="-19080" y="6168960"/>
            <a:ext cx="3414600" cy="1170000"/>
          </a:xfrm>
          <a:prstGeom prst="rect">
            <a:avLst/>
          </a:prstGeom>
          <a:ln w="0">
            <a:noFill/>
          </a:ln>
        </p:spPr>
      </p:pic>
      <p:sp>
        <p:nvSpPr>
          <p:cNvPr id="9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32" name="PlaceHolder 3"/>
          <p:cNvSpPr>
            <a:spLocks noGrp="1"/>
          </p:cNvSpPr>
          <p:nvPr>
            <p:ph type="dt" idx="5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3" name="PlaceHolder 4"/>
          <p:cNvSpPr>
            <a:spLocks noGrp="1"/>
          </p:cNvSpPr>
          <p:nvPr>
            <p:ph type="ftr" idx="6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4" name="PlaceHolder 5"/>
          <p:cNvSpPr>
            <a:spLocks noGrp="1"/>
          </p:cNvSpPr>
          <p:nvPr>
            <p:ph type="sldNum" idx="6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D838A-0452-4F08-9447-765A1BAFD94C}"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7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73" name="PlaceHolder 3"/>
          <p:cNvSpPr>
            <a:spLocks noGrp="1"/>
          </p:cNvSpPr>
          <p:nvPr>
            <p:ph type="dt" idx="6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4" name="PlaceHolder 4"/>
          <p:cNvSpPr>
            <a:spLocks noGrp="1"/>
          </p:cNvSpPr>
          <p:nvPr>
            <p:ph type="ftr" idx="6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5" name="PlaceHolder 5"/>
          <p:cNvSpPr>
            <a:spLocks noGrp="1"/>
          </p:cNvSpPr>
          <p:nvPr>
            <p:ph type="sldNum" idx="6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0BA8A-1F6B-4749-9FD5-760AC9404FC4}"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2"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3"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14" name="Pravokotni trikotnik 15"/>
          <p:cNvGrpSpPr/>
          <p:nvPr/>
        </p:nvGrpSpPr>
        <p:grpSpPr>
          <a:xfrm>
            <a:off x="-6480" y="6175440"/>
            <a:ext cx="3402000" cy="1152360"/>
            <a:chOff x="-6480" y="6175440"/>
            <a:chExt cx="3402000" cy="1152360"/>
          </a:xfrm>
        </p:grpSpPr>
        <p:pic>
          <p:nvPicPr>
            <p:cNvPr id="1015" name="Pravokotni trikotnik 15" descr=""/>
            <p:cNvPicPr/>
            <p:nvPr/>
          </p:nvPicPr>
          <p:blipFill>
            <a:blip r:embed="rId3"/>
            <a:stretch/>
          </p:blipFill>
          <p:spPr>
            <a:xfrm>
              <a:off x="-6480" y="6175440"/>
              <a:ext cx="3402000" cy="1152360"/>
            </a:xfrm>
            <a:prstGeom prst="rect">
              <a:avLst/>
            </a:prstGeom>
            <a:ln w="0">
              <a:noFill/>
            </a:ln>
          </p:spPr>
        </p:pic>
        <p:sp>
          <p:nvSpPr>
            <p:cNvPr id="101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17" name="Raven povezovalnik 16" descr=""/>
          <p:cNvPicPr/>
          <p:nvPr/>
        </p:nvPicPr>
        <p:blipFill>
          <a:blip r:embed="rId4"/>
          <a:stretch/>
        </p:blipFill>
        <p:spPr>
          <a:xfrm>
            <a:off x="-19080" y="6168960"/>
            <a:ext cx="3414600" cy="1170000"/>
          </a:xfrm>
          <a:prstGeom prst="rect">
            <a:avLst/>
          </a:prstGeom>
          <a:ln w="0">
            <a:noFill/>
          </a:ln>
        </p:spPr>
      </p:pic>
      <p:sp>
        <p:nvSpPr>
          <p:cNvPr id="1018"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9"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2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22" name="PlaceHolder 3"/>
          <p:cNvSpPr>
            <a:spLocks noGrp="1"/>
          </p:cNvSpPr>
          <p:nvPr>
            <p:ph type="dt" idx="6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3" name="PlaceHolder 4"/>
          <p:cNvSpPr>
            <a:spLocks noGrp="1"/>
          </p:cNvSpPr>
          <p:nvPr>
            <p:ph type="ftr" idx="6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4" name="PlaceHolder 5"/>
          <p:cNvSpPr>
            <a:spLocks noGrp="1"/>
          </p:cNvSpPr>
          <p:nvPr>
            <p:ph type="sldNum" idx="6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967C6-EE6D-4059-8DFC-35125B0AD478}"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2"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63" name="Pravokotni trikotnik 13"/>
          <p:cNvGrpSpPr/>
          <p:nvPr/>
        </p:nvGrpSpPr>
        <p:grpSpPr>
          <a:xfrm>
            <a:off x="-6480" y="6175440"/>
            <a:ext cx="3402000" cy="1152360"/>
            <a:chOff x="-6480" y="6175440"/>
            <a:chExt cx="3402000" cy="1152360"/>
          </a:xfrm>
        </p:grpSpPr>
        <p:pic>
          <p:nvPicPr>
            <p:cNvPr id="1064" name="Pravokotni trikotnik 13" descr=""/>
            <p:cNvPicPr/>
            <p:nvPr/>
          </p:nvPicPr>
          <p:blipFill>
            <a:blip r:embed="rId2"/>
            <a:stretch/>
          </p:blipFill>
          <p:spPr>
            <a:xfrm>
              <a:off x="-6480" y="6175440"/>
              <a:ext cx="3402000" cy="1152360"/>
            </a:xfrm>
            <a:prstGeom prst="rect">
              <a:avLst/>
            </a:prstGeom>
            <a:ln w="0">
              <a:noFill/>
            </a:ln>
          </p:spPr>
        </p:pic>
        <p:sp>
          <p:nvSpPr>
            <p:cNvPr id="106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66" name="Raven povezovalnik 14" descr=""/>
          <p:cNvPicPr/>
          <p:nvPr/>
        </p:nvPicPr>
        <p:blipFill>
          <a:blip r:embed="rId3"/>
          <a:stretch/>
        </p:blipFill>
        <p:spPr>
          <a:xfrm>
            <a:off x="-19080" y="6168960"/>
            <a:ext cx="3414600" cy="1170000"/>
          </a:xfrm>
          <a:prstGeom prst="rect">
            <a:avLst/>
          </a:prstGeom>
          <a:ln w="0">
            <a:noFill/>
          </a:ln>
        </p:spPr>
      </p:pic>
      <p:sp>
        <p:nvSpPr>
          <p:cNvPr id="10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6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69" name="PlaceHolder 3"/>
          <p:cNvSpPr>
            <a:spLocks noGrp="1"/>
          </p:cNvSpPr>
          <p:nvPr>
            <p:ph type="dt" idx="6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0" name="PlaceHolder 4"/>
          <p:cNvSpPr>
            <a:spLocks noGrp="1"/>
          </p:cNvSpPr>
          <p:nvPr>
            <p:ph type="ftr" idx="6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1" name="PlaceHolder 5"/>
          <p:cNvSpPr>
            <a:spLocks noGrp="1"/>
          </p:cNvSpPr>
          <p:nvPr>
            <p:ph type="sldNum" idx="7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95A44-C3BE-4FC0-AF1E-F6ADB3DBF4E0}"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110" name="Pravokotni trikotnik 13"/>
          <p:cNvGrpSpPr/>
          <p:nvPr/>
        </p:nvGrpSpPr>
        <p:grpSpPr>
          <a:xfrm>
            <a:off x="-6480" y="6175440"/>
            <a:ext cx="3402000" cy="1152360"/>
            <a:chOff x="-6480" y="6175440"/>
            <a:chExt cx="3402000" cy="1152360"/>
          </a:xfrm>
        </p:grpSpPr>
        <p:pic>
          <p:nvPicPr>
            <p:cNvPr id="1111" name="Pravokotni trikotnik 13" descr=""/>
            <p:cNvPicPr/>
            <p:nvPr/>
          </p:nvPicPr>
          <p:blipFill>
            <a:blip r:embed="rId2"/>
            <a:stretch/>
          </p:blipFill>
          <p:spPr>
            <a:xfrm>
              <a:off x="-6480" y="6175440"/>
              <a:ext cx="3402000" cy="1152360"/>
            </a:xfrm>
            <a:prstGeom prst="rect">
              <a:avLst/>
            </a:prstGeom>
            <a:ln w="0">
              <a:noFill/>
            </a:ln>
          </p:spPr>
        </p:pic>
        <p:sp>
          <p:nvSpPr>
            <p:cNvPr id="111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113" name="Raven povezovalnik 14" descr=""/>
          <p:cNvPicPr/>
          <p:nvPr/>
        </p:nvPicPr>
        <p:blipFill>
          <a:blip r:embed="rId3"/>
          <a:stretch/>
        </p:blipFill>
        <p:spPr>
          <a:xfrm>
            <a:off x="-19080" y="6168960"/>
            <a:ext cx="3414600" cy="1170000"/>
          </a:xfrm>
          <a:prstGeom prst="rect">
            <a:avLst/>
          </a:prstGeom>
          <a:ln w="0">
            <a:noFill/>
          </a:ln>
        </p:spPr>
      </p:pic>
      <p:sp>
        <p:nvSpPr>
          <p:cNvPr id="1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11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116" name="PlaceHolder 3"/>
          <p:cNvSpPr>
            <a:spLocks noGrp="1"/>
          </p:cNvSpPr>
          <p:nvPr>
            <p:ph type="dt" idx="7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7" name="PlaceHolder 4"/>
          <p:cNvSpPr>
            <a:spLocks noGrp="1"/>
          </p:cNvSpPr>
          <p:nvPr>
            <p:ph type="ftr" idx="7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8" name="PlaceHolder 5"/>
          <p:cNvSpPr>
            <a:spLocks noGrp="1"/>
          </p:cNvSpPr>
          <p:nvPr>
            <p:ph type="sldNum" idx="7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F2BB1-07C0-468A-9B2D-5018B2F772C5}"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8" name="Pravokotni trikotnik 13"/>
          <p:cNvGrpSpPr/>
          <p:nvPr/>
        </p:nvGrpSpPr>
        <p:grpSpPr>
          <a:xfrm>
            <a:off x="-6480" y="6175440"/>
            <a:ext cx="3402000" cy="1152360"/>
            <a:chOff x="-6480" y="6175440"/>
            <a:chExt cx="3402000" cy="1152360"/>
          </a:xfrm>
        </p:grpSpPr>
        <p:pic>
          <p:nvPicPr>
            <p:cNvPr id="89" name="Pravokotni trikotnik 13" descr=""/>
            <p:cNvPicPr/>
            <p:nvPr/>
          </p:nvPicPr>
          <p:blipFill>
            <a:blip r:embed="rId2"/>
            <a:stretch/>
          </p:blipFill>
          <p:spPr>
            <a:xfrm>
              <a:off x="-6480" y="6175440"/>
              <a:ext cx="3402000" cy="1152360"/>
            </a:xfrm>
            <a:prstGeom prst="rect">
              <a:avLst/>
            </a:prstGeom>
            <a:ln w="0">
              <a:noFill/>
            </a:ln>
          </p:spPr>
        </p:pic>
        <p:sp>
          <p:nvSpPr>
            <p:cNvPr id="9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1" name="Raven povezovalnik 14" descr=""/>
          <p:cNvPicPr/>
          <p:nvPr/>
        </p:nvPicPr>
        <p:blipFill>
          <a:blip r:embed="rId3"/>
          <a:stretch/>
        </p:blipFill>
        <p:spPr>
          <a:xfrm>
            <a:off x="-19080" y="6168960"/>
            <a:ext cx="3414600" cy="1170000"/>
          </a:xfrm>
          <a:prstGeom prst="rect">
            <a:avLst/>
          </a:prstGeom>
          <a:ln w="0">
            <a:noFill/>
          </a:ln>
        </p:spPr>
      </p:pic>
      <p:sp>
        <p:nvSpPr>
          <p:cNvPr id="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4" name="PlaceHolder 3"/>
          <p:cNvSpPr>
            <a:spLocks noGrp="1"/>
          </p:cNvSpPr>
          <p:nvPr>
            <p:ph type="dt" idx="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type="ftr" idx="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5"/>
          <p:cNvSpPr>
            <a:spLocks noGrp="1"/>
          </p:cNvSpPr>
          <p:nvPr>
            <p:ph type="sldNum" idx="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3936D-9A48-4232-87D5-BD9F4E89340F}"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4" name="Skupina 15"/>
          <p:cNvGrpSpPr/>
          <p:nvPr/>
        </p:nvGrpSpPr>
        <p:grpSpPr>
          <a:xfrm>
            <a:off x="-3240" y="5283360"/>
            <a:ext cx="9147240" cy="2039760"/>
            <a:chOff x="-3240" y="5283360"/>
            <a:chExt cx="9147240" cy="2039760"/>
          </a:xfrm>
        </p:grpSpPr>
        <p:sp>
          <p:nvSpPr>
            <p:cNvPr id="135"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37" name="Prostoročno 18"/>
            <p:cNvGrpSpPr/>
            <p:nvPr/>
          </p:nvGrpSpPr>
          <p:grpSpPr>
            <a:xfrm>
              <a:off x="8640" y="5334120"/>
              <a:ext cx="9135360" cy="1989000"/>
              <a:chOff x="8640" y="5334120"/>
              <a:chExt cx="9135360" cy="1989000"/>
            </a:xfrm>
          </p:grpSpPr>
          <p:pic>
            <p:nvPicPr>
              <p:cNvPr id="138" name="Prostoročno 18" descr=""/>
              <p:cNvPicPr/>
              <p:nvPr/>
            </p:nvPicPr>
            <p:blipFill>
              <a:blip r:embed="rId2"/>
              <a:stretch/>
            </p:blipFill>
            <p:spPr>
              <a:xfrm>
                <a:off x="8640" y="5334120"/>
                <a:ext cx="9135360" cy="1989000"/>
              </a:xfrm>
              <a:prstGeom prst="rect">
                <a:avLst/>
              </a:prstGeom>
              <a:ln w="0">
                <a:noFill/>
              </a:ln>
            </p:spPr>
          </p:pic>
          <p:sp>
            <p:nvSpPr>
              <p:cNvPr id="139"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40" name="Raven povezovalnik 19" descr=""/>
            <p:cNvPicPr/>
            <p:nvPr/>
          </p:nvPicPr>
          <p:blipFill>
            <a:blip r:embed="rId3"/>
            <a:stretch/>
          </p:blipFill>
          <p:spPr>
            <a:xfrm>
              <a:off x="-3240" y="5321880"/>
              <a:ext cx="9147240" cy="860040"/>
            </a:xfrm>
            <a:prstGeom prst="rect">
              <a:avLst/>
            </a:prstGeom>
            <a:ln w="0">
              <a:noFill/>
            </a:ln>
          </p:spPr>
        </p:pic>
      </p:grpSp>
      <p:sp>
        <p:nvSpPr>
          <p:cNvPr id="1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43" name="PlaceHolder 3"/>
          <p:cNvSpPr>
            <a:spLocks noGrp="1"/>
          </p:cNvSpPr>
          <p:nvPr>
            <p:ph type="dt" idx="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4"/>
          <p:cNvSpPr>
            <a:spLocks noGrp="1"/>
          </p:cNvSpPr>
          <p:nvPr>
            <p:ph type="ftr" idx="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5"/>
          <p:cNvSpPr>
            <a:spLocks noGrp="1"/>
          </p:cNvSpPr>
          <p:nvPr>
            <p:ph type="sldNum" idx="1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FED6E-F9A9-4505-A42B-62FBB7F2FCBB}"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3"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84" name="Pravokotni trikotnik 13"/>
          <p:cNvGrpSpPr/>
          <p:nvPr/>
        </p:nvGrpSpPr>
        <p:grpSpPr>
          <a:xfrm>
            <a:off x="-6480" y="6175440"/>
            <a:ext cx="3402000" cy="1152360"/>
            <a:chOff x="-6480" y="6175440"/>
            <a:chExt cx="3402000" cy="1152360"/>
          </a:xfrm>
        </p:grpSpPr>
        <p:pic>
          <p:nvPicPr>
            <p:cNvPr id="185" name="Pravokotni trikotnik 13" descr=""/>
            <p:cNvPicPr/>
            <p:nvPr/>
          </p:nvPicPr>
          <p:blipFill>
            <a:blip r:embed="rId2"/>
            <a:stretch/>
          </p:blipFill>
          <p:spPr>
            <a:xfrm>
              <a:off x="-6480" y="6175440"/>
              <a:ext cx="3402000" cy="1152360"/>
            </a:xfrm>
            <a:prstGeom prst="rect">
              <a:avLst/>
            </a:prstGeom>
            <a:ln w="0">
              <a:noFill/>
            </a:ln>
          </p:spPr>
        </p:pic>
        <p:sp>
          <p:nvSpPr>
            <p:cNvPr id="18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87" name="Raven povezovalnik 14" descr=""/>
          <p:cNvPicPr/>
          <p:nvPr/>
        </p:nvPicPr>
        <p:blipFill>
          <a:blip r:embed="rId3"/>
          <a:stretch/>
        </p:blipFill>
        <p:spPr>
          <a:xfrm>
            <a:off x="-19080" y="6168960"/>
            <a:ext cx="3414600" cy="1170000"/>
          </a:xfrm>
          <a:prstGeom prst="rect">
            <a:avLst/>
          </a:prstGeom>
          <a:ln w="0">
            <a:noFill/>
          </a:ln>
        </p:spPr>
      </p:pic>
      <p:sp>
        <p:nvSpPr>
          <p:cNvPr id="1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8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0" name="PlaceHolder 3"/>
          <p:cNvSpPr>
            <a:spLocks noGrp="1"/>
          </p:cNvSpPr>
          <p:nvPr>
            <p:ph type="dt" idx="1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PlaceHolder 4"/>
          <p:cNvSpPr>
            <a:spLocks noGrp="1"/>
          </p:cNvSpPr>
          <p:nvPr>
            <p:ph type="ftr" idx="1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5"/>
          <p:cNvSpPr>
            <a:spLocks noGrp="1"/>
          </p:cNvSpPr>
          <p:nvPr>
            <p:ph type="sldNum" idx="1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67444-9592-4315-9E49-F2F9317D12E8}"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31" name="Pravokotni trikotnik 13"/>
          <p:cNvGrpSpPr/>
          <p:nvPr/>
        </p:nvGrpSpPr>
        <p:grpSpPr>
          <a:xfrm>
            <a:off x="-6480" y="6175440"/>
            <a:ext cx="3402000" cy="1152360"/>
            <a:chOff x="-6480" y="6175440"/>
            <a:chExt cx="3402000" cy="1152360"/>
          </a:xfrm>
        </p:grpSpPr>
        <p:pic>
          <p:nvPicPr>
            <p:cNvPr id="232" name="Pravokotni trikotnik 13" descr=""/>
            <p:cNvPicPr/>
            <p:nvPr/>
          </p:nvPicPr>
          <p:blipFill>
            <a:blip r:embed="rId3"/>
            <a:stretch/>
          </p:blipFill>
          <p:spPr>
            <a:xfrm>
              <a:off x="-6480" y="6175440"/>
              <a:ext cx="3402000" cy="1152360"/>
            </a:xfrm>
            <a:prstGeom prst="rect">
              <a:avLst/>
            </a:prstGeom>
            <a:ln w="0">
              <a:noFill/>
            </a:ln>
          </p:spPr>
        </p:pic>
        <p:sp>
          <p:nvSpPr>
            <p:cNvPr id="23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34" name="Raven povezovalnik 14" descr=""/>
          <p:cNvPicPr/>
          <p:nvPr/>
        </p:nvPicPr>
        <p:blipFill>
          <a:blip r:embed="rId4"/>
          <a:stretch/>
        </p:blipFill>
        <p:spPr>
          <a:xfrm>
            <a:off x="-19080" y="6168960"/>
            <a:ext cx="3414600" cy="1170000"/>
          </a:xfrm>
          <a:prstGeom prst="rect">
            <a:avLst/>
          </a:prstGeom>
          <a:ln w="0">
            <a:noFill/>
          </a:ln>
        </p:spPr>
      </p:pic>
      <p:sp>
        <p:nvSpPr>
          <p:cNvPr id="235"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3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39" name="PlaceHolder 3"/>
          <p:cNvSpPr>
            <a:spLocks noGrp="1"/>
          </p:cNvSpPr>
          <p:nvPr>
            <p:ph type="dt" idx="1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4"/>
          <p:cNvSpPr>
            <a:spLocks noGrp="1"/>
          </p:cNvSpPr>
          <p:nvPr>
            <p:ph type="ftr" idx="1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5"/>
          <p:cNvSpPr>
            <a:spLocks noGrp="1"/>
          </p:cNvSpPr>
          <p:nvPr>
            <p:ph type="sldNum" idx="1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C2E90-B7FB-4314-B972-1197EDA6ED43}"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80" name="Pravokotni trikotnik 13"/>
          <p:cNvGrpSpPr/>
          <p:nvPr/>
        </p:nvGrpSpPr>
        <p:grpSpPr>
          <a:xfrm>
            <a:off x="-6480" y="6175440"/>
            <a:ext cx="3402000" cy="1152360"/>
            <a:chOff x="-6480" y="6175440"/>
            <a:chExt cx="3402000" cy="1152360"/>
          </a:xfrm>
        </p:grpSpPr>
        <p:pic>
          <p:nvPicPr>
            <p:cNvPr id="281" name="Pravokotni trikotnik 13" descr=""/>
            <p:cNvPicPr/>
            <p:nvPr/>
          </p:nvPicPr>
          <p:blipFill>
            <a:blip r:embed="rId3"/>
            <a:stretch/>
          </p:blipFill>
          <p:spPr>
            <a:xfrm>
              <a:off x="-6480" y="6175440"/>
              <a:ext cx="3402000" cy="1152360"/>
            </a:xfrm>
            <a:prstGeom prst="rect">
              <a:avLst/>
            </a:prstGeom>
            <a:ln w="0">
              <a:noFill/>
            </a:ln>
          </p:spPr>
        </p:pic>
        <p:sp>
          <p:nvSpPr>
            <p:cNvPr id="28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83" name="Raven povezovalnik 14" descr=""/>
          <p:cNvPicPr/>
          <p:nvPr/>
        </p:nvPicPr>
        <p:blipFill>
          <a:blip r:embed="rId4"/>
          <a:stretch/>
        </p:blipFill>
        <p:spPr>
          <a:xfrm>
            <a:off x="-19080" y="6168960"/>
            <a:ext cx="3414600" cy="1170000"/>
          </a:xfrm>
          <a:prstGeom prst="rect">
            <a:avLst/>
          </a:prstGeom>
          <a:ln w="0">
            <a:noFill/>
          </a:ln>
        </p:spPr>
      </p:pic>
      <p:sp>
        <p:nvSpPr>
          <p:cNvPr id="2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8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86" name="PlaceHolder 3"/>
          <p:cNvSpPr>
            <a:spLocks noGrp="1"/>
          </p:cNvSpPr>
          <p:nvPr>
            <p:ph type="dt" idx="1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PlaceHolder 4"/>
          <p:cNvSpPr>
            <a:spLocks noGrp="1"/>
          </p:cNvSpPr>
          <p:nvPr>
            <p:ph type="ftr" idx="1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PlaceHolder 5"/>
          <p:cNvSpPr>
            <a:spLocks noGrp="1"/>
          </p:cNvSpPr>
          <p:nvPr>
            <p:ph type="sldNum" idx="1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8137C-147F-40F9-9F20-CEC0D1095D10}"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2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27" name="PlaceHolder 3"/>
          <p:cNvSpPr>
            <a:spLocks noGrp="1"/>
          </p:cNvSpPr>
          <p:nvPr>
            <p:ph type="dt" idx="2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4"/>
          <p:cNvSpPr>
            <a:spLocks noGrp="1"/>
          </p:cNvSpPr>
          <p:nvPr>
            <p:ph type="ftr" idx="2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5"/>
          <p:cNvSpPr>
            <a:spLocks noGrp="1"/>
          </p:cNvSpPr>
          <p:nvPr>
            <p:ph type="sldNum" idx="2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B79C6-A67F-45E9-8991-25AA209528F6}"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368" name="Pravokotni trikotnik 13"/>
          <p:cNvGrpSpPr/>
          <p:nvPr/>
        </p:nvGrpSpPr>
        <p:grpSpPr>
          <a:xfrm>
            <a:off x="-6480" y="6175440"/>
            <a:ext cx="3402000" cy="1152360"/>
            <a:chOff x="-6480" y="6175440"/>
            <a:chExt cx="3402000" cy="1152360"/>
          </a:xfrm>
        </p:grpSpPr>
        <p:pic>
          <p:nvPicPr>
            <p:cNvPr id="369" name="Pravokotni trikotnik 13" descr=""/>
            <p:cNvPicPr/>
            <p:nvPr/>
          </p:nvPicPr>
          <p:blipFill>
            <a:blip r:embed="rId3"/>
            <a:stretch/>
          </p:blipFill>
          <p:spPr>
            <a:xfrm>
              <a:off x="-6480" y="6175440"/>
              <a:ext cx="3402000" cy="1152360"/>
            </a:xfrm>
            <a:prstGeom prst="rect">
              <a:avLst/>
            </a:prstGeom>
            <a:ln w="0">
              <a:noFill/>
            </a:ln>
          </p:spPr>
        </p:pic>
        <p:sp>
          <p:nvSpPr>
            <p:cNvPr id="37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371" name="Raven povezovalnik 14" descr=""/>
          <p:cNvPicPr/>
          <p:nvPr/>
        </p:nvPicPr>
        <p:blipFill>
          <a:blip r:embed="rId4"/>
          <a:stretch/>
        </p:blipFill>
        <p:spPr>
          <a:xfrm>
            <a:off x="-19080" y="6168960"/>
            <a:ext cx="3414600" cy="1170000"/>
          </a:xfrm>
          <a:prstGeom prst="rect">
            <a:avLst/>
          </a:prstGeom>
          <a:ln w="0">
            <a:noFill/>
          </a:ln>
        </p:spPr>
      </p:pic>
      <p:sp>
        <p:nvSpPr>
          <p:cNvPr id="3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7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74" name="PlaceHolder 3"/>
          <p:cNvSpPr>
            <a:spLocks noGrp="1"/>
          </p:cNvSpPr>
          <p:nvPr>
            <p:ph type="dt" idx="2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4"/>
          <p:cNvSpPr>
            <a:spLocks noGrp="1"/>
          </p:cNvSpPr>
          <p:nvPr>
            <p:ph type="ftr" idx="2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5"/>
          <p:cNvSpPr>
            <a:spLocks noGrp="1"/>
          </p:cNvSpPr>
          <p:nvPr>
            <p:ph type="sldNum" idx="2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7A04A-0851-4175-AE94-8A6632F44B2A}"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2" name="Picture 1" descr=""/>
          <p:cNvPicPr/>
          <p:nvPr/>
        </p:nvPicPr>
        <p:blipFill>
          <a:blip r:embed="rId2"/>
          <a:stretch/>
        </p:blipFill>
        <p:spPr>
          <a:xfrm>
            <a:off x="4680" y="0"/>
            <a:ext cx="9134640" cy="7315200"/>
          </a:xfrm>
          <a:prstGeom prst="rect">
            <a:avLst/>
          </a:prstGeom>
          <a:ln w="0">
            <a:noFill/>
          </a:ln>
        </p:spPr>
      </p:pic>
      <p:pic>
        <p:nvPicPr>
          <p:cNvPr id="1163" name="Picture 2" descr=""/>
          <p:cNvPicPr/>
          <p:nvPr/>
        </p:nvPicPr>
        <p:blipFill>
          <a:blip r:embed="rId3"/>
          <a:stretch/>
        </p:blipFill>
        <p:spPr>
          <a:xfrm>
            <a:off x="-3240" y="-12600"/>
            <a:ext cx="9134640" cy="7315200"/>
          </a:xfrm>
          <a:prstGeom prst="rect">
            <a:avLst/>
          </a:prstGeom>
          <a:ln w="0">
            <a:noFill/>
          </a:ln>
        </p:spPr>
      </p:pic>
      <p:pic>
        <p:nvPicPr>
          <p:cNvPr id="1164" name="Picture 3" descr=""/>
          <p:cNvPicPr/>
          <p:nvPr/>
        </p:nvPicPr>
        <p:blipFill>
          <a:blip r:embed="rId4"/>
          <a:stretch/>
        </p:blipFill>
        <p:spPr>
          <a:xfrm>
            <a:off x="457200" y="777960"/>
            <a:ext cx="4114800" cy="725400"/>
          </a:xfrm>
          <a:prstGeom prst="rect">
            <a:avLst/>
          </a:prstGeom>
          <a:ln w="0">
            <a:noFill/>
          </a:ln>
        </p:spPr>
      </p:pic>
      <p:sp>
        <p:nvSpPr>
          <p:cNvPr id="1165" name="Rectangle 4"/>
          <p:cNvSpPr/>
          <p:nvPr/>
        </p:nvSpPr>
        <p:spPr>
          <a:xfrm>
            <a:off x="1328760" y="2505240"/>
            <a:ext cx="6108840" cy="35812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PREDSTAVITEV IZVAJANJA NAČRT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VREDNOTNEJA OPERATIVNEGA PROGRAM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RAZVOJA ČLOVEŠKIH VIROV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ZA OBDOBJE 2007-2013</a:t>
            </a:r>
            <a:endParaRPr b="0" lang="en-US" sz="24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en-US" sz="2400" spc="-1" strike="noStrike">
                <a:solidFill>
                  <a:srgbClr val="000000"/>
                </a:solidFill>
                <a:latin typeface="Arial"/>
              </a:rPr>
              <a:t>Ljubljana, 2</a:t>
            </a:r>
            <a:r>
              <a:rPr b="0" lang="sl-SI" sz="2400" spc="-1" strike="noStrike">
                <a:solidFill>
                  <a:srgbClr val="000000"/>
                </a:solidFill>
                <a:latin typeface="Arial"/>
              </a:rPr>
              <a:t>8</a:t>
            </a:r>
            <a:r>
              <a:rPr b="0" lang="en-US" sz="2400" spc="-1" strike="noStrike">
                <a:solidFill>
                  <a:srgbClr val="000000"/>
                </a:solidFill>
                <a:latin typeface="Arial"/>
              </a:rPr>
              <a:t>.5.201</a:t>
            </a:r>
            <a:r>
              <a:rPr b="0" lang="sl-SI" sz="2400" spc="-1" strike="noStrike">
                <a:solidFill>
                  <a:srgbClr val="000000"/>
                </a:solidFill>
                <a:latin typeface="Arial"/>
              </a:rPr>
              <a:t>4</a:t>
            </a:r>
            <a:br>
              <a:rPr sz="2400"/>
            </a:b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
          <p:cNvSpPr txBox="1"/>
          <p:nvPr/>
        </p:nvSpPr>
        <p:spPr>
          <a:xfrm>
            <a:off x="822240" y="1569960"/>
            <a:ext cx="7521840" cy="3422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ajanja načrta</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edenih vrednotenj oz. vrednotenj v teku</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OU</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Znotraj projektov upravičencev</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1167"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8C7C4-8C79-4A40-9DA8-32ADF691B6D7}" type="slidenum">
              <a:rPr b="0" lang="sl-SI"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68" name="Naslov 1" descr=""/>
          <p:cNvPicPr/>
          <p:nvPr/>
        </p:nvPicPr>
        <p:blipFill>
          <a:blip r:embed="rId1"/>
          <a:stretch/>
        </p:blipFill>
        <p:spPr>
          <a:xfrm>
            <a:off x="274680" y="291960"/>
            <a:ext cx="8412120" cy="1219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
          <p:cNvSpPr txBox="1"/>
          <p:nvPr/>
        </p:nvSpPr>
        <p:spPr>
          <a:xfrm>
            <a:off x="394920" y="1496520"/>
            <a:ext cx="8497800" cy="5148360"/>
          </a:xfrm>
          <a:prstGeom prst="rect">
            <a:avLst/>
          </a:prstGeom>
          <a:noFill/>
          <a:ln w="0">
            <a:noFill/>
          </a:ln>
        </p:spPr>
        <p:txBody>
          <a:bodyPr anchor="t">
            <a:normAutofit/>
          </a:bodyPr>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javnega razpisa za sofinanciranje projektov horizontalnih NVO mrež in regionalnih stičišč za leto 2008</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razpisa za izbor razvojnih projektov za dvig zaposljivosti ranljivih družbenih skupin na področju kulture in podporo njihovi socialni vključenosti v letih 2008-2009 s pripravo poročil za nadaljnje izvajanje aktivnosti za doseganje ciljev prednostne usmeritve 4.3. v OP RČV</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1. in 2. prednostne usmeritve Izboljšanje kakovosti in učinkovitosti sistemov izobraževanja in usposabljanja ter Izboljšanje usposobljenosti posameznika za delo in življenje v družbi temelječi na znanju 3. Razvojne prioritete OP ESS Razvoj človeških virov in vseživljenjskega učenj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CE"/>
              </a:rPr>
              <a:t>Vmesno vrednotenje komunikacijskega načrta cilja Konvergenc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prednostnih usmeritev s področja trga dela, ki jih v okviru OP RČV izvaja Ministrstvo za delo, družino in socialne zadeve</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1170"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2C6AA-9BA2-42E7-A0D2-773645A471BC}"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1" name="Naslov 1" descr=""/>
          <p:cNvPicPr/>
          <p:nvPr/>
        </p:nvPicPr>
        <p:blipFill>
          <a:blip r:embed="rId1"/>
          <a:stretch/>
        </p:blipFill>
        <p:spPr>
          <a:xfrm>
            <a:off x="500040" y="225360"/>
            <a:ext cx="8034480" cy="140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
          <p:cNvSpPr txBox="1"/>
          <p:nvPr/>
        </p:nvSpPr>
        <p:spPr>
          <a:xfrm>
            <a:off x="457200" y="1579680"/>
            <a:ext cx="8229600" cy="482760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ukrepov za spodbujanje raziskovalno razvojnih aktivnosti v gospodarstvu in institucijah znanja (ESRR&amp;ESS)</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CRP PROJEKT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Institucionalna evalvacija Zavoda RS za zaposlovanje</a:t>
            </a: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največjih programov aktivne politike zaposlovanja, vključno z ukrepi proti gospodarski in finančni kriz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sp>
        <p:nvSpPr>
          <p:cNvPr id="1173"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2E689-0866-4E94-A502-5E76A80D5417}"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
          <p:cNvSpPr txBox="1"/>
          <p:nvPr/>
        </p:nvSpPr>
        <p:spPr>
          <a:xfrm>
            <a:off x="108000" y="1174680"/>
            <a:ext cx="9036000" cy="4786560"/>
          </a:xfrm>
          <a:prstGeom prst="rect">
            <a:avLst/>
          </a:prstGeom>
          <a:noFill/>
          <a:ln w="0">
            <a:noFill/>
          </a:ln>
        </p:spPr>
        <p:txBody>
          <a:bodyPr anchor="t">
            <a:normAutofit fontScale="87000"/>
          </a:bodyPr>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4. RP </a:t>
            </a:r>
            <a:endParaRPr b="0" lang="en-US" sz="16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treznost: V kakšni meri cilji prednostnih usmeritev vsebinsko prispevajo k strateškim ciljem OP RČV in k ciljem NSRO? Ali so instrumenti predstavljali primeren odziv na spremenjene družbeno gospodarske razmere?  Ali so pokrita vsa ključna področja socialne vključenosti in enakosti možnosti glede na možnosti, ki izhajajo iz OP?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Skladnost: V kakšni meri izvajane aktivnosti prispevajo k splošnim ciljem OP RČV? Ali so instrumenti sledili postavljenim strategijam na nacionalni in na EU ravni?Koliko in kako se instrumenti dopolnjujejo z drugimi politikami razvoja človeških virov (predvsem na področju trga dela, izobraževanja in kulture)?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pešnost: Kateri so bili dejavniki vpliva na uspešnost doseganja teh ciljev? Kje je prišlo do odklonov od zastavljenih ciljev in zakaj in kako bi bilo mogoče doseči večjo uspešnost?  Kakšna so priporočila za bodoče izvajanje? Kako uspešno je izvajanje iz vidika ciljnih skupin/posameznikov?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činkovitost: 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V kolikšni meri regionalna razpršenost končnih upravičencev odraža regionalne potrebe (tudi vsebinsko)? V kolikšni meri so se programi socialnega vključevanja izvajali regionalno? Vpliv programov na razvoj NVO sektorja (pri relevantnih programih).</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Trajnost: Kakšni so konkretni vplivi operacij, še posebej iz vidika zaposljivosti vključenosti ciljnih skupin? Kako je vključenost v operacijo vplivala na posameznika? Kako bi morali biti oblikovani instrumenti, da bi se dosegla večja trajnost projektov? Kako je s projekti po prekinitvi financiranja?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PU 5.1, 5.3 in 5.4</a:t>
            </a:r>
            <a:endParaRPr b="0" lang="en-US" sz="16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treznost: </a:t>
            </a:r>
            <a:r>
              <a:rPr b="0" lang="sl-SI" sz="1100" spc="-1" strike="noStrike">
                <a:solidFill>
                  <a:srgbClr val="000000"/>
                </a:solidFill>
                <a:latin typeface="Arial"/>
                <a:ea typeface="Calibri"/>
              </a:rPr>
              <a:t>V kakšni meri cilji prednostnih usmeritev vsebinsko prispevajo k strateškim ciljem OP RČV in k ciljem NSRO? Ali so instrumenti predstavljali primeren odziv na ključne potreb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Calibri"/>
              </a:rPr>
              <a:t>Skladnost: V kakšni meri izvajane aktivnosti prispevajo k splošnim ciljem OP RČV? Ali so instrumenti sledili postavljenim strategijam na nacionalni in na EU ravni? Koliko in kako se instrumenti dopolnjujejo z drugimi politikami razvoja človeških virov (predvsem na področju konkurenčnosti)?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pešnost: </a:t>
            </a:r>
            <a:r>
              <a:rPr b="0" lang="sl-SI" sz="1100" spc="-1" strike="noStrike">
                <a:solidFill>
                  <a:srgbClr val="000000"/>
                </a:solidFill>
                <a:latin typeface="Arial"/>
                <a:ea typeface="Calibri"/>
              </a:rPr>
              <a:t>Kateri so bili dejavniki vpliva na uspešnost doseganja teh ciljev? Kje je prišlo do odklonov od zastavljenih ciljev in zakaj in kako bi bilo mogoče doseči večjo uspešnost?  Kakšna so priporočila za bodoče izvajanj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činkovitost:</a:t>
            </a:r>
            <a:r>
              <a:rPr b="0" lang="sl-SI" sz="1100" spc="-1" strike="noStrike">
                <a:solidFill>
                  <a:srgbClr val="000000"/>
                </a:solidFill>
                <a:latin typeface="Arial"/>
                <a:ea typeface="Calibri"/>
              </a:rPr>
              <a:t>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Trajnost:</a:t>
            </a:r>
            <a:r>
              <a:rPr b="0" lang="sl-SI" sz="1100" spc="-1" strike="noStrike">
                <a:solidFill>
                  <a:srgbClr val="000000"/>
                </a:solidFill>
                <a:latin typeface="Arial"/>
                <a:ea typeface="Calibri"/>
              </a:rPr>
              <a:t>Kakšni so konkretni vplivi operacij, še posebej iz vidika konkurenčnosti države in gospodarskega okolja? Kako je s projekti po prekinitvi financiranja?</a:t>
            </a:r>
            <a:endParaRPr b="0" lang="en-US" sz="1100" spc="-1" strike="noStrike">
              <a:solidFill>
                <a:srgbClr val="000000"/>
              </a:solidFill>
              <a:latin typeface="Lucida Sans Unicode"/>
            </a:endParaRPr>
          </a:p>
        </p:txBody>
      </p:sp>
      <p:sp>
        <p:nvSpPr>
          <p:cNvPr id="1175"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09CAF-B661-4DA6-99F8-F250ED97D63F}"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6" name="Naslov 1" descr=""/>
          <p:cNvPicPr/>
          <p:nvPr/>
        </p:nvPicPr>
        <p:blipFill>
          <a:blip r:embed="rId1"/>
          <a:stretch/>
        </p:blipFill>
        <p:spPr>
          <a:xfrm>
            <a:off x="639720" y="298440"/>
            <a:ext cx="8034480" cy="92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
          <p:cNvSpPr txBox="1"/>
          <p:nvPr/>
        </p:nvSpPr>
        <p:spPr>
          <a:xfrm>
            <a:off x="457200" y="1579680"/>
            <a:ext cx="8229600" cy="4827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Lucida Sans Unicode"/>
              </a:rPr>
              <a:t>… </a:t>
            </a:r>
            <a:r>
              <a:rPr b="0" lang="sl-SI" sz="2700" spc="-1" strike="noStrike">
                <a:solidFill>
                  <a:srgbClr val="000000"/>
                </a:solidFill>
                <a:latin typeface="Lucida Sans Unicode"/>
              </a:rPr>
              <a:t>vrednotenja v okviru operacij</a:t>
            </a:r>
            <a:endParaRPr b="0" lang="en-US" sz="2700" spc="-1" strike="noStrike">
              <a:solidFill>
                <a:srgbClr val="000000"/>
              </a:solidFill>
              <a:latin typeface="Lucida Sans Unicode"/>
            </a:endParaRPr>
          </a:p>
        </p:txBody>
      </p:sp>
      <p:sp>
        <p:nvSpPr>
          <p:cNvPr id="1178"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88095-0D16-4EBE-A4DF-D687935D9CFA}"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Z</dc:creator>
  <dc:description/>
  <dc:language>en-US</dc:language>
  <cp:lastModifiedBy>Staša Mesec</cp:lastModifiedBy>
  <cp:lastPrinted>2014-05-28T06:42:49Z</cp:lastPrinted>
  <dcterms:modified xsi:type="dcterms:W3CDTF">2014-05-28T12:57:51Z</dcterms:modified>
  <cp:revision>25</cp:revision>
  <dc:subject/>
  <dc:title>Naslov</dc:title>
</cp:coreProperties>
</file>