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0E514-32FA-44D6-9D6E-A50BB245A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220CD3-2272-44A4-A916-CA1B54369AFB}"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B39989-71EC-4179-B246-3EF660CDF9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126D4018-5DDB-4249-8295-3748576EE53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905AAA6-AEBC-41B0-98AF-464A0704FDA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C033550-0B83-4BC4-B594-CE0E8A77F6C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875F1A4-C28B-43B2-9ACD-F9886C035EB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E70BEB3-B7DD-414F-B788-7C78C944C7A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4C50E41-94BA-4EE7-9188-1F8431F7B5C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98AAC6F-3B67-47BE-8596-611D97835AF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9B6FB15-00E9-433E-A7E9-27CEF3624A0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6362D2D-D1F2-42C3-A2B2-146958A066F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B901496-0DE8-435E-B4AE-B7E7E550032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66EAA9A-6650-43E1-8F5A-D4D2CC5BFA5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95372301-2531-4EF6-ADF4-FF08A698DD7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4703184-E035-4A2A-B3F0-9F1D34960CD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A478E5C-2230-4D6A-A95A-C1EBCC8852A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E4537E4-684E-42F5-903A-8766501166E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7927E1A-CB46-4B93-BE07-C9A4D1FF393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E37F7B6-315E-440C-99D5-8625DC8E05D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5ADA137-75B4-4BC3-A34E-E67AE4F043F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E199849-63C1-4FAE-A209-8C19D618FF8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E74AD92-FFCF-4826-9E1A-FEEC357CDE0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1A1DEFF-1036-480B-8381-092CAC1599D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813FC449-197C-4865-84A8-4BAA73D71E4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FBB7B12D-9131-4669-A110-06AFCF88E37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3A2B2C1-52AB-4EAE-B576-58C4FD7FC99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456D507-6974-40FE-8BBD-185D29267C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828489E-AC11-4352-930D-6E52F4324C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E1CE16F-E07B-4763-A5C3-E89F2A080E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51FD96B-0915-49E7-9DBC-A6C37F3554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4929CDC-E849-4CEC-9E08-4F01B7A7D0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61B1554-5F87-4D9F-B04B-E36ED04546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D1660FB-3749-4103-A740-498D3D5EC8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3DB571E-6A77-451E-8210-8C091AB9A9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9D8D2DB-5B89-417F-B809-E987A440C5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D6E66C4-21D2-42EE-8DE5-FC985A7C98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18D8538-5B36-4B67-9190-4800A2AE55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6F51E03C-BDA5-43E3-94A0-23DC8FFE5D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CCC223AB-7442-4FCA-B740-FF09BC1745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452892A4-AE1D-4EAF-AA0D-3FD7556D7B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8A33F28-5504-40B0-9A60-CDB6449FC3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2C68652-C9E2-4B07-96AF-1CE3E32AE8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83B73EB-4ADB-47B2-8A25-61A2E4D5BF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5E64A02-952C-4DD5-AE75-54F49DB868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FCF6674-E4AE-4D08-9510-9CDC5EBBCF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D6A031C-E054-426C-8A6B-D9A265F11E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6FF568-C9A4-4987-8BB5-0C65EA132D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DE7E3B2-916F-49BC-9EE9-F5B60CDD72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304EB2F-E0CB-45E1-BC9A-825A63F77D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FAF7AA9-E2AA-41BD-8BA0-FCF968723C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B09CB948-16BB-4237-A7D7-2CEA1509106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B5662912-049A-4FDD-82A8-905E3ED33BB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F562928D-A180-4B71-A730-CCE964238A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03DA772-FBFD-4DA1-8CBA-454E92643B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B178118-3CA4-4935-B41B-AB424149C6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4CD540E-485D-422D-9C1E-2B76C628C1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08192F9-C029-4CF0-9967-BF7D289A07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950097-4E3B-4C5F-A242-B7A88D42E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4316767-D0A0-4173-9F6A-DC7022BE74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A3B4FEF-F3D3-4B8D-805F-D434756653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FCB9CA4-4FD9-45F3-9CAF-3FC3E988AB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F8DA816-C53C-415A-AB65-E03C4556FA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3ED64A3-091A-4D9B-9793-19D854D186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0966F376-DCFF-40DF-83D4-B6F27173B26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65B2923D-C9C6-4EE4-917F-ABBFCCD318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CBB0F3CE-4CBA-41C4-850C-D7D01F8DFC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6D4A56B-A922-40C6-9CDA-A922606CE8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486F97CC-DFB1-4922-928B-B20EF2F794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2E1A59A-40E2-406B-8781-2D044C9688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47CE7A45-2DB5-49FB-8E70-008B6A9F4D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F78E2A2-D327-4E26-83F2-7B617C879A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1DFEEECF-E522-4B02-B021-6377B90027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35A717E-7642-4A22-AE60-4CF9120232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F9FA8EF-1573-4D93-922B-D846977A80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A3E482A-F74F-40B5-B234-48E86A4E33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41296983-AC30-4022-AAE5-798CCD42C4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7CBA5840-B5BB-4204-8310-5E0A863F07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FA61A397-525F-4471-98F2-F368F14754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FD7F80A4-172A-43C1-8972-9EBF7EB2CA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FAEAA9C-8D1E-449C-ADC9-F6FFB155B1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ED77E44-70C0-442F-9A56-E89798EDB8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EF1F2B5-1093-43CE-A708-FFE553E3F3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09B221BE-86D9-4D10-B2F5-1682488E88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8A3D72C6-AA50-4A27-8631-DDAABBF1DB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8B209FDD-695E-47D1-9D60-46CD98AAA1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832FE00-9241-43B1-8589-DA0ACBBEA3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86DDA7C-2BA6-44DB-9CE4-6AF8E4250A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58F2873-9351-4042-81CF-AF3EF8449A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6EBC2FFD-8E94-4240-B559-3A093110E1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4E1ACDEC-1479-4D48-9172-D0944FC864F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A4F8B6A-512B-46C5-AF3F-15D14C83C8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AE28F871-A224-499E-A2B0-8CDA62EB13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AAA2068F-5721-4543-B98C-1102AF75669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7831AFA-4733-41F5-AABE-9DDFE35199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2DA887DA-E84F-4581-9B08-CB9FDC543D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49EE6116-120A-4EBA-BDE1-714B7A6CB5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DF47948-0E41-4F83-8AAA-7CE4898630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0E1FF976-D36C-4EA8-841B-ACBFF33200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3E51545-1E39-4A86-BD0F-3AF03A096B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6297A2D-9673-4492-9FDC-40AB8B9B23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DC063D3-9FF6-4B7A-9FEE-68D2B41B58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0189E8-DA0B-4462-AD4E-13AB992765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80881C82-8FF4-4C77-874D-9198C1CB34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AE9680BA-2E65-4560-BBFC-288F069E33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F8F10D36-B69D-4FA5-A5AC-0351127E3AE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6A3117E6-A66B-4077-B599-96F80DFCD0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83E2AD9-27DD-40BB-930F-1AB1518398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E5F16F07-60BB-4BD2-9F70-0EABEF19FF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2569869F-F862-4B6D-A1A0-A43950C2F2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634BBAC-3683-4031-8467-44ED245F22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2B3AC9BD-9422-4942-9A55-D74FA715A2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0274603-F266-40E9-8F0E-8696C1E840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20467E20-3237-4EB6-B3FA-4501C8B986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AD73459-7A1C-4A89-8143-2ABCC844EF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E73D18A-31A5-4B24-A52D-4A2E677637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597D7C53-E991-4253-A0F4-8831143FB6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F0982D2-D168-4942-8A32-3D604AF26D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2C7B88DB-4680-49F1-8CDE-FE3BA04AC3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2FFE02F4-1E67-43FD-807C-C287A288C60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1B02F258-78E0-40DC-9E6A-E2D5FBA2C0EC}"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472BDE90-9CDA-4608-AEDC-1D6B38018AFE}"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3D8A0E42-AF09-48B4-BC91-F03FC31A4569}"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05F96DA2-7620-4842-B687-D47C50268F87}"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2070DF48-62FE-4514-97D4-BA7BF7583EF8}"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E8B5A6-6CF9-4293-8EF0-1948331835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3F76264B-DEFE-406D-B722-F7076E5EF052}"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24865DD-B544-4B53-9EE2-787B6FAFA61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892F60E7-4416-40C9-A1DB-A4E39ADF6F2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42B9903-4C70-4B09-B929-99A9C539F32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7F6D688C-2BEC-4774-8ADA-800F64DC7B72}"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672B9D56-F8B3-4F41-8D58-E43A076D20B0}"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BC77086A-548C-47B2-9472-4FEADE65194A}"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A5F533E1-F7C5-4EC1-BC2E-5320C41F3D8F}"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C9A37AED-6250-4F15-972A-CA7030F1FD58}"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1F5EB442-4012-48B1-A347-E5DF6C1D1ED7}"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FD1C445-EB41-4477-835A-B7FD548A2F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59A2912C-FB26-4A6D-BC66-182CBE1385F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3DFED326-D2F8-4F23-9B62-2D1B258A9054}"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8B738803-0B67-4094-A179-80FFCDE3975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2F44D485-6AEA-4F5C-A12B-FE1BBF170B8A}"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5D86C50F-C195-4088-9B65-3E6BC8EFE17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CCA272C-4C7F-4F55-A194-B4183C778002}"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A1DCAF82-6619-4D3D-A1F8-DA2302CA6CE2}"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A45225FF-05FD-4931-9137-9837BCFEDE62}"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6477CD35-04BC-4EE5-AE97-A780E8726F88}"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6B5A2382-380D-4577-8918-D8415AA49819}"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E6031C7-FB1F-4D0C-848D-E3CEE2AEB62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F1401C14-BE4C-415C-B1AC-A6519EDF79CF}"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A5459738-56F8-4B42-B7F1-6CF8465E3504}"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E0B39571-7C93-4FD5-923B-DB5A4ADF583F}"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3D38DA5E-E92F-4791-8C42-FD7A2791F6F4}"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A0E40F25-599A-4646-A9CD-A0F3F8F8DC71}"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4448E28-FB64-443F-B2B0-A18277CFCE92}"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3410E7B3-1179-4AD5-8703-4C9B915BCDCF}"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A20F12CD-7B9F-4FF4-9637-19AA8EB522E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B9BCDFEC-6343-483D-9CA7-28224C103970}"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71023271-8BB3-4F7C-B490-7F86135BBD22}"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8E14FC3-7878-4799-B5D7-2682C17491B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9B3001C3-CADF-4D4D-A7E3-963FEEA88F81}"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6CD419CD-01CE-45CD-851C-19D3DF87F84B}"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7878AF82-3958-4F5E-B15F-1562C56EDEAC}"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4EE109C7-D169-4E99-952C-16BB0AD8B5D7}"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93B3634B-D4E7-4952-9760-4809C7D222FF}"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2FFE230D-C883-4F9A-98A1-4FFDB24EB2A8}"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2B46B92C-C26C-4158-AB1F-A73544E6828B}"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6DBD683E-449A-4F0C-BE37-14E30A4F4C5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21188626-5992-4E1A-83CC-377C67FC1F4E}"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D111AD75-17C6-4747-9138-50FEB15C76D7}"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53D8325-F763-4434-A163-5AAE23389FD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3A90FF1B-0296-4CA5-8A64-12D6AAA0B93C}"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54FC97DA-796D-4B7F-8BE6-091DB7C7583D}"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C9CBA65F-C15C-4F3D-8D01-C1D6D33CC6F4}"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6F3D907E-88EF-4268-A12D-E500A160DD63}"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72D49CE2-8D76-456D-8901-B603253C668F}"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B50E1202-F669-4F4C-832A-75D8CE031067}"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4E6ED41D-3765-4744-B5EF-91854C09BFFE}"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208279F3-B85E-4C53-AB51-E3F85F4FB2CA}"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BB481345-005F-4654-89E1-2C2015D2F8D3}"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EB410806-29E4-45D3-87D8-39DF8377E59E}"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627FC33-5C90-4968-83E0-549BE69E439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30784D31-70A5-4C00-A0CC-F37E97A7FCCC}"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0297E880-8DC8-4FEF-95CC-B12D517A774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E9615BA5-310D-4A16-8164-82EBEB35DED9}"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5E689347-FBCC-4903-A503-A65380D1BE69}"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99305FD9-B700-49A7-949A-2E879933DACB}"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F55B8423-37C8-4CA7-8B7B-19157AB94015}"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CA9E3923-FE68-4DC9-AAA5-AE7908ADE662}"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E73A182D-945F-4AE1-A0D0-ECFBDBD549D1}"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F3028A42-9C5A-401A-A629-AFFC67D15989}"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0D2EC14C-EFE9-476D-A4DE-C8FCBFC78FF4}"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3D6A1D2-B319-4F35-97CB-1B62ECFC81C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8E213C80-45E3-4B15-B542-C5E4D96BCFB9}"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954D13A2-6450-4B80-90B0-A8649D81BE33}"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DB697B71-BFC9-4FE7-B879-15B5713E212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B45D6F4E-6C2B-4FDC-9E8A-F1D9829743D3}"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07428DDA-BDC8-4840-8A12-88B34608C754}"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31C513AC-7C23-40D1-94D6-CD46A21432EF}"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DBDED543-36AC-43D3-9CAD-ACE5EB63054E}"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5B5B8B87-4E66-434D-A01F-C30CE8ECE34E}"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ED3583A3-684F-4A8E-8081-A738F2277A96}"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FCD02991-DE9F-4C96-B2C5-A7BB588F8D29}"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C246244-7D62-44E8-83A4-CD3CE671C2B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36B1473C-113D-45ED-8C7C-0FB9BB2E3D13}"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E5F4A2AF-F160-4717-8E93-29E740AFCABD}"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DBFE17C9-7C20-462B-9C46-DEC034B054FE}"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0D667A47-E402-4EEA-83A8-56164BEBFD83}"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ECE5B6A6-94BB-4271-A272-AF6234FA0170}"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C6AD5A4-047A-4D8B-A8DF-D8488AE73D6F}"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6E16D254-4381-420E-AFC2-2108B7F12637}"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FF7D3FD5-A981-416C-941B-D338D58D41C3}"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ECBCB1F5-10C4-41FA-A4E1-AD78D1B88F0F}"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E2AA82FD-4F76-4B87-AFA9-BE27198764C1}"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757ED70-4867-4216-B924-3B07CA85D35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DE33BC2F-A8BD-47AF-B344-6C307B1C16A9}"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59C4E0D3-377D-4E0B-828D-E4AA9CC28460}"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0205F21E-BE30-4A0B-9CEE-F9C614B57A8C}"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A36373BB-4EEE-4B83-8655-28D6E59FB65F}"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A0B81785-4B75-44DD-95D1-5EDA882DE52D}"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2D2312F0-07AE-4A7A-B9F8-A146CA18DDF4}"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6286ED26-18FF-4D0D-BB97-C1AF2617E901}"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5D4573F3-663B-46C3-8A24-DCDB95566E3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B2DBC86A-2B67-4A2C-9055-AAE528D1BEFD}"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E9CDB295-294D-4E4D-B16C-B263581BEB62}"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1048AB1C-536C-4CB9-AA1D-CD5DB22B4F7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1129262-6CEE-4AC1-8C4D-7A59B04CCEF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6C406C21-E927-476C-ADAE-6A142A4D2C0B}"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2CB6909-77F1-444C-8851-2A622293372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B909CBE-AC28-416F-84D7-5C8722D512E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8BC971E-E787-4887-897C-203DE115634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35E5FD2-5AB5-498B-ACD6-4EB08DCF252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62B1A67-E847-475C-80AB-B538BB0146D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A29083E-F21D-4890-AE3C-21ED8271D48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1EBF16C-B761-4A24-8F3A-CCDC808E069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D7BEDC7-BBE7-405C-8831-F73848F5FF8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E5E5D68-0D62-4C37-AC1C-9A907F37515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2ED9B1B7-23EC-46E6-9D39-410BB03E797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9FA5368-78B2-49C3-88E0-9E8E2985B49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CD21370-5DAB-4A25-AC3F-AF7AF991A3D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7C13B76-60C7-470B-87DA-CD406769B80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898F8C9-AB75-4380-A21A-910F5F49B23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F3AD56F-9005-4C9B-B29B-17C7E6384E4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D4E6B1A-71BB-4BBA-876A-76DA42EB2CA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94DA194-9908-4F3E-BA1A-D1697FDEFF0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D8AFCF5-4386-40A8-AEF2-BE911219CE4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9CB38AD-FAEA-432E-AD63-9D6E3F40048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A5B0F61-CFA5-4A43-B91E-DB729D0D324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B428FC40-0C14-4A9C-8034-CFFC68928F1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EDC4077-BA55-4B7F-B603-189BC7E0D92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A846AD5-B130-433B-9FE7-B2105843C51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247DCB2-9E24-49AC-B79F-53448722240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2F9951A-1B42-478F-90ED-29E14991142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3033358-8BB7-4A26-827D-7EBA2615F92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EB960BE-9BF9-458C-8CE6-F28194106ED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46B8AF7-8B71-4372-AB43-4BC89D21A87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92210B6-3BE9-40D9-840A-557AD71148B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32F7276-2FE4-4575-873D-FAF3D7B85CB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31ACC09-9EAE-499E-9513-EEBD3D8DD0B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DEA84130-D29A-44CA-AA1B-E63B3058209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2446956-B729-496F-9EC5-B379A250BF9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89E604E-9913-48BA-A3FE-32936003FF7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7C345E5-427E-48BF-BFF3-1131872731C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7BC49DF-A032-42FF-A3B0-918A04407EE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7632FE5-87D0-4031-93D4-66942257DDB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457BBE0-87D4-432D-B84C-BF58B904D2F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0CC54F3-4880-4A6C-B172-D6E9C28923A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C4FD88C-ED53-4516-98D2-42E835F0F00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9D79CE8-FFCB-4DF7-8A90-7A26FC40279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0B00A1B-96C2-4EF0-91E7-070AA7C19CC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EFC887BB-3185-4392-8E5E-2A642BCB567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C65D42F-6C6D-449D-8193-959EA8B3C2B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376DEBD-4FD5-4F41-A421-E739B412E1A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3003E1E-7AFC-4FD2-90FC-6F82A7A0D099}"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A6C3609-B1D0-46B4-B0B5-29AD1360D51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6DCDBAC-0FA5-4598-9B4A-16073942134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AFDF26E-B4E2-4975-B540-9175579A4F3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6CFF3CC-F6A2-49E3-8E19-09A4604DB36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1ADDF01-59A3-49E7-8985-9F5C6425CCA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A576E2F-5549-447A-BA27-A2C216F3F2B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A568CC3-6B8C-40F6-B336-0E14C7C6CE1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A612FBE8-5E14-4DDE-8664-07C59EEB80B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8110104-E714-48C2-B908-2CAB38854B2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CCBE0FC-33D3-4A46-8CF6-69BA80DF742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9BCB5D6-2DE8-4377-ADD5-FE10DE7FD3B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AB0DFFF-4C46-466E-A460-1AC54520380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BFEAF6D-8AF6-4815-9DAC-40C29FB2E1B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222A81E-4A05-4BBB-A20E-7663706DA1F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7A8EDB0-4C69-4ABB-A6F1-7D0833DEBD9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0F2DB6B-AFA4-43BB-BE91-C3C9E0D64DF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5C8BB12-03BB-4F7F-B702-A7B8EE0BFC6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A0E97C7-E805-49CB-BFA7-ACD3E652FAC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D6BCC778-4355-4535-9BBC-37EC37B73D6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0D595CA-1A22-4D5E-A92E-9C9D28DB668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0F2C14F-34A4-4F50-8EF0-2C303BF58AB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CF33BF9-26E9-4FEC-B1D4-610F63BEF6D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20AA968-8764-4653-AA08-36F48C29587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ED84390-1E0A-4273-B7C7-042FD3DEDA6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26DDFD1-9A90-496A-9315-EDC5CABA04F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2B95CF0-BD66-43E1-890E-DAB5437AB82D}"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55F9ABA-8F0D-4AE2-9E43-7D77E56ABD5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F6B015E-22DB-497D-99B6-09EFC81B673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6899EC4-A9DA-4806-BBD7-3B10AC957024}"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DBF51-0346-4297-8B7C-642A08BF220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8107-CB3B-43EA-8022-0F45FA7E900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7C9C8-1DC5-4D98-8F6F-0A244B6B177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7553-BA02-4107-B527-7D8A996BD61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4EF19-1803-4FE6-A841-6B1B76CC807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3220-1456-4837-9B9D-9A1B68EDEF2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68479-05EE-47FA-885A-040C179DD72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477A-5596-46DC-9543-7C3AAB11007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E5C5D-8653-4084-91D6-727538BD85C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6070-F34B-4961-B375-C8D3FDBA1F7C}"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19CD-73C0-4487-9ED9-6FB5F38B237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59B1-55FE-4989-A109-F218F4BE21E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3A941-1E46-471C-85F0-2228F61E644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943BA-1481-4733-BE18-EC5FC3D0349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FDEC-4371-4778-B9EB-6EEB118B6C1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A3A67-CDCA-45AA-9DD6-89BF5D9E6333}"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172F-398E-4BF1-9F75-240AD957854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7718-6BD7-461E-BE9E-E558A12441F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ED3B-D69B-4CA1-9E5E-A84FC03787B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8367B-A2CA-4469-A3FE-0D76B9199DD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6725-38F3-4E8F-89D0-0F53A9DC971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B63C7-1158-49B8-9F28-ED30C9F3E2A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A88DA-13DC-411D-B273-AAC451E9582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5F17D-88B2-42C3-B882-DA72C59A57F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5588-975E-44E3-8372-9CF51A23FE1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2EF8-05B3-47D6-931D-56E184186094}"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0D83E-94A6-4332-B5CD-B0F303FF10D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73AC-10FE-4978-848F-F430FA5481F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AABF-5AB2-4F9A-A542-12792C61C71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6EE42-B8FF-4169-98D7-56D771EADF2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