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D927-F734-4555-B9D0-B1CA1A325D09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E726-860D-4130-B3D0-9681C97B7559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CE78-6187-4464-A5BB-5CC756C5D5B1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FDC4-C3C2-4CBC-8090-5729F56E7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BD7F-EE7C-470D-AD3A-0C9FE1F5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3351-DE3C-4167-8CD8-8F8AEE9F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9B86-FBD8-4062-8A5F-A4E093984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59C4-C022-4D0C-9510-5B183A7D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C8FA-D1EC-47D2-B445-3D284334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72A6-22C4-4EAF-B314-8636B6C5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CD8C-1DCD-472A-AAF6-F2B8C8A5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CEB5-D0BC-47A3-A6A2-63F8B363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61F8-32E3-4B5A-B9FA-41FF773F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E617-502B-477C-A714-69A38385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5B33-5FE6-4C08-92E8-41B2A3DA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1967-5BEC-4F94-81E5-0877430F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0C54-9EE6-4B35-8B7F-B937DE94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62C9-5534-4168-BB81-0F754F64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4263-F1F8-4A81-A6CF-7BBF0347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EB72-7C45-49BC-A0F3-937743CA1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4668-6786-4546-BA0E-E87B393D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3595-8AC7-49C7-9E1E-2FC8B438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FAD4-3123-4430-9F17-FAA6D8AE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F869-C22C-4C0B-ABF5-03692793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1A28-0B32-4380-A83D-425BA884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3D62-DADF-4F9E-ADD7-5E7716DE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2195-A909-42C3-B76B-BB5044D7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B937-57C6-4B9B-B7A6-8ACB15D21682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A838-E0A5-4062-87E5-6F8A076246E2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7B61-FD0F-4905-97FB-9091A70BCF27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CC4C-3BC6-49D7-B96A-266E6138E323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8EAB-666F-4CB2-8C38-F71766F39B35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DBFA-E927-4760-81B2-4B7C73D960BF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2F00-8300-4C0F-BB53-C865DE12DE41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EDBD-A8CA-46DE-A284-B90CB4E6FD86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860400" y="149688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971640" y="1785960"/>
            <a:ext cx="3456000" cy="247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3851280" y="4335480"/>
            <a:ext cx="45846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CB2B-92CC-4BC3-80BB-41F598C8BFCF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6119-A831-4EA6-BC8C-7822E250A6EB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5418-E492-4C3F-B144-BD73B679B8C5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78EB-5B69-4C10-9D89-96E1793C938B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4"/>
          <p:cNvSpPr/>
          <p:nvPr/>
        </p:nvSpPr>
        <p:spPr>
          <a:xfrm>
            <a:off x="826920" y="9936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PREGLED FINANČ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5740560" y="63324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250920" y="1641600"/>
            <a:ext cx="8353440" cy="4532040"/>
            <a:chOff x="250920" y="1641600"/>
            <a:chExt cx="8353440" cy="4532040"/>
          </a:xfrm>
        </p:grpSpPr>
        <p:pic>
          <p:nvPicPr>
            <p:cNvPr id="109" name="Picture 9" descr=""/>
            <p:cNvPicPr/>
            <p:nvPr/>
          </p:nvPicPr>
          <p:blipFill>
            <a:blip r:embed="rId1"/>
            <a:stretch/>
          </p:blipFill>
          <p:spPr>
            <a:xfrm>
              <a:off x="285480" y="1641600"/>
              <a:ext cx="830844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"/>
            <p:cNvPicPr/>
            <p:nvPr/>
          </p:nvPicPr>
          <p:blipFill>
            <a:blip r:embed="rId2"/>
            <a:stretch/>
          </p:blipFill>
          <p:spPr>
            <a:xfrm>
              <a:off x="250920" y="2290680"/>
              <a:ext cx="8353440" cy="388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AC7F-57DB-4F6F-84B7-211384F0823B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6B82-6314-4DD6-9702-A6E8C10F2347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 5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123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4: 654 v vrednosti 45,1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531F-03DA-4C23-88A2-27FE0019ACA1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C987-CF54-4DA3-AF22-DC6FBCB1537D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1333800" y="156996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Uresničevanje pravila n+2/3 za OP RČV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24000" y="2433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  <a:ea typeface="Arial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78000" y="4952880"/>
            <a:ext cx="56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Stopnja doseganja FN 2007-2013 na dan 9. 5. 2014: 73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1760" y="2627280"/>
          <a:ext cx="8151840" cy="162000"/>
        </p:xfrm>
        <a:graphic>
          <a:graphicData uri="http://schemas.openxmlformats.org/drawingml/2006/table">
            <a:tbl>
              <a:tblPr/>
              <a:tblGrid>
                <a:gridCol w="8151840"/>
              </a:tblGrid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Uredba (EU) št. 539/2010 z dne 16.6.2010 o spremembi 93. člena Uredbe (ES) št. 1083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15" descr=""/>
          <p:cNvPicPr/>
          <p:nvPr/>
        </p:nvPicPr>
        <p:blipFill>
          <a:blip r:embed="rId1"/>
          <a:stretch/>
        </p:blipFill>
        <p:spPr>
          <a:xfrm>
            <a:off x="385920" y="2827440"/>
            <a:ext cx="8073720" cy="2039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DD58-DC4F-4C27-BFF7-53F4E95414AC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094C-21E9-433B-8A69-F16566CCD6D9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28,2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78,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4 na dan 9. 5. 2014 = 39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2-06-04T14:32:47Z</cp:lastPrinted>
  <dcterms:modified xsi:type="dcterms:W3CDTF">2014-05-16T15:29:33Z</dcterms:modified>
  <cp:revision>166</cp:revision>
  <dc:subject/>
  <dc:title>Naslov</dc:title>
</cp:coreProperties>
</file>