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73152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82D71-A183-478C-9A37-DF14C4D4C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AB5D2-A05C-44A5-A951-91E906076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ED333-B11D-40AB-A0EE-065E81AD9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03D04-89A0-4716-90AB-B589F34C5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6FE40-33EE-4E0A-ADE7-E5BB2E1B8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283BF-03B2-4EFD-B05A-1D9B3C890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8BA6F-DD5F-4860-B88C-9C13EBDFA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6268B-73EA-48C1-8B8D-0CC9D68D8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3760"/>
            <a:ext cx="82296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DA109-BD57-4373-84D4-BDA3AD443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CC0AE-675E-4E52-93E5-5E8009A27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97B72-BDC6-4ABB-BA55-1269CD875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E2BE8-BF9A-4549-A74D-70B487187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661080"/>
            <a:ext cx="213372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61080"/>
            <a:ext cx="289584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661080"/>
            <a:ext cx="213372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975EB-ED62-42A3-9EE8-F88EF16C1A95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258920" y="3586320"/>
            <a:ext cx="6400800" cy="186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Slika 1" descr=""/>
          <p:cNvPicPr/>
          <p:nvPr/>
        </p:nvPicPr>
        <p:blipFill>
          <a:blip r:embed="rId1"/>
          <a:stretch/>
        </p:blipFill>
        <p:spPr>
          <a:xfrm>
            <a:off x="34920" y="1209600"/>
            <a:ext cx="8640720" cy="53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1T06:19:56Z</dcterms:created>
  <dc:creator>Z</dc:creator>
  <dc:description/>
  <dc:language>en-US</dc:language>
  <cp:lastModifiedBy>Janika Gregorič Zečevič</cp:lastModifiedBy>
  <dcterms:modified xsi:type="dcterms:W3CDTF">2014-05-29T07:04:26Z</dcterms:modified>
  <cp:revision>37</cp:revision>
  <dc:subject/>
  <dc:title>Naslov</dc:title>
</cp:coreProperties>
</file>