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2F43E-F993-4848-A8F0-1FA9F94A7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FF1023-EDED-4C6E-BA4F-128DC9D5514F}"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6A1808-C416-49C7-B86D-B1FC440DFA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A69B7472-B722-47D2-BDBD-1AA66E581F1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A7F1DF0-5478-40E4-ADF0-D958C6165C6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3A828CB-B65B-489B-8140-C28B33F1798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4766A71-1D61-4608-AA38-CCB3BC602F2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1BC852E-62BD-4E0B-930A-7CC82C51D73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4B349FA-B654-4E20-A3C4-9A9B6299994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0F33DC0-EE22-4CD7-B5F6-4BF971B113F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C14477C-BB79-4D49-AE0F-92CCD1C5D27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616D47F-5782-4515-851F-107C4885E7F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E83CB4D-D9F0-454C-B2D1-76E4363DAD6C}"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994D5C4B-6B51-4691-B775-C27E2E1801E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0CFC8C19-398F-47D8-9833-23B73115022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320127C-F423-4FAD-951D-7D4649A8377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10DB97B-EE53-4D8E-A52A-F730CFC6F25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BBF5F02-7158-41D0-8DC7-FD8F905ED97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98517B9-6736-4620-A10F-3A4DC02284A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388B011-0830-4D55-8301-D164201B3F3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EC12A05-29D3-4951-AF21-FB71203F329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C33357A-ACB6-4E1E-B97A-1299FF14844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C0F4D40-B925-4ADF-AC14-7C29FAD668D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AFD1ED0-FE79-4A9C-B250-CA5E6397DC7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90AD14DB-7382-4A40-8EE5-E5D48392CA7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93A8FDE6-FF97-4227-B9D6-1B10333AFBD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E479BA9D-E3D8-407F-A57B-0DBA0A79FBE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21BB2555-152A-4BDF-A787-815AB415AF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F0A663D-837C-4B93-AB74-40B44CDDC8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2B2C738C-6D40-42E4-A3C7-8F7D889033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144462E-D07F-4D50-ABB3-B9E33200E5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78DBC81-3E3E-42C2-96AE-2BB3A2D2EA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8989D3D-4CE0-4271-8406-53599281D6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DAD3DC6-5FDE-41D0-8A0D-7D7B592955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BA1F875-F913-4C56-9210-0C75CFACC7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068DA42-972B-4207-9E4D-7C1E81FDD6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193A623-A5C9-41F6-8CD0-40EC93A99A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7CAEA48-9783-4D97-9BFF-C914069A4E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8B457C8E-5CDA-4559-9B93-43EDF1A09B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FA485852-16C3-4268-B2D4-2EFCABEDFC7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E93F078F-8DB2-48B4-AEED-3069E5F3C10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23ECBAB-6D3A-43E1-8F0C-076A2BF8D8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F031C015-8125-4335-B97B-41519E124E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BE7AA94-44AA-42F9-81A2-44F0E8203A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FC0CEB5-978E-4B81-BB92-01862248F2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AE08D73-6E28-4AC1-849F-48BDD39AFD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2074CAE-FDE1-410E-95A3-6F0DE55B02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9CF072C-76D0-4941-BE56-C0E08C565C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3BEEA7C-8546-49B4-8902-5FA2D89D11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B7F1B15-80F6-4DDB-8C26-C2CDE6DB80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A3E2167-1DE6-4753-A6FD-30C673BD4C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0B4B0B33-E741-4EFE-8D37-BC8DAAD0DFF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482A25C1-A157-4EC6-9B68-D18BA6ADBF8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3282F0D0-E61D-43F4-8876-CAD925B0245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3766BE8-36C0-4028-B936-447D1BD087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13A17D96-D9F4-40CB-8BFD-C8BB0ACDE4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4923523-AAC2-4C53-8A78-38C8ACA064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5C1307A-4460-4C50-8383-472162E06B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6B3DC96-057D-401B-8705-2ABA1D90C1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D514149-7222-4769-ADD1-491C5DBA67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83B56EB-BAC2-4098-98C9-CAAAEF13D3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73EDDEA-4A7A-4CA9-A5E2-F22B8121F7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AA87F03-2987-44E9-9E19-8C344B3228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76F62CD-AD31-4D12-A587-03DF8BD602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209C815F-728A-4534-AFDF-1E9BBD2946D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E94930E8-9D49-4EE9-A70C-B9ACFEF06E1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4F6A9B50-9EF8-4B16-9267-CAABF465056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FDDB864-51C9-4655-9898-FFEBA4649A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AD29998-9EAC-4AE1-AAAF-AC3C2DFD9C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CF460FC-3208-4E98-B5BD-AD7E0E78EC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646FCA82-A11D-467C-8C8A-C25688130A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C7E9ABA8-ECEC-40EE-9DED-7DBE437460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879F10AD-B97D-4E5B-8FC8-4D8AF64DA5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162347D-A8FF-496F-A0C6-406BFF64CD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219BB03-6411-43C6-8F64-38A280811D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3CC36196-E94D-4E66-BF4D-4171D4E8CD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E4CCB5F2-589E-4F26-A5E5-4FCE0F46CE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DA2838A9-1ACF-42B0-91DD-3DE84A1A3F4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58E9BD29-CC7D-4BA0-AA2E-D0BBEFC7B4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41202D3B-5841-44A6-BC24-5BB09870FFF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0EADC77-6D7C-4A86-82BA-F54EDEE710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2771210-E55E-4D9C-8EAF-41ADE7BACB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0546A966-AB7D-4A77-B26D-7904F4F8A4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8514EEF-BEDB-413B-A038-CE99D98857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83B7251B-01FA-4ABF-BE2D-B7A3A76CBA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725DB81-4F6F-41CC-BF10-FA5A72DEBC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3A12922-10B8-4072-826A-9FBBBA357F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0EA268F-4193-41B1-96CA-7F20803CCF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3708F9E-E68B-4BD1-A902-62C0DD6E6B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6069A1E7-3A4A-41E6-BEF3-B81FB6C684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5539ED8C-C1BC-4DCF-A106-B945770D56D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3EEDC33-5357-4AD4-846A-E61AA2D91A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613DCD54-6ECE-4FF6-BCE8-33E647DD45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1F500946-7DE1-4FDE-90EE-2D8160E0F4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41F98221-01D8-4C5B-9320-B8454537D8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E5F7FF1C-BF07-4CD9-9CDF-F1540243FB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C632A578-0D4E-4090-B26B-CF08CE0695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6CE67124-6F85-4AD0-8DC4-58434A4814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480C0332-B6E2-4CBF-8C09-9219CEFDBE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B63D6D70-1D08-46CC-9750-742E2E163F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374180D7-6AF2-4F41-8B94-D3F251E423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9869EF1-EDB0-42D3-92E8-FBE1464F59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07041F-696F-4600-BBB4-5A67EAC201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8FE39014-47DE-43A9-9CE3-BA5C422F3A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DA1547C5-2023-4788-92BB-663D1C402B1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7905EBAA-296C-4BAD-877A-34D9E4621B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5CA179B1-32AA-4FE6-B6EB-AA3400FDD98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7999D998-D744-45B8-9A4F-8AF8290C60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CCD0CB88-F456-4615-915E-2C580C79C9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3626B100-3D5D-461D-A951-CED8DE6832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47D89D5E-D596-417D-B9A6-C2D302F2EF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41F597E3-7681-4993-B050-4255D4F84F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3E29677D-C6A9-46AF-A4EA-B6E08F118E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4599494E-F8A7-40F1-8E62-712896B24E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5C4BBF-8192-4883-8EDF-114A04AA7A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B44A4C7-A6FF-45EC-9D5A-57DCC60050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DA68E811-201C-4BD2-B0A5-5D3A2241CE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57BC2AD3-6CEE-4116-8E40-739E7A85D8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8E9ECDCA-41DC-495B-864C-6D538C14C03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AA3E7C1D-E8AF-4D8D-A2AA-8E5F28B983F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53203157-BA0B-4A39-B602-E6BD15F883A5}"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08725383-832E-4887-A2BB-3FCFBF215F3F}"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3CA2266D-031B-4C76-9432-91922D3146A5}"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78E8E5A9-4F3E-43CB-9596-3C51534BF455}"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919F1F42-02AB-493C-BD00-7D1FE1CD6036}"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956253-6895-4C2C-9728-07F2FAF429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37B09A2B-60EA-47BA-B56C-3B550D929D9F}"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4E3228A1-A05C-4399-805B-0F563D8EF449}"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06712B85-19C5-43AB-B433-56316EECE582}"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40AB2504-01B4-47C5-ACAF-60BA7EA271F3}"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F1677A94-8806-4B0A-87D6-F2E6F32EE872}"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0E93BFB5-71B5-4874-90CD-1DF382827751}"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C6FEF7CC-FBC0-4CCB-88FF-4202A3BD6B36}"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01BC7D72-A167-4C7B-9152-A705B1104ACF}"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566B9D85-FE31-49F3-9E7C-D2B0E0743177}"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2FD1CB05-AE0D-4B11-BC09-B108A463C2AC}"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6611477-AF63-4EC1-B33F-DB6DB795BD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A8FFFEAC-121C-403C-8F56-26556CD68B99}"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2C52580A-CBD0-415C-BEA6-F1F45A72A42C}"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7A8DE3FE-00A4-44DA-BDD8-251D3D3172CC}"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BC52674C-21AF-4121-A3AA-3B998145C926}"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F445A875-1CEA-47F4-9F87-9F3982BF84C2}"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FF85455E-5273-4DFB-BC0B-1EF66D5D997A}"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06799C7D-C288-4B7E-AD9B-201674795ED8}"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84DA8F22-CE84-4D79-A474-68146C00D3DE}"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960D89D9-6754-4EA5-985E-BDE57C915E02}"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0D7A4D74-0445-4D91-9DE3-609AE25A8C7E}"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87F733D-9039-4D7E-A8E5-75350A2F6D9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F38B183B-3122-4E2C-85D7-36FE0177E210}"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C0AD4361-5D50-4DBD-8BE3-687AF5F1EBAE}"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C851B5BD-65B3-4E3A-A986-1244E2C0268E}"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18C68CFA-F02D-442A-B0B4-46D686F36F1F}"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84367FD3-CEF1-453C-BB11-30C8A8C162D8}"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EF55FF2D-6C5C-4E16-9E14-32DB2D855DA2}"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F74B1654-817E-47A4-91A7-6A64B4930381}"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42624035-C8C5-47AC-A1BF-C83FBFB22776}"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D14595F8-8D7C-4597-A102-F2645E2DE067}"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84EAC103-5B96-4686-9691-B6C190A1EF08}"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CE0088E-5824-4EFC-93B5-D13DB99F95A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C9F28131-0CE8-423C-9F25-63E0AA039D63}"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E191DB9E-80A3-413C-8844-8D8CCE2ACB0F}"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CA1A2A4B-F73D-4305-92EE-2CD5C919F456}"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867387AC-98F7-462E-AA50-9DD501AE0A35}"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DDCA9708-6657-409B-8205-245EF585DD1E}"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D962C9C1-E783-42DF-ADA1-DCD384C711C6}"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0F42AD50-A3C5-42BE-A210-E44D9E52DAEF}"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48B1A491-0E16-4F33-8A16-9D39AE51FC5D}"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990AC476-AD67-480D-80BE-EE3F40366529}"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89972139-B398-4D43-A4B9-E5DC22B09167}"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2F12032-BF6A-4F17-BBBC-691E05BB003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029F4EC5-6E76-4E27-951E-B53D60D1F5DB}"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F44230CC-4B1C-4C35-9E3D-0B16DCC34E77}"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F1478DD7-AB1A-4EDD-A661-2409AD6E376A}"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2A87B95F-D4B1-4E10-89AE-E8F72A8E81B2}"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7666A6B7-1A55-4F7B-829C-73B7DA3D77C1}"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CC0CBB8E-EBB7-47AA-B275-466DF815769F}"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19C4DA16-C2C6-4A25-84C0-E5B440734302}"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DD4F6A56-FBAA-4EEA-BBEF-507ECEE9F37E}"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75024380-B525-4FC8-BE0F-7AE144E29623}"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F0265B3E-1C59-4415-BB54-2C8965A9B175}"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2127BB8-3165-4CB8-9183-E0D69519024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34A67477-1999-4E58-BA04-297B551B26F1}"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3D14F1A6-8534-465E-9758-060A62B287F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3DF88CE1-10CD-4E92-B118-1B866E33EB8C}"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458CBF4D-3768-4DCA-9998-616294792EC5}"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9DB57211-3D59-45A4-8B0C-7696BDF2F633}"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B299B23C-33F2-4030-9E04-554530E2763C}"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A45E65B5-7AAE-4D05-843A-35F179FB9BC8}"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579E656D-73E1-4C48-AF57-55C58A8E0040}"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758EB3FA-1298-4B67-A79A-8552B71AE408}"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7AD6286C-6B7E-4D8E-A111-566EF6CAA159}"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60B91A1-1F93-45B3-BB93-7FC1C4259E2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7BDCEF53-690E-4B9B-8B27-46054434E877}"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62D394BA-AEDA-4187-8E66-6D582B6EFCA5}"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E586A4F0-CBEE-46DB-9203-0568B2509151}"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1F78CCE3-3CB3-4976-A806-8879ACAF0182}"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5E5C6030-F4B0-474B-80EA-BFDF52F76E38}"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05CB504F-F6D6-46AC-8179-ECF55475B1C9}"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1BA33B66-6BFC-44BC-BB0B-AF726B7E6909}"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925BFED8-188C-487E-9F96-ADD4B99A4D85}"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A95CEA46-6E64-4559-AE4F-3F1EC0A78806}"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B168F6B2-DC8B-4CB6-91FC-197F993AF4FA}"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70CB469-54B6-47DC-B67F-06D0E9837E4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2A32ADB3-909C-4E17-A4DB-FC04B4054125}"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5701C2C1-0BB6-41E6-B0C5-B3E4DA15C12C}"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48FE9CC8-B19E-476C-9C81-5368C2D01BC7}"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650E769C-EBDC-4642-B815-158844D33064}"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C7956D29-4BD3-4114-BACA-E57BBC84E18F}"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806B1F43-CB31-45D9-8E58-DD572E1A7342}"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19AA2F20-7CEC-4F66-833D-9ED40CD28D89}"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4FA18AF2-7AF1-4088-A788-9D5646145525}"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34EFC35D-BE0C-420D-A905-1A049751A02B}"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6A9C7991-F505-4665-A209-6D3238063A3D}"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9D0B1A7-BFEB-4B8B-9C99-F32E1BF1F45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36C6FC7C-A7FE-47DB-BE40-BADACA7AF232}"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9661D4DC-95D3-43E8-B1DF-32975FDAA9BF}"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1AA5C69E-7EEE-4A9F-AD3A-9D3889DA0CE9}"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FFCA99A9-02CF-4797-9014-EE49372006FA}"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0294671F-34B4-4F5F-BFFF-F6E21B6F000A}"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3689E000-CC34-49F2-8971-859033F4A28D}"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4E111171-366A-4720-B467-DA199271E21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24605C41-8F1D-4543-A09F-1A351BBF8263}"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9A4F3AD5-E626-4C34-A3F4-0980F59D04B1}"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99B6BE94-40C6-46DE-B029-EF82F7AD60C5}"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9802895B-B85E-4C50-86D0-DC39F2AFA50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BB71BEF-E03F-490D-A319-864BFF89149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579F533C-7889-4E37-AD29-4EBFB424FB6A}"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1399666-E244-4C37-9C60-E444155B65B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A350CF8-4865-4712-8C23-D9A00CFF946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B24F7D4-C433-463A-9A5A-BBF816E4C8F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E705BDA-9A00-4E3A-BD19-DCA0D5CB3EE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D4F38B0-DFB8-4154-AF81-E9E4E1AF596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3285AA9-56A9-4F57-87AD-D5B671D621C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0A38555-C1B4-43CD-B917-D10E95667F6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4E7BC98-70DF-4BE8-B414-FFA2B6EF4DB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2EAE1A9-301A-4EEC-B019-FA4FE68876D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03CE0EFB-68F7-4309-9A00-10FE5210D67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EAAC92F-ECE5-445E-AF93-89B906527A0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D0BB260-E6AD-4470-BB46-A01598B31BE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FB97BA9-D592-4664-994E-F7E96332AC1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5927143-4579-4EAF-9FC4-ABEA948AE1D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D510FBD-ED6F-4F46-8D03-FC0C917ACCE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A7A4E2E-0266-4965-B78C-BA95D28DA8D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BB5BCB8-C2E9-4C70-9091-FCBA12BF317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4E2BE51-E5DD-4367-A48E-4E2F904C1932}"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4722434-9828-40CB-8AF1-58FD1F14BBB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1FC706D-71CC-4CA6-AC47-6B57523B193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C7C70AB0-ADDA-4FFA-80CE-18C8A5CF691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25088E1-1431-423C-8D87-9764E888F7F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DA6BBE1-3BAE-4842-B520-EFEC2286C69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E8629D6-339F-4CFC-87BC-E2D23C659E8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691FEF4-4FE7-47E8-A20E-8415A1E4E6B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1AAA748-7E13-4F8F-8D67-A436D6B2FCC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2EF55FD-9F26-4E49-963F-14BE1BE0446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D4D83F4-3066-405A-8C39-AE7B780834D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8370E3D-CF44-4B0B-BD8E-8B472E0CBF3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908E002-FC42-4749-9828-5A023951F13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1AD6038-35BF-48E0-9E6E-228E6745BEF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2F2F31B2-CF85-4CF6-9BD6-03F709C6868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E1A4859-2299-460C-A306-FFAAC77C329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1598175-F26D-4599-B5A1-9FBCE8BFA8C7}"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637AEB9-045D-4006-A229-21AFD879A97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79DF652-E957-4B35-8382-DA579A2DE2F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BD7791B-A9B8-4839-987F-FEFAF5656DB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F42288C-29EA-4374-AB0C-E6AEE42E448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97DD806-BE70-43AD-918D-C4BEA3E9B4C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4A60574-1F1A-4969-9560-2D03980DB23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910A4D8-216F-4CC0-BE1F-D8EBEA8832E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E0ABCAC-AB31-40D0-B09E-8C848DA88B5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0EB3A2FE-0E37-48DF-A8B3-BBB2BD05B80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3D13A9F-37BF-44AA-A442-56CDC0BFB27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D6154EB-C6EE-4E7A-8D76-9F9E8CE7440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5D294AC-114E-4FA8-8C46-CF15BFF323B2}"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DF34C57-9B73-486C-8CBB-374F6C03EBA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0AD3752-28EB-40EF-A1EA-AADF158B8E4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E1BE85A-949A-43C2-8FA3-2C8221507E7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0C7F7FD-2043-4E40-A0D2-C00E17B831B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0C30A74-57C4-4C0E-B90F-C225A1D1780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E5336E7-F9E1-430A-899B-4A03A9C342D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DCEB96E-B8D7-47F2-A7EA-5ABEAA38A4C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E5F688E6-E3B7-4D02-966C-FF93163B1C5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FDBD3BE-BA80-4D8E-A58E-DFA06E88D9D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9C26320-CB37-467A-BC4C-4500CE20A23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D68F2F6-6AAF-48C8-9308-C81DC43A2E0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312E63D-4227-4ACF-82EC-172F0252A0A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42919A1-8D94-433B-AA5D-059E28A6542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4E53B1C-AEDA-4E7E-88B1-04E796B851D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2BE95CB-14F3-4FD1-9B58-A9CE3182B3A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BCB909F-6686-4D4C-AB78-2E97E8970BE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58EB354-3428-4214-848E-F942397FE4B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80FE463-CE76-4790-891D-0B09F2102A7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E3EDD416-E7CE-40F9-9566-E89A8F5D91A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249F85E-5D2F-4F49-B47D-A014EE1ED18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D0189C1-FE6C-4749-AE10-35219C3A479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EE70D50-4F58-4424-8BD0-1562EB49EFA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3A090DC-A6EF-45FF-9099-11DE11A42B3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6052618-6BB7-4145-BEEE-4B62FAC194F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5672FE6-014C-4F3D-9802-AF9A3C5BD5B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DFDC7A0-5165-4512-85C2-C6FF0272A23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093DC45-EC66-46A0-9A3D-2807EBFF76D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ABC7DDD-0AC9-409E-9722-B9A139E7958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35A52FC-9322-4978-B8AE-9C43C420E286}"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1815-999C-4FEB-B464-5487AA7CE89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06F2C-70A6-49D2-ACB7-02193D8651C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C311D-3F7E-4A25-804C-FC1AF7C6790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EF4C-9C3B-4406-8057-863F1BD38DD2}"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A85E-E438-4C11-B5FB-C5B172CD540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74AA7-59DC-409A-901F-DA02B76C626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1AFED-0900-405F-82F3-8AF89B861026}"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B4C1E-4B5E-4BEB-98FB-4A8A0BA2B41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858EF-48E3-471E-94C8-1B7ED081B005}"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CE2D3-ADE4-4506-AA86-1799D9F2C9B5}"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F4673-970B-46F8-8B7B-58884C7ED79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B3788-884B-4F13-90F3-C90D64B1482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19159-11A2-491F-AA3D-9B7719CFB1C3}"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643F-4A28-47E4-9A3D-B1A911AAFCD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2B6F-E36C-4459-9E49-AC1E3555BD2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73A6-BDB5-43F3-B769-959DCDD78BD3}"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64166-3D55-4B7C-94D8-9E1A4303637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C60C1-7D2A-4D61-9E8E-6C5CABC0F81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0337-268F-40DD-B904-6A7CDF4DDDC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C592A-B6D3-49F1-9916-D394110E770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38BE-3F96-443E-9CCB-2E9E40BF7AF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A3701-1AD7-467E-9B8B-4EC38570F9E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D5F3-46B9-485A-9853-937589912D0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30CCD-960D-4FD2-B781-21D4DB34BDE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455DE-F398-49B6-B956-1069374D28A0}"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1891-C5E2-4E71-8676-49CF2D30B814}"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673C0-1564-4A3C-B102-BE0E15E3804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05121-77DF-43F1-9A27-DF7C33F8212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FD4B6-D69A-46B2-8CE5-37E3431DC50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E296D-F460-4805-8757-25E00352042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