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272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72800" y="744120"/>
            <a:ext cx="46530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272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0F76A2C-F7E2-49EE-9F7B-CF3B444C0FE6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073160" y="744480"/>
            <a:ext cx="465300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grada številke diapozitiva 3"/>
          <p:cNvSpPr/>
          <p:nvPr/>
        </p:nvSpPr>
        <p:spPr>
          <a:xfrm>
            <a:off x="385272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5CA08D3-3BAD-4669-B87E-1582F3CC249B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9B1D-4370-49F0-9A27-90BDB940A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4F96-39D8-4F6A-A3F3-49E789BBE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2E29-C9D0-465B-8353-905D0E8F2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E2E0-A327-4518-953D-7D9418F9F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517C-5C02-46AD-9C2B-CE9AED30D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289A-2458-4E30-B855-82D67CAD9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F259-67B4-4F0E-AEBA-E7A6CC393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0035-0A98-4435-979F-5B965BED8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030E-F9EA-4470-8143-B0A4FC359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7DC6-227B-436D-9AFE-B25F52D9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F90F-1005-41D3-8829-DBB7B229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5483-9BAA-4B6D-85C9-7A1EB73A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F9AF6-B2DC-4FD4-A467-C600AEEAD365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u-skladi.si/" TargetMode="External"/><Relationship Id="rId2" Type="http://schemas.openxmlformats.org/officeDocument/2006/relationships/hyperlink" Target="http://www.facebook.com/EUskladi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lika 3" descr="euskladi_template.bmp"/>
          <p:cNvPicPr/>
          <p:nvPr/>
        </p:nvPicPr>
        <p:blipFill>
          <a:blip r:embed="rId1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9" name="Slika 3" descr="euskladi_template1.bmp"/>
          <p:cNvPicPr/>
          <p:nvPr/>
        </p:nvPicPr>
        <p:blipFill>
          <a:blip r:embed="rId2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3"/>
          <a:stretch/>
        </p:blipFill>
        <p:spPr>
          <a:xfrm>
            <a:off x="457200" y="777960"/>
            <a:ext cx="4114800" cy="7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71240"/>
            <a:ext cx="77724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Izvajanje </a:t>
            </a:r>
            <a:br>
              <a:rPr sz="3600"/>
            </a:b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Operativnega programa razvoja človeških virov 2007-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4145040"/>
            <a:ext cx="640080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dr. Jasminka Dedi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Urad za kohezijsko politiko – Sektor za skla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Ljubljana, 28.5.201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28760" y="11574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V letu 2014 bo OU z izvajanjem projektov tehnične pomoči še naprej zagotavljal učinkovito izvajanje operativnega programa, razvojnih prioritet, prednostnih usmeritev ter operacij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financiranje izvedenih zaposlitev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usposabljanje zaposlenih na področju kohezijske politik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obveščanje javnosti v skladu s komunikacijskim načrtom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financiranje študij in vrednotenj v skladu z zahtevami iz evropskih uredb in smernicami in načrtom OU za vrednotenje OP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ostale aktivnosti, potrebne za učinkovito izvedbo OP (delovna srečanja, kontrole na kraju samem, organizacija dogodkov, aktivnosti upravljanja in izvajanja, financiranje usposabljanj, storitev nadgradnje IS ISARR itd.),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Tahoma"/>
                <a:ea typeface="Tahoma"/>
              </a:rPr>
              <a:t>priprave na novo programsko obdobje 2014-202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34ea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51444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Načrt izvajanja za preostanek 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71240"/>
            <a:ext cx="77724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34ea2"/>
                </a:solidFill>
                <a:latin typeface="Arial"/>
              </a:rPr>
              <a:t>Vprašanja, pripombe, predlogi…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714240" y="4145040"/>
            <a:ext cx="742968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34ea2"/>
                </a:solidFill>
                <a:latin typeface="Arial"/>
              </a:rPr>
              <a:t>Obiščite nas tudi n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www.facebook.com/EUsklad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www.eu-skladi.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Ograda številke diapozitiva 1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0A759-757F-4DC9-81B7-AA022886235D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1209600"/>
            <a:ext cx="8964720" cy="61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34ea2"/>
                </a:solidFill>
                <a:latin typeface="Arial"/>
              </a:rPr>
              <a:t>Napredek pri finančnem izvajanju OPRČV do 30.4.20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4162320"/>
            <a:ext cx="8229600" cy="23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grada vsebine 2"/>
          <p:cNvSpPr/>
          <p:nvPr/>
        </p:nvSpPr>
        <p:spPr>
          <a:xfrm>
            <a:off x="428760" y="4157640"/>
            <a:ext cx="82296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108000" y="1425600"/>
            <a:ext cx="88567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47D76-71D6-41E7-9520-BAB8BBE9BEF1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08000" y="849240"/>
            <a:ext cx="87850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34ea2"/>
                </a:solidFill>
                <a:latin typeface="Arial"/>
              </a:rPr>
              <a:t>Finančno izvajanje OPRČV po leti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B9B62-A3D6-44AE-9A8A-56726FA92F66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179280" y="1281240"/>
            <a:ext cx="871380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1591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Potrjeni instrumenti v 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50920" y="1065240"/>
          <a:ext cx="8429400" cy="6273720"/>
        </p:xfrm>
        <a:graphic>
          <a:graphicData uri="http://schemas.openxmlformats.org/drawingml/2006/table">
            <a:tbl>
              <a:tblPr/>
              <a:tblGrid>
                <a:gridCol w="1500120"/>
                <a:gridCol w="735120"/>
                <a:gridCol w="4206600"/>
                <a:gridCol w="1987560"/>
              </a:tblGrid>
              <a:tr h="6310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sredniško tel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str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rednost v EUR (EU + SI de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7538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djetno v svet podjetništva 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61.4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42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Zaposli me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.0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24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povednik zaposlo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94.7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64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upaj do znanja – Uresničevanje ciljev Strategije vzgoje in izobraževanja Romov v Slovenij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5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olnomočenje ranljivih skupin preko informatorjev na centrih za socialno delo Sloven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71.6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41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 karierne perspektive 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0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12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KUPAJ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instrument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427.8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1B38B-7DE0-492B-B308-E96DD4EB34D9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50920" y="1065240"/>
          <a:ext cx="8429400" cy="5575320"/>
        </p:xfrm>
        <a:graphic>
          <a:graphicData uri="http://schemas.openxmlformats.org/drawingml/2006/table">
            <a:tbl>
              <a:tblPr/>
              <a:tblGrid>
                <a:gridCol w="1500120"/>
                <a:gridCol w="735120"/>
                <a:gridCol w="4206600"/>
                <a:gridCol w="1987560"/>
              </a:tblGrid>
              <a:tr h="63036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sredniško tel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stru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rednost v EUR (EU + SI de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4507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z faksa takoj praks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89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 kreativni poti do znanja 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3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spodbujanja podjetnosti v VIZ z namenom razvoja podjetništva med mladi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vig poklicnih kompetenc učitelje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81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isarna za delodajal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.2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16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estrimo šo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drav življenjski slo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30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nzivni tečaj slovenskega jezika za migr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76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N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olic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5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63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N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R za spodbujanje NVO in civilnega dialoga 2014-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5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26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KUPAJ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instrumento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4.431.2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3711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Izvajanje v letu 2013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13840" y="1371240"/>
            <a:ext cx="8215560" cy="500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50000"/>
              </a:lnSpc>
              <a:spcBef>
                <a:spcPts val="349"/>
              </a:spcBef>
              <a:buClr>
                <a:srgbClr val="034ea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400" spc="-1" strike="noStrike">
                <a:solidFill>
                  <a:srgbClr val="034ea2"/>
                </a:solidFill>
                <a:latin typeface="Arial"/>
              </a:rPr>
              <a:t>Obveščanje javnost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pletna stran 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u-skladi.si</a:t>
            </a: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ocialno omrežje Facebook:  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acebook.com/EUskladi</a:t>
            </a: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Dogodki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U Javne razprave o novi finančni perspektivi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znanja in trga del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okolja, urbanega razvoja, kmetijstva in ribištv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vključujoče družb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pravne države, učinkovitega javnega sektorja in nevladnih organizaci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srečanja Višegrajske skupin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IQ konferenc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Veliki informativni dogodek »Razvojni potencial v Zasavski regiji«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dogodka v okviru Pop-up doma v Tobač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E-kohezijski kotič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34ea2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400" spc="-1" strike="noStrike">
                <a:solidFill>
                  <a:srgbClr val="034ea2"/>
                </a:solidFill>
                <a:latin typeface="Arial"/>
              </a:rPr>
              <a:t>Upravljanje in izvajanje program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financiranje zaposlitev iz sredstev tehnične pomoči pri upravičencih, vključenih v izvajanje OP RČV, (SVRK, MGRT, MDDSZ, JSRKŠ, ZRSZ, MIZŠ, MNZ, MK, SPIRIT, MZ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usposabljanja, delavnice za delo na področju evropske kohezijske politike in delovna srečanja</a:t>
            </a:r>
            <a:r>
              <a:rPr b="0" lang="sl-SI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razvoj in nadgradnja informacijskega sistema za spremljanje in vrednotenje – ISAR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51444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Kazalniki (presečni datum 31.12.201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"/>
          <p:cNvSpPr/>
          <p:nvPr/>
        </p:nvSpPr>
        <p:spPr>
          <a:xfrm>
            <a:off x="4481640" y="-47340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0" y="0"/>
            <a:ext cx="30178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179280" y="1714680"/>
            <a:ext cx="849636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Jasminka Dedić</cp:lastModifiedBy>
  <dcterms:modified xsi:type="dcterms:W3CDTF">2014-05-29T06:59:02Z</dcterms:modified>
  <cp:revision>202</cp:revision>
  <dc:subject/>
  <dc:title>Naslov</dc:title>
</cp:coreProperties>
</file>