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72E1-2006-4EBD-AE95-711F74EA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DAA-56C5-4015-9598-22395913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26B-C40A-4BD4-BA7F-CFBFA59D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B0E-368F-4BB6-A85C-7D813F96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A0F0-5C04-4F6E-926A-CB2437AA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87AB-E5D1-4BC1-ADC9-4E0DDE96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00D0-6C6B-4765-ABAD-103B9910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1BD8-8680-4E3A-8357-88DB5ACB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85C3-0E6B-4153-98CD-7DD4763D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E2A2-7866-4D20-8D37-70B739BA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0E16-E631-4680-9E1D-978083CD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854-92F8-4C37-96AD-3DAFC66B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DB51-A5B8-4A15-B4F8-290DA946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FF67-7189-40A0-815A-0115C1AB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6D1F-032E-4298-8AF8-52490E86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7D01-D850-4600-899E-7E041FD1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AF60-8B68-46E2-BEB1-E87894B4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CAA-1716-47A7-A327-49ECF9CF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D100-EBF5-4778-942D-0D2FA566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D3F8-5FB4-4C33-81C5-C5D06267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1DA9-C8F1-4BBB-BCD8-5690E199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114-D32D-4104-A55B-041A60F0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61E-DEC6-4F46-9552-5BA8CB47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061-5CD2-4B63-B52C-76621CFE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83BA-13EC-4C46-AE67-8FB3FE6C76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A95C-E5C0-4D4B-9D3A-F682A9F0F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IZVEDBENI NAČRT RRP ZASAVSKE REGIJE ZA OBDOBJE 2007-2009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488360" cy="647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995640" y="4653000"/>
            <a:ext cx="89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ržavni razvojni program 2007 – 2009, referenčni okvir ter operativni programi posredovani v Brusel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perativni program krepitve regionalnih razvojnih programo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rektne vzpodbude (regionalni razvojni program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ektorske vzpodbude (ESS, ESRR, Kmetijski sklad, Kohezijski sklad - razpis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bmočna partnerstva (sektorske vzpodbud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dikativna razporeditev sredste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Zasavska regija - 19 mio € za obdobje 2007 – 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Na prebivalca 409 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edvidene dejav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konomska in izobraževalna infrastruktura (poslovne in obrtne cone, tehnološki parki, razvojni centri regionalnega pomena, izobraževalna središča,…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ometna infrastruktura (lokalne ceste regionalnega pomen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koljska infrastruktura (obvladovanje in čiščenje odpadnih voda, čistilne naprave, oskrba s pitno vodo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zvojni projekti v območju s posebnimi varstvenimi režimi in v turističnih območij (priprava upravljavskih načrtov ter izvedba projektov v okviru Natura 2000, turistična infrastruktura,…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zvoj urbanih območij (razvoj družbene in gospodarske infrastrukture, prenova starih mestnih jeder, prenova degradiranih in opuščenih urbanih področij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cialna infrastruktura (kultura, zdravstvo, socialnovarstvena infrastruktura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272360" cy="6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89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rektne vzpodbu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odjetniški inkub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odjetno v svet podjetništ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romocija poslovnih prilož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reučevanje vplivov na okol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Infrastruktura, ki podpira razvoj regi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Vodovod Turje-Gore-Kopit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Modernizacija LC Marno-Turje-Kopit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Hrastnik-Radeč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Čeče-Bob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Jesenova ra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Čeče-Kal-Bl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Liza-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Poligon varne vožn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Zasneževanje in ureditev TRC 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Zaloka-Jesenovo-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Izlake-Čemše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Izgradnja parkirišč v Zagor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Ureditev regijskega sejemsko-prireditvenega prost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Izgradnja MC in spremljajočih dejav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Prenova starega mestnega jedra – Cankarjev t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7274160" cy="425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956720" y="5661000"/>
            <a:ext cx="89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5280" y="765000"/>
          <a:ext cx="8424720" cy="518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65000"/>
                    <a:ext cx="842472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26920" y="189000"/>
            <a:ext cx="7490160" cy="425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388360" y="6021360"/>
            <a:ext cx="6033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ktorske vzpodbu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81120" y="1600200"/>
          <a:ext cx="7781760" cy="44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77817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55640" y="189000"/>
            <a:ext cx="7561440" cy="425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8317080" y="6021360"/>
            <a:ext cx="6015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81120" y="1600200"/>
          <a:ext cx="77817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7781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403280" y="189000"/>
            <a:ext cx="6551640" cy="4255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89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14:40Z</dcterms:created>
  <dc:creator>Helena Butolen</dc:creator>
  <dc:description/>
  <dc:language>en-US</dc:language>
  <cp:lastModifiedBy>Helena Butolen</cp:lastModifiedBy>
  <dcterms:modified xsi:type="dcterms:W3CDTF">2007-03-30T09:26:16Z</dcterms:modified>
  <cp:revision>9</cp:revision>
  <dc:subject/>
  <dc:title>IZVEDBENI NAČRT RRP ZASAVSKE REGIJE ZA OBDOBJE 2007-2009</dc:title>
</cp:coreProperties>
</file>