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759-20C3-4C8A-9482-83E6765F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4C0-F689-46A1-871B-2A9E5DD4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552-83F9-42B6-B685-600EF88B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556-DE1B-46B6-B960-7ACF4D56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13F0-E1DF-40AC-915A-6EB03B0A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23B0-3F70-4D11-9F56-84E8AB84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F1C-CBB7-43B4-A491-576C2DC2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EA6D-F871-4121-AE57-005A4CA1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6479-D51E-4710-9F27-EC80DE8F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893D-6551-43D0-BA13-960E4F3D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49E8-2D90-4359-A7EB-8F50388C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13CF-CC0B-4C2E-9AB6-D21E71F7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9D52-DBEB-405D-9577-C413BDDF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6E79-AC07-4A04-9E6E-A297E92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9F50-535D-4F60-8A5F-7E75F593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5536-9D8D-4FF6-A509-6F94D4A9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B6D6-2221-43F0-8004-C0862A78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753-7008-4CCC-A414-E73F200D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EFD-6841-4E8F-8D32-2E223A30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896-225C-4628-953B-BB4F0AC7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4DF-6902-4B99-8681-71E7A0AE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30C-44C9-4CDE-9379-05E92A4A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658-24E9-48F4-8A16-F119B3B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BCC-B01A-4511-91A9-5157D1D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42F-4ED8-4CD0-BA31-87059D2FF1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E39-B441-491F-9052-A11DF5862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IZVEDBENI NAČRT RRP ZASAVSKE REGIJE ZA OBDOBJE 2007-2009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488360" cy="647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95640" y="465300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ržavni razvojni program 2007 – 2009, referenčni okvir ter operativni programi posredovani v Brusel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perativni program krepitve regionalnih razvojnih programo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rektne vzpodbude (regionalni razvojni progra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ektorske vzpodbude (ESS, ESRR, Kmetijski sklad, Kohezijski sklad - razpis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bmočna partnerstva (sektorske vzpodbud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dikativna razporeditev sredste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Zasavska regija - 19 mio € za obdobje 2007 – 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a prebivalca 409 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edvidene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Ekonomska in izobraževalna infrastruktura (poslovne in obrtne cone, tehnološki parki, razvojni centri regionalnega pomena, izobraževalna središč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Prometna infrastruktura (lokalne ceste regionalnega pomen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koljska infrastruktura (obvladovanje in čiščenje odpadnih voda, čistilne naprave, oskrba s pitno vodo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ni projekti v območju s posebnimi varstvenimi režimi in v turističnih območij (priprava upravljavskih načrtov ter izvedba projektov v okviru Natura 2000, turistična infrastruktura,…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zvoj urbanih območij (razvoj družbene in gospodarske infrastrukture, prenova starih mestnih jeder, prenova degradiranih in opuščenih urbanih področij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ocialna infrastruktura (kultura, zdravstvo, socialnovarstvena infrastruktura,…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72360" cy="6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rektn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iški inkub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odjetno v svet podjetništv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omocija poslovnih priložnos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Preučevanje vplivov na okol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00"/>
                </a:solidFill>
                <a:latin typeface="Arial"/>
              </a:rPr>
              <a:t>Infrastruktura, ki podpira razvoj regij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Vodovod Turje-Gor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Modernizacija LC Marno-Turje-Kopit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Hrastnik-Radeč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Bob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Jesenova rav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Čeče-Kal-B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Liza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oligon varne vož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Zasneževanje in ureditev TRC 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Zaloka-Jesenovo-Vr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Rekonstrukcija LC Izlake-Čemšeni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parkirišč v Zagorj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Ureditev regijskega sejemsko-prireditvenega prost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Izgradnja MC in spremljajočih dejavnos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00"/>
                </a:solidFill>
                <a:latin typeface="Arial"/>
              </a:rPr>
              <a:t>Prenova starega mestnega jedra – Cankarjev t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826920" y="115920"/>
            <a:ext cx="7274160" cy="42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956720" y="5661000"/>
            <a:ext cx="89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765000"/>
          <a:ext cx="84247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65000"/>
                    <a:ext cx="8424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7490160" cy="425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388360" y="6021360"/>
            <a:ext cx="6033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ktorske vzpodbud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81120" y="1600200"/>
          <a:ext cx="7781760" cy="442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55640" y="189000"/>
            <a:ext cx="7561440" cy="425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8317080" y="6021360"/>
            <a:ext cx="6015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81120" y="1600200"/>
          <a:ext cx="77817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600200"/>
                    <a:ext cx="7781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403280" y="189000"/>
            <a:ext cx="6551640" cy="4255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890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14:40Z</dcterms:created>
  <dc:creator>Helena Butolen</dc:creator>
  <dc:description/>
  <dc:language>en-US</dc:language>
  <cp:lastModifiedBy>Helena Butolen</cp:lastModifiedBy>
  <dcterms:modified xsi:type="dcterms:W3CDTF">2007-03-30T09:26:16Z</dcterms:modified>
  <cp:revision>9</cp:revision>
  <dc:subject/>
  <dc:title>IZVEDBENI NAČRT RRP ZASAVSKE REGIJE ZA OBDOBJE 2007-2009</dc:title>
</cp:coreProperties>
</file>