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F2B1-0C74-44AF-ACA8-94A79612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EE2D-9003-445B-94F4-E0923291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EB00-8A98-4A7E-82E3-F1A553ED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34B0-C12F-48D4-9281-E2B5467EC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001B-C34A-42A0-81B9-E8E0ED52B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F981-387E-4343-9E61-F5BE38E5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E62F-529F-4F61-8EB7-B86DB96D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C30D-F9F4-4CE9-B501-1EE8601C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93C8-A2DE-4856-9A70-F5572479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5938-F39F-4024-9C11-3E5D0010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B2C9-AA2C-409D-AD79-D2464669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BE0D-37E0-48AD-A9D5-3C35A962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C112-96D1-40C4-80D9-896577F5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70DE-5883-4630-9242-893AD6F7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5D85-67DE-49E2-9144-6B9B6549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1850-5A41-419F-AB03-C17E1674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A327-0331-424A-AB21-9A0A12F2F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1C09-91CD-430A-948A-8CD7CD77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98F5-12B6-4E10-A311-786C1A8B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11CF-71CF-4D01-AB25-46165AA9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05D8-43B2-4412-9240-AD4C4D4E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8B99-53AF-42A5-A949-F42ED85C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2BEF-6B91-4174-89F4-9643F2F6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83D6-68FA-48DC-8314-9BCDCAA4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3E25-2507-4258-9963-F55EAC5751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172D-C402-457A-8BFE-4D3B4B571E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IZVEDBENI NAČRT RRP ZASAVSKE REGIJE ZA OBDOBJE 2007-2009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488360" cy="647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995640" y="4653000"/>
            <a:ext cx="8906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ržavni razvojni program 2007 – 2009, referenčni okvir ter operativni programi posredovani v Bruselj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Operativni program krepitve regionalnih razvojnih programo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rektne vzpodbude (regionalni razvojni program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ektorske vzpodbude (ESS, ESRR, Kmetijski sklad, Kohezijski sklad - razpis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Območna partnerstva (sektorske vzpodbud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dikativna razporeditev sredste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Zasavska regija - 19 mio € za obdobje 2007 – 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Na prebivalca 409 €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redvidene dejavnost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Ekonomska in izobraževalna infrastruktura (poslovne in obrtne cone, tehnološki parki, razvojni centri regionalnega pomena, izobraževalna središča,…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rometna infrastruktura (lokalne ceste regionalnega pomen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Okoljska infrastruktura (obvladovanje in čiščenje odpadnih voda, čistilne naprave, oskrba s pitno vodo,…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zvojni projekti v območju s posebnimi varstvenimi režimi in v turističnih območij (priprava upravljavskih načrtov ter izvedba projektov v okviru Natura 2000, turistična infrastruktura,…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zvoj urbanih območij (razvoj družbene in gospodarske infrastrukture, prenova starih mestnih jeder, prenova degradiranih in opuščenih urbanih področij,…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cialna infrastruktura (kultura, zdravstvo, socialnovarstvena infrastruktura,…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272360" cy="608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890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rektne vzpodbud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Podjetniški inkub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Podjetno v svet podjetništ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Promocija poslovnih priložnos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Preučevanje vplivov na okol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Infrastruktura, ki podpira razvoj regi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Vodovod Turje-Gore-Kopitn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Modernizacija LC Marno-Turje-Kopitn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Hrastnik-Radeč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Čeče-Bob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Jesenova rav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Čeče-Kal-Bl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Liza-Vr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Poligon varne vožnj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Zasneževanje in ureditev TRC Vr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Zaloka-Jesenovo-Vr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Izlake-Čemšen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Izgradnja parkirišč v Zagorj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Ureditev regijskega sejemsko-prireditvenega prosto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Izgradnja MC in spremljajočih dejavnost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Prenova starega mestnega jedra – Cankarjev t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826920" y="115920"/>
            <a:ext cx="7274160" cy="4255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956720" y="5661000"/>
            <a:ext cx="890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95280" y="765000"/>
          <a:ext cx="8424720" cy="518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765000"/>
                    <a:ext cx="8424720" cy="51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826920" y="189000"/>
            <a:ext cx="7490160" cy="4255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8388360" y="6021360"/>
            <a:ext cx="60336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ektorske vzpodbud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681120" y="1600200"/>
          <a:ext cx="7781760" cy="44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600200"/>
                    <a:ext cx="778176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755640" y="189000"/>
            <a:ext cx="7561440" cy="425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8317080" y="6021360"/>
            <a:ext cx="60156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81120" y="1600200"/>
          <a:ext cx="77817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600200"/>
                    <a:ext cx="77817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1403280" y="189000"/>
            <a:ext cx="6551640" cy="4255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8906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7:14:40Z</dcterms:created>
  <dc:creator>Helena Butolen</dc:creator>
  <dc:description/>
  <dc:language>en-US</dc:language>
  <cp:lastModifiedBy>Helena Butolen</cp:lastModifiedBy>
  <dcterms:modified xsi:type="dcterms:W3CDTF">2007-03-30T09:26:16Z</dcterms:modified>
  <cp:revision>9</cp:revision>
  <dc:subject/>
  <dc:title>IZVEDBENI NAČRT RRP ZASAVSKE REGIJE ZA OBDOBJE 2007-2009</dc:title>
</cp:coreProperties>
</file>