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936E-5252-4019-A0A4-D3E3A0E0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682C-463E-40B1-9FBC-C1532510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F0D0-B998-4953-80A7-A495ED70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C399-711A-465A-8D57-35CC15E0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A0D8-635C-4C27-B435-895FB878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62C5-A25B-4C74-B1BB-C57A2375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603A-41F6-4D43-9502-D169D4E6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660F-DAB1-472F-99CA-FCD6482D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B8FB-B622-43EA-9B61-B509D84C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F515-BB1B-44F6-8B38-C5AE95DD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022C-39EB-4D8A-B585-A063438A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14D5-2ED9-4A19-B096-CDA8A9DE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1E45-8FF3-4A5E-A0F1-E08A6C7E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3E0C-52DD-4729-A3F5-1FD1E405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3825-22A4-4935-AAA6-781054A0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22B8-ADC7-4402-9D4E-A1E747FE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58D5-4DD4-427D-AEA6-DD2D3615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BF4B-B33B-4C8E-ACEC-7FD83287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327A-5AF2-46CF-A2DC-43C046EF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6BFD-C66A-49DE-A8A8-2EDECDCE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2F7A-B543-4899-80E6-3EF0517F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0997-C87E-4195-BA7C-F1D09D72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6536-F35E-423B-8FE2-92777DD3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4FB9-19EA-450C-86BF-CBB6B42C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5651-87D6-44D8-8BD8-BD6F9541F928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7BAA-59DD-4F09-B74B-4CA8E22C0D55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eses.eu/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teses.eu/" TargetMode="External"/><Relationship Id="rId2" Type="http://schemas.openxmlformats.org/officeDocument/2006/relationships/hyperlink" Target="http://www.worlrdbank.org/" TargetMode="External"/><Relationship Id="rId3" Type="http://schemas.openxmlformats.org/officeDocument/2006/relationships/hyperlink" Target="http://www.unido.org/" TargetMode="External"/><Relationship Id="rId4" Type="http://schemas.openxmlformats.org/officeDocument/2006/relationships/hyperlink" Target="http://www.oecd.org/" TargetMode="External"/><Relationship Id="rId5" Type="http://schemas.openxmlformats.org/officeDocument/2006/relationships/hyperlink" Target="http://scholar.google.com/" TargetMode="External"/><Relationship Id="rId6" Type="http://schemas.openxmlformats.org/officeDocument/2006/relationships/hyperlink" Target="http://www.ljmu.ac.uk/" TargetMode="External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86920" y="357300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ule Nr. 2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dentifying  new competencies and  Vocational Profiles  need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vide Branco, </a:t>
            </a:r>
            <a:r>
              <a:rPr b="0" i="1" lang="sl-SI" sz="1600" spc="-1" strike="noStrike">
                <a:solidFill>
                  <a:srgbClr val="000000"/>
                </a:solidFill>
                <a:latin typeface="Arial"/>
              </a:rPr>
              <a:t>Laurea, MA, MSc (executive)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22th Septembe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564000" y="1897200"/>
            <a:ext cx="1152360" cy="85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0360" y="83592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843588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. Community Manager (Coordin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good 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5. Community Assi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support Community  Manager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monitoring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ori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6. (Social) Cooperative Fou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education at least at Seconda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leading, development, organization and overseeing delivery of complex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relevant management and/or entrepreneurial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se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ear vision and mi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value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7. (Social) Cooperative Manager (or Coordin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8. Professional 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l education at secondary level, University education degree for volunteers’ coordi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local partners and stakeholder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imum organizational skills especially in delivery of clear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relevant experience in the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d in similar assignments in other Countrie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untee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i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motiv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sensitivity to human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character able to accept challe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9. Social Enterprise Trainer</a:t>
            </a: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Facilit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5 years’ relevant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ing experience in similar con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d in similar assignments in other Countrie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E training and  business development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. Social Accounting Certification Consultant (SA8000 Auditors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,…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versity education degree and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pecialized in Social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of standard and specific IT softw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lity and Certif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cial accounting an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cise and searching for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ment skills to understand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importance)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1: Analysis of existing/potential profile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min - 5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0920" y="1316160"/>
          <a:ext cx="8713800" cy="4700520"/>
        </p:xfrm>
        <a:graphic>
          <a:graphicData uri="http://schemas.openxmlformats.org/drawingml/2006/table">
            <a:tbl>
              <a:tblPr/>
              <a:tblGrid>
                <a:gridCol w="716040"/>
                <a:gridCol w="4829040"/>
                <a:gridCol w="1728720"/>
                <a:gridCol w="14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urrent Impor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57200" y="274680"/>
          <a:ext cx="8362800" cy="5856120"/>
        </p:xfrm>
        <a:graphic>
          <a:graphicData uri="http://schemas.openxmlformats.org/drawingml/2006/table">
            <a:tbl>
              <a:tblPr/>
              <a:tblGrid>
                <a:gridCol w="687240"/>
                <a:gridCol w="5156280"/>
                <a:gridCol w="1224000"/>
                <a:gridCol w="129528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1: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Analysis of existing profile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define existing and potential impor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2: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Effectiveness of existing profile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define their effectiveness</a:t>
            </a:r>
            <a:r>
              <a:rPr b="0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3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Level of maturity of S.L.E.P.T.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(social, legal, economical, political, technological) sub-  environ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absorbe changes and to evaluate the time to introduce new pro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4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Tentative opportunity list of vocational profile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who fir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5: Level of matching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between potential new profiles obtained by comparison and level of S.L.E.P.T. maturity in Sloveni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 list all suitable, feasible and acceptable o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6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otential 5 best  vocational new profiles in Slovenia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finally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effectiveness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2: Effectiveness of existing/potential  profile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min - 5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229600" cy="4348080"/>
        </p:xfrm>
        <a:graphic>
          <a:graphicData uri="http://schemas.openxmlformats.org/drawingml/2006/table">
            <a:tbl>
              <a:tblPr/>
              <a:tblGrid>
                <a:gridCol w="676440"/>
                <a:gridCol w="4518000"/>
                <a:gridCol w="1800000"/>
                <a:gridCol w="1235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ffective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57200" y="274680"/>
          <a:ext cx="8229600" cy="5856120"/>
        </p:xfrm>
        <a:graphic>
          <a:graphicData uri="http://schemas.openxmlformats.org/drawingml/2006/table">
            <a:tbl>
              <a:tblPr/>
              <a:tblGrid>
                <a:gridCol w="676440"/>
                <a:gridCol w="4806720"/>
                <a:gridCol w="1440000"/>
                <a:gridCol w="130644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SLEPT Indicator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maturity) to each indi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indi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WARNING: on real SLEPT to be considered at Local Level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3: Level of maturity of S.L.E.P.T. (social, legal, economical, political, technological) sub-environment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not mature - 5 very mat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1484280"/>
          <a:ext cx="8229600" cy="4622760"/>
        </p:xfrm>
        <a:graphic>
          <a:graphicData uri="http://schemas.openxmlformats.org/drawingml/2006/table">
            <a:tbl>
              <a:tblPr/>
              <a:tblGrid>
                <a:gridCol w="676080"/>
                <a:gridCol w="4795920"/>
                <a:gridCol w="1295640"/>
                <a:gridCol w="146196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Ke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.L.E.P.T.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urren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t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5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ublic Awareness and Social Acceptance (inclu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table Legal Frame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n Fiscal &amp; Non-fiscal Support Instru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Credit and Banking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graphy (potential customers, beneficiaries,.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 Political Commit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Weight of Social Economy/Classic Econo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ing N. and Types of social impact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Product and Process Inno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457200" y="274680"/>
          <a:ext cx="8229600" cy="5877000"/>
        </p:xfrm>
        <a:graphic>
          <a:graphicData uri="http://schemas.openxmlformats.org/drawingml/2006/table">
            <a:tbl>
              <a:tblPr/>
              <a:tblGrid>
                <a:gridCol w="676440"/>
                <a:gridCol w="4806720"/>
                <a:gridCol w="1368360"/>
                <a:gridCol w="1378080"/>
              </a:tblGrid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.L.E.P.T.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ublic Awareness and Social Acceptance (inclu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table Legal Frame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n Fiscal &amp; Non-fiscal Support Instru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Credit and Banking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graphy (potential customers, beneficiaries,.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 Political Commit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Weight of Social Economy/Classic Econo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ing N. and Types of social impact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Product and Process Inno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opportunity)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profile (who start fir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4: Tentative opportunity list of vocational profile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min - 5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600200"/>
          <a:ext cx="8291520" cy="4492800"/>
        </p:xfrm>
        <a:graphic>
          <a:graphicData uri="http://schemas.openxmlformats.org/drawingml/2006/table">
            <a:tbl>
              <a:tblPr/>
              <a:tblGrid>
                <a:gridCol w="681120"/>
                <a:gridCol w="4657680"/>
                <a:gridCol w="1440000"/>
                <a:gridCol w="151272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’ Opportunity (who firs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Slov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457200" y="274680"/>
          <a:ext cx="8229600" cy="5856120"/>
        </p:xfrm>
        <a:graphic>
          <a:graphicData uri="http://schemas.openxmlformats.org/drawingml/2006/table">
            <a:tbl>
              <a:tblPr/>
              <a:tblGrid>
                <a:gridCol w="676440"/>
                <a:gridCol w="5022720"/>
                <a:gridCol w="1224000"/>
                <a:gridCol w="130644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-SLEPT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A-F-S) to each matching level of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(1/3 A+1/3 B+1/3 C) to each profile’s  SLEPT matching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Preliminary question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d you read some material (</a:t>
            </a: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www.teses.eu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o you remember the Stakeholders’ analysis in Sloven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d you get some “feelings” from the existing situation on the field (homework for previous module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lease, give shortly your feed-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5: Level of matching between potential new profiles obtained by comparison and level of S.L.E.P.T. maturity in Slovenia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1 very low – 5 very hi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68360" y="1413000"/>
          <a:ext cx="8507520" cy="4773600"/>
        </p:xfrm>
        <a:graphic>
          <a:graphicData uri="http://schemas.openxmlformats.org/drawingml/2006/table">
            <a:tbl>
              <a:tblPr/>
              <a:tblGrid>
                <a:gridCol w="674640"/>
                <a:gridCol w="2792520"/>
                <a:gridCol w="1800000"/>
                <a:gridCol w="1727280"/>
                <a:gridCol w="1513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 - S.L.E.P.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cept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asi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it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337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337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337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457200" y="274680"/>
          <a:ext cx="8229600" cy="5915160"/>
        </p:xfrm>
        <a:graphic>
          <a:graphicData uri="http://schemas.openxmlformats.org/drawingml/2006/table">
            <a:tbl>
              <a:tblPr/>
              <a:tblGrid>
                <a:gridCol w="860400"/>
                <a:gridCol w="5176800"/>
                <a:gridCol w="2192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 - S.L.E.P.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(1/3 A+1/3 B+1/3 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The Facilitator, together with the Participa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ists all outcomes form previous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elect the 5 Best prof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Give weight (importance) to each Profile for each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Give Final rank to each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ime: 20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6: Final List of potential 5 best  vocational new profiles in Slov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360" y="1271520"/>
          <a:ext cx="8229600" cy="4773600"/>
        </p:xfrm>
        <a:graphic>
          <a:graphicData uri="http://schemas.openxmlformats.org/drawingml/2006/table">
            <a:tbl>
              <a:tblPr/>
              <a:tblGrid>
                <a:gridCol w="639720"/>
                <a:gridCol w="26528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mport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ffectiv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tu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port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t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inal 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And now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e defined framework positions at middle and high level b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at about vocational profiles to be identified by the product/service they are dealing with generated by the creativity of the social entrepreneur and managed by the social manag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In other words: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who play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entrepreneur who has an idea with social impact and became a social entrepreneur or the product/service which defines the profiles…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re are thousands of products/services which can be generated by the idea of the social entrepreneurs and who require specific qualified people to work on at levels lower then management and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Here some examples of profiles as a result of product/service the social enterprise deal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cycling old PC            need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IT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ultural Heritage Protection           need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people trained to understand and mantain cultural heritag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airtrade           need people to be trained to use/to create their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handcraf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capa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1640" y="2133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2781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71640" y="4365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ssembling            need people trained as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anufacturing worker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atering            need  people trained to be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waiters, chef assistant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,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leaning cooperative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 need people trained as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professional clea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oduction            needs people trained as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anufacturing worker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sewing for example.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House maintenance cooperative           need people trained in different houseworks: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gardeners, cleaners, bricklayer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,……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43280" y="62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155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492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342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4720" y="4365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inting House Cooperative           need people trained to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 Maste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and trained on the job by the Master..)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gribusiness Cooperative           need people trained as: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ant farmers, line controllers, packaging workers, loading workers, 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griculture Cooperative          need people trained as: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ant farmers, cattle care workers, fields workers,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2000" y="62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4360" y="2205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4221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lderly House Cooperative          need people trained as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volunteer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support paramedic, doctors,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io-product agri-cooperative          need people trained as: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ant farmers, line controllers, packaging workers, loading workers, 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urism           need people trained in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many position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……..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d many more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549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84720" y="2133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4149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Do not move to next slid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dentify max 5 Vocational Pro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escribe those ma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o the SLEPT characteristics allow A.F.S.? (remember Step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local environment has the needed skills and competence to be traine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d the managerial skills to ensure effective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.and mor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t the end what is the K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Creativity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generate an entrepreneurial idea,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managerial skill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manage effectively and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qualified labour forc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implement/to produc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Feed-bac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se the templates only as a base for your field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Frame the templates to your specific environment and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 not use a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“PhD attitude” to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concentrate on details by forgetting wider view and results to b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eople must be stimulated (facilitated) to learn not “forced to learn” by classic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sults (jobs generated, new social enterprises, income generated,…) do measure the real impact, not “academic” paper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mpathy will help you more then knowledge: either you have it or no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You are dealing in a very specific field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List of key internet sour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www.teses.eu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www.worldbank.or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www.unido.or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www.oecd.or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 email info: register at: My OEC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http://scholar.google.com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www.ljmu.ac.uk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netlibrary; clo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Thanks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y Davide Bran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davide.branco@cid-b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List of 10 KEY Vocational Profi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384920"/>
            <a:ext cx="8209080" cy="411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. Social Entreprene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. Social Enterpris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. CSR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4. Com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unity Manager (Coordin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5. Com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unity Assi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6. (Social) Cooperative Fo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7. (Social) Cooperative Manager (or Coordin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8. Professional Volunt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9. Social Enterprise Trainer(Facilit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0. Social Accounting Certification Consultant (SA8000 Audi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ountries where mainly those exist 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(and/or regulate by L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552680"/>
            <a:ext cx="849780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. EU15+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. EU15+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. EU15, Scandinavia, Italy, Germany, UK at first;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4. Scandinavia, UK a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5. Scandinavia, UK a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6. Italy, France at first;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7. Italy, France at first;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8. Few EU15, Italy at first, very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9. Few EU15, UK and Italy at first, very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0. Ve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y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few EU15, Italy (30%) and Germany a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400" spc="-1" strike="noStrike">
                <a:solidFill>
                  <a:srgbClr val="000000"/>
                </a:solidFill>
                <a:latin typeface="Arial"/>
              </a:rPr>
              <a:t>Description of Vocational Profi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907920"/>
            <a:ext cx="843588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. Social Entreprene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education at least at Seconda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leading, development, organization and overseeing delivery of complex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relevant management and/or entrepreneurial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se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ear vision and mi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value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49636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cial Enterprise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No wish of getting high salary!!…..(a part of USA….90,000 US $!!)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50752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3. CS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d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pecialized in C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S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accounting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Tina Kociper</cp:lastModifiedBy>
  <dcterms:modified xsi:type="dcterms:W3CDTF">2007-09-21T06:46:37Z</dcterms:modified>
  <cp:revision>62</cp:revision>
  <dc:subject/>
  <dc:title>Diapozitiv 1</dc:title>
</cp:coreProperties>
</file>