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38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9E1D3-4BD5-4285-9960-9A8F1135EE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7CA-1305-4C75-B084-06A957F7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CA7-997F-4E14-B23A-4D153FE7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E55-CA52-41E2-BEDE-945F0630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4BE-ECC1-450D-98B8-9720DAE2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8349-F120-418A-9F8D-E57A446D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0C05-F192-4DF1-814E-61386AF4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0B74-EFCB-46BB-9F84-DECA8706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C45F-19A4-4968-AC43-D7A1FCCB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A336-C500-4C94-9B8B-A3B79F70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93C4-903C-4988-8458-39D90EAC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F44C-4BAB-4E99-82F7-F00B9BD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FA9-4200-4F8C-B361-D8A96651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00A5-4D36-4F45-B721-F4820078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0D55-C577-488D-B392-502202BA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261F-656B-4FC4-A539-CC117CB0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3449-EEFA-48D1-BEC1-F3A641C6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5FC8-EF68-43AE-80E0-13AD2E59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633-56D2-4731-9F91-5597E7EE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8C0-2933-410B-A989-7495394B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DD3-66FD-4DDF-AE4F-9AA362DD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02A-2A7D-47E7-B8FC-70073F16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81D-C9E6-4DEF-92DD-2BEDD082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87A-4D6F-49AB-BCB3-CC3D0559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385-9729-409C-B1F0-7078DF7C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1840" cy="1104480"/>
            <a:chOff x="1071360" y="304920"/>
            <a:chExt cx="7611840" cy="1104480"/>
          </a:xfrm>
        </p:grpSpPr>
        <p:sp>
          <p:nvSpPr>
            <p:cNvPr id="1" name=""/>
            <p:cNvSpPr/>
            <p:nvPr/>
          </p:nvSpPr>
          <p:spPr>
            <a:xfrm flipH="1">
              <a:off x="4867920" y="304920"/>
              <a:ext cx="11044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0160" y="30492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26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160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72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6CF4C-CF15-4CBC-AF20-5CA0877807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48" name="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BEF81C-9156-4582-B9EA-5FB111066EE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38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3933720"/>
            <a:ext cx="7272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Modul št. 2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PRIMER OBLIKOVANJA NOVEGA POKLICNEGA PROFILA ( POMEL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Alenka STUPAR, univ, dipl. 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21.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0360" y="8366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iprava pob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i tipičnih del v poklicu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a potreb na trgu dela glede na                                                                                    dolgoročni razvoj gospodarstva oz.                                                                                     dejavnosti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na podlaga oz. predpisi v SLO in                                                                            državah EU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narodna primerljivost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ovalci pobud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likovanje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 in koda poklica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 zahtevnosti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icne kompetence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dela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loge za dokazovanja usposoblje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kataloga Pletar 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Priloga: Katalog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7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 in naloge (ključna dela)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ge za dokazovanje usposoblj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loga: Identifikacija novih poklicnih                                                                          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70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jte 3 nove poklicne profile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erite enega glede na perspektivnost                                                                    dejavnosti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te Pobudo za oblikovanje                                                                              poklicnega  standarda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ujte poklicni standard (raven                                                                                        zahtevnosti, poklicne kompetence,                                                                                    opis poklicnega standarda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2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ran projekt za realizacijo že                                                                                     zastavljene iniciative lokalne skupnosti za                                                                        razvoj perspektivnih dejavnosti na osnovi                                                                           lokalnih razvojnih potencialov – tradicije                                                                             domače obrti (lončarstvo – pletarstvo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irane potrebe po novih znanjih in                                                                            spretnostih za opravljanje dejavnosti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83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elani programi usposabljanj (za pletenje                                                                                                                                            izdelkov iz ličja in oblikovanja in gline)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postavljena in delujoča učna delovanica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Nacionalnih poklicnih kvalifikacija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iteriji za izbor novih poklicnih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ktivnost dejavnosti glede na nove potrebe trga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evilo potencialnih kandidatov za N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cija na področju izdelovanja izdelkov domačih obrti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pektivnost deja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8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ponudbe in povpraševanja po                                                                                izdelkih naravnih materialov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uporabe naravnih                                                                           materialov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razvoja podeželja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ni servis za razvoj in trženje izdelkov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človeških vi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5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čitev kriterijev za izbor ciljne skupine                                                                           (BO, podzaposleni, končana OŠ ali brez,                                                                          lastnik/najemnik  zemlje)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brezposelnih oseb na                                                                      podeželj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podzaposlenih na                                                                             podeželju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icija domače obr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elujočih izdelovalcev izdelkov                                                                               iz naravnih materialov v Prekmurju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znanj in spretnosti s področja                                                                         domačih obrti pri lokalnem prebivalstvu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morebitnih programov                                                                                     usposabljan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brana nova poklicn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217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ar/pletarka iz ličja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čar/lonč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opek oblikovanja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71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pobude (pobudo je pripravil                                                                                   nosilec projekta)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novanje delovne skupine za pripravo                                                                        kataloga standardov strokovnih znanj in                                                                             spretnosti (sodelovanje različnih strok)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ovni sodelavec s strani CPI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Kataloga standardov strokovnih                                                                            znanj in spretnosti za 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ditev na Strokovnem svetu RS za                                                                                 poklicno in strokovno izobraževanje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a Kociper</cp:lastModifiedBy>
  <dcterms:modified xsi:type="dcterms:W3CDTF">2007-10-03T12:12:44Z</dcterms:modified>
  <cp:revision>7</cp:revision>
  <dc:subject/>
  <dc:title>Modul št. 2/b PRIMER OBLIKOVANJA NOVEGA POKLICNEGA PROFILA ( POMELAJ) Alenka STUPAR, univ, dipl. soc.  21. september 2007</dc:title>
</cp:coreProperties>
</file>