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C9FF-DE37-4B03-8A4B-BE0B36AEC32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EC0D-EAD8-4E66-AE76-12626935391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0F5F-DE28-4000-8752-4F980F2F9E5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6816-E22D-45E5-BCD7-80D195FC4B4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AA94-9AA4-4EE5-B745-60DE35A95DB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E533-AD06-48CA-8980-8DB52FF459A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FE1E-B004-4FA2-AC3F-5B48AC33BD9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C8AF-7721-459A-B0EB-2441B7CA489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BCFE-1D34-474C-9C04-05E27A2E7A5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1741-BDAD-40F3-BF63-46E4D0A1ECF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3F2A-4861-4FF9-87C6-FDC92955F26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C74B-8852-4D45-A0F0-8B883518C58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7F1A-3673-472A-A440-EE0274EBF0B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7B74-7B4A-4E22-870A-AB35A5F135C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FCAD-1AD1-496F-9363-4BA820139BD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492F-FF0F-429D-9BC4-8DF8180F81A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D949-FD22-4CD9-AE8E-6CFD2F0EEDF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99F0-7FB1-4081-9663-C626B0528CF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1D38-7110-4BBB-999D-7D917C8063A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F92D-2C30-4211-9918-DE59C294591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C995-C5B4-4979-A3F4-9C67612A516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826D-EE11-4068-85DA-0284AF67CB3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1032-43F8-4404-824B-DBAA1D0C8CB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32B4-2249-4A40-8D02-95CACECF47C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B829-E6E8-4003-B36B-F2991222447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A8C4-DA1C-4600-9B62-2A5143E04BE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3290-3726-4D74-AE1F-CDAF7A069FF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B431-B01B-4752-9BE2-8C927EE9585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E680-475D-4FF0-901A-C090448DD03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D7FE-38F5-481A-9199-FDCF72B2F4F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0474-A366-4657-99C5-9C8F0348C83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2133-DC9B-4DE7-BA5B-1135F6E488A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E108-5D03-41E0-820D-9B5A7FB89C4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BB11-4D3B-4AD6-B4DE-4E1D2FB3248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E65E-2F70-41F2-9189-6DADCC77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CF97-C59B-4596-BF2D-4307312D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8BF-5317-44BB-B723-077CAA61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962-3EF7-43E5-98AC-46555909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0BF8-A61A-45DD-A878-B45964DB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B1B1-D70C-4E10-B193-078CE576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507B-C1D2-4D4C-BE2D-FE1DF2C0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36F2-A1EF-427F-B844-BDB3EABC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9582-2346-4A70-B361-53CCC2EE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E6F7-63DF-4973-822A-8A2D2DD8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3BB4-5E68-45AE-A591-8CA238C4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FB71-B609-4718-A7BC-874B5C22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C0F3-F185-4DC9-95C7-CEEBC2FB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2150-DB71-495D-B8ED-71B8B13D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4782-9179-4AA3-9161-E7643B1E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8E40-AE1D-411F-B732-FA4B2189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2BB5-53A6-4C08-B55F-DF180B83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8B84-508A-463D-BABE-0C919CAE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DACF-BF78-4F27-917E-0954BAB5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7E43-44EF-488B-9581-11AA6393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945-B0E4-4C5F-AF64-8CC6096C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5C9-D8F5-4497-9E96-7EE9B1B0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9D32-3BFA-4349-BC2C-4D608024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37B7-41A8-4B0B-A049-770B928E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60280" y="304920"/>
            <a:ext cx="8250120" cy="1106280"/>
            <a:chOff x="1160280" y="304920"/>
            <a:chExt cx="8250120" cy="1106280"/>
          </a:xfrm>
        </p:grpSpPr>
        <p:sp>
          <p:nvSpPr>
            <p:cNvPr id="1" name=""/>
            <p:cNvSpPr/>
            <p:nvPr/>
          </p:nvSpPr>
          <p:spPr>
            <a:xfrm flipH="1">
              <a:off x="5274360" y="304920"/>
              <a:ext cx="11966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215200" y="304920"/>
              <a:ext cx="11952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159920" y="306360"/>
              <a:ext cx="119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85116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55528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90B6-378C-460A-B914-86D0C62E34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6760" y="1600200"/>
            <a:ext cx="7407000" cy="3200400"/>
            <a:chOff x="1796760" y="1600200"/>
            <a:chExt cx="7407000" cy="3200400"/>
          </a:xfrm>
        </p:grpSpPr>
        <p:sp>
          <p:nvSpPr>
            <p:cNvPr id="48" name=""/>
            <p:cNvSpPr/>
            <p:nvPr/>
          </p:nvSpPr>
          <p:spPr>
            <a:xfrm flipH="1">
              <a:off x="7552800" y="160020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613120" y="160020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673080" y="1600200"/>
              <a:ext cx="165096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673080" y="327672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796400" y="327672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552800" y="3276720"/>
              <a:ext cx="16506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48CC-5F35-44EF-BE3E-B99A7D05F9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85560" y="3933720"/>
            <a:ext cx="7878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ule Nr. 4 Business plan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inko Zupanči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ctober 24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73360"/>
            <a:ext cx="103356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52640" y="260280"/>
            <a:ext cx="7723080" cy="5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60640" y="1897200"/>
            <a:ext cx="1249560" cy="85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35720" y="83592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225360"/>
            <a:ext cx="9906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26800" y="1142640"/>
            <a:ext cx="74977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A. PROIZVODI / STORIT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s proizvoda / storit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rebe, ki jih zadovolju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ebnost / edinstve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atne storit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to v pano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zvojna faza proizvoda / storit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rjava s konkurenčnimi izdel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osti pravne zaščit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1000" y="225360"/>
            <a:ext cx="9555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4991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B. PODJET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um ustanovitve, pravnoorganizacijski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anovitelji / lastniki, lastniški dele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javnost podjetja (glavna, dopolnil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ni cilji za 3-5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3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4995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C. PANOGA / DEJAV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anji obseg pan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vni subjekti v pano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jučni dejavniki za poslovni usp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ovedi o rasti, tržnem potencialu in tržni strukturi pan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videni trendi v tehnologiji, modi, zakonodaji, zaščiti oko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33280" y="297000"/>
            <a:ext cx="845352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7320" y="1142640"/>
            <a:ext cx="957564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OPIS / ANALIZA CILJNIH KUPC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do so kupci in kdo uporabniki izdelkov/stori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fska lokacija kupc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tvene lastnosti izdelka z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ločitev o nakupu - dejavn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 je kdo že naročil izde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1080" y="297000"/>
            <a:ext cx="865980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6680" y="990720"/>
            <a:ext cx="973944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CILJNI TRG / SEGMENT / VRZ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g trga (Slovenija, drug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našanje trga v pretek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videna prihodnja rast t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ebne značilnosti trga, ovire za v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ovedi sprememb v prih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žni delež podjetja (napo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ni tržni seg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črti o izvoznih trg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IRANJE  TRG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26800" y="1066320"/>
            <a:ext cx="749916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ve mož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 značilnostih kupc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 lastnostih proizvodo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grafske značilnosti kupcev (potrošnikov ali organizaci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fske značilnosti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Življenjski ali poslovni stil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ihografske značilnosti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4160" y="380880"/>
            <a:ext cx="92455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AZISKAVA TRGA: Primer: strehe iz alumin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1676520"/>
            <a:ext cx="586116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tencialni uporabn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0240" y="2514600"/>
            <a:ext cx="4210200" cy="19810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Vrsta uporabnik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stanovanjske hi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poslovne zgra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druge zgra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35680" y="2514600"/>
            <a:ext cx="4375080" cy="19810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Vrsta grad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- novograd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- prenova obstoječ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63880" y="4648320"/>
            <a:ext cx="5860800" cy="15238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Analiza kupcev: kdo se odloč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do svetuje, kdo vgrajuj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ako se jim predstav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990432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8760" y="990720"/>
            <a:ext cx="96570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KONKUR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5 najpomembnejših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nosti in slabosti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obnosti in razlike s konkur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vne tržne strategije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jetnost / možnost vstopa novih podjet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č tuje konku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0640" y="225360"/>
            <a:ext cx="8034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ONKURENCA:  PORTERJEV  MOD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08120" y="1295280"/>
            <a:ext cx="83376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kmovanje med podjetji v pano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žnost vstopa novih konkuren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žnost razvoja alternativnih proizvodov (substituti) ali tehnolog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gajalska moč dobavitelj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gajalska moč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5520" y="333000"/>
            <a:ext cx="951696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KTIVNOSTI  KONKURENT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4160" y="1066320"/>
            <a:ext cx="924552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ikost, rast in donosnost poslovanja (ekonomska moč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i in predpostavke ravnanja (poslovna naravna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kle / sedanje tržne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ven organiziranosti in kultura podjet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 stroškov in ovire za iz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nosti in slab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426672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Vsebina:</a:t>
            </a: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slovno načrtovanje (izdelava poslovnega načrta)</a:t>
            </a: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avne oblike nepridobitnih podjemov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96640"/>
            <a:ext cx="9739440" cy="4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32040" y="2819520"/>
          <a:ext cx="7887960" cy="294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2819520"/>
                    <a:ext cx="7887960" cy="294624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891000" y="1063800"/>
            <a:ext cx="38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E. NAPOVED PRO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29840" y="1905120"/>
            <a:ext cx="49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Napoved prodaje za 3 – 5 l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80" y="367920"/>
            <a:ext cx="982188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II. RAZVOJ PROIZVODA IN TEHNOLOGI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99316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na stopnja proizvo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osti nove generacije, dodatne oblike upora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 kupci z izboljšavo / diferenciacijo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 vezanih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e izboljšave tehnologije in postopk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ščita posebnosti pri proizvodu /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990612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-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941076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. POSLOVNA LOK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bira makrolokacije (regija, kra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bira mikrolokacije (prostor, prednosti / slab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stništvo ali najem zemljiš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. PROIZVODNE OPER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ločitev o nakupu / kooperaciji ali proizvodn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oteka proizvodnega proc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90432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–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5480" y="914400"/>
            <a:ext cx="908064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NAČRT NABAVE SUROVIN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ljučne sestavine nab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zbor dobaviteljev - alternativni dobavitel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zacija nabave ter ravnanje z zaloga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hodna kontrola kvalitete surovin in delo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POSLOVNI PROST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rebe po prostorih (sedaj, v 3-5 leti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čin pridobitve, potrebne naložbe v preno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čni vidik gospodarjenja s prost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96640"/>
            <a:ext cx="965844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-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5240" y="914400"/>
            <a:ext cx="9740880" cy="578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NAČRT STROJEV IN OPREM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isek potrebnih strojev in opre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rt nabave strojev in opreme (nači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ančni vidiki gospodarjenja s stroji in oprem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. NAČRT ZAPOSLOVANJA OSEBJ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rt zaposlovanja za 3-5 l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in zaposlitve: redno / pogodbeno, polno / krajš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grajevanje osebja, napredovanje, usposablja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KONTROLA KVALITETE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.   UPOŠTEVANJE PREDPI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152280"/>
            <a:ext cx="9163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. STRATEGIJA TRŽE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118120" cy="556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A. OBLIKOVANJE CEN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oblikovanje cen, pribite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olitika popusto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reakcije konkurento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B. PRODAJNE PO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distribucijski kanal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rodajno oseb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00200" y="1295280"/>
            <a:ext cx="4622760" cy="556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C. OGLAŠEVANJE IN PROMOCI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načrt izvajanja promoc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roračun za oglaševan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D. POPRODAJNE STORIT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garanc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servisno omrež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druge storitve za kup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6680" y="0"/>
            <a:ext cx="9739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. UPRAVLJANJE, ORGANIZACIJA, LASTNIŠT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0760" y="990360"/>
            <a:ext cx="91123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stavitev podjetnika (skupine) in razporeditev vlog (funkcij): odgovornosti in pristoj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danji dosežki (reference) podjet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grajevanje managem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kro) organizacija podjetja (in razvo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zorni s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nanji strokovnja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ka zaposlovanja in razvoja oseb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niška struktura 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80" y="404640"/>
            <a:ext cx="990468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I. FINANČNE PROJEKCIJE -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0120" y="1523880"/>
            <a:ext cx="932832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OVZETEK FINANČNIH REZULTATOV  ZA ZADNJA 3 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zetek finančnih rezulta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in ocena poslovanja in s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OTVORITVENA BILANCA PODJET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na začetna sred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čin financiranja začetnih sreds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0" y="333360"/>
            <a:ext cx="99046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I. FINANČNE PROJEKCIJE -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47680" y="1294920"/>
            <a:ext cx="94932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ČNE PROJEKCIJE ZA 3-5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ji poslovanja (predpostav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izkaza uspe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denar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bilance st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in kontrola stroš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na točke prel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temeljnih finančnih količni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občutljivosti finančnih projekc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56760"/>
            <a:ext cx="89154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IZA  KAZALNIKO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7680" y="1143000"/>
            <a:ext cx="3219480" cy="99072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LIKVI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49600" y="1143000"/>
            <a:ext cx="6108840" cy="99072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Obseg razpoložljivih gibljivih 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ratkoročnih sredst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7680" y="2209680"/>
            <a:ext cx="3219480" cy="99072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DONOS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49600" y="2209680"/>
            <a:ext cx="6108840" cy="99072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Različna merila dobička (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apital, na lastna sredst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680" y="3276720"/>
            <a:ext cx="3219480" cy="106668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ZADOLŽ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49600" y="3276720"/>
            <a:ext cx="6108840" cy="106668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Načini financiranja pos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7680" y="4419720"/>
            <a:ext cx="3219480" cy="106668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UČINKOV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49600" y="4419720"/>
            <a:ext cx="6108840" cy="106668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Merila proizvodne učinkov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ebina  poslovnega nač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51000" y="189000"/>
            <a:ext cx="84200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4680" y="1592280"/>
            <a:ext cx="842004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tovimo, katera so mogoča tveganja in problemi pri p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nimo verjetnost njihovega uresnič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rednotimo verjetne finančne učinke oz. posle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imo načrt ravnanja v primeru nastalega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100" spc="-1" strike="noStrike">
                <a:solidFill>
                  <a:srgbClr val="000000"/>
                </a:solidFill>
                <a:latin typeface="Arial"/>
              </a:rPr>
              <a:t>VIII. ANALIZA IN VREDNOTENJE KRITIČNIH TVEGANJ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X. TERMINSKI NAČ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2004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SEBINA TERMINSKEGA NAČ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trebne ključne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alističen rok izve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osilec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trebna sred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lternativna mo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BLIKA TERMINSKEGA NAČ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bela ali Ganttov grafi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4880" y="228600"/>
            <a:ext cx="95756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ILOGE K POSLOVNEMU NAČRT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5160" y="1197000"/>
            <a:ext cx="4705560" cy="529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rosto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fotografije poslovnih prosto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etalji tržnih anal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oteka proiz-v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iljna prodaja/dobi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hnični opis proizvo-da/storitve/tehnolo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eniki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like / skic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30280" y="1305000"/>
            <a:ext cx="4705560" cy="53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orčne rekl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orci ogla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ma organiz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življenjepis/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sma potencialnih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ije pogo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čna poročila za prejšnja 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ski opreme ali dobavitelje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vni okviri za nepridobitne podj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profitna družba z omejeno odgovornostj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dobiček se reinvestira v razvo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Ostala določila enaka kot v primeru izvajanja profitno naravnane dejav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adrug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spešuje gospodarsko korist član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Najmanj trije ustanovitelj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Vsak član ima en glas pri upravljanj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31560" y="1181160"/>
            <a:ext cx="9240840" cy="53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vo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ravljanje družbenih dejavnosti, če cilj ni pridobivanje dobi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opravljanje javnih služb se ustanovijo javni zavodi; pridobitev konces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tanova ali fundacij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gotavlja splošno koristne cil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ošno poslanstvo: dobrodelnost, lahko pa opravlja tudi gospodarske deja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glasje  k ustanovitvi daje ministrstvo  v katerega pristojnost spada urejanje področja, ki ga opravl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no podjet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tanovljena zaradi integracije ranljivih skupin prebivalstva ali za zagotavljanje storitev za ranljive skup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bližek le invalidska podjetja z drugačno obravnavo pri davkih, delovnih razmerjih in socialni zakonodaj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štv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stovoljno, samostojno in nepridobitno združenje fizičnih oseb zaradi skupnih interesov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žnost posebnega statusa društva, ki deluje v javnem interesu (npr. Planinska zveza Slovenij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ebno de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sebno dopolnilno delo uporabno za zagon neke dejavnosti ali dodatnega zaslužk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meri: pomoč v gospodinjstvu, izdelki domače in umetnostne obrti, socialne storit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mejen je obseg letnih prihodkov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76680" y="1218960"/>
            <a:ext cx="9906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SEBINA POSLOVNEGA NAČRTA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38080" y="1260360"/>
            <a:ext cx="8420040" cy="4335480"/>
            <a:chOff x="838080" y="1260360"/>
            <a:chExt cx="8420040" cy="4335480"/>
          </a:xfrm>
        </p:grpSpPr>
        <p:sp>
          <p:nvSpPr>
            <p:cNvPr id="112" name=""/>
            <p:cNvSpPr/>
            <p:nvPr/>
          </p:nvSpPr>
          <p:spPr>
            <a:xfrm>
              <a:off x="838080" y="1387440"/>
              <a:ext cx="2460960" cy="40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.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NALIZA POS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 – Opis proizvoda a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orit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 – Trg in ciljni kup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 – Konkuren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 – Strategija in nač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ržen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 – Lokacija, prostor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prema, logisti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 – Menedžment 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rganizaci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G – Zaposleno oseb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 – Terminski nač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76640" y="2281320"/>
              <a:ext cx="2202480" cy="2039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13440" y="2281320"/>
              <a:ext cx="0" cy="1019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24640" y="1898640"/>
              <a:ext cx="25776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05160" y="2281320"/>
              <a:ext cx="38880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170160" y="1898640"/>
              <a:ext cx="155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169800" y="2281320"/>
              <a:ext cx="10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371560" y="1898640"/>
              <a:ext cx="13032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1880" y="1898640"/>
              <a:ext cx="18126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85600" y="1387440"/>
              <a:ext cx="2072520" cy="42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II.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FINANČ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ROJEKCI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 – Predračun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a uspeh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 – Predračun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a stan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 – Projekci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e denarni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ko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 – Prag renta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nosti, finanč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olični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1260360"/>
              <a:ext cx="8420040" cy="433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13440" y="3300480"/>
              <a:ext cx="905760" cy="63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113440" y="2407680"/>
              <a:ext cx="5173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113440" y="2663280"/>
              <a:ext cx="90576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113440" y="3046320"/>
              <a:ext cx="116568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4724640" y="2407680"/>
              <a:ext cx="38880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335840" y="2663280"/>
              <a:ext cx="77760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4076640" y="3046320"/>
              <a:ext cx="103680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204800" y="3300480"/>
              <a:ext cx="90828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593600" y="3300480"/>
              <a:ext cx="51948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13440" y="3300480"/>
              <a:ext cx="0" cy="10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13440" y="3300480"/>
              <a:ext cx="51732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7400" y="2790720"/>
              <a:ext cx="38844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99040" y="3429000"/>
              <a:ext cx="10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816720" y="3809880"/>
              <a:ext cx="77724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853880" y="3938040"/>
              <a:ext cx="12852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5371200" y="4065480"/>
              <a:ext cx="25956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5630760" y="3938400"/>
              <a:ext cx="777240" cy="14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38760" y="2790720"/>
              <a:ext cx="9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299040" y="406548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70160" y="4575240"/>
              <a:ext cx="16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299040" y="4957560"/>
              <a:ext cx="233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99040" y="5340240"/>
              <a:ext cx="31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760360" y="2408040"/>
              <a:ext cx="64800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90680" y="2917800"/>
              <a:ext cx="51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019560" y="355608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37600" y="3556080"/>
              <a:ext cx="906120" cy="17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08360" y="2917800"/>
              <a:ext cx="1035360" cy="11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08360" y="2408040"/>
              <a:ext cx="90612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225360"/>
            <a:ext cx="97538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LIKOVNA PRAVILA ZA POSLOVNI NAČ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26800" y="914040"/>
            <a:ext cx="749772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čna, kakovostna in trpežna izde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prava s PC-jem zaradi dopolnje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zikovna in slovnična neoporečnost - odnos do posla in partnerje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p slovenski jezi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pravek tipkarskih napa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imerna velikost in oblika č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rez pretiranega žargon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umen obseg številk (tab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Vsebina poslovnega načrta 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8120" y="990720"/>
            <a:ext cx="409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LOVNA S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eb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Povzetek poslovnega nač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I. Panoga, podjetje in njegovi proizvodi/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Panoga/ dejav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odjet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Proizvodi/ 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II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Raziskava in analiza t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Tržno področ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naliza ciljnih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Opis t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Konkur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Napoved pro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9200" y="1371600"/>
            <a:ext cx="4092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IV.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Razvoj in proizvod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azvoj proizvoda/storitve in tehnolo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Poslovna lok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Proizvodne oper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Načrt nabave surovin, delov in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Potrebni poslovni pros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Načrtovanje strojev in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Načrtovanje zaposlo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975200">
            <a:off x="4800240" y="502920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Lucida Console"/>
              </a:rPr>
              <a:t>Pogoj: preverljiva poslov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Vsebina poslovnega načrta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08120" y="1143000"/>
            <a:ext cx="409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Načrt prodaje /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trž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Opredelitev poslanstva podjetja z vidika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blikovanje c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Prodajna strateg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Reklama, propaganda in drugi elementi promo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Podpora prodaji in drugi elementi promo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.Management, organizacija in lastniš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05520" y="1143000"/>
            <a:ext cx="4092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I.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Finančne projek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Ekonomika po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tvoritvena bilanca s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Finančne projekcije za razdobje naslednjih 3-5 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Načrt ukrepanja v izrednih okoliščin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I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.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Ocena tveganj in proble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IX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.Terminski nač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tki k poslovnemu načr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75200">
            <a:off x="4038120" y="4572000"/>
            <a:ext cx="28749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Lucida Console"/>
              </a:rPr>
              <a:t>Pogoj: preverljiva poslov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3680" y="368280"/>
            <a:ext cx="94932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ASLOVNA STRAN: informacij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7680" y="1447920"/>
            <a:ext cx="941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1240" y="1052640"/>
            <a:ext cx="8089920" cy="543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Grafično znak (logo) 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66"/>
                </a:solidFill>
                <a:latin typeface="Arial"/>
              </a:rPr>
              <a:t>POSLOVNI NAČ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66"/>
                </a:solidFill>
                <a:latin typeface="Arial"/>
              </a:rPr>
              <a:t>ZA (podjetje / proizvod / storit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Naslov podjetja (telefon, faks, e-m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Odgovorna (kontaktna) os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(klavzula o poslovni skriv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Kraj in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9448920" cy="5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vzetek  poslovnega  načrta  -  sploš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8120" y="990360"/>
            <a:ext cx="8337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g 1-2 str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lačen opis posla (poseb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lačnost izdelka za kup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rnat opis zmožnosti podjet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meljitev prodajne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zetek finančnih projekc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udba za sovlagate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Vinko Zupancic</cp:lastModifiedBy>
  <dcterms:modified xsi:type="dcterms:W3CDTF">2007-10-22T20:35:18Z</dcterms:modified>
  <cp:revision>7</cp:revision>
  <dc:subject/>
  <dc:title>Diapozitiv 1</dc:title>
</cp:coreProperties>
</file>