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735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669960" y="738000"/>
            <a:ext cx="5310000" cy="36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704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3774960" y="-360"/>
            <a:ext cx="28735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9340920"/>
            <a:ext cx="2873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3774960" y="9340920"/>
            <a:ext cx="2873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3771C-FEC5-46CE-9E04-2D67A2B559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48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270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26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48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270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056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848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270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426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848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270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056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5240" y="1752480"/>
            <a:ext cx="511812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25480" y="762120"/>
            <a:ext cx="90788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43040" y="6172200"/>
            <a:ext cx="2063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384720" y="6172200"/>
            <a:ext cx="3136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99200" y="6172200"/>
            <a:ext cx="2063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131320" y="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PRJ POMELA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3040" y="1981080"/>
            <a:ext cx="9161280" cy="14479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2133360"/>
            <a:ext cx="840564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3040" y="6172200"/>
            <a:ext cx="2063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84720" y="6172200"/>
            <a:ext cx="3136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99200" y="6172200"/>
            <a:ext cx="2063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511812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02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43040" y="1197360"/>
            <a:ext cx="89629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5ebf7"/>
                </a:solidFill>
                <a:latin typeface="Times New Roman"/>
              </a:rPr>
              <a:t>POMELAJ – ZADRUGA ZA RAZVOJ PODEŽEL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5ebf7"/>
                </a:solidFill>
                <a:latin typeface="Times New Roman"/>
              </a:rPr>
              <a:t>PRIMER OBLIKOVANJA NOVEGA POKLICNEGA PROFI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48520" y="6237360"/>
            <a:ext cx="172728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Alenka STUPAR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DART, Lendava, d.o.o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40520" y="0"/>
            <a:ext cx="2865600" cy="19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ATALOG - PLETAR/PLETARK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0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ločitev področij del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delovanje koru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surovine za plet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onstruiranje/oblikovanje izdel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et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ž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LJUČNA DELA IN NALO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465120"/>
            <a:ext cx="842004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hodišča za oblikovanje novega poklicneg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30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ganiziran projekt za realizacijo že zastavljene iniciative lokalne skupnosti za razvoj perspektivne dejavnosti na osnovi lokalnih razvojnih potencialov – tradicije domače obrti (lončarstvo, pletarstv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gotovljene potrebe po novih znanjih in spretnostih za opravljanje dejav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hodišča za oblikovanje novega poklicneg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zdelani programi usposabljan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zpostavljena in delujoča učna delavnic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Zakon o Nacionalnih poklicnih kvalifikacija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RITERIJI ZA IZBOR NOVIH POKLICNIH PROFILOV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3040" y="1980720"/>
            <a:ext cx="8408880" cy="19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erspektivnost dejavnosti glede na nove potrebe trg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število potencialnih kandidatov za NP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adicija  na področju izdelovanja izdelkov domačih obr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BRANA NOVA POKLICN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3040" y="1980720"/>
            <a:ext cx="8408880" cy="19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ončar/lončar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etar/pletarka iz lič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OSTOPEK OBLIKOVANJA POKLICNEGA STANDAR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08880" cy="34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pobude (pobudo je pripravil nosilec projekt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enovanje delovne skupine za pripravo kataloga standardov strokovnih znanj in spretnosti ( številni partnerj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rokovna pomoč s strani C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Kataloga standardov strokovnih znanj in spretnosti za P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trditev na Strokovnem svetu RS za poklicno in strokovno izobraževa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iprava pobu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klopi tipičnih del v poklic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cena potreb na trgu dela glede na dolgoročni razvoj gospodarstva oz. dejavnos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avna podlaga oz. predpisi v SLO in državah 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narodna primerljivo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blikovalci pobu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Oblikovanje poklicnega standar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e in koda pokl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aven zahtev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klicne kompet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pis poklicnega standar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bcbcb"/>
                </a:solidFill>
                <a:latin typeface="Times New Roman"/>
              </a:rPr>
              <a:t>OPIS POKLICNEGA STANDARD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dročja de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ljučna de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znanja in spret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 naloge za dokazovanje usposobljenost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