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9AD-F022-430B-B28F-2A136945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019-2038-4699-B134-23885667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C04-476E-4493-A14A-48E60CD1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BD9-C647-4690-93A9-D7CE79AF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4825-0685-4B8B-9F14-465380CD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C21F-2C78-40BA-9F74-B75ADA6E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23FB-6D1E-4010-91E0-540962A0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3F82-5FB3-4E2B-B835-2B35E0AB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FBAE-AA25-496B-BBAF-8EEB27DD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E142-7D42-40DD-B17C-0ED448FE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5A52-345F-487C-A615-965CC1AF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DBF-2584-41BC-8B15-3D636CD5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7FFD-B04C-45D9-A6B4-BCA57B3E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9303-7481-440A-85B8-1A5690BB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3278-C5C0-4EE5-95AC-E5BB960A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5A7E-FC97-40E1-BE50-5A3B6080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80C9-48BB-4DB0-82EE-943167A3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2C5-A910-4633-8399-E5B6A387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339-EBAF-48E8-B150-9A68F570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68F-D69C-4F94-A70B-32B0594D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C3D-6B6A-4DC9-BA7C-4AD80FD4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74C-DFB7-4871-9BD7-96519D69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4AC-EB72-4807-B697-BF849F69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5B3-1ECE-449F-9517-2DB08782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0719-14DA-4CC8-AEB3-C20600C9E7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B2FF-CAFC-4718-BAB1-F276B4F29B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modul Projektno vod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ja Haz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 in 26.10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za problema/prilož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ključuje socialne, gospodarske, politične pogoje v določenem območ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aliza obstoječega stanja (študije, podatki, zakonodaja, rezultati prejšnjih projektov, statistični podatk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OT analiz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4653000"/>
            <a:ext cx="2927160" cy="19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30600" y="260280"/>
            <a:ext cx="5786280" cy="6351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000" y="2421000"/>
            <a:ext cx="431928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2664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 problemskega drev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-1103" b="60187"/>
          <a:stretch/>
        </p:blipFill>
        <p:spPr>
          <a:xfrm>
            <a:off x="2195640" y="189000"/>
            <a:ext cx="6948360" cy="66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ačrtovanj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48520" cy="418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2205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prav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problemsko dre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4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gični okvir projekta – pro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4222800"/>
            <a:ext cx="78487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daj uporabiti logični okv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a identificiranje, pripravo, ocenjevanje, izvajanje, spremljanje in vrednotenje projek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916280"/>
            <a:ext cx="6337440" cy="1942920"/>
          </a:xfrm>
          <a:prstGeom prst="flowChartDocument">
            <a:avLst/>
          </a:prstGeom>
          <a:solidFill>
            <a:srgbClr val="808080"/>
          </a:solidFill>
          <a:ln cap="rnd" w="381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Izpolnjevanje matrike logičnega okvi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je prvi korak pri pripr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rojektne prij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20000" y="2852640"/>
            <a:ext cx="2124000" cy="16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Logični okvir projekta – matri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128680"/>
                <a:gridCol w="2097360"/>
                <a:gridCol w="2097000"/>
                <a:gridCol w="190656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IKA INTERVEN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KTIVNO PREVERLJIVI INDIKATOR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EDSTVA ZA PREVERJ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POSTAVKE/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EG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NI CIL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EBNI CILJ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OŽENA        SRED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0" r="-787" b="64007"/>
          <a:stretch/>
        </p:blipFill>
        <p:spPr>
          <a:xfrm>
            <a:off x="3008160" y="333360"/>
            <a:ext cx="5818320" cy="6243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4360" y="206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čni okvir – log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Namen projekta/ specifični cilj – čemu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34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idro oblikovanja projekta – začetna točka priprave logičnega okvi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mu je namenjen vaš proje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kšne spremembe želite doseči s projek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bi dosegli, če bi bili 100% uspeš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želimo na dolgi r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43640" y="4221000"/>
            <a:ext cx="150840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Že opravljeno del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Pripravljeni anali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potreb na lokalnih trg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usposobljenosti institu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Identificirana projekt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/potenciali/prilož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trebe ciljne skup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59640" y="2565360"/>
            <a:ext cx="230184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tvariti spodbudno podporno okolj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i bo s krepitvijo podjetnosti in podjetni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ulture pri mladih v Gorenjski regi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plivalo na povečanje deleža mladih inovativnih podjetih v reg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.M.A.R.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ilj mora 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cific (specifič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surable (merljiv v smislu, časa, kakovosti in denar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tinable (doseglj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listic (rea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bound (časovno opredelj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580000" y="3749760"/>
            <a:ext cx="3168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22050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redel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namen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in cilj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Načrtovanje akti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in za doseganje rezultatov in ciljev projek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j, kdaj, kje ka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rt aktivnosti najbolj viden del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 prepodrobno, le sklopi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inančni, človeški in materialni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lična orod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WBS: strukturna členitev projek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Gant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režni dia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573280" cy="30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erminski nač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2455920"/>
            <a:ext cx="8785440" cy="301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črtovanje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568720" cy="4588920"/>
        </p:xfrm>
        <a:graphic>
          <a:graphicData uri="http://schemas.openxmlformats.org/drawingml/2006/table">
            <a:tbl>
              <a:tblPr/>
              <a:tblGrid>
                <a:gridCol w="3097800"/>
                <a:gridCol w="960840"/>
                <a:gridCol w="808200"/>
                <a:gridCol w="1213920"/>
                <a:gridCol w="1434600"/>
                <a:gridCol w="105336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črt aktiv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. d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š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l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denje in koordin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is kulturne dedišč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zbor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cija in razši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4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Rezulta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zultat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do, na kakšen način bomo dosegali cilje (dolgoročni in takojšn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i ali storitve, kompetence in zmogljivosti, ki so direktni rezultat projektnih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940360" y="4017960"/>
            <a:ext cx="2670120" cy="262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Kazalniki / indikatorji</a:t>
            </a:r>
            <a:r>
              <a:rPr b="0" lang="sl-SI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Z njimi opisujemo, merimo količinske in kakovostne spremem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i definiranju indikatorjev upoštevajmo: QQTL (Quality, Quantity, Timing, 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lity (pričakovana kakovost, način sprememb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ntity (pričakovan obseg sprememb, npr.: kolik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Timing (do kdaj se naj zgodi sprememb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Location (področje doseganja rezultatov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20000" y="1700280"/>
            <a:ext cx="181296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dvidevanja/pogoji, tveganj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goji, okoliščine, zunanji dejavniki, ki lahko ogrozijo izvedbo projekta, vendar nanje nimamo neposrednega vpliva - zato jih je treba skrbno preuči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259236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Sredstva za verifikacijo/ preverjanj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vejo kje in v kakšni obliki lahko najdemo informacije o doseganju ciljev in rezultat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istične informacije, vprašalniki, analize, projektna dokumentacija, liste prisotnosti, zapisniki srečan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435640" y="4205160"/>
            <a:ext cx="3187800" cy="235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Še potreb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109600" cy="2376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0360" y="2203560"/>
            <a:ext cx="623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Priprava projektnega predl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bor 12 projektnih predlo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220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kuj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klope aktivnosti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iši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ičakovane rezul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roizvodi, storitve, kompetence) projekta, ki bodo prispevali k ciljem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076720" y="1628640"/>
            <a:ext cx="3672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ala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prašanj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259520" cy="45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12 projektov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3 članska interna strokovna komisija bo ocenjevala sklope in podsk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ene od 1-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1 = zelo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2 =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3 = sprejemljiv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4 = dobro 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5 = zelo dob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inimalno število točk je 335 točk oziroma 67% vseh možnih toč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projektov 12 projekt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otencialnega nosilca in partnerj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60 toč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Ustreznost projek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7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rojektnih aktivnosti in  pričakovani rezulta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100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Trajnost in potencialni učin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Finančni načrt in stroškovna učinkovit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ki – do kd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dokončne anal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vi osnutek projektnega predlo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no svetov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0.11 2007 do 14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ončno oblikovani in posredovani projektni predlo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1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jevanje projektnih predlo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03.01.2007 do 10.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33ff"/>
                </a:solidFill>
                <a:latin typeface="Arial"/>
              </a:rPr>
              <a:t>Matjaž Gol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im, Center razvoja človeških virov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breška cesta 20, 2000 Marib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lektronski naslov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m.golob@center-rcv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az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ijska f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načrtovanj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izva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zaklju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250520" y="1812960"/>
            <a:ext cx="4062240" cy="3836520"/>
            <a:chOff x="4250520" y="1812960"/>
            <a:chExt cx="4062240" cy="3836520"/>
          </a:xfrm>
        </p:grpSpPr>
        <p:grpSp>
          <p:nvGrpSpPr>
            <p:cNvPr id="118" name=""/>
            <p:cNvGrpSpPr/>
            <p:nvPr/>
          </p:nvGrpSpPr>
          <p:grpSpPr>
            <a:xfrm>
              <a:off x="4250520" y="1812960"/>
              <a:ext cx="4062240" cy="3836520"/>
              <a:chOff x="4250520" y="1812960"/>
              <a:chExt cx="4062240" cy="3836520"/>
            </a:xfrm>
          </p:grpSpPr>
          <p:sp>
            <p:nvSpPr>
              <p:cNvPr id="119" name=""/>
              <p:cNvSpPr/>
              <p:nvPr/>
            </p:nvSpPr>
            <p:spPr>
              <a:xfrm>
                <a:off x="5604480" y="18129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071480" y="282852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71480" y="406980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04480" y="50853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0520" y="406980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50520" y="282852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016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400000">
                <a:off x="72972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0800000">
                <a:off x="729720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458892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88920" y="350568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0800000">
                <a:off x="7635600" y="350532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6139800" y="2517840"/>
                <a:ext cx="338400" cy="1184760"/>
              </a:xfrm>
              <a:prstGeom prst="upArrow">
                <a:avLst>
                  <a:gd name="adj1" fmla="val 33333"/>
                  <a:gd name="adj2" fmla="val 82875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04480" y="19256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Program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71480" y="294120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200" spc="-1" strike="noStrike">
                    <a:solidFill>
                      <a:srgbClr val="000000"/>
                    </a:solidFill>
                    <a:latin typeface="Trebuchet MS"/>
                  </a:rPr>
                  <a:t>Indentifik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71480" y="418248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Oblikov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04480" y="51980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Financ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50520" y="418248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Izvaj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50520" y="294120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Evalv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d projektne ideje do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71640" y="3166920"/>
            <a:ext cx="7272360" cy="20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10-22T10:25:12Z</dcterms:modified>
  <cp:revision>19</cp:revision>
  <dc:subject/>
  <dc:title>Diapozitiv 1</dc:title>
</cp:coreProperties>
</file>