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907588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664320" cy="983124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831240"/>
              <a:gd name="textAreaBottom" fmla="*/ 9830880 h 9831240"/>
            </a:gdLst>
            <a:ahLst/>
            <a:rect l="textAreaLeft" t="textAreaTop" r="textAreaRight" b="textAreaBottom"/>
            <a:pathLst>
              <a:path w="21600" h="31864">
                <a:moveTo>
                  <a:pt x="5" y="0"/>
                </a:moveTo>
                <a:arcTo wR="5" hR="5" stAng="16200000" swAng="-5400000"/>
                <a:lnTo>
                  <a:pt x="0" y="31859"/>
                </a:lnTo>
                <a:arcTo wR="5" hR="5" stAng="10800000" swAng="-5400000"/>
                <a:lnTo>
                  <a:pt x="21595" y="3186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664320" cy="983124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831240"/>
              <a:gd name="textAreaBottom" fmla="*/ 9830880 h 9831240"/>
            </a:gdLst>
            <a:ahLst/>
            <a:rect l="textAreaLeft" t="textAreaTop" r="textAreaRight" b="textAreaBottom"/>
            <a:pathLst>
              <a:path w="21600" h="31864">
                <a:moveTo>
                  <a:pt x="5" y="0"/>
                </a:moveTo>
                <a:arcTo wR="5" hR="5" stAng="16200000" swAng="-5400000"/>
                <a:lnTo>
                  <a:pt x="0" y="31859"/>
                </a:lnTo>
                <a:arcTo wR="5" hR="5" stAng="10800000" swAng="-5400000"/>
                <a:lnTo>
                  <a:pt x="21595" y="3186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664320" cy="983124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831240"/>
              <a:gd name="textAreaBottom" fmla="*/ 9830880 h 9831240"/>
            </a:gdLst>
            <a:ahLst/>
            <a:rect l="textAreaLeft" t="textAreaTop" r="textAreaRight" b="textAreaBottom"/>
            <a:pathLst>
              <a:path w="21600" h="31864">
                <a:moveTo>
                  <a:pt x="5" y="0"/>
                </a:moveTo>
                <a:arcTo wR="5" hR="5" stAng="16200000" swAng="-5400000"/>
                <a:lnTo>
                  <a:pt x="0" y="31859"/>
                </a:lnTo>
                <a:arcTo wR="5" hR="5" stAng="10800000" swAng="-5400000"/>
                <a:lnTo>
                  <a:pt x="21595" y="3186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6664320" cy="983124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831240"/>
              <a:gd name="textAreaBottom" fmla="*/ 9830880 h 9831240"/>
            </a:gdLst>
            <a:ahLst/>
            <a:rect l="textAreaLeft" t="textAreaTop" r="textAreaRight" b="textAreaBottom"/>
            <a:pathLst>
              <a:path w="21600" h="31864">
                <a:moveTo>
                  <a:pt x="5" y="0"/>
                </a:moveTo>
                <a:arcTo wR="5" hR="5" stAng="16200000" swAng="-5400000"/>
                <a:lnTo>
                  <a:pt x="0" y="31859"/>
                </a:lnTo>
                <a:arcTo wR="5" hR="5" stAng="10800000" swAng="-5400000"/>
                <a:lnTo>
                  <a:pt x="21595" y="3186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6664320" cy="983124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831240"/>
              <a:gd name="textAreaBottom" fmla="*/ 9830880 h 9831240"/>
            </a:gdLst>
            <a:ahLst/>
            <a:rect l="textAreaLeft" t="textAreaTop" r="textAreaRight" b="textAreaBottom"/>
            <a:pathLst>
              <a:path w="21600" h="31864">
                <a:moveTo>
                  <a:pt x="5" y="0"/>
                </a:moveTo>
                <a:arcTo wR="5" hR="5" stAng="16200000" swAng="-5400000"/>
                <a:lnTo>
                  <a:pt x="0" y="31859"/>
                </a:lnTo>
                <a:arcTo wR="5" hR="5" stAng="10800000" swAng="-5400000"/>
                <a:lnTo>
                  <a:pt x="21595" y="3186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6664320" cy="983124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831240"/>
              <a:gd name="textAreaBottom" fmla="*/ 9830880 h 9831240"/>
            </a:gdLst>
            <a:ahLst/>
            <a:rect l="textAreaLeft" t="textAreaTop" r="textAreaRight" b="textAreaBottom"/>
            <a:pathLst>
              <a:path w="21600" h="31864">
                <a:moveTo>
                  <a:pt x="5" y="0"/>
                </a:moveTo>
                <a:arcTo wR="5" hR="5" stAng="16200000" swAng="-5400000"/>
                <a:lnTo>
                  <a:pt x="0" y="31859"/>
                </a:lnTo>
                <a:arcTo wR="5" hR="5" stAng="10800000" swAng="-5400000"/>
                <a:lnTo>
                  <a:pt x="21595" y="3186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6664320" cy="983124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831240"/>
              <a:gd name="textAreaBottom" fmla="*/ 9830880 h 9831240"/>
            </a:gdLst>
            <a:ahLst/>
            <a:rect l="textAreaLeft" t="textAreaTop" r="textAreaRight" b="textAreaBottom"/>
            <a:pathLst>
              <a:path w="21600" h="31864">
                <a:moveTo>
                  <a:pt x="5" y="0"/>
                </a:moveTo>
                <a:arcTo wR="5" hR="5" stAng="16200000" swAng="-5400000"/>
                <a:lnTo>
                  <a:pt x="0" y="31859"/>
                </a:lnTo>
                <a:arcTo wR="5" hR="5" stAng="10800000" swAng="-5400000"/>
                <a:lnTo>
                  <a:pt x="21595" y="3186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6664320" cy="983124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831240"/>
              <a:gd name="textAreaBottom" fmla="*/ 9830880 h 9831240"/>
            </a:gdLst>
            <a:ahLst/>
            <a:rect l="textAreaLeft" t="textAreaTop" r="textAreaRight" b="textAreaBottom"/>
            <a:pathLst>
              <a:path w="21600" h="31864">
                <a:moveTo>
                  <a:pt x="5" y="0"/>
                </a:moveTo>
                <a:arcTo wR="5" hR="5" stAng="16200000" swAng="-5400000"/>
                <a:lnTo>
                  <a:pt x="0" y="31859"/>
                </a:lnTo>
                <a:arcTo wR="5" hR="5" stAng="10800000" swAng="-5400000"/>
                <a:lnTo>
                  <a:pt x="21595" y="3186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6664320" cy="983124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831240"/>
              <a:gd name="textAreaBottom" fmla="*/ 9830880 h 9831240"/>
            </a:gdLst>
            <a:ahLst/>
            <a:rect l="textAreaLeft" t="textAreaTop" r="textAreaRight" b="textAreaBottom"/>
            <a:pathLst>
              <a:path w="21600" h="31864">
                <a:moveTo>
                  <a:pt x="5" y="0"/>
                </a:moveTo>
                <a:arcTo wR="5" hR="5" stAng="16200000" swAng="-5400000"/>
                <a:lnTo>
                  <a:pt x="0" y="31859"/>
                </a:lnTo>
                <a:arcTo wR="5" hR="5" stAng="10800000" swAng="-5400000"/>
                <a:lnTo>
                  <a:pt x="21595" y="3186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735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ldImg"/>
          </p:nvPr>
        </p:nvSpPr>
        <p:spPr>
          <a:xfrm>
            <a:off x="669960" y="738000"/>
            <a:ext cx="5310000" cy="36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7044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1"/>
          </p:nvPr>
        </p:nvSpPr>
        <p:spPr>
          <a:xfrm>
            <a:off x="3774960" y="-360"/>
            <a:ext cx="28735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2"/>
          </p:nvPr>
        </p:nvSpPr>
        <p:spPr>
          <a:xfrm>
            <a:off x="0" y="9340920"/>
            <a:ext cx="2873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3"/>
          </p:nvPr>
        </p:nvSpPr>
        <p:spPr>
          <a:xfrm>
            <a:off x="3774960" y="9340920"/>
            <a:ext cx="2873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A25986-DCC4-4CB6-9632-F3486B0544C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69960" y="738360"/>
            <a:ext cx="532440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888840" y="4670280"/>
            <a:ext cx="4872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69960" y="738360"/>
            <a:ext cx="5313240" cy="367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888840" y="4670280"/>
            <a:ext cx="4872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69960" y="738360"/>
            <a:ext cx="532440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888840" y="4670280"/>
            <a:ext cx="4872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69960" y="738360"/>
            <a:ext cx="532440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888840" y="4670280"/>
            <a:ext cx="4872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69960" y="738360"/>
            <a:ext cx="532440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888840" y="4670280"/>
            <a:ext cx="4872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69960" y="738360"/>
            <a:ext cx="5313240" cy="367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888840" y="4670280"/>
            <a:ext cx="4872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69960" y="738360"/>
            <a:ext cx="5313240" cy="367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888840" y="4670280"/>
            <a:ext cx="4872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69960" y="738360"/>
            <a:ext cx="5313240" cy="367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888840" y="4670280"/>
            <a:ext cx="4872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69960" y="738360"/>
            <a:ext cx="532440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888840" y="4670280"/>
            <a:ext cx="4872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69960" y="738360"/>
            <a:ext cx="532440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888840" y="4670280"/>
            <a:ext cx="4872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69960" y="738360"/>
            <a:ext cx="532440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888840" y="4670280"/>
            <a:ext cx="4872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056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42680" y="4129920"/>
            <a:ext cx="84056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50080" y="198108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42680" y="412992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50080" y="412992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064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84880" y="1981080"/>
            <a:ext cx="27064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27080" y="1981080"/>
            <a:ext cx="27064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42680" y="4129920"/>
            <a:ext cx="27064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84880" y="4129920"/>
            <a:ext cx="27064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27080" y="4129920"/>
            <a:ext cx="27064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0564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4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056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18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50080" y="1981080"/>
            <a:ext cx="41018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0564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4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50080" y="1981080"/>
            <a:ext cx="41018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42680" y="412992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0564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4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18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50080" y="198108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50080" y="412992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0080" y="198108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42680" y="4129920"/>
            <a:ext cx="84056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056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42680" y="4129920"/>
            <a:ext cx="84056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50080" y="198108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42680" y="412992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50080" y="412992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064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84880" y="1981080"/>
            <a:ext cx="27064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27080" y="1981080"/>
            <a:ext cx="27064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742680" y="4129920"/>
            <a:ext cx="27064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84880" y="4129920"/>
            <a:ext cx="27064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27080" y="4129920"/>
            <a:ext cx="27064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056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18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50080" y="1981080"/>
            <a:ext cx="41018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0564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4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0080" y="1981080"/>
            <a:ext cx="41018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2680" y="412992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18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0080" y="198108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50080" y="412992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50080" y="1981080"/>
            <a:ext cx="41018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2680" y="4129920"/>
            <a:ext cx="840564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5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2920" y="0"/>
            <a:ext cx="1568160" cy="6856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5240" y="1752480"/>
            <a:ext cx="511812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25480" y="762120"/>
            <a:ext cx="90788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056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0564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8680" indent="-328680">
              <a:lnSpc>
                <a:spcPct val="54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8640" indent="-271440">
              <a:lnSpc>
                <a:spcPct val="5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54000"/>
              </a:lnSpc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5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5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5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5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43040" y="6172200"/>
            <a:ext cx="20635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384720" y="6172200"/>
            <a:ext cx="31366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099200" y="6172200"/>
            <a:ext cx="20638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131320" y="0"/>
            <a:ext cx="163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PRJ POMELA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12920" y="0"/>
            <a:ext cx="156816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/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43040" y="1981080"/>
            <a:ext cx="9161280" cy="14479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2680" y="2133360"/>
            <a:ext cx="8405640" cy="11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3040" y="6172200"/>
            <a:ext cx="20635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384720" y="6172200"/>
            <a:ext cx="31366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099200" y="6172200"/>
            <a:ext cx="20638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511812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95360" y="1604880"/>
            <a:ext cx="8902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8680" indent="-328680">
              <a:lnSpc>
                <a:spcPct val="54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8640" indent="-271440">
              <a:lnSpc>
                <a:spcPct val="5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54000"/>
              </a:lnSpc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5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5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5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5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43040" y="1197360"/>
            <a:ext cx="896292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e5ebf7"/>
                </a:solidFill>
                <a:latin typeface="Times New Roman"/>
              </a:rPr>
              <a:t>POMELAJ – ZADRUGA ZA RAZVOJ PODEŽELJ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e5ebf7"/>
                </a:solidFill>
                <a:latin typeface="Times New Roman"/>
              </a:rPr>
              <a:t>PRIMER OBLIKOVANJA NOVEGA POKLICNEGA PROFI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48520" y="6237360"/>
            <a:ext cx="1727280" cy="4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Alenka STUPAR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DART, Lendava, d.o.o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040520" y="0"/>
            <a:ext cx="2865600" cy="199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0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KATALOG - PLETAR/PLETARK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0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oločitev področij del: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delovanje koruz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prava surovine za pletenj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konstruiranje/oblikovanje izdel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letenj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rženj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KLJUČNA DELA IN NALOG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4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8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193240" y="0"/>
            <a:ext cx="1712880" cy="5493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8680" indent="-328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eeeeee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eeeeee"/>
                </a:solidFill>
                <a:latin typeface="Arial"/>
              </a:rPr>
              <a:t>DART, d.o.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2680" y="465120"/>
            <a:ext cx="842004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Izhodišča za oblikovanje novega poklicnega profil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193240" y="0"/>
            <a:ext cx="1712880" cy="5493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8680" indent="-328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eeeeee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eeeeee"/>
                </a:solidFill>
                <a:latin typeface="Arial"/>
              </a:rPr>
              <a:t>DART, d.o.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4304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8680" indent="-328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rganiziran projekt za realizacijo že zastavljene iniciative lokalne skupnosti za razvoj perspektivne dejavnosti na osnovi lokalnih razvojnih potencialov – tradicije domače obrti (lončarstvo, pletarstv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gotovljene potrebe po novih znanjih in spretnostih za opravljanje dejavn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Izhodišča za oblikovanje novega poklicnega profil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8680" indent="-3286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zdelani programi usposabljanj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Vzpostavljena in delujoča učna delavnica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Zakon o Nacionalnih poklicnih kvalifikacija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193240" y="0"/>
            <a:ext cx="1712880" cy="5493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8680" indent="-328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eeeeee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eeeeee"/>
                </a:solidFill>
                <a:latin typeface="Arial"/>
              </a:rPr>
              <a:t>DART, d.o.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0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KRITERIJI ZA IZBOR NOVIH POKLICNIH PROFILOV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43040" y="1980720"/>
            <a:ext cx="8408880" cy="19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erspektivnost dejavnosti glede na nove potrebe trg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število potencialnih kandidatov za NP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radicija  na področju izdelovanja izdelkov domačih obrt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0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IZBRANA NOVA POKLICNA PROFIL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43040" y="1980720"/>
            <a:ext cx="8408880" cy="19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lončar/lončar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letar/pletarka iz ličj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0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OSTOPEK OBLIKOVANJA POKLICNEGA STANDARD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08880" cy="34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prava pobude (pobudo je pripravil nosilec projekta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imenovanje delovne skupine za pripravo kataloga standardov strokovnih znanj in spretnosti ( številni partnerji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trokovna pomoč s strani CP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prava Kataloga standardov strokovnih znanj in spretnosti za P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58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otrditev na Strokovnem svetu RS za poklicno in strokovno izobraževanj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iprava pobu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8680" indent="-3286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Sklopi tipičnih del v poklic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Ocena potreb na trgu dela glede na dolgoročni razvoj gospodarstva oz. dejavnost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ravna podlaga oz. predpisi v SLO in državah E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ednarodna primerljivos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Oblikovalci pobu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93240" y="0"/>
            <a:ext cx="1712880" cy="5493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8680" indent="-328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eeeeee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eeeeee"/>
                </a:solidFill>
                <a:latin typeface="Arial"/>
              </a:rPr>
              <a:t>DART, d.o.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Oblikovanje poklicnega standard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8680" indent="-3286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ime in koda poklic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raven zahtevnost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oklicne kompeten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opis poklicnega standar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193240" y="0"/>
            <a:ext cx="1712880" cy="5493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8680" indent="-328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eeeeee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eeeeee"/>
                </a:solidFill>
                <a:latin typeface="Arial"/>
              </a:rPr>
              <a:t>DART, d.o.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cbcbcb"/>
                </a:solidFill>
                <a:latin typeface="Times New Roman"/>
              </a:rPr>
              <a:t>OPIS POKLICNEGA STANDARDA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8680" indent="-3286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odročja del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ključna del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znanja in spretnost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( naloge za dokazovanje usposobljenosti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193240" y="0"/>
            <a:ext cx="1712880" cy="5493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8680" indent="-328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eeeeee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eeeeee"/>
                </a:solidFill>
                <a:latin typeface="Arial"/>
              </a:rPr>
              <a:t>DART, d.o.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