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CE2-3D36-4CF7-B19E-69D1D67B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8A5-6793-4E2C-AD05-9573E2A3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35C-4A75-4341-89D7-2A175454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1D3-C53E-4DD1-8794-7F079F25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0509-EDD6-4BFA-A20A-EF280222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A978-8A22-4520-BE53-7E450194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1AE1-6232-4E9A-817A-F32EEB69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37B4-98B1-4E2C-A9A2-DA956C7B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24F9-ECCD-447E-94BB-53BB3ECE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46B3-543E-445E-A443-CA018C2D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B6B5-AF3F-49F6-BC52-4C41AFF3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C80-69EC-4B59-ACF5-C0D71BF3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3B74-68B8-4EBF-8173-62FBFF40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339B-4029-463A-99EC-205C0518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00D8-B0EE-4EA2-8C18-15E2225E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C086-46AD-410D-8DA8-4AF7BDFD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1DBA-8DF3-4E2A-B551-3A07C1E4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37BA-D85F-4090-A463-6B663AC2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1F76-D9CD-4EA6-AEFD-2221DC74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DC4-F514-491D-9806-65A11A9F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D6E-1A26-4FFE-8C66-BAE49E76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EBE-3041-44D4-A162-36B5242D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1474-47FC-4DD8-98A5-93217CCD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2C4-D17D-4684-94D8-10DF879B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3E7A-F8A8-4573-BA2E-0393D81BA9EE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1196-CA33-4C2A-9A82-042E27E1B0AE}" type="slidenum">
              <a:rPr b="0" lang="sl-S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ses.eu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teses.eu/" TargetMode="External"/><Relationship Id="rId2" Type="http://schemas.openxmlformats.org/officeDocument/2006/relationships/hyperlink" Target="http://www.worlrdbank.org/" TargetMode="External"/><Relationship Id="rId3" Type="http://schemas.openxmlformats.org/officeDocument/2006/relationships/hyperlink" Target="http://www.unido.org/" TargetMode="External"/><Relationship Id="rId4" Type="http://schemas.openxmlformats.org/officeDocument/2006/relationships/hyperlink" Target="http://www.oecd.org/" TargetMode="External"/><Relationship Id="rId5" Type="http://schemas.openxmlformats.org/officeDocument/2006/relationships/hyperlink" Target="http://scholar.google.com/" TargetMode="External"/><Relationship Id="rId6" Type="http://schemas.openxmlformats.org/officeDocument/2006/relationships/hyperlink" Target="http://www.ljmu.ac.uk/" TargetMode="External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6920" y="357300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ule Nr. 2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entifying  new competencies and  Vocational Profiles  need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vide Branco, </a:t>
            </a:r>
            <a:r>
              <a:rPr b="0" i="1" lang="sl-SI" sz="1600" spc="-1" strike="noStrike">
                <a:solidFill>
                  <a:srgbClr val="000000"/>
                </a:solidFill>
                <a:latin typeface="Arial"/>
              </a:rPr>
              <a:t>Laurea, MA, MSc (executive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22th Sept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40360" y="83592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. Community Manager (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good 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. Community Assi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support Community  Manager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monitoring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ori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6. (Social) Cooperative Fo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education at least at Seconda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leading, development, organization and overseeing delivery of complex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management and/or entrepreneuri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s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 vision and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value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7. (Social) Cooperative Manager (or Coordin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. Professional 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l education at secondary level, University education degree for volunteers’ coord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local partners and stakeholde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imum organizational skills especially in delivery of clear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relevant experience in the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d in similar assignments in other Countrie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ee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i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tiv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sensitivity to human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character able to accept challe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9. Social Enterprise Trainer</a:t>
            </a: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Facilit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5 years’ relevant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ing experience in similar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d in similar assignments in other Countrie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E training and  business development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. Social Accounting Certification Consultant (SA8000 Auditors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,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versity education degree and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pecialized in Social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of standard and specific IT soft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lity and Certif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accounting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cise and searching for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ment skills to understand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importance)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1: Analysis of existing/potential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1316160"/>
          <a:ext cx="8713800" cy="4700520"/>
        </p:xfrm>
        <a:graphic>
          <a:graphicData uri="http://schemas.openxmlformats.org/drawingml/2006/table">
            <a:tbl>
              <a:tblPr/>
              <a:tblGrid>
                <a:gridCol w="716040"/>
                <a:gridCol w="4829040"/>
                <a:gridCol w="1728720"/>
                <a:gridCol w="14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rrent Impor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274680"/>
          <a:ext cx="8362800" cy="5856120"/>
        </p:xfrm>
        <a:graphic>
          <a:graphicData uri="http://schemas.openxmlformats.org/drawingml/2006/table">
            <a:tbl>
              <a:tblPr/>
              <a:tblGrid>
                <a:gridCol w="687240"/>
                <a:gridCol w="5156280"/>
                <a:gridCol w="1224000"/>
                <a:gridCol w="129528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Analysis of existing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define existing and potential impor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Effectiveness of existing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define their effectiveness</a:t>
            </a:r>
            <a:r>
              <a:rPr b="0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3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Level of maturity of S.L.E.P.T.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(social, legal, economical, political, technological) sub- 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absorbe changes and to evaluate the time to introduce new pro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4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Tentative opportunity list of vocational profiles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who fi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5: Level of matching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between potential new profiles obtained by comparison and level of S.L.E.P.T. maturity in Sloveni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 list all suitable, feasible and acceptable 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tep 6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otential 5 best  vocational new profiles in Slovenia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(to finally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effectiveness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2: Effectiveness of existing/potential 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348080"/>
        </p:xfrm>
        <a:graphic>
          <a:graphicData uri="http://schemas.openxmlformats.org/drawingml/2006/table">
            <a:tbl>
              <a:tblPr/>
              <a:tblGrid>
                <a:gridCol w="676440"/>
                <a:gridCol w="4518000"/>
                <a:gridCol w="1800000"/>
                <a:gridCol w="1235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ffectiv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676440"/>
                <a:gridCol w="4806720"/>
                <a:gridCol w="1440000"/>
                <a:gridCol w="130644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SLEPT Indicator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maturity) to each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WARNING: on real SLEPT to be considered at Local Level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3: Level of maturity of S.L.E.P.T. (social, legal, economical, political, technological) sub-environment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not mature - 5 very ma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84280"/>
          <a:ext cx="8229600" cy="4622760"/>
        </p:xfrm>
        <a:graphic>
          <a:graphicData uri="http://schemas.openxmlformats.org/drawingml/2006/table">
            <a:tbl>
              <a:tblPr/>
              <a:tblGrid>
                <a:gridCol w="676080"/>
                <a:gridCol w="4795920"/>
                <a:gridCol w="1295640"/>
                <a:gridCol w="146196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Ke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.L.E.P.T.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rren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ublic Awareness and Social Acceptance (inclu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Legal Frame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Fiscal &amp; Non-fiscal Support Instr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Credit and Bank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aphy (potential customers, beneficiaries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olitical Commit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eight of Social Economy/Classic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ing N. and Types of social impac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roduct and Process Inno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57200" y="274680"/>
          <a:ext cx="8229600" cy="5877000"/>
        </p:xfrm>
        <a:graphic>
          <a:graphicData uri="http://schemas.openxmlformats.org/drawingml/2006/table">
            <a:tbl>
              <a:tblPr/>
              <a:tblGrid>
                <a:gridCol w="676440"/>
                <a:gridCol w="4806720"/>
                <a:gridCol w="1368360"/>
                <a:gridCol w="1378080"/>
              </a:tblGrid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.L.E.P.T.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ublic Awareness and Social Acceptance (inclu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Legal Frame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Fiscal &amp; Non-fiscal Support Instr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Credit and Banking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aphy (potential customers, beneficiaries,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olitical Commit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eight of Social Economy/Classic Econ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ing N. and Types of social impact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Product and Process Inno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opportunity) to eac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to each profile (who start fir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4: Tentative opportunity list of vocational profiles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D=direct related; I=Indirect related; 1 min - 5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91520" cy="4492800"/>
        </p:xfrm>
        <a:graphic>
          <a:graphicData uri="http://schemas.openxmlformats.org/drawingml/2006/table">
            <a:tbl>
              <a:tblPr/>
              <a:tblGrid>
                <a:gridCol w="681120"/>
                <a:gridCol w="4657680"/>
                <a:gridCol w="1440000"/>
                <a:gridCol w="15127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’ Opportunity (who fir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57200" y="274680"/>
          <a:ext cx="8229600" cy="5856120"/>
        </p:xfrm>
        <a:graphic>
          <a:graphicData uri="http://schemas.openxmlformats.org/drawingml/2006/table">
            <a:tbl>
              <a:tblPr/>
              <a:tblGrid>
                <a:gridCol w="676440"/>
                <a:gridCol w="5022720"/>
                <a:gridCol w="1224000"/>
                <a:gridCol w="130644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 EU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lect 5 profiles-SLEPT from the follow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weight (A-F-S) to each matching level of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ve rank (1/3 A+1/3 B+1/3 C) to each profile’s  SLEPT match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Preliminar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you read some material (</a:t>
            </a: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teses.e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 you remember the Stakeholders’ analysis in Sloven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you get some “feelings” from the existing situation on the field (homework for previous modul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lease, give shortly your feed-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tep 5: Level of matching between potential new profiles obtained by comparison and level of S.L.E.P.T. maturity in Slovenia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1 very low – 5 very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1413000"/>
          <a:ext cx="8507520" cy="4773600"/>
        </p:xfrm>
        <a:graphic>
          <a:graphicData uri="http://schemas.openxmlformats.org/drawingml/2006/table">
            <a:tbl>
              <a:tblPr/>
              <a:tblGrid>
                <a:gridCol w="674640"/>
                <a:gridCol w="2792520"/>
                <a:gridCol w="1800000"/>
                <a:gridCol w="1727280"/>
                <a:gridCol w="1513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 - S.L.E.P.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cep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easi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it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337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457200" y="274680"/>
          <a:ext cx="8229600" cy="5915160"/>
        </p:xfrm>
        <a:graphic>
          <a:graphicData uri="http://schemas.openxmlformats.org/drawingml/2006/table">
            <a:tbl>
              <a:tblPr/>
              <a:tblGrid>
                <a:gridCol w="860400"/>
                <a:gridCol w="5176800"/>
                <a:gridCol w="2192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 - S.L.E.P.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1/3 A+1/3 B+1/3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The Facilitator, together with the Particip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ists all outcomes form previous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elect the 5 Best pro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ive weight (importance) to each Profile for each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ive Final rank to each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ime: 20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6: Final List of potential 5 best  vocational new profiles in 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271520"/>
          <a:ext cx="8229600" cy="4773600"/>
        </p:xfrm>
        <a:graphic>
          <a:graphicData uri="http://schemas.openxmlformats.org/drawingml/2006/table">
            <a:tbl>
              <a:tblPr/>
              <a:tblGrid>
                <a:gridCol w="639720"/>
                <a:gridCol w="26528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port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ffectiv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port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ep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inal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repre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R Manag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Manager (Co-ordinator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y Assis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Found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) Cooperative Manager (or Coordina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Volunt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Enterprise Trainer(Facilitator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Accounting</a:t>
                      </a: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 (SA8000 Auditors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e defined framework positions at middle and high level b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about vocational profiles to be identified by the product/service they are dealing with generated by the creativity of the social entrepreneur and managed by the social mana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n other words: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who play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entrepreneur who has an idea with social impact and became a social entrepreneur or the product/service which defines the profiles…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re are thousands of products/services which can be generated by the idea of the social entrepreneurs and who require specific qualified people to work on at levels lower then management and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Here some examples of profiles as a result of product/service the social enterprise deal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cycling old PC            need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IT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ultural Heritage Protection           need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people trained to understand and mantain cultural heritag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airtrade           need people to be trained to use/to create their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handcraf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cap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278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ssembling            need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nufacturing work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atering            need  people trained to be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waiters, chef assistant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leaning cooperative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 need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professional clea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duction            needs people trained as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manufacturing work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(sewing for example.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House maintenance cooperative           need people trained in different houseworks: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gardeners, cleaners, bricklayer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……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492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nting House Cooperative           need people trained to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 Maste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and trained on the job by the Master..)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gribusiness Cooperative 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line controllers, packaging workers, loading workers,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griculture Cooperative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cattle care workers, fields workers,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200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220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422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lderly House Cooperative          need people trained as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volunteer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support paramedic, doctors,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io-product agri-cooperative          need people trained as: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assistant farmers, line controllers, packaging workers, loading workers,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urism           need people trained in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many position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……..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many more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4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213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414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Workshop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Do not move to next slid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vide in group of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dentify max 5 Vocational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scribe those ma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 the outcomes to the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me: 15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 the SLEPT characteristics allow A.F.S.? (remember Step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local environment has the needed skills and competence to be traine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the managerial skills to ensure effective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.and mo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the end what is the K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Creativity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generate an entrepreneurial idea,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managerial skill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manage effectively and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qualified labour forc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o implement/to produc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800" spc="-1" strike="noStrike">
                <a:solidFill>
                  <a:srgbClr val="000000"/>
                </a:solidFill>
                <a:latin typeface="Arial"/>
              </a:rPr>
              <a:t>Feed-bac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se the templates only as a base for your fiel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rame the templates to your specific environment and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 not use a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“PhD attitude” to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oncentrate on details by forgetting wider view and results to b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ople must be stimulated (facilitated) to learn not “forced to learn” by classic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sults (jobs generated, new social enterprises, income generated,…) do measure the real impact, not “academic” pape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mpathy will help you more then knowledge: either you have it or no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You are dealing in a very specific field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List of key internet sour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teses.eu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worldbank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unido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www.oecd.or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 email info: register at: My OEC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http://scholar.google.co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ljmu.ac.u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netlibrary; clo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Thanks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y Davide Br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davide.branco@cid-b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00000"/>
                </a:solidFill>
                <a:latin typeface="Arial"/>
              </a:rPr>
              <a:t>List of 10 KEY Vocational Profi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384920"/>
            <a:ext cx="8209080" cy="411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 Social Entrepren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 Social Enterpris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 CSR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 Com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nity Manager (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 Com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nity As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 (Social) Cooperative Fo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7. (Social) Cooperative Manager (or 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. Professional Volun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9. Social Enterprise Trainer(Facilit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0. Social Accounting Certification Consultant (SA8000 Audi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Countries where mainly those exist 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(and/or regulate by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552680"/>
            <a:ext cx="84978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. EU15+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2. EU15+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3. EU15, Scandinavia, Italy, Germany, UK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4. Scandinavia, UK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5. Scandinavia, UK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6. Italy, France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7. Italy, France at first;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8. Few EU15, Italy at first, very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9. Few EU15, UK and Italy at first, very few EU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10. Ve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y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few EU15, Italy (30%) and Germany a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0000"/>
                </a:solidFill>
                <a:latin typeface="Arial"/>
              </a:rPr>
              <a:t>Description of Vocational Profi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43588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. Social Entreprene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education at least at Seconda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leading, development, organization and overseeing delivery of complex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i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minimum of relevant management and/or entrepreneurial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se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ear vision and mi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value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49636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al Enterprise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No wish of getting high salary!!…..(a part of USA….90,000 US $!!)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. CS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l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versity education degree and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pecialized in C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le to ensure good client communication and co-ordination with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and other external partners and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 organizational skills especially in development, organiz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seeing delivery of complex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of standard IT softw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communication and presentation skills, both oral and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ficiency in oral and written English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al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vant accounting and management exper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pecific Professional experi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S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accounting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ence in similar fields an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ersonal Characteristic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ired and Vis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determined-motiv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otional 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-driven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9:12:12Z</dcterms:created>
  <dc:creator>Tina Kociper</dc:creator>
  <dc:description/>
  <dc:language>en-US</dc:language>
  <cp:lastModifiedBy>Tina Kociper</cp:lastModifiedBy>
  <dcterms:modified xsi:type="dcterms:W3CDTF">2007-09-21T06:46:37Z</dcterms:modified>
  <cp:revision>62</cp:revision>
  <dc:subject/>
  <dc:title>Diapozitiv 1</dc:title>
</cp:coreProperties>
</file>