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8A9-A5AB-4B20-BA72-C1CA9C06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148-9716-416E-8673-7333FE9B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5E9-DF72-46C6-BB7F-7B6B7F45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BFB-5D9F-4110-B44B-76AC5B14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A971-1D3F-476F-B40E-03A59A0C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833D-F3E9-4BB7-BFE9-EE1A91B8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7894-AD5D-4250-8528-4C173959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4042-41B4-4309-9BCD-0EE85E16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0F8C-CF5C-4CED-9660-FB660F0E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A1E9-9820-4DE4-B9EC-2492B02E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7081-B9FE-47C3-BFF5-7FB77FC4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528-B8DD-47FD-815C-D298F25F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E4E8-AAF8-424B-8299-528905E2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95AB-85B7-4BAC-B17C-C87FA8D6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275E-B71D-4621-BD60-4DDF47D7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1A05-97E6-4E2E-BB7F-1F765141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F06F-4862-463E-A135-F175318C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376-E3A0-448C-885D-0F84F2C9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D86-0D0D-44C3-BC28-5055001C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456-3FBC-48B1-BFE7-BD1D99EF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238-84A5-498D-A920-059774F6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214-DF58-48A3-97D0-1C37B04C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69F-0A45-4C30-8F70-EC5A11E4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346-0C3B-47CE-974F-FCA406CB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2D6F-6E02-42E2-BCED-412F932558B2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9958-FBD0-4D61-AE59-0FC6F6616830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7280" y="2421000"/>
            <a:ext cx="75614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Usposabljanje promotorjev socialnega (družbenega) podjetništ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3.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ziskovanje organizacijskih kapacit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osilcev  socialne ekonomije ter nosilcev podpornega okolja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denka Kovač,M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21st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1152360" cy="855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62360"/>
            <a:ext cx="8424720" cy="64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truktura  metodološkega pristopa  v okviru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etodologija je sestavljena iz 3 komplementarnih sklopov vprašanj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1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manjkov na področju tehnično-tehnološkega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definirati ključna področja tehnično-tehnoloških znanj kjer organizacija potrebuje izboljšanje) (namenjeno predvsem za  javni sektor, deloma uporabno tudi za sektor družbenega podjetništva- socialne ekonom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2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 manjkajočih organizacijskih kompetenc neprofitnio usmerjenih organizaci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 cilj je definirati ključne manjkajoče kompetence ter na njihovi osnovi oblikovati  razvojne projekte tipa “capacity building” za podporo ES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3.sklop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 Organizacijska samoo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samoocena mikroorganizacijskih področij kjer so prevladujoči manjki in najbolj potrebne intervencije) – (uporabno tako za javni kot  zasebni neprofitni sek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341640"/>
            <a:ext cx="784872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1: Ocena manjkajočih  Tehnično-tehnološ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Katera so ključna tri področja tehnično-tehnoloških znanj s področja  modernih pristopov k načrtovanju in izvajanju socialnih politik ter socialnega podjetništva (označi s križcem kjer relevantno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1844640"/>
          <a:ext cx="8424720" cy="3384720"/>
        </p:xfrm>
        <a:graphic>
          <a:graphicData uri="http://schemas.openxmlformats.org/drawingml/2006/table">
            <a:tbl>
              <a:tblPr/>
              <a:tblGrid>
                <a:gridCol w="2155680"/>
                <a:gridCol w="1463760"/>
                <a:gridCol w="1441440"/>
                <a:gridCol w="1762200"/>
                <a:gridCol w="1601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i  pomemb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. Socialno vključevanje skozi aktivno participacijo- EU koncepti, najboljše evropske prakse, dobro targetiranje in vloge različnih partnerj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2. Osnovni principi učinkovitega   razvojnega načrtovanja in implementacije socialnih poli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79280" y="274680"/>
          <a:ext cx="8713800" cy="6003720"/>
        </p:xfrm>
        <a:graphic>
          <a:graphicData uri="http://schemas.openxmlformats.org/drawingml/2006/table">
            <a:tbl>
              <a:tblPr/>
              <a:tblGrid>
                <a:gridCol w="2229120"/>
                <a:gridCol w="1514160"/>
                <a:gridCol w="1490760"/>
                <a:gridCol w="1822680"/>
                <a:gridCol w="1657080"/>
              </a:tblGrid>
              <a:tr h="14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3. Moderni princi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pravljanja socialnih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Social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overnance),zaupanj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 kapital, social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vesticije/socialna zašč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4.Načrtovanje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ziranih na  dejst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Evidence based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5. Razumevanjer vzro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rginalizacij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črtovanje strategij izhodo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6. Harmonizir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inančnih resursov in  cilj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7. Zagotavlj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ertificiranje izvajalc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8.  Socialno vključev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umevanje ranlji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iljnih skupin kot ključ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ležnikov v proces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765000"/>
          <a:ext cx="8229600" cy="513108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9. Razume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o ekonomsk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ogov neenak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olov  in načrto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s posluhom 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ične potrebe spo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gender sensitive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0.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temelječih 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ezultatih,monitor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valvacija (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sed Management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&amp;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1. Strateš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vezovanje in jav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sebna partner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2. Socialne inov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 socialno /družb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3. Upravljanje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jnostnim razvojem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loga socialn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4. Ohranjanje 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iranje kultur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ravne dedišči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ružbeno 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5. Podpo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strumenti finančn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efinačni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6. Opišite področja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o mislite da 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membno a zgoraj 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pis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1280" y="200160"/>
            <a:ext cx="733464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2: Splošna Analiza manjkajočih organizacijs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1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   Katere spodaj naštete kompetence, bi lahko prepoznali kot klju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anjkajoče kompetence vaše organizacije : ( namenjeno predvsem 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bstoječe  organizacije v sektorju socialne ekonomij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1628640"/>
          <a:ext cx="8280360" cy="4407120"/>
        </p:xfrm>
        <a:graphic>
          <a:graphicData uri="http://schemas.openxmlformats.org/drawingml/2006/table">
            <a:tbl>
              <a:tblPr/>
              <a:tblGrid>
                <a:gridCol w="2252520"/>
                <a:gridCol w="2025720"/>
                <a:gridCol w="2025720"/>
                <a:gridCol w="1976400"/>
              </a:tblGrid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. Učinkovito vodenje in notranja komunik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2. Spodbujajoč podjetno naravnan  lideršip, usmerjen na ustvarjalno reševanje problem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3. Sposobnost dostopanja do EU  sredstev, EU projektiranje proces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4. Učinkovito vodenje 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74680"/>
          <a:ext cx="8229240" cy="585576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5. Uporaba modern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odij za promocijo in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javno zagova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ih ide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6. Uva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se in certificir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7. Osebnostni raz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h in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 človeškimi viri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8. Učinkovit  si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jemanja odloč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274680"/>
          <a:ext cx="8229240" cy="585540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2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0. N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todologije in transf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ovaci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1.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rtfelja  programov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2. Coach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zaposleni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3. Upravljanj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in coach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zvajalcev stori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ega vključe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Ocenjevanje organizacijskih kapacitet po metodi  “7 S Strategy”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-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ena najstarejših  metodologij za analizo  organizacijskih kapacit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porablja se tudi za   neprofitno usmerjene organizacije (podjet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sobnost samoocene organizacij predstavlja enega najpomembnejših vzvodov za  nadaljnji razvoj in preprečevanje sicer  neizogibnih 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ša pričakovanja in cilji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7 S Strateg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melji na 7  neodvisnih variablah (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m Peters and Robert Waterman i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 Search Of Excellence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), ki sovplivajo na delovanje  in moč organizacij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( Vešč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Zaposl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til vode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value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kupne vredn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3284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27280" y="3715920"/>
            <a:ext cx="1297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57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3500280"/>
            <a:ext cx="3313080" cy="28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HARD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348000" y="4436640"/>
            <a:ext cx="1511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08360" y="479736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924360" y="501300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796000" y="501336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4365720"/>
            <a:ext cx="27370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OFT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7S in  neprofitno usmerjene organiz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jučno je spoznanje da še bolj kot za profitne organizacije velja za neprofitno usmerjene -  brez  razvitih “ software elementov” ne more  uspešno delov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azvoj teh elementov mora zato postati ključna vsebina  strateškega razvoja vseh organizacij socialne ekonomije (podjetništ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109800"/>
            <a:ext cx="7991280" cy="18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3: Organizacijska  samoocena obstoječih kapacitet in načrtovane organizacijske spremem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rganizacija………………………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lovno mesto……………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e in priimek ……………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0120" y="2060640"/>
          <a:ext cx="9522000" cy="3941640"/>
        </p:xfrm>
        <a:graphic>
          <a:graphicData uri="http://schemas.openxmlformats.org/drawingml/2006/table">
            <a:tbl>
              <a:tblPr/>
              <a:tblGrid>
                <a:gridCol w="857160"/>
                <a:gridCol w="2376720"/>
                <a:gridCol w="2766960"/>
                <a:gridCol w="1295280"/>
                <a:gridCol w="1079640"/>
                <a:gridCol w="11462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fini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bstoječe st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rateško načrtovan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nosti, ki jih organizacija trenutno podvzema z namenom  iskanja pravih odzivov na pričakovane srednjeročne spremembe v okolj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, organizacijska specializacija in načini koordiniranja  za uvajanje načrtovanih strateških spremememb tako na področju razvoja obsega  kot diverzifikacije poslovan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730080"/>
                <a:gridCol w="1224000"/>
                <a:gridCol w="2737080"/>
                <a:gridCol w="1152360"/>
                <a:gridCol w="1224000"/>
                <a:gridCol w="1295280"/>
              </a:tblGrid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istem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d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ormalni in neformalni  procesi in procedure v pomoč uresničevanju  strateških  ciljev organiz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 organizacije sestoji iz dveh  component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kultura: 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evladujoče vrednote in prepričanja ter norme, ki so se razvile skozi čas  in  postale relativno trajne značilnosti organizacije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vodenja: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se bolj nanaša na to kaj  vodstvo počne, kot kaj  promovira: kako vodstvo upravlja s časom, kam usmerja pozornost, kakšne simbole uporablja (konstruktivne, destruktivne), dvojna lojalnost vodstva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 (staf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odenje ljudi in upravljanje s človeškimi viri – procesi  notranjega razvoja managerjev, načini socializacije in razvoja osnovnih vrednot,, nalčini uvajanja začetnikov in razvoja poklicnih karier  zaposle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30120" y="692280"/>
          <a:ext cx="8483760" cy="4035240"/>
        </p:xfrm>
        <a:graphic>
          <a:graphicData uri="http://schemas.openxmlformats.org/drawingml/2006/table">
            <a:tbl>
              <a:tblPr/>
              <a:tblGrid>
                <a:gridCol w="569880"/>
                <a:gridCol w="1150920"/>
                <a:gridCol w="2665440"/>
                <a:gridCol w="1295640"/>
                <a:gridCol w="1439640"/>
                <a:gridCol w="13622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t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e so ključne competence organizacije, kaj organizacija  dela najboljše in načini razvoja organizacijskih kompetenc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e vrednote in cilj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smerjevalni koncepti in  osnovne  ideje organizacije okoli katerih se razvija  poslovanje, poslanstvo organizacije, ki mora biti enostavno in mora biti razumljivo vsem v organizaciji  čeprav morda še neprepoznano s strani zunanjega oko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a ocena organiza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89080" y="5086440"/>
            <a:ext cx="1657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cenjevalna lestvic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 – zel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 – pretežn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– sred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 – precej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 – zelo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kupinska Va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delite se v skupine po 3 udeležence in poizkusite na primeru enega od lastnih podjetij izpolniti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Vprašalnik (orodje) za ocenjevanje organizacijskih kapacitet  neprofitnih organizaci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(max 30 min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 koncu bo vsaka skupina prezentirala 5 izbranmih prioritetnih aktivnosti za izboljšanje  delovanja ter  osnovno idejo projekta za podporo iz sredstev E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Domača nalog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vedite  vodene intervj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eno organizacijo   javnega sektorja (občine, javni zavodi, ministrstva) z uporabo  orodja za ugotavljanje manjkajočih tehničnih kompetenc in splošnih organizacijskih kompeten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5 različnih institucij/podjetij s področja  socialne ekonomije ( Uporaba  metode 7S Strateg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2-ma organizacijama/podjetjema  poglobljeno oceno s pomočjo  uporabe “Orodja za oceno organizacijskih kapacitet  neprofitnih organizacij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f4727e"/>
                </a:solidFill>
                <a:latin typeface="Arial"/>
              </a:rPr>
              <a:t>Na podlagi pridobljenih  informacij poizkušajte oblikovati vsak vsaj 1 projektni predlog za “ capacity building”, ki ga boste v nadaljevanju razdelovali v okviru 4.in 5. modula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veliko ustvarjalnosti pri delu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Cilj 3.Modul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deležence  seznan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 nekaterimi  metodologijami raziskovanja organizacijskih kapacitet sektorja  socialne ekonom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 pristopi k  razvoju novih kompetenc oz.  novih poklicnih profilov potrebnih za hitrejši razvoj socialnega podjetniš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Zak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jekti  za pridobitev podpore  strukturnih skladov se  bodo nanašali tako na 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opolnoma nove podje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kor tu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na  projekte tipa “ razvoja kapacitet obstoječih subjektov”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za njihovo učinkovito vlogo na  področju trga socialnih, ekoloških in drugih relevantnih storitev za socialno ekonomijo in za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Osnovni metodološki pripomočk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–TESES -  Country Report on 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etodologija za raziskovanje organizacijskih kapacitet ( Mc Kinsey 7S Strategy +TNA ) </a:t>
            </a:r>
            <a:r>
              <a:rPr b="0" lang="sl-SI" sz="2900" spc="-1" strike="noStrike">
                <a:solidFill>
                  <a:srgbClr val="000000"/>
                </a:solidFill>
                <a:latin typeface="Arial"/>
              </a:rPr>
              <a:t>Orodje za vrednotenje organizacijskih kapacitet neprofitno usmerjenih organizacij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Benchmark   novih potrebnih poklicnih profilov (kompetenc) za razvoj soc. podjetniš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tudija primera  oblikovanja poklicnega profila (tehničnih kompetenc)  -Pome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možna metodološka grad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CF –Organizational Capacity Assesment Tool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Marguerite Casey Found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Nekaj iztočnic za  diskusi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narodna primerjava trdnosti  civilno-družbenih organizacij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SAID  2005 NGO sustainability index  - NS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ocenjevalni lstvici  od 1-7 , kjer 1 pomeni najboljšo oceno in  7 najnižjo oceno,  je znašal splošen  indeks vdržnosti slovenskih nevladnih organizacij  v letu  2001 3,9 in v letu 2005 4,0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!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Primerjava po  posameznih elementi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avno okolje 3,7 indeksnih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zacijska moč 4,2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osobnost zagovarjanj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4,9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Zagotav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nje storitev 3,6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zpoložljiva infrastruktura 4.1 točk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vni  ugled 4.2  toč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blike aktivnosti na področju družbene ekonomije in nekaj podatkov o zaposlenosti v tem sektorju v Sloveniji  (2005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125360"/>
          <a:ext cx="8207280" cy="49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20728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ZDENKA KOVAČ</cp:lastModifiedBy>
  <dcterms:modified xsi:type="dcterms:W3CDTF">2007-09-19T22:57:08Z</dcterms:modified>
  <cp:revision>18</cp:revision>
  <dc:subject/>
  <dc:title>Diapozitiv 1</dc:title>
</cp:coreProperties>
</file>