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499-2BFE-4D92-8C6A-6A618D4F3F8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91F2-8034-45E7-B540-2C9A47D9241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C768-6743-4F9A-8C10-1CCA06F8AF6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88A8-BD74-44C0-A531-D589DF250A1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BB5C-792B-4784-92C0-9982D7C3288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A4E4-98F6-4E2B-BD7C-4E93B667919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9CC2-A198-4647-B2F8-22A4938FBBB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6ACC-2C45-49A9-ADA7-33AECBE27C7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0487-6228-4C2E-9CBC-35F5B473DF6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3513-1AD8-4C63-BD5B-3B219916D1A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DD1A-3ACA-4A82-83E3-7DF1A453195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F56F-A28C-4B1A-97EC-7836FDF11F0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B2E9-7F24-4B67-809F-A4F776383E2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C25-3633-4E00-B82A-07666FAA3CF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A0A4-0C63-4814-AFA4-025CCF0F673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566A-5330-485D-B49F-7D3820A7773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0A50-4BDA-4845-AB96-5E4642D948B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3912-289B-42E5-9A7A-21472E64FED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B44-5C28-4881-80A1-45B763CB2C4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D4F7-FAC3-429F-9FC3-D2FE826E11B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D75B-1D27-469D-B9AE-CCC8C8B762E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7EC6-E325-45CB-BC6F-1644D3E58BD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271F-6091-47B7-A7C5-8BDE0E046B1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8E65-BEE5-4591-9011-09E10F9EF2C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13DF-BF93-488D-91E6-D6280B9CFEA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C476-ACB5-473D-8ED0-68417F8115F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762D-BD7E-4E33-B3B7-AFEEC711E2E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4074-0556-4479-86F6-9F362CDA660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E201-95F0-459F-87C4-45D68EAAE2A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AF88-3ED6-44B6-889B-A9931E079DD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C45B-3A59-42D4-BBB7-E6CC7FC104D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26FE-0949-4350-B96C-8A3B8724235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4920-84CC-4CD0-B54C-6A118D03539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3F9F-03D0-4BFB-9901-F68F98B0A26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71620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067-9EDD-4F7D-8129-48F88BA6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922-1730-44B5-9FD8-96C62F18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C30-E81E-4844-B088-EA1B152A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D94-D1F2-44A7-BD36-602D366C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6250-C494-4C06-9093-79402F92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14DF-8E3E-4723-A4A4-5092EFF4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80D2-C435-404C-9042-D78DF2D1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DD45-5C9F-4BA4-8452-511860B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DC39-EDC2-4B5F-871A-640952DC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4588-F475-4829-A63E-D793E889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7A01-035E-46E8-A6F9-7CD0B9B5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830-048C-4A19-8405-83A232C1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B427-B451-47CF-B37D-E8AD340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EFC1-CC8D-41EC-888F-05C9D6E4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DA2E-2201-4EB5-B3EC-1B644089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676F-B1ED-49E9-8520-A80C1FDD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1B3-28B0-46E3-A3FF-07986F48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C76-EA9B-4A3E-9491-97CACE03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EE0-0B1F-45AC-8429-175BD430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676-9520-4D3D-8E89-4F40A5E5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EEF-23B3-4ECD-8240-63F6984C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4F9-31EF-4616-8504-F1127026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230-B653-4320-A3BC-DC36B00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46A-7F89-4701-86DB-B14BB48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DB2E-94CC-4339-ADD0-0BA5946246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AE93-0736-463C-B30F-E536692F8E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85560" y="393372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4 Business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ctober 24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225360"/>
            <a:ext cx="9906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26800" y="1142640"/>
            <a:ext cx="74977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A. PROIZVODI / STORIT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proizvoda / storit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rebe, ki jih zadovolj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bnost / edinstve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atne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to v pano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550"/>
              </a:spcBef>
              <a:buClr>
                <a:srgbClr val="cc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zvojna faza proizvoda / storit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java s konkurenčnimi izdel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pravne zaščit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1000" y="225360"/>
            <a:ext cx="9555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4991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B. PODJE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ustanovitve, pravnoorganizacijsk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anovitelji / lastniki, lastniški del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javnost podjetja (glavna, dopolnil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i cilji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Panoga, podjetje, izdelki/storitve (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4995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. PANOGA / DEJAV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nji obseg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vni subjekt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jučni dejavniki za poslovni usp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o rasti, tržnem potencialu in tržni strukturi pan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i trendi v tehnologiji, modi, zakonodaji, zaščiti ok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280" y="297000"/>
            <a:ext cx="845352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7320" y="1142640"/>
            <a:ext cx="9575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OPIS / ANALIZA CILJNIH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so kupci in kdo uporabniki izdelkov/stori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fska lokacija kupc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vene lastnosti izdelka z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očitev o nakupu - dejavn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je kdo že naročil izde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1080" y="297000"/>
            <a:ext cx="865980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6680" y="990720"/>
            <a:ext cx="973944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ILJNI TRG / SEGMENT / VR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trga (Slovenija, drug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našanje trga v pretek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videna prihodnja rast t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e značilnosti trga, ovire za v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ovedi sprememb v prih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žni delež podjetja (napo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i tržni seg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črti o izvoznih trg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IRANJE  TR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26800" y="1066320"/>
            <a:ext cx="7499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e mož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značilnostih kupc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 lastnostih proizvodo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fske značilnosti kupcev (potrošnikov ali organizaci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ski ali poslovni stil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hografske značilnosti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4160" y="380880"/>
            <a:ext cx="92455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AZISKAVA TRGA: Primer: strehe iz alumin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676520"/>
            <a:ext cx="58611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tencialni uporab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0240" y="2514600"/>
            <a:ext cx="421020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Vrsta uporabnik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stanovanjske hi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poslovn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- druge zgra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5680" y="2514600"/>
            <a:ext cx="4375080" cy="19810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Vrsta grad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novograd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- prenova obstoječ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63880" y="4648320"/>
            <a:ext cx="5860800" cy="1523880"/>
          </a:xfrm>
          <a:prstGeom prst="rect">
            <a:avLst/>
          </a:prstGeom>
          <a:solidFill>
            <a:srgbClr val="eefed6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naliza kupcev: kdo se odloč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do svetuje, kdo vgrajuj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ko se jim predstav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904320" cy="4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8760" y="990720"/>
            <a:ext cx="9657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5 najpomembnejših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i in slabosti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obnosti in razlike s konkur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e tržne strategije konkuren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jetnost / možnost vstopa novih podje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č tuje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225360"/>
            <a:ext cx="8034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ONKURENCA:  PORTERJEV 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08120" y="1295280"/>
            <a:ext cx="83376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kmovanje med podjetji v pano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vstopa novih konkur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žnost razvoja alternativnih proizvodov (substituti) ali tehnolog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dobavitelj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gajalska moč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9516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KTIVNOSTI  KONKUREN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4160" y="1066320"/>
            <a:ext cx="924552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ikost, rast in donosnost poslovanja (ekonomska mo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i in predpostavke ravnanja (poslovna naravna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kle / sedanje trž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en organiziranosti in kultura podje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stroškov in ovire za iz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in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26672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Vsebina: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slovno načrtovanje (izdelava poslovnega načrta)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avne oblike nepridobitnih podjemov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73944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I. TRŽNA ANALIZA -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32040" y="2819520"/>
          <a:ext cx="788796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819520"/>
                    <a:ext cx="7887960" cy="29462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91000" y="10638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E. NAPOVED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29840" y="1905120"/>
            <a:ext cx="49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</a:rPr>
              <a:t>Napoved prodaje za 3 – 5 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80" y="367920"/>
            <a:ext cx="98218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II. RAZVOJ PROIZVODA IN 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99316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a stopnja proizv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osti nove generacije, dodatne oblike upor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 kupci z izboljšavo / diferenciacijo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vezanih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ne izboljšave tehnologije in postop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ščita posebnosti pri proizvodu /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9061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94107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. POSLOVNA LO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akrolokacije (regija, kra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bira mikrolokacije (prostor, prednosti / slab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stništvo ali najem zemlji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. PROIZVODNE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ločitev o nakupu / kooperaciji ali proizvo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vodnega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90432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–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5480" y="914400"/>
            <a:ext cx="9080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NAČRT NABAVE SUROVIN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ljučne sestavine nab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zbor dobaviteljev - alternativni dobavitel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cija nabave ter ravnanje z zalog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odna kontrola kvalitete surovin in de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POSLOVNI PROS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rebe po prostorih (sedaj, v 3-5 leti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čin pridobitve, potrebne naložbe v preno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čni vidik gospodarjenja s pros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96640"/>
            <a:ext cx="96584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V. PROIZVODNJA IN POTREBNI VIRI -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5240" y="914400"/>
            <a:ext cx="9740880" cy="57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NAČRT STROJEV IN OPREM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isek potrebnih strojev in opre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nabave strojev in opreme (nači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čni vidiki gospodarjenja s stroji in opre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. NAČRT ZAPOSLOVANJA OSEBJ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rt zaposlovanja za 3-5 l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čin zaposlitve: redno / pogodbeno, polno / krajš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grajevanje osebja, napredovanje, usposablj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KONTROLA KVALITETE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  UPOŠTEVANJE PREDPI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152280"/>
            <a:ext cx="916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. STRATEGIJA TR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11812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A. OBLIKOVANJE CEN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oblikovanje cen, pribite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olitika popus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reakcije konkurento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B. PRODAJNE PO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istribucijski kana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dajno oseb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00200" y="1295280"/>
            <a:ext cx="4622760" cy="556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C. OGLAŠEVANJE IN PROMO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načrt izvajanja promo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proračun za oglaševa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767ff"/>
                </a:solidFill>
                <a:latin typeface="Arial"/>
              </a:rPr>
              <a:t>D. POPRODAJNE STORIT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garanc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servisno omrež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druge storitve za kup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6680" y="0"/>
            <a:ext cx="9739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. UPRAVLJANJE, ORGANIZACIJA, LASTNIŠT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0760" y="990360"/>
            <a:ext cx="91123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stavitev podjetnika (skupine) in razporeditev vlog (funkcij): odgovornosti in pristo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danji dosežki (reference) podje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grajevanje manag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kro) organizacija podjetja (in razvo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zorni s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anji strokovnj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ka zaposlovanja in razvoja oseb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niška struktura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80" y="404640"/>
            <a:ext cx="990468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0120" y="1523880"/>
            <a:ext cx="9328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OVZETEK FINANČNIH REZULTATOV  ZA ZADNJA 3 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zetek finančnih rezulta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n ocena poslovanja in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TVORITVENA BILANCA PODJET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začetna sr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čin financiranja začetnih sredst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" y="333360"/>
            <a:ext cx="99046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I. FINANČNE PROJEKCIJ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7680" y="1294920"/>
            <a:ext cx="94932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E PROJEKCIJE ZA 3-5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ji poslovanja (predpostav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izkaza usp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denar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račun bilance s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in kontrola stroš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na točke prel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temeljnih finančnih količ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občutljivosti finančnih projekc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56760"/>
            <a:ext cx="8915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IZA  KAZALNIK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7680" y="114300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LIKVI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14300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bseg razpoložljivih gibljivih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ratkoročnih sred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7680" y="2209680"/>
            <a:ext cx="3219480" cy="99072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ONO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9600" y="2209680"/>
            <a:ext cx="6108840" cy="99072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azlična merila dobička (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apital, na lastna sred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680" y="3276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ZADOL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276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Načini financiranja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680" y="4419720"/>
            <a:ext cx="3219480" cy="1066680"/>
          </a:xfrm>
          <a:prstGeom prst="rect">
            <a:avLst/>
          </a:prstGeom>
          <a:solidFill>
            <a:srgbClr val="eefed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KOEFIC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4419720"/>
            <a:ext cx="6108840" cy="1066680"/>
          </a:xfrm>
          <a:prstGeom prst="rect">
            <a:avLst/>
          </a:prstGeom>
          <a:solidFill>
            <a:srgbClr val="e9ffff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Merila proizvodne učinkov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ebina  poslovnega nač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189000"/>
            <a:ext cx="8420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4680" y="1592280"/>
            <a:ext cx="84200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tovimo, katera so mogoča tveganja in problemi pri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imo verjetnost njihovega ures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rednotimo verjetne finančne učinke oz. posl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mo načrt ravnanja v primeru nastalega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100" spc="-1" strike="noStrike">
                <a:solidFill>
                  <a:srgbClr val="000000"/>
                </a:solidFill>
                <a:latin typeface="Arial"/>
              </a:rPr>
              <a:t>VIII. ANALIZA IN VREDNOTENJE KRITIČNIH TVEGANJ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X. TERMINSKI NAČ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00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EBIN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e ključn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alističen rok izve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osilec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treb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ternativna mo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LIKA TERMINSKEGA NAČ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9d8ec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bela ali Ganttov grafi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9575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ILOGE K POSLOVNEMU NAČRT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5160" y="1197000"/>
            <a:ext cx="470556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fotografije poslovnih prosto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etalji tržnih anal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kica poteka proiz-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ljna prodaja/dobi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hnični opis proizvo-da/storitve/tehnolo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eniki proizvo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like / skic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0280" y="1305000"/>
            <a:ext cx="4705560" cy="53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čne rek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i ogla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ma organ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ljenjepis/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sma potencialnih kupc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ije pog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čna poročila za prejšnja 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ski opreme ali dobavitel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vni okviri za nepridobitne pod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profitna družba z omejeno odgovornost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dobiček se reinvestira v razvo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Ostala določila enaka kot v primeru izvajanja profitno naravnane dejav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adrug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pospešuje gospodarsko korist član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Najmanj trije ustanovitelj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0000"/>
                </a:solidFill>
                <a:latin typeface="Arial"/>
              </a:rPr>
              <a:t>Vsak član ima en glas pri upravljan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1560" y="1181160"/>
            <a:ext cx="9240840" cy="53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v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ljanje družbenih dejavnosti, če cilj ni pridobivanje dobi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opravljanje javnih služb se ustanovijo javni zavodi; pridobitev konc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tanova ali fundaci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gotavlja splošno koristne cil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ošno poslanstvo: dobrodelnost, lahko pa opravlja tudi gospodarske deja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glasje  k ustanovitvi daje ministrstvo  v katerega pristojnost spada urejanje področja, ki ga oprav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no podjet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tanovljena zaradi integracije ranljivih skupin prebivalstva ali za zagotavljanje storitev za ranljive skup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bližek le invalidska podjetja z drugačno obravnavo pri davkih, delovnih razmerjih in socialni zakonodaj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št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stovoljno, samostojno in nepridobitno združenje fizičnih oseb zaradi skupnih interesov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žnost posebnega statusa društva, ki deluje v javnem interesu (npr. Planinska zveza Slovenij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70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avni okviri za nepridobitne podjeme II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240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ebno de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sebno dopolnilno delo uporabno za zagon neke dejavnosti ali dodatnega zaslužk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eri: pomoč v gospodinjstvu, izdelki domače in umetnostne obrti, socialne storit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mejen je obseg letnih prihodkov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76680" y="1218960"/>
            <a:ext cx="9906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SEBINA POSLOVNEGA NAČRTA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260360"/>
            <a:ext cx="8420040" cy="4335480"/>
            <a:chOff x="838080" y="1260360"/>
            <a:chExt cx="8420040" cy="4335480"/>
          </a:xfrm>
        </p:grpSpPr>
        <p:sp>
          <p:nvSpPr>
            <p:cNvPr id="112" name=""/>
            <p:cNvSpPr/>
            <p:nvPr/>
          </p:nvSpPr>
          <p:spPr>
            <a:xfrm>
              <a:off x="838080" y="1387440"/>
              <a:ext cx="2460960" cy="40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NALIZA POS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 – Opis proizvoda 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orit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 – Trg in ciljni kup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 – Konkuren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 – Strategija in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rže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 – Lokacija, prostor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prema, logis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 – Menedž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rganiza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G – Zaposleno oseb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H – Terminski nač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2281320"/>
              <a:ext cx="2202480" cy="203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13440" y="2281320"/>
              <a:ext cx="0" cy="101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640" y="1898640"/>
              <a:ext cx="25776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281320"/>
              <a:ext cx="388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170160" y="1898640"/>
              <a:ext cx="155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169800" y="2281320"/>
              <a:ext cx="10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371560" y="1898640"/>
              <a:ext cx="13032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01880" y="1898640"/>
              <a:ext cx="18126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85600" y="1387440"/>
              <a:ext cx="2072520" cy="42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I.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INANČ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ROJEKCI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uspe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J – Predračun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a stan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 – Projekci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ance denarni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oko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 – Prag renta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bilnosti, finanč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količni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1260360"/>
              <a:ext cx="8420040" cy="433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3440" y="3300480"/>
              <a:ext cx="905760" cy="63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13440" y="2407680"/>
              <a:ext cx="5173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113440" y="2663280"/>
              <a:ext cx="90576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13440" y="3046320"/>
              <a:ext cx="116568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724640" y="2407680"/>
              <a:ext cx="38880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335840" y="2663280"/>
              <a:ext cx="77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76640" y="3046320"/>
              <a:ext cx="103680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204800" y="3300480"/>
              <a:ext cx="90828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593600" y="3300480"/>
              <a:ext cx="5194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3440" y="330048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3440" y="3300480"/>
              <a:ext cx="51732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7400" y="2790720"/>
              <a:ext cx="388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9040" y="3429000"/>
              <a:ext cx="10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16720" y="3809880"/>
              <a:ext cx="77724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53880" y="3938040"/>
              <a:ext cx="12852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5371200" y="4065480"/>
              <a:ext cx="25956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630760" y="3938400"/>
              <a:ext cx="777240" cy="14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38760" y="279072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299040" y="40654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70160" y="4575240"/>
              <a:ext cx="16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9040" y="4957560"/>
              <a:ext cx="23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9040" y="5340240"/>
              <a:ext cx="31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760360" y="2408040"/>
              <a:ext cx="64800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90680" y="291780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019560" y="3556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7600" y="3556080"/>
              <a:ext cx="9061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360" y="2917800"/>
              <a:ext cx="103536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8360" y="2408040"/>
              <a:ext cx="9061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5360"/>
            <a:ext cx="97538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LIKOVNA PRAVILA ZA POSLOVNI NAČ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26800" y="914040"/>
            <a:ext cx="7497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čna, kakovostna in trpežna izde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prava s PC-jem zaradi dopolnje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ikovna in slovnična neoporečnost - odnos do posla in partnerj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p slovenski jez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ravek tipkarskih napa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merna velikost in oblika č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ez pretiranega žargo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umen obseg številk (t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120" y="99072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LOVNA 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e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ovzetek poslovnega nač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. Panoga, podjetje in njegovi proizvodi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noga/ deja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odje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izvodi/ 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III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Raziskava in analiza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ržno področ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naliza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pis t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Konkur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Napoved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9200" y="13716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IV.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Razvoj in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azvoj proizvoda/storitve in tehn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slovna lo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roizvodne op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črt nabave surovin, delov in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Potrebni poslovni pros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Načrtovanje strojev in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Načrtovanje zaposl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75200">
            <a:off x="4800240" y="502920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Vsebina poslovnega načrta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08120" y="1143000"/>
            <a:ext cx="409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.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ačrt prodaje /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trž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Opredelitev poslanstva podjetja z vidika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kovanje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Prodaj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eklama, propaganda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Podpora prodaji in drugi elementi promo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.Management, organizacija in last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143000"/>
            <a:ext cx="4092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nančne pro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konomika po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tvoritvena bilanca s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Finančne projekcije za razdobje naslednjih 3-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Načrt ukrepanja v izrednih okoliščin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VII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cena tveganj in proble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IX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.Terminski nač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tki k poslovnemu načr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75200">
            <a:off x="4038120" y="4572000"/>
            <a:ext cx="2874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Lucida Console"/>
              </a:rPr>
              <a:t>Pogoj: preverljiva poslovna ide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3680" y="368280"/>
            <a:ext cx="9493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ASLOVNA STRAN: inform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1447920"/>
            <a:ext cx="941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1052640"/>
            <a:ext cx="8089920" cy="54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Grafično znak (logo) podje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66"/>
                </a:solidFill>
                <a:latin typeface="Arial"/>
              </a:rPr>
              <a:t>POSLOVNI NAČ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66"/>
                </a:solidFill>
                <a:latin typeface="Arial"/>
              </a:rPr>
              <a:t>ZA (podjetje / proizvod / stor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Naslov podjetja (telefon, faks, e-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Odgovorna (kontaktna) os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(klavzula o poslovni skriv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66"/>
                </a:solidFill>
                <a:latin typeface="Arial"/>
              </a:rPr>
              <a:t>Kraj in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944892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vzetek  poslovnega  načrta  -  sploš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8120" y="990360"/>
            <a:ext cx="8337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g 1-2 st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en opis posla (pose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lačnost izdelka za k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rnat opis zmožnosti podje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meljitev prodaj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zetek finančnih projek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ba za sovlagate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10-22T20:35:18Z</dcterms:modified>
  <cp:revision>7</cp:revision>
  <dc:subject/>
  <dc:title>Diapozitiv 1</dc:title>
</cp:coreProperties>
</file>