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949C-D4E7-4F47-83EB-DA3D528F156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F96D-E1E1-4C6A-8E65-EE18FF48B45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287C-A86A-49F1-AB75-AB296A31301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7F4A-BFEF-4287-9FA1-E3DED616280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51BE-0CF8-40EF-B240-F43E0330CFF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426A-4575-44AA-9B06-8348B3DC895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2B8B-4FBC-49C7-AE70-DD75ADA6C20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1110-E144-4D38-9CCD-10179AB6FAE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0960-C9F5-4F7F-9E05-BE59C54A866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BBE7-3402-4C3F-A64B-8B10E4163C6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6C2B-2599-4705-970A-D1032FCBAB6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440C-EC5D-4EC3-83AD-82774669E3B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F21C-1898-4F4C-9847-4B814CB918F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C0BC-0124-4E72-BED8-988F86199A7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715C-2D23-420E-9D28-8F43ED2C689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3A31-7799-4BC0-A522-FA2F515CE55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69D7-474A-46D2-A915-6C708107428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944C-FB44-40B7-8E85-80886ED25F7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4A57-EE27-4B90-990B-26475C1CE47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FAB7-868F-493A-BE21-801E5D8136C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2742-B482-4026-B858-30288BC70CF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72FB-AEDF-4A81-9B13-CB7BB7ED077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CC2B-7F77-4DB9-A20B-BC6854F3AB1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3CB7-7F57-49C7-A564-03D05759F04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8452-434F-4F08-97B0-306791AC6D0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94C7-4E7B-47D3-AE13-21D66AD437A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C506-A8CA-406C-A5B6-4E1F318D3EC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5996-2274-4937-BC28-8F85B1066F9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4806-9C6A-4F6D-94FE-AAFE90B23EF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363-8D35-4EFE-AEF5-4BF823CEBCB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4DE4-5137-424C-8F17-94C0C56809B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6C79-ABC8-4485-B736-87876022B89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17F6-4F78-4E78-B25C-C547715C67B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668E-1C9E-44FC-914A-4B19DBC7839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152-6253-4340-A0E3-5D481D66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ADE-3F0D-44A6-BE0E-3E8C5A34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71F-5948-49DD-881E-DCCA3121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6E2-06AF-4719-B227-F71E01F0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1D6F-06A2-4B4E-A8F4-0A046090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FDE9-E0F2-48C3-8CA3-3A03422E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7EC4-F634-46AB-858A-591C213D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7BE8-4B43-4D4E-B9DA-CB3AE02A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473F-FB9F-4BEB-8828-D7605FBF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29F7-8479-4CA4-B5D2-D2F271BD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575A-D2AB-4C65-9580-A6C642B6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4EC-6F10-405A-BC74-430E04FD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BA40-18E0-46E7-AA91-96D2D454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6ADE-B74D-4531-A8BF-828D5345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3826-6457-4DE4-8A27-EBE306A6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35D8-AE50-4EAD-9D42-4046B083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D9FF-6D8E-4780-8ECE-006B00F3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485-7BA6-4306-9318-37EA2951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994-1EF5-4AAC-921A-146DF5A9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64F-9052-45EB-89A7-A5CA0FA4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D7F-EA6D-4AAB-94EE-0E4E184E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793-EB1D-4626-996A-07BEFADD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F59-5ECD-45AF-AF67-80B15BA2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6C9-D624-4E17-BE31-8BAE3115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A30B-EF2A-4C86-86AF-57E9DD2786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3EAF-EBDE-4000-8263-07024B8889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85560" y="393372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4 Business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tober 24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225360"/>
            <a:ext cx="9906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26800" y="1142640"/>
            <a:ext cx="74977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A. PROIZVODI / STORIT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s proizvoda / storit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rebe, ki jih zadovolj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ebnost / edinstve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atne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to v pano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zvojna faza proizvoda /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java s konkurenčnimi izdel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pravne zaščit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1000" y="225360"/>
            <a:ext cx="9555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991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B. PODJET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ustanovitve, pravnoorganizacijski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anovitelji / lastniki, lastniški del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javnost podjetja (glavna, dopolnil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i cilji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4995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. PANOGA / DEJAV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anji obseg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vni subjekt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jučni dejavniki za poslovni usp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o rasti, tržnem potencialu in tržni strukturi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i trendi v tehnologiji, modi, zakonodaji, zaščiti ok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3280" y="297000"/>
            <a:ext cx="84535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7320" y="1142640"/>
            <a:ext cx="9575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OPIS / ANALIZA CILJNIH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o so kupci in kdo uporabniki izdelkov/stori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fska lokacija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vene lastnosti izdelka z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očitev o nakupu - dejavn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 je kdo že naročil izde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1080" y="297000"/>
            <a:ext cx="8659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97394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ILJNI TRG / SEGMENT / VR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trga (Slovenija, drug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našanje trga v pretek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a prihodnja rast t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bne značilnosti trga, ovire za v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sprememb v prih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žni delež podjetja (napo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ni tržni seg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črti o izvoznih trg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IRANJE  TR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26800" y="1066320"/>
            <a:ext cx="74991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e mož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značilnostih kupc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lastnostih proizvodo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grafske značilnosti kupcev (potrošnikov ali organizaci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ski ali poslovni stil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h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4160" y="380880"/>
            <a:ext cx="92455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AZISKAVA TRGA: Primer: strehe iz alumin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676520"/>
            <a:ext cx="58611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tencialni uporab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0240" y="2514600"/>
            <a:ext cx="421020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Vrsta uporabnik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stanovanjske h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poslovn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drug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35680" y="2514600"/>
            <a:ext cx="437508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Vrsta grad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novogra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prenova obstoječ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63880" y="4648320"/>
            <a:ext cx="5860800" cy="15238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Analiza kupcev: kdo se odloč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do svetuje, kdo vgrajuj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ko se jim predstav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90432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8760" y="990720"/>
            <a:ext cx="9657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5 najpomembnejših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nosti in slabosti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obnosti in razlike s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vne tržne strategije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jetnost / možnost vstopa novih podje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č tuje konku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640" y="225360"/>
            <a:ext cx="8034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NKURENCA:  PORTERJEV 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08120" y="1295280"/>
            <a:ext cx="83376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kmovanje med podjetj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vstopa novih konkuren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razvoja alternativnih proizvodov (substituti) ali tehnolog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dobavitelj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5520" y="333000"/>
            <a:ext cx="9516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KTIVNOSTI  KONKUREN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4160" y="1066320"/>
            <a:ext cx="924552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ikost, rast in donosnost poslovanja (ekonomska mo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i in predpostavke ravnanja (poslovna naravna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kle / sedanje trž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en organiziranosti in kultura podje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stroškov in ovire za iz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nosti in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26672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sebina: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slovno načrtovanje (izdelava poslovnega načrta)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avne oblike nepridobitnih podjemov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973944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32040" y="2819520"/>
          <a:ext cx="788796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819520"/>
                    <a:ext cx="7887960" cy="29462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91000" y="10638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E. NAPOVED PRO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9840" y="1905120"/>
            <a:ext cx="49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Napoved prodaje za 3 – 5 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80" y="367920"/>
            <a:ext cx="98218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II. RAZVOJ PROIZVODA IN TEHNOLOGI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99316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a stopnja proizv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nove generacije, dodatne oblike upor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 kupci z izboljšavo / diferenciacijo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vezanih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e izboljšave tehnologije in postop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ščita posebnosti pri proizvodu /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9061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94107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. POSLOVNA LO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akrolokacije (regija, kra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ikrolokacije (prostor, prednosti / slab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stništvo ali najem zemlji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. PROIZVODNE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ločitev o nakupu / kooperaciji ali proizvo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vodnega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90432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–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5480" y="914400"/>
            <a:ext cx="90806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NAČRT NABAVE SUROVIN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jučne sestavine nab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bor dobaviteljev - alternativni dobavitel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cija nabave ter ravnanje z zalog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odna kontrola kvalitete surovin in de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POSLOVNI PROS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rebe po prostorih (sedaj, v 3-5 leti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čin pridobitve, potrebne naložbe v preno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čni vidik gospodarjenja s pros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96640"/>
            <a:ext cx="96584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5240" y="914400"/>
            <a:ext cx="9740880" cy="578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NAČRT STROJEV IN OPREM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isek potrebnih strojev in opre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nabave strojev in opreme (nači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nčni vidiki gospodarjenja s stroji in opre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 NAČRT ZAPOSLOVANJA OSEBJ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zaposlovanja za 3-5 l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in zaposlitve: redno / pogodbeno, polno / krajš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grajevanje osebja, napredovanje, usposablj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KONTROLA KVALITETE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  UPOŠTEVANJE PREDPI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152280"/>
            <a:ext cx="9163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. STRATEGIJA TRŽ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11812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A. OBLIKOVANJE CEN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oblikovanje cen, pribite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olitika popus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reakcije konkuren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B. PRODAJNE PO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istribucijski kanal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dajno oseb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00200" y="1295280"/>
            <a:ext cx="462276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C. OGLAŠEVANJE IN PROMO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načrt izvajanja promo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račun za oglaševa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D. POPRODAJNE STORIT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garan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servisno omrež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ruge storitve za kup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6680" y="0"/>
            <a:ext cx="9739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. UPRAVLJANJE, ORGANIZACIJA, LASTNIŠT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760" y="990360"/>
            <a:ext cx="91123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tavitev podjetnika (skupine) in razporeditev vlog (funkcij): odgovornosti in pristo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danji dosežki (reference) podje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rajevanje manag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kro) organizacija podjetja (in razvo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zorni s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anji strokovnj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ka zaposlovanja in razvoja oseb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niška struktura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80" y="404640"/>
            <a:ext cx="990468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1523880"/>
            <a:ext cx="93283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OVZETEK FINANČNIH REZULTATOV  ZA ZADNJA 3 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zetek finančnih rezulta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in ocena poslovanja in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OTVORITVENA BILANCA PODJET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a začetna sr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čin financiranja začetnih sreds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0" y="333360"/>
            <a:ext cx="9904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7680" y="1294920"/>
            <a:ext cx="94932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E PROJEKCIJE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ji poslovanja (predpostav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izkaza uspe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denar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bilance s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in kontrola stroš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a točke pre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temeljnih finančnih količ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občutljivosti finančnih projek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56760"/>
            <a:ext cx="8915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IZA  KAZALNIK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7680" y="114300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LIKVI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49600" y="114300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Obseg razpoložljivih gibljivih 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ratkoročnih sreds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7680" y="220968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DONO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49600" y="220968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Različna merila dobička (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pital, na lastna sredst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680" y="3276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ZADOL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49600" y="3276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Načini financiranja pos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680" y="4419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49600" y="4419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Merila proizvodne 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ebina  poslovnega nač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1000" y="189000"/>
            <a:ext cx="8420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4680" y="1592280"/>
            <a:ext cx="842004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tovimo, katera so mogoča tveganja in problemi pri p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imo verjetnost njihovega uresni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rednotimo verjetne finančne učinke oz. posle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mo načrt ravnanja v primeru nastalega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VIII. ANALIZA IN VREDNOTENJE KRITIČNIH TVEGANJ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X. TERMINSKI NAČ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00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SEBIN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e ključn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alističen rok izve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osilec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ternativna mo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LIK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bela ali Ganttov grafi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228600"/>
            <a:ext cx="9575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ILOGE K POSLOVNEMU NAČRT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5160" y="1197000"/>
            <a:ext cx="4705560" cy="52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otografije poslovnih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etalji tržnih anal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-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ljna prodaja/dobi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hnični opis proizvo-da/storitve/tehnolo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eniki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like / skic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0280" y="1305000"/>
            <a:ext cx="4705560" cy="53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čne rek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ci ogla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ma organ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epis/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sma potencialnih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ije pog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a poročila za prejšnja 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ski opreme ali dobavitelj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vni okviri za nepridobitne podj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profitna družba z omejeno odgovornost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dobiček se reinvestira v razvo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Ostala določila enaka kot v primeru izvajanja profitno naravnane dejav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adrug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spešuje gospodarsko korist član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Najmanj trije ustanovitelj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Vsak član ima en glas pri upravljan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1560" y="1181160"/>
            <a:ext cx="9240840" cy="53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o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vljanje družbenih dejavnosti, če cilj ni pridobivanje dobi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opravljanje javnih služb se ustanovijo javni zavodi; pridobitev konc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anova ali fundaci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gotavlja splošno koristne cil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ošno poslanstvo: dobrodelnost, lahko pa opravlja tudi gospodarske deja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glasje  k ustanovitvi daje ministrstvo  v katerega pristojnost spada urejanje področja, ki ga oprav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no podjet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tanovljena zaradi integracije ranljivih skupin prebivalstva ali za zagotavljanje storitev za ranljive skup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bližek le invalidska podjetja z drugačno obravnavo pri davkih, delovnih razmerjih in socialni zakonodaj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št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stovoljno, samostojno in nepridobitno združenje fizičnih oseb zaradi skupnih interesov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žnost posebnega statusa društva, ki deluje v javnem interesu (npr. Planinska zveza Slovenij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ebno de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sebno dopolnilno delo uporabno za zagon neke dejavnosti ali dodatnega zaslužk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eri: pomoč v gospodinjstvu, izdelki domače in umetnostne obrti, socialne storit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mejen je obseg letnih prihodkov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76680" y="1218960"/>
            <a:ext cx="9906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SEBINA POSLOVNEGA NAČRTA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38080" y="1260360"/>
            <a:ext cx="8420040" cy="4335480"/>
            <a:chOff x="838080" y="1260360"/>
            <a:chExt cx="8420040" cy="4335480"/>
          </a:xfrm>
        </p:grpSpPr>
        <p:sp>
          <p:nvSpPr>
            <p:cNvPr id="112" name=""/>
            <p:cNvSpPr/>
            <p:nvPr/>
          </p:nvSpPr>
          <p:spPr>
            <a:xfrm>
              <a:off x="838080" y="1387440"/>
              <a:ext cx="2460960" cy="40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NALIZA POS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 – Opis proizvoda 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orit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 – Trg in ciljni kup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 – Konkuren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 – Strategija in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rže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 – Lokacija, prostor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prema, logisti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 – Menedžme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rganiza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 – Zaposleno oseb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 – Terminski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6640" y="2281320"/>
              <a:ext cx="2202480" cy="2039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13440" y="2281320"/>
              <a:ext cx="0" cy="10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640" y="1898640"/>
              <a:ext cx="25776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5160" y="2281320"/>
              <a:ext cx="38880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170160" y="1898640"/>
              <a:ext cx="15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169800" y="2281320"/>
              <a:ext cx="10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371560" y="1898640"/>
              <a:ext cx="13032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1880" y="1898640"/>
              <a:ext cx="18126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85600" y="1387440"/>
              <a:ext cx="2072520" cy="42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I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INANČ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JEK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uspe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sta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 – Projek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e denarn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k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 – Prag renta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nosti, finanč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olični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1260360"/>
              <a:ext cx="8420040" cy="433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3440" y="3300480"/>
              <a:ext cx="905760" cy="63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113440" y="2407680"/>
              <a:ext cx="5173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113440" y="2663280"/>
              <a:ext cx="90576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13440" y="3046320"/>
              <a:ext cx="11656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724640" y="2407680"/>
              <a:ext cx="38880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335840" y="2663280"/>
              <a:ext cx="77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76640" y="3046320"/>
              <a:ext cx="103680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204800" y="3300480"/>
              <a:ext cx="90828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593600" y="3300480"/>
              <a:ext cx="5194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13440" y="330048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3440" y="3300480"/>
              <a:ext cx="51732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7400" y="2790720"/>
              <a:ext cx="388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9040" y="3429000"/>
              <a:ext cx="10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816720" y="3809880"/>
              <a:ext cx="77724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53880" y="3938040"/>
              <a:ext cx="12852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371200" y="4065480"/>
              <a:ext cx="25956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630760" y="3938400"/>
              <a:ext cx="777240" cy="14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38760" y="2790720"/>
              <a:ext cx="9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299040" y="40654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70160" y="4575240"/>
              <a:ext cx="16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299040" y="4957560"/>
              <a:ext cx="23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9040" y="5340240"/>
              <a:ext cx="31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760360" y="2408040"/>
              <a:ext cx="64800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90680" y="291780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019560" y="35560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37600" y="3556080"/>
              <a:ext cx="906120" cy="17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8360" y="2917800"/>
              <a:ext cx="103536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8360" y="2408040"/>
              <a:ext cx="9061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225360"/>
            <a:ext cx="97538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LIKOVNA PRAVILA ZA POSLOVNI NAČ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26800" y="914040"/>
            <a:ext cx="74977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čna, kakovostna in trpežna izde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prava s PC-jem zaradi dopolnje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ikovna in slovnična neoporečnost - odnos do posla in partnerje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p slovenski jezi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ravek tipkarskih napa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merna velikost in oblika č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ez pretiranega žargo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umen obseg številk (tab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8120" y="99072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NA 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eb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ovzetek poslovnega nač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. Panoga, podjetje in njegovi proizvodi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anoga/ deja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odjet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izvodi/ 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Raziskava in analiza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ržno področ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naliza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pis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Konkur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Napoved pro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9200" y="13716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IV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Razvoj in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azvoj proizvoda/storitve in tehn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slovna lo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roizvodne op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črt nabave surovin, delov in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Potrebni poslovni pros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Načrtovanje strojev in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Načrtovanje zaposl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75200">
            <a:off x="4800240" y="502920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08120" y="114300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ačrt prodaje /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trž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Opredelitev poslanstva podjetja z vidika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kovanje 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dajna strate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eklama, propaganda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Podpora prodaji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.Management, organizacija in lastni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1430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inančne proje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konomika po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tvoritvena bilanca s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Finančne projekcije za razdobje naslednjih 3-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Načrt ukrepanja v izrednih okoliščin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cena tveganj in proble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X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Terminski nač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tki k poslovnemu načr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75200">
            <a:off x="4038120" y="4572000"/>
            <a:ext cx="28749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3680" y="368280"/>
            <a:ext cx="94932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ASLOVNA STRAN: inform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7680" y="1447920"/>
            <a:ext cx="941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1052640"/>
            <a:ext cx="8089920" cy="54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Grafično znak (logo)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66"/>
                </a:solidFill>
                <a:latin typeface="Arial"/>
              </a:rPr>
              <a:t>POSLOVNI NAČ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66"/>
                </a:solidFill>
                <a:latin typeface="Arial"/>
              </a:rPr>
              <a:t>ZA (podjetje / proizvod / stor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Naslov podjetja (telefon, faks, e-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Odgovorna (kontaktna) os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(klavzula o poslovni skriv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Kraj in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944892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vzetek  poslovnega  načrta  -  sploš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8120" y="990360"/>
            <a:ext cx="8337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1-2 st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en opis posla (poseb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nost izdelka za k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rnat opis zmožnosti podjet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meljitev prodaj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zetek finančnih projek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udba za sovlagate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10-22T20:35:18Z</dcterms:modified>
  <cp:revision>7</cp:revision>
  <dc:subject/>
  <dc:title>Diapozitiv 1</dc:title>
</cp:coreProperties>
</file>