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4A7-0101-4D10-8204-8D222A4D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E5F-7E5D-4C3E-8C3D-4BC0BCD9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2A1-90B8-4FC1-A1D7-E8528540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837-9F1F-4D3A-B00A-97ADC301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4416-7458-4012-B96B-892ED537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D3CB-C67A-40C6-A889-CE5E975F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EF2E-4F0D-4917-A091-A1759A44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FA36-6B84-49AC-AB55-98399BEA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AAC9-FC86-400F-9ADB-63C85103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08FB-6CDE-447A-8130-8CB362FE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F427-C1E7-40C0-B51C-09A209B2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5A2-01E8-4017-80DF-7EF0FA57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6C3E-A08C-4668-98CA-B0C88A7C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B2E5-A9A4-46FA-B67B-2CA4C1AF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11B4-5F61-429C-AB14-291CB108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EDBC-0E0C-4271-AA88-A1A26EF8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4740-21C4-425C-8DF0-B81B48A8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31E-6F92-4361-88CF-8004E7F0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C99-B179-48B3-9F36-E6A4E7BB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B01-1686-4739-B5DE-EB8410D8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FDE-6A1A-44F6-AF7F-A2C90B7C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D97-2141-4F6C-96E1-0C2517FA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16C-1481-4672-A6CE-1434E408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0745-F61A-4D0E-AEB3-259B64A9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FF49-BD1A-425F-B62D-81BA5DC2DB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E100-4681-44CE-B600-1760551061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modul Projektno vod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ja Haz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 in 26.10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za problema/prilož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ključuje socialne, gospodarske, politične pogoje v določenem območ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aliza obstoječega stanja (študije, podatki, zakonodaja, rezultati prejšnjih projektov, statistični podatk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OT analiz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2000" y="4653000"/>
            <a:ext cx="2927160" cy="19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30600" y="260280"/>
            <a:ext cx="5786280" cy="6351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4000" y="2421000"/>
            <a:ext cx="431928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kacija projektne idej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ko dr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26640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 problemskega drev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-1103" b="60187"/>
          <a:stretch/>
        </p:blipFill>
        <p:spPr>
          <a:xfrm>
            <a:off x="2195640" y="189000"/>
            <a:ext cx="6948360" cy="66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Načrtovanj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248520" cy="418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2205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prav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problemsko dre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4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gični okvir projekta – pro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4222800"/>
            <a:ext cx="784872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daj uporabiti logični okv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Za identificiranje, pripravo, ocenjevanje, izvajanje, spremljanje in vrednotenje projek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916280"/>
            <a:ext cx="6337440" cy="1942920"/>
          </a:xfrm>
          <a:prstGeom prst="flowChartDocument">
            <a:avLst/>
          </a:prstGeom>
          <a:solidFill>
            <a:srgbClr val="808080"/>
          </a:solidFill>
          <a:ln cap="rnd" w="381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Izpolnjevanje matrike logičnega okvi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je prvi korak pri pripr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rojektne prij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020000" y="2852640"/>
            <a:ext cx="2124000" cy="16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Logični okvir projekta – matrik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128680"/>
                <a:gridCol w="2097360"/>
                <a:gridCol w="2097000"/>
                <a:gridCol w="1906560"/>
              </a:tblGrid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IKA INTERVENC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KTIVNO PREVERLJIVI INDIKATOR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EDSTVA ZA PREVERJA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POSTAVKE/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VEG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OBALNI CIL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EBNI CILJ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OŽENA        SREDST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0" r="-787" b="64007"/>
          <a:stretch/>
        </p:blipFill>
        <p:spPr>
          <a:xfrm>
            <a:off x="3008160" y="333360"/>
            <a:ext cx="5818320" cy="6243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4360" y="2060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čni okvir – log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Namen projekta/ specifični cilj – čemu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34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idro oblikovanja projekta – začetna točka priprave logičnega okvi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mu je namenjen vaš proje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kšne spremembe želite doseči s projek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bi dosegli, če bi bili 100% uspeš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aj želimo na dolgi r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43640" y="4221000"/>
            <a:ext cx="150840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Že opravljeno del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Pripravljeni anali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potreb na lokalnih trg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usposobljenosti institu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Identificirana projekt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lem/potenciali/prilož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trebe ciljne skup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59640" y="2565360"/>
            <a:ext cx="230184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stvariti spodbudno podporno okolj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i bo s krepitvijo podjetnosti in podjetni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ulture pri mladih v Gorenjski regi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plivalo na povečanje deleža mladih inovativnih podjetih v regi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.M.A.R.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ilj mora 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cific (specifič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surable (merljiv v smislu, časa, kakovosti in denar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tinable (doseglj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alistic (rea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ebound (časovno opredelj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580000" y="3749760"/>
            <a:ext cx="316872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22050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redelite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namen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in cilj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Načrtovanje akti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1557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in za doseganje rezultatov in ciljev projek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j, kdaj, kje ka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črt aktivnosti najbolj viden del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 prepodrobno, le sklopi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inančni, človeški in materialni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lična orod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WBS: strukturna členitev projek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Ganto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6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režni dia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573280" cy="30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erminski nač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9280" y="2455920"/>
            <a:ext cx="8785440" cy="301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črtovanje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568720" cy="4588920"/>
        </p:xfrm>
        <a:graphic>
          <a:graphicData uri="http://schemas.openxmlformats.org/drawingml/2006/table">
            <a:tbl>
              <a:tblPr/>
              <a:tblGrid>
                <a:gridCol w="3097800"/>
                <a:gridCol w="960840"/>
                <a:gridCol w="808200"/>
                <a:gridCol w="1213920"/>
                <a:gridCol w="1434600"/>
                <a:gridCol w="105336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črt aktiv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. d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š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ul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767ff"/>
                    </a:solidFill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denje in koordin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is kulturne dedišč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2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zbor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3.3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ovni paket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cija in razši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nost 4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Rezulta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zultat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do, na kakšen način bomo dosegali cilje (dolgoročni in takojšnj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zvodi ali storitve, kompetence in zmogljivosti, ki so direktni rezultat projektnih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940360" y="4017960"/>
            <a:ext cx="2670120" cy="262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Kazalniki / indikatorji</a:t>
            </a:r>
            <a:r>
              <a:rPr b="0" lang="sl-SI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Z njimi opisujemo, merimo količinske in kakovostne spremem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d4d4d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i definiranju indikatorjev upoštevajmo: QQTL (Quality, Quantity, Timing, Lo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lity (pričakovana kakovost, način sprememb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Quantity (pričakovan obseg sprememb, npr.: kolik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Timing (do kdaj se naj zgodi sprememb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4d4d4d"/>
              </a:buClr>
              <a:buSzPct val="70000"/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Location (področje doseganja rezultatov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20000" y="1700280"/>
            <a:ext cx="181296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dvidevanja/pogoji, tveganj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goji, okoliščine, zunanji dejavniki, ki lahko ogrozijo izvedbo projekta, vendar nanje nimamo neposrednega vpliva - zato jih je treba skrbno preuči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651640" y="3933720"/>
            <a:ext cx="259236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Sredstva za verifikacijo/ preverjanj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vejo kje in v kakšni obliki lahko najdemo informacije o doseganju ciljev in rezultat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4d4d4d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tistične informacije, vprašalniki, analize, projektna dokumentacija, liste prisotnosti, zapisniki srečan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435640" y="4205160"/>
            <a:ext cx="3187800" cy="235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Še potreb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109600" cy="2376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00360" y="2203560"/>
            <a:ext cx="623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Priprava projektnega predlo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bor 12 projektnih predlo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lo v skupina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708360" cy="4176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284720" y="220356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220500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kuj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klope aktivnosti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išit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ičakovane rezult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proizvodi, storitve, kompetence) projekta, ki bodo prispevali k ciljem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076720" y="1628640"/>
            <a:ext cx="3672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ala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prašanj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259520" cy="45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12 projektov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3 članska interna strokovna komisija bo ocenjevala sklope in podsk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ene od 1-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1 = zelo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2 = slab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3 = sprejemljivo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4 = dobro 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5 = zelo dobr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inimalno število točk je 335 točk oziroma 67% vseh možnih toč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rila za izbor projektov 12 projekt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otencialnega nosilca in partnerj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60 toč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Ustreznost projek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7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Opis projektnih aktivnosti in  pričakovani rezulta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100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Trajnost in potencialni učin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klop: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Finančni načrt in stroškovna učinkovit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trebno pridobiti najmanj 45 toč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oki – do kd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rava dokončne anal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0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vi osnutek projektnega predlo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15.1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no svetova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0.11 2007 do 14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ončno oblikovani in posredovani projektni predlo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21.12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jevanje projektnih predlo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03.01.2007 do 10.1.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33ff"/>
                </a:solidFill>
                <a:latin typeface="Arial"/>
              </a:rPr>
              <a:t>Matjaž Gol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im, Center razvoja človeških virov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breška cesta 20, 2000 Marib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Elektronski naslov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m.golob@center-rcv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aze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ijska f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načrtovanja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izva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a zaklju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250520" y="1812960"/>
            <a:ext cx="4062240" cy="3836520"/>
            <a:chOff x="4250520" y="1812960"/>
            <a:chExt cx="4062240" cy="3836520"/>
          </a:xfrm>
        </p:grpSpPr>
        <p:grpSp>
          <p:nvGrpSpPr>
            <p:cNvPr id="118" name=""/>
            <p:cNvGrpSpPr/>
            <p:nvPr/>
          </p:nvGrpSpPr>
          <p:grpSpPr>
            <a:xfrm>
              <a:off x="4250520" y="1812960"/>
              <a:ext cx="4062240" cy="3836520"/>
              <a:chOff x="4250520" y="1812960"/>
              <a:chExt cx="4062240" cy="3836520"/>
            </a:xfrm>
          </p:grpSpPr>
          <p:sp>
            <p:nvSpPr>
              <p:cNvPr id="119" name=""/>
              <p:cNvSpPr/>
              <p:nvPr/>
            </p:nvSpPr>
            <p:spPr>
              <a:xfrm>
                <a:off x="5604480" y="18129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071480" y="282852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071480" y="4069800"/>
                <a:ext cx="124128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04480" y="5085360"/>
                <a:ext cx="135396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50520" y="406980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50520" y="2828520"/>
                <a:ext cx="1240920" cy="56412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016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400000">
                <a:off x="7297200" y="1925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0800000">
                <a:off x="729720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4588920" y="4859640"/>
                <a:ext cx="676800" cy="6768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676800"/>
                  <a:gd name="textAreaBottom" fmla="*/ 677160 h 67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740" stAng="10800000" swAng="5400000"/>
                    <a:lnTo>
                      <a:pt x="12427" y="4420"/>
                    </a:lnTo>
                    <a:lnTo>
                      <a:pt x="12427" y="0"/>
                    </a:lnTo>
                    <a:lnTo>
                      <a:pt x="21600" y="6079"/>
                    </a:lnTo>
                    <a:lnTo>
                      <a:pt x="12427" y="12158"/>
                    </a:lnTo>
                    <a:lnTo>
                      <a:pt x="12427" y="7738"/>
                    </a:lnTo>
                    <a:lnTo>
                      <a:pt x="12427" y="7738"/>
                    </a:lnTo>
                    <a:arcTo wR="9109" hR="4422" stAng="16200000" swAng="-5400000"/>
                    <a:lnTo>
                      <a:pt x="3318" y="21600"/>
                    </a:lnTo>
                    <a:close/>
                  </a:path>
                </a:pathLst>
              </a:cu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88920" y="350568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0800000">
                <a:off x="7635600" y="3505320"/>
                <a:ext cx="338400" cy="451080"/>
              </a:xfrm>
              <a:prstGeom prst="upArrow">
                <a:avLst>
                  <a:gd name="adj1" fmla="val 33333"/>
                  <a:gd name="adj2" fmla="val 74980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5400000">
                <a:off x="6139800" y="2517840"/>
                <a:ext cx="338400" cy="1184760"/>
              </a:xfrm>
              <a:prstGeom prst="upArrow">
                <a:avLst>
                  <a:gd name="adj1" fmla="val 33333"/>
                  <a:gd name="adj2" fmla="val 82875"/>
                </a:avLst>
              </a:prstGeom>
              <a:solidFill>
                <a:srgbClr val="66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04480" y="19256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Program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71480" y="294120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200" spc="-1" strike="noStrike">
                    <a:solidFill>
                      <a:srgbClr val="000000"/>
                    </a:solidFill>
                    <a:latin typeface="Trebuchet MS"/>
                  </a:rPr>
                  <a:t>Indentifik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71480" y="4182480"/>
                <a:ext cx="12412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Oblikov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04480" y="5198040"/>
                <a:ext cx="13539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Financir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50520" y="418248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Izvajan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50520" y="2941200"/>
                <a:ext cx="12409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Evalvaci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d projektne ideje do projek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71640" y="3166920"/>
            <a:ext cx="7272360" cy="20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10-22T10:25:12Z</dcterms:modified>
  <cp:revision>19</cp:revision>
  <dc:subject/>
  <dc:title>Diapozitiv 1</dc:title>
</cp:coreProperties>
</file>