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38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38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52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A0C01-D632-4357-AC35-8CE6459F86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43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685800"/>
            <a:ext cx="4545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BD8-E62D-40CC-8EFE-4A598109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B7D-1FF0-4443-B266-088D7011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30F-08C5-4F3C-9BAD-25C40355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76F-38F6-4B95-BC82-96B65CF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884-B209-4FCD-AB54-FCE7BA83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ECEC-3D19-478E-882B-437B305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D690-7CCB-47A9-9C2F-1C16F141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A56-8F31-4061-8BBB-7862982D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274-09CD-495D-8E3F-C1527ACD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4E8-B225-4BB6-BA37-8430F59A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0B6-7A67-4F9A-82FA-F9DDD03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DD6-5142-47D8-980D-FC269E6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EDBA-D849-46D8-B902-CF1CB13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6150-58C4-4A7F-B5D5-CC2E0A3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9E27-681D-42E7-BF3C-63CC1D1B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310-85FF-4680-A42F-20E85B50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812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99040" y="15998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812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99040" y="3965040"/>
            <a:ext cx="2638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FE28-AFAA-4999-A96B-11C6CD2B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E06-EE40-48BB-800A-2080F7EA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5E6-9A48-4785-9E4A-B874FB2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B08-AC66-4A10-BDEF-DC05F2B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196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0F9-0681-4FF4-BFA4-91E080B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A72-D0D4-4C41-ABC9-DAE868D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39650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C8E-8944-415F-B9A3-4AAA920B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599840"/>
            <a:ext cx="399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961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E5F-FFE4-4545-B33E-713BAFB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360" y="304920"/>
            <a:ext cx="7611840" cy="1104480"/>
            <a:chOff x="1071360" y="304920"/>
            <a:chExt cx="7611840" cy="1104480"/>
          </a:xfrm>
        </p:grpSpPr>
        <p:sp>
          <p:nvSpPr>
            <p:cNvPr id="1" name=""/>
            <p:cNvSpPr/>
            <p:nvPr/>
          </p:nvSpPr>
          <p:spPr>
            <a:xfrm flipH="1">
              <a:off x="4867920" y="304920"/>
              <a:ext cx="11044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0160" y="30492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000" y="306000"/>
              <a:ext cx="110268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160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720" y="304920"/>
              <a:ext cx="110304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96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6F023-C2A4-4D0D-923A-4BDBB9C3D4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96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48" name="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2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002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E9093C-FAD1-45DB-BF80-1881339E67A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389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86920" y="3933720"/>
            <a:ext cx="727236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Modul št. 2/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PRIMER OBLIKOVANJA NOVEGA POKLICNEGA PROFILA ( POMELA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Alenka STUPAR, univ, dipl. so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e5ebf7"/>
                </a:solidFill>
                <a:latin typeface="Arial"/>
                <a:ea typeface="Arial"/>
              </a:rPr>
              <a:t>21. sept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95400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12944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64000" y="1897200"/>
            <a:ext cx="1152360" cy="855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940360" y="83664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Projekt delno financira Evropska uni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ogodba št. C1536-07M800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iprava pob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86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i tipičnih del v poklicu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na potreb na trgu dela glede na                                                                                    dolgoročni razvoj gospodarstva oz.                                                                                     dejavnosti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na podlaga oz. predpisi v SLO in                                                                            državah EU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narodna primerljivost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ovalci pobude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likovanje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36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 in koda poklica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ven zahtevnosti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licne kompetence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is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dela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aloge za dokazovanja usposoblje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kataloga Pletar 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( Priloga: Katalog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7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ročja dela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 in naloge (ključna dela)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anja in spretnosti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5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oge za dokazovanje usposoblj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aloga: Identifikacija novih poklicnih                                                                          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70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jte 3 nove poklicne profile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erite enega glede na perspektivnost                                                                    dejavnosti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ite Pobudo za oblikovanje                                                                              poklicnega  standarda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kujte poklicni standard (raven                                                                                        zahtevnosti, poklicne kompetence,                                                                                    opis poklicnega standarda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2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ran projekt za realizacijo že                                                                                     zastavljene iniciative lokalne skupnosti za                                                                        razvoj perspektivnih dejavnosti na osnovi                                                                           lokalnih razvojnih potencialov – tradicije                                                                             domače obrti (lončarstvo – pletarstvo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12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irane potrebe po novih znanjih in                                                                            spretnostih za opravljanje dejavnosti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hodišča za oblikovanje novega poklicneg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83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elani programi usposabljanj (za pletenje                                                                                                                                            izdelkov iz ličja in oblikovanja in gline)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postavljena in delujoča učna delovanica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11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Nacionalnih poklicnih kvalifikacija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riteriji za izbor novih poklicnih profil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ktivnost dejavnosti glede na nove potrebe trga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evilo potencialnih kandidatov za N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4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cija na področju izdelovanja izdelkov domačih obrti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spektivnost dejavnos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8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ponudbe in povpraševanja po                                                                                izdelkih naravnih materialov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uporabe naravnih                                                                           materialov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 trendi na področju razvoja podeželja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ni servis za razvoj in trženje izdelkov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liza človeških vi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65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čitev kriterijev za izbor ciljne skupine                                                                           (BO, podzaposleni, končana OŠ ali brez,                                                                          lastnik/najemnik  zemlje)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brezposelnih oseb na                                                                      podeželj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ciljne skupine podzaposlenih na                                                                             podeželju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1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dicija domače obrt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elujočih izdelovalcev izdelkov                                                                               iz naravnih materialov v Prekmurju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znanj in spretnosti s področja                                                                         domačih obrti pri lokalnem prebivalstvu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77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kacija morebitnih programov                                                                                     usposabljanj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brana nova poklicna prof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2170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ar/pletarka iz ličja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čar/lonč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opek oblikovanja poklicnega standar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2600" cy="713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pobude (pobudo je pripravil                                                                                   nosilec projekta)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novanje delovne skupine za pripravo                                                                        kataloga standardov strokovnih znanj in                                                                             spretnosti (sodelovanje različnih strok)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ovni sodelavec s strani CPI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ava Kataloga standardov strokovnih                                                                            znanj in spretnosti za PK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69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ditev na Strokovnem svetu RS za                                                                                 poklicno in strokovno izobraževanje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godba št. 1047-4/07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Študija s področja socialnega podjetništva v Republiki Sloveniji;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a Kociper</cp:lastModifiedBy>
  <dcterms:modified xsi:type="dcterms:W3CDTF">2007-10-03T12:12:44Z</dcterms:modified>
  <cp:revision>7</cp:revision>
  <dc:subject/>
  <dc:title>Modul št. 2/b PRIMER OBLIKOVANJA NOVEGA POKLICNEGA PROFILA ( POMELAJ) Alenka STUPAR, univ, dipl. soc.  21. september 2007</dc:title>
</cp:coreProperties>
</file>