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CF5-BD18-4B2A-8DE7-053C2EFF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B07-2379-41BB-90CC-6CF91482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2AF-52A6-4400-AAC3-CA9F4010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1E4-2A5B-4A08-BFBE-7F0DE4E8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9706-6423-4D24-BA0D-81B57843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1B31-E6EB-4B58-8661-1C1734FA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9AB7-0D6A-46BC-AEC1-322890E2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253B-D643-4DE1-9776-E4598BAB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4921-FA3D-4A72-9989-D2131B72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7B56-6D5A-4A5E-BE70-16517D51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52F8-25E1-4FE4-AA50-C5ED78DC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EC4-F4C6-42B3-9FF0-AA67DE36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96FF-85E7-4278-A645-02C986B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5258-7665-48C8-9DBD-2F940677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9825-E717-4BEB-A2D1-28E6DDEF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1D31-1F4C-4694-90B6-1D797108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F0F0-3FB4-449C-AF05-CA522630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DCE-1F21-4D31-89F6-C5366F9D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981-EE53-4D40-9B0F-513104BD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EB0-9846-4799-B36D-AC79F981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6A9-F3CA-4276-9E2B-36FA770F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158-FB41-4A12-958F-C6B8A19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BC9-5831-4461-9F5E-48479613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0E3-84A5-40F6-8B31-5A69B2A0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BF29-6267-4328-B838-1F245D4ECA4B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9C74-4EEF-46F0-9D1C-74E869545A4C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2421000"/>
            <a:ext cx="7561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Usposabljanje promotorjev socialnega (družbenega) podjetni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3.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ziskovanje organizacijskih kapacit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osilcev  socialne ekonomije ter nosilcev podpornega okolja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denka Kovač,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21st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1152360" cy="85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62360"/>
            <a:ext cx="8424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truktura  metodološkega pristopa  v okviru pro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todologija je sestavljena iz 3 komplementarnih sklopov vprašanj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manjkov na področju tehnično-tehnološkega 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definirati ključna področja tehnično-tehnoloških znanj kjer organizacija potrebuje izboljšanje) (namenjeno predvsem za  javni sektor, deloma uporabno tudi za sektor družbenega podjetništva- socialne ekonom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.sklop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Analiza  manjkajočih organizacijskih kompetenc neprofitnio usmerjenih organizaci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 cilj je definirati ključne manjkajoče kompetence ter na njihovi osnovi oblikovati  razvojne projekte tipa “capacity building” za podporo 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3.sklo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 Organizacijska samo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(samoocena mikroorganizacijskih področij kjer so prevladujoči manjki in najbolj potrebne intervencije) – (uporabno tako za javni kot  zasebni neprofitni se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41640"/>
            <a:ext cx="78487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1: Ocena manjkajočih  Tehnično-tehnološ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atera so ključna tri področja tehnično-tehnoloških znanj s področja  modernih pristopov k načrtovanju in izvajanju socialnih politik ter socialnega podjetništva (označi s križcem kjer relevantno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1844640"/>
          <a:ext cx="8424720" cy="3384720"/>
        </p:xfrm>
        <a:graphic>
          <a:graphicData uri="http://schemas.openxmlformats.org/drawingml/2006/table">
            <a:tbl>
              <a:tblPr/>
              <a:tblGrid>
                <a:gridCol w="2155680"/>
                <a:gridCol w="1463760"/>
                <a:gridCol w="1441440"/>
                <a:gridCol w="1762200"/>
                <a:gridCol w="1601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oriteta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i  pomemb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. Socialno vključevanje skozi aktivno participacijo- EU koncepti, najboljše evropske prakse, dobro targetiranje in vloge različnih partnerj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2. Osnovni principi učinkovitega   razvojnega načrtovanja in implementacije socialnih poli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79280" y="274680"/>
          <a:ext cx="8713800" cy="6003720"/>
        </p:xfrm>
        <a:graphic>
          <a:graphicData uri="http://schemas.openxmlformats.org/drawingml/2006/table">
            <a:tbl>
              <a:tblPr/>
              <a:tblGrid>
                <a:gridCol w="2229120"/>
                <a:gridCol w="1514160"/>
                <a:gridCol w="1490760"/>
                <a:gridCol w="1822680"/>
                <a:gridCol w="1657080"/>
              </a:tblGrid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3. Moderni princi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pravljanja socialnih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Social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governance),zaupanj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 kapital, socia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vesticije/socialna zašč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4.Načrtovanje polit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ziranih na  dejst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Evidence based 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5. Razumevanjer vzro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rginalizacij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črtovanje strategij izhodo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6. Harmoniz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inančnih resursov in  cilj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7. Zagotavl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ertificiranje izvajalc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8.  Socialno vključe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umevanje ranljiv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iljnih skupin kot ključ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ležnikov v proces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76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9. Razume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o ekonomsk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ogov neenak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olov  in načrt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s posluhom 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azlične potrebe spo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gender sensitive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aking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0.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tik temelječih 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rezultatih,monitor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evalvacija (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based Management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&amp;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1. Strateš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vezovanje in jav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sebna partner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2104920"/>
                <a:gridCol w="1430280"/>
                <a:gridCol w="1408320"/>
                <a:gridCol w="1720800"/>
                <a:gridCol w="15652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2. Socialne inov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 socialno /družb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3. Upravljanje 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rajnostnim razvojem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loga socialn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jetniš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4. Ohranjanje 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iranje kultur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aravne dediščine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ružbeno podjetništ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5. Podpo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strumenti finančn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efinačni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.1.16. Opišite področja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o mislite da 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membno a zgoraj 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pis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1280" y="200160"/>
            <a:ext cx="733464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2: Splošna Analiza manjkajočih organizacijskih kompete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1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   Katere spodaj naštete kompetence, bi lahko prepoznali kot klju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njkajoče kompetence vaše organizacije : ( namenjeno predvsem 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   </a:t>
            </a:r>
            <a:r>
              <a:rPr b="1" i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bstoječe  organizacije v sektorju socialne ekonomi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628640"/>
          <a:ext cx="8280360" cy="4407120"/>
        </p:xfrm>
        <a:graphic>
          <a:graphicData uri="http://schemas.openxmlformats.org/drawingml/2006/table">
            <a:tbl>
              <a:tblPr/>
              <a:tblGrid>
                <a:gridCol w="2252520"/>
                <a:gridCol w="2025720"/>
                <a:gridCol w="2025720"/>
                <a:gridCol w="19764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ljučna manjkajoč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. Učinkovito vodenje in notranja komunika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2. Spodbujajoč podjetno naravnan  lideršip, usmerjen na ustvarjalno reševanje problem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3. Sposobnost dostopanja do EU  sredstev, EU projektiranje proce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4. Učinkovito vodenje 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57200" y="274680"/>
          <a:ext cx="8229240" cy="585576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5. Uporaba moderni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odij za promocijo in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javno zagovar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ih id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6. Uva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andardov kakovosti 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se in certific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ih stor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7. Osebnostni raz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h in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 človeškimi viri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8. Učinkovit  si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jemanja odločit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274680"/>
          <a:ext cx="8229240" cy="5855400"/>
        </p:xfrm>
        <a:graphic>
          <a:graphicData uri="http://schemas.openxmlformats.org/drawingml/2006/table">
            <a:tbl>
              <a:tblPr/>
              <a:tblGrid>
                <a:gridCol w="2237760"/>
                <a:gridCol w="2013840"/>
                <a:gridCol w="2014560"/>
                <a:gridCol w="196308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0. 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todologije in transf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novaci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1. Upravlj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rtfelja  programov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jek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2. Coaching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zaposleni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.13. Upravljanj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mentoriranje in co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izvajalcev stori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ocialnega vključe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Ocenjevanje organizacijskih kapacitet po metodi  “7 S Strategy”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-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ena najstarejših  metodologij za analizo  organizacijskih kapacit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porablja se tudi za   neprofitno usmerjene organizacije (podjet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sobnost samoocene organizacij predstavlja enega najpomembnejših vzvodov za  nadaljnji razvoj in preprečevanje sicer  neizogibnih  proble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aša pričakovanja in cilji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7 S Strateg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melji na 7  neodvisnih variablah (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 Peters and Robert Waterman i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 Search Of Excellenc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), ki sovplivajo na delovanje  in moč organizacij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( Veš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Zaposl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til vod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d valu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 Skupne vre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3284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27280" y="3715920"/>
            <a:ext cx="1297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3500280"/>
            <a:ext cx="33130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HARD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48000" y="4436640"/>
            <a:ext cx="1511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08360" y="479736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924360" y="501300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796000" y="501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4365720"/>
            <a:ext cx="27370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OFTWARE 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7S in  neprofitno usmerjene organizacij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jučno je spoznanje da še bolj kot za profitne organizacije velja za neprofitno usmerjene -  brez  razvitih “ software elementov” ne more  uspešno delov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voj teh elementov mora zato postati ključna vsebina  strateškega razvoja vseh organizacij socialne ekonomije (podjetništ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109800"/>
            <a:ext cx="7991280" cy="18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klop 3: Organizacijska  samoocena obstoječih kapacitet in načrtovane organizacijske spreme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rganizacija……………………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lovno mesto……………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e in priimek ……………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5640"/>
                <a:tab algn="l" pos="210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0120" y="2060640"/>
          <a:ext cx="9522000" cy="3941640"/>
        </p:xfrm>
        <a:graphic>
          <a:graphicData uri="http://schemas.openxmlformats.org/drawingml/2006/table">
            <a:tbl>
              <a:tblPr/>
              <a:tblGrid>
                <a:gridCol w="857160"/>
                <a:gridCol w="2376720"/>
                <a:gridCol w="2766960"/>
                <a:gridCol w="1295280"/>
                <a:gridCol w="1079640"/>
                <a:gridCol w="11462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dro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Defini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bstoječe st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lanirano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rateško načrtovan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ktivnosti, ki jih organizacija trenutno podvzema z namenom  iskanja pravih odzivov na pričakovane srednjeročne spremembe v okolj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struktura, organizacijska specializacija in načini koordiniranja  za uvajanje načrtovanih strateških spremememb tako na področju razvoja obsega  kot diverzifikacije poslo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730080"/>
                <a:gridCol w="1224000"/>
                <a:gridCol w="2737080"/>
                <a:gridCol w="1152360"/>
                <a:gridCol w="1224000"/>
                <a:gridCol w="129528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istemi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oced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ormalni in neformalni  procesi in procedure v pomoč uresničevanju  strateških  ciljev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ultura organizacije sestoji iz dveh  compon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Organizacijska kultura: 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evladujoče vrednote in prepričanja ter norme, ki so se razvile skozi čas  in  postale relativno trajne značilnosti organizacije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til vodenja: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se bolj nanaša na to kaj  vodstvo počne, kot kaj  promovira: kako vodstvo upravlja s časom, kam usmerja pozornost, kakšne simbole uporablja (konstruktivne, destruktivne), dvojna lojalnost vodstva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Zaposleni (staf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Vodenje ljudi in upravljanje s človeškimi viri – procesi  notranjega razvoja managerjev, načini socializacije in razvoja osnovnih vrednot,, nalčini uvajanja začetnikov in razvoja poklicnih karier  zaposlen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30120" y="692280"/>
          <a:ext cx="8483760" cy="4035240"/>
        </p:xfrm>
        <a:graphic>
          <a:graphicData uri="http://schemas.openxmlformats.org/drawingml/2006/table">
            <a:tbl>
              <a:tblPr/>
              <a:tblGrid>
                <a:gridCol w="569880"/>
                <a:gridCol w="1150920"/>
                <a:gridCol w="2665440"/>
                <a:gridCol w="1295640"/>
                <a:gridCol w="1439640"/>
                <a:gridCol w="13622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pret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Katere so ključne competence organizacije, kaj organizacija  dela najboljše in načini razvoja organizacijskih kompeten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e vrednote in cil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Usmerjevalni koncepti in  osnovne  ideje organizacije okoli katerih se razvija  poslovanje, poslanstvo organizacije, ki mora biti enostavno in mora biti razumljivo vsem v organizaciji  čeprav morda še neprepoznano s strani zunanjega oko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Skupna ocena organiz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89080" y="5086440"/>
            <a:ext cx="1657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enjevalna lestvic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 – zel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 – pretežno šib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– sred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 – precej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 – zelo moč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Skupinska Va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delite se v skupine po 3 udeležence in poizkusite na primeru enega od lastnih podjetij izpolniti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prašalnik (orodje) za ocenjevanje organizacijskih kapacitet  neprofitnih organizaci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(max 30 min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 koncu bo vsaka skupina prezentirala 5 izbranmih prioritetnih aktivnosti za izboljšanje  delovanja ter  osnovno idejo projekta za podporo iz sredstev E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Domača nalog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vedite  vodene intervj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eno organizacijo   javnega sektorja (občine, javni zavodi, ministrstva) z uporabo  orodja za ugotavljanje manjkajočih tehničnih kompetenc in splošnih organizacijskih kompete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5 različnih institucij/podjetij s področja  socialne ekonomije ( Uporaba  metode 7S Strateg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Arial"/>
              </a:rPr>
              <a:t>Z vsaj 2-ma organizacijama/podjetjema  poglobljeno oceno s pomočjo  uporabe “Orodja za oceno organizacijskih kapacitet  neprofitnih organizacij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f4727e"/>
                </a:solidFill>
                <a:latin typeface="Arial"/>
              </a:rPr>
              <a:t>Na podlagi pridobljenih  informacij poizkušajte oblikovati vsak vsaj 1 projektni predlog za “ capacity building”, ki ga boste v nadaljevanju razdelovali v okviru 4.in 5. modula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veliko ustvarjalnosti pri delu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Cilj 3.Modul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deležence  seznan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 nekaterimi  metodologijami raziskovanja organizacijskih kapacitet sektorja  socialne ekonom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pristopi k  razvoju novih kompetenc oz.  novih poklicnih profilov potrebnih za hitrejši razvoj socialnega podjetni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Zakaj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jekti  za pridobitev podpore  strukturnih skladov se  bodo nanašali tako na 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opolnoma nove podje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kor tu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  projekte tipa “ razvoja kapacitet obstoječih subjektov”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njihovo učinkovito vlogo na  področju trga socialnih, ekoloških in drugih relevantnih storitev za socialno ekonomijo in za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Osnovni metodološki pripomočk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–TESES -  Country Report on 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todologija za raziskovanje organizacijskih kapacitet ( Mc Kinsey 7S Strategy +TNA ) </a:t>
            </a:r>
            <a:r>
              <a:rPr b="0" lang="sl-SI" sz="2900" spc="-1" strike="noStrike">
                <a:solidFill>
                  <a:srgbClr val="000000"/>
                </a:solidFill>
                <a:latin typeface="Arial"/>
              </a:rPr>
              <a:t>Orodje za vrednotenje organizacijskih kapacitet neprofitno usmerjenih organizacij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U Benchmark   novih potrebnih poklicnih profilov (kompetenc) za razvoj soc. podjetniš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tudija primera  oblikovanja poklicnega profila (tehničnih kompetenc)  -Pome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možna metodološka grad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Arial"/>
              </a:rPr>
              <a:t>MCF –Organizational Capacity Assesment Tool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Marguerite Casey Found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Nekaj iztočnic za  diskus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narodna primerjava trdnosti  civilno-družbenih organizacij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USAID  2005 NGO sustainability index  - N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ocenjevalni lstvici  od 1-7 , kjer 1 pomeni najboljšo oceno in  7 najnižjo oceno,  je znašal splošen  indeks vdržnosti slovenskih nevladnih organizacij  v letu  2001 3,9 in v letu 2005 4,0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400" spc="-1" strike="noStrike">
                <a:solidFill>
                  <a:srgbClr val="000000"/>
                </a:solidFill>
                <a:latin typeface="Arial"/>
              </a:rPr>
              <a:t>Primerjava po  posameznih elementi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avno okolje 3,7 indeks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ganizacijska moč 4,2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osobnost zagovarjan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,9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agotav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nje storitev 3,6 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azpoložljiva infrastruktura 4.1 točk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avni  ugled 4.2  toč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blike aktivnosti na področju družbene ekonomije in nekaj podatkov o zaposlenosti v tem sektorju v Sloveniji  (2005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25360"/>
          <a:ext cx="8207280" cy="49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072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WOT ANALIZA SEKTORJA 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RUŽBENE EKONOMIJE V SLOVENIJI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7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ZDENKA KOVAČ</cp:lastModifiedBy>
  <dcterms:modified xsi:type="dcterms:W3CDTF">2007-09-19T22:57:08Z</dcterms:modified>
  <cp:revision>18</cp:revision>
  <dc:subject/>
  <dc:title>Diapozitiv 1</dc:title>
</cp:coreProperties>
</file>