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5D85-4430-4C67-8D11-A9BADAFD7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5212-659E-4C5D-A9F0-7CD287D4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285D-A339-46D5-A29A-7C8BC3B11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0A2F-5DEE-4C3C-BE92-A144CC02B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F7BF-647C-4765-93F9-019895292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0D67-2CE6-4340-B7A8-CAE8119D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4E26-5099-4195-9AE2-85B12BCE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A90F-397B-4BB8-B124-E6C78D00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49F8-A76F-4E43-B0B3-1978658E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5A7E-1AE7-4395-8E0C-1FDEA422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0FF9-618C-462F-83B6-6B95BF4B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36CC-7C00-4EF0-A33B-52C03ED3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FBE4-CF6A-43FE-8616-B531A107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7262-D32C-47BC-B17A-80FEE1EA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2939-B838-4800-9F0F-81BBD0D0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D274-97D4-4B20-B851-386964F9C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C800-37D7-47D3-95B1-8EC62953C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E2B4-8FA5-4B1F-B8BD-B3A7E2CB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1B00-D22B-4B06-A4E7-536DE3D3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57EE-4E6C-47BB-9451-82C9B694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EF3D-9EA2-4E9E-85EC-5EF3E590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9F35-E097-4F0C-9A02-8283E489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34F5-9174-46DB-ABA0-8D173F51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7363-5812-43AF-BB25-C07BCB6E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7CD0-B80A-4AD1-9EF5-196FE6F7366C}" type="slidenum"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8B45-53A9-4B2A-9D20-DA2A72F6FCF4}" type="slidenum"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87280" y="2421000"/>
            <a:ext cx="756144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Usposabljanje promotorjev socialnega (družbenega) podjetništ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3. Mod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Raziskovanje organizacijskih kapacit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nosilcev  socialne ekonomije ter nosilcev podpornega okolja 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denka Kovač,M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21st Septemb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932360" y="1052640"/>
            <a:ext cx="954000" cy="1225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129440" cy="527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203640" y="1125360"/>
            <a:ext cx="1152360" cy="855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940360" y="83592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WOT ANALIZA SEKTORJA  </a:t>
            </a: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DRUŽBENE EKONOMIJE V SLOVENIJI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280360" cy="514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162360"/>
            <a:ext cx="8424720" cy="64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Struktura  metodološkega pristopa  v okviru projek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etodologija je sestavljena iz 3 komplementarnih sklopov vprašanj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1.sklop: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Analiza manjkov na področju tehnično-tehnološkega zn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(definirati ključna področja tehnično-tehnoloških znanj kjer organizacija potrebuje izboljšanje) (namenjeno predvsem za  javni sektor, deloma uporabno tudi za sektor družbenega podjetništva- socialne ekonomi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2.sklop: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Analiza  manjkajočih organizacijskih kompetenc neprofitnio usmerjenih organizacij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( cilj je definirati ključne manjkajoče kompetence ter na njihovi osnovi oblikovati  razvojne projekte tipa “capacity building” za podporo ES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3.sklop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 Organizacijska samooc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(samoocena mikroorganizacijskih področij kjer so prevladujoči manjki in najbolj potrebne intervencije) – (uporabno tako za javni kot  zasebni neprofitni sek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95280" y="341640"/>
            <a:ext cx="7848720" cy="1310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klop1: Ocena manjkajočih  Tehnično-tehnoloških kompete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Katera so ključna tri področja tehnično-tehnoloških znanj s področja  modernih pristopov k načrtovanju in izvajanju socialnih politik ter socialnega podjetništva (označi s križcem kjer relevantno)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95280" y="1844640"/>
          <a:ext cx="8424720" cy="3384720"/>
        </p:xfrm>
        <a:graphic>
          <a:graphicData uri="http://schemas.openxmlformats.org/drawingml/2006/table">
            <a:tbl>
              <a:tblPr/>
              <a:tblGrid>
                <a:gridCol w="2155680"/>
                <a:gridCol w="1463760"/>
                <a:gridCol w="1441440"/>
                <a:gridCol w="1762200"/>
                <a:gridCol w="1601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droč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ioriteta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ioriteta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ioriteta 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i  pomemb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. Socialno vključevanje skozi aktivno participacijo- EU koncepti, najboljše evropske prakse, dobro targetiranje in vloge različnih partnerj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2. Osnovni principi učinkovitega   razvojnega načrtovanja in implementacije socialnih polit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79280" y="274680"/>
          <a:ext cx="8713800" cy="6003720"/>
        </p:xfrm>
        <a:graphic>
          <a:graphicData uri="http://schemas.openxmlformats.org/drawingml/2006/table">
            <a:tbl>
              <a:tblPr/>
              <a:tblGrid>
                <a:gridCol w="2229120"/>
                <a:gridCol w="1514160"/>
                <a:gridCol w="1490760"/>
                <a:gridCol w="1822680"/>
                <a:gridCol w="1657080"/>
              </a:tblGrid>
              <a:tr h="147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3. Moderni princip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upravljanja socialnih polit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Social poli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governance),zaupanje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ocialni kapital, social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nvesticije/socialna zašči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4.Načrtovanje polit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baziranih na  dejstvi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Evidence based poli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akin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5. Razumevanjer vzrok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arginalizacije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ačrtovanje strategij izhodov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6. Harmonizira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finančnih resursov in  cilj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litik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7. Zagotavlja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andardov kakovosti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ertificiranje izvajalc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ocialnih storit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8.  Socialno vključeva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–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razumevanje ranljivi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iljnih skupin kot ključni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eležnikov v procesu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468360" y="765000"/>
          <a:ext cx="8229600" cy="5131080"/>
        </p:xfrm>
        <a:graphic>
          <a:graphicData uri="http://schemas.openxmlformats.org/drawingml/2006/table">
            <a:tbl>
              <a:tblPr/>
              <a:tblGrid>
                <a:gridCol w="2104920"/>
                <a:gridCol w="1430280"/>
                <a:gridCol w="1408320"/>
                <a:gridCol w="1720800"/>
                <a:gridCol w="1565280"/>
              </a:tblGrid>
              <a:tr h="243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9. Razumev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ocio ekonomski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razlogov neenak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polov  in načrtov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litik s posluhom 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različne potrebe spol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gender sensitive poli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aking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0.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litik temelječih 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rezultatih,monitoring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evalvacija (Resu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based Management 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&amp;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1. Strateš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vezovanje in jav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zasebna partnerst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457200" y="274680"/>
          <a:ext cx="8229600" cy="5856120"/>
        </p:xfrm>
        <a:graphic>
          <a:graphicData uri="http://schemas.openxmlformats.org/drawingml/2006/table">
            <a:tbl>
              <a:tblPr/>
              <a:tblGrid>
                <a:gridCol w="2104920"/>
                <a:gridCol w="1430280"/>
                <a:gridCol w="1408320"/>
                <a:gridCol w="1720800"/>
                <a:gridCol w="156528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2. Socialne inovaci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n socialno /družbe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djetništ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3. Upravljanje 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rajnostnim razvojem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vloga socialne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djetništ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4. Ohranjanje 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ktiviranje kulturne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aravne dediščine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ružbeno podjetništ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5. Podpor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nstrumenti finančni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efinačni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6. Opišite področja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atero mislite da 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membno a zgoraj 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pis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21280" y="200160"/>
            <a:ext cx="7334640" cy="1310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klop 2: Splošna Analiza manjkajočih organizacijskih kompete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2.1</a:t>
            </a: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.   Katere spodaj naštete kompetence, bi lahko prepoznali kot ključ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   </a:t>
            </a: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anjkajoče kompetence vaše organizacije : ( namenjeno predvsem 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   </a:t>
            </a: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bstoječe  organizacije v sektorju socialne ekonomij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68360" y="1628640"/>
          <a:ext cx="8280360" cy="4407120"/>
        </p:xfrm>
        <a:graphic>
          <a:graphicData uri="http://schemas.openxmlformats.org/drawingml/2006/table">
            <a:tbl>
              <a:tblPr/>
              <a:tblGrid>
                <a:gridCol w="2252520"/>
                <a:gridCol w="2025720"/>
                <a:gridCol w="2025720"/>
                <a:gridCol w="1976400"/>
              </a:tblGrid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droč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ljučna manjkajoča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ljučna manjkajoča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ljučna manjkajoča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7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1. Učinkovito vodenje in notranja komunikac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2. Spodbujajoč podjetno naravnan  lideršip, usmerjen na ustvarjalno reševanje problem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3. Sposobnost dostopanja do EU  sredstev, EU projektiranje proces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4. Učinkovito vodenje projek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57200" y="274680"/>
          <a:ext cx="8229240" cy="5855760"/>
        </p:xfrm>
        <a:graphic>
          <a:graphicData uri="http://schemas.openxmlformats.org/drawingml/2006/table">
            <a:tbl>
              <a:tblPr/>
              <a:tblGrid>
                <a:gridCol w="2237760"/>
                <a:gridCol w="2013840"/>
                <a:gridCol w="2014560"/>
                <a:gridCol w="1963080"/>
              </a:tblGrid>
              <a:tr h="169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5. Uporaba moderni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odij za promocijo in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javno zagovarj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ganizacijskih ide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6. Uvaj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andardov kakovosti  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ocese in certificir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ocialnih storit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7. Osebnostni razv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Zaposlenih in upravlj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 človeškimi viri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6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8. Učinkovit  si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prejemanja odločit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457200" y="274680"/>
          <a:ext cx="8229240" cy="5855400"/>
        </p:xfrm>
        <a:graphic>
          <a:graphicData uri="http://schemas.openxmlformats.org/drawingml/2006/table">
            <a:tbl>
              <a:tblPr/>
              <a:tblGrid>
                <a:gridCol w="2237760"/>
                <a:gridCol w="2013840"/>
                <a:gridCol w="2014560"/>
                <a:gridCol w="1963080"/>
              </a:tblGrid>
              <a:tr h="128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10. No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etodologije in transf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novaci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11. Upravlj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rtfelja  programov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ojek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12. Coaching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entoriranje zaposleni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13. Upravljanj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entoriranje in coach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zvajalcev storit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ocialnega vključev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400" spc="-1" strike="noStrike">
                <a:solidFill>
                  <a:srgbClr val="000000"/>
                </a:solidFill>
                <a:latin typeface="Arial"/>
              </a:rPr>
              <a:t>Ocenjevanje organizacijskih kapacitet po metodi  “7 S Strategy”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7-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- ena najstarejših  metodologij za analizo  organizacijskih kapacit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porablja se tudi za   neprofitno usmerjene organizacije (podjet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posobnost samoocene organizacij predstavlja enega najpomembnejših vzvodov za  nadaljnji razvoj in preprečevanje sicer  neizogibnih  problem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aša pričakovanja in cilji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7 S Strategij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emelji na 7  neodvisnih variablah (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m Peters and Robert Waterman i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n Search Of Excellence</a:t>
            </a:r>
            <a:r>
              <a:rPr b="0" i="1" lang="sl-SI" sz="2800" spc="-1" strike="noStrike">
                <a:solidFill>
                  <a:srgbClr val="000000"/>
                </a:solidFill>
                <a:latin typeface="Arial"/>
              </a:rPr>
              <a:t>), ki sovplivajo na delovanje  in moč organizacij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ateg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k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kill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( Vešč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ff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( Zaposle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( Stil vodenj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red value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( Skupne vredno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43280" y="3284640"/>
            <a:ext cx="1224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627280" y="3715920"/>
            <a:ext cx="12970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11280" y="357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11640" y="3500280"/>
            <a:ext cx="3313080" cy="287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HARDWARE ORGANIZ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348000" y="4436640"/>
            <a:ext cx="15112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708360" y="4797360"/>
            <a:ext cx="1079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924360" y="501300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5796000" y="5013360"/>
            <a:ext cx="504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76720" y="4365720"/>
            <a:ext cx="273708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OFTWARE ORGANIZ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400" spc="-1" strike="noStrike">
                <a:solidFill>
                  <a:srgbClr val="000000"/>
                </a:solidFill>
                <a:latin typeface="Arial"/>
              </a:rPr>
              <a:t>7S in  neprofitno usmerjene organizacij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ljučno je spoznanje da še bolj kot za profitne organizacije velja za neprofitno usmerjene -  brez  razvitih “ software elementov” ne more  uspešno delov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azvoj teh elementov mora zato postati ključna vsebina  strateškega razvoja vseh organizacij socialne ekonomije (podjetništ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68360" y="109800"/>
            <a:ext cx="7991280" cy="189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klop 3: Organizacijska  samoocena obstoječih kapacitet in načrtovane organizacijske spremem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rganizacija………………………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elovno mesto……………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me in priimek ……………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30120" y="2060640"/>
          <a:ext cx="9522000" cy="3941640"/>
        </p:xfrm>
        <a:graphic>
          <a:graphicData uri="http://schemas.openxmlformats.org/drawingml/2006/table">
            <a:tbl>
              <a:tblPr/>
              <a:tblGrid>
                <a:gridCol w="857160"/>
                <a:gridCol w="2376720"/>
                <a:gridCol w="2766960"/>
                <a:gridCol w="1295280"/>
                <a:gridCol w="1079640"/>
                <a:gridCol w="1146240"/>
              </a:tblGrid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droč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efinic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bstoječe st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lanirano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lanirano 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rateško načrtovanj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ktivnosti, ki jih organizacija trenutno podvzema z namenom  iskanja pravih odzivov na pričakovane srednjeročne spremembe v okolj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ganizacijska struktu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ganizacijska struktura, organizacijska specializacija in načini koordiniranja  za uvajanje načrtovanih strateških spremememb tako na področju razvoja obsega  kot diverzifikacije poslovanj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457200" y="274680"/>
          <a:ext cx="8362800" cy="5856120"/>
        </p:xfrm>
        <a:graphic>
          <a:graphicData uri="http://schemas.openxmlformats.org/drawingml/2006/table">
            <a:tbl>
              <a:tblPr/>
              <a:tblGrid>
                <a:gridCol w="730080"/>
                <a:gridCol w="1224000"/>
                <a:gridCol w="2737080"/>
                <a:gridCol w="1152360"/>
                <a:gridCol w="1224000"/>
                <a:gridCol w="1295280"/>
              </a:tblGrid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istemi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ocedu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Formalni in neformalni  procesi in procedure v pomoč uresničevanju  strateških  ciljev organizaci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il 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ganizacij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ul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ultura organizacije sestoji iz dveh  component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ganizacijska kultura: 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evladujoče vrednote in prepričanja ter norme, ki so se razvile skozi čas  in  postale relativno trajne značilnosti organizacije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il vodenja: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se bolj nanaša na to kaj  vodstvo počne, kot kaj  promovira: kako vodstvo upravlja s časom, kam usmerja pozornost, kakšne simbole uporablja (konstruktivne, destruktivne), dvojna lojalnost vodstva…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Zaposleni (staf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Vodenje ljudi in upravljanje s človeškimi viri – procesi  notranjega razvoja managerjev, načini socializacije in razvoja osnovnih vrednot,, nalčini uvajanja začetnikov in razvoja poklicnih karier  zaposleni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30120" y="692280"/>
          <a:ext cx="8483760" cy="4035240"/>
        </p:xfrm>
        <a:graphic>
          <a:graphicData uri="http://schemas.openxmlformats.org/drawingml/2006/table">
            <a:tbl>
              <a:tblPr/>
              <a:tblGrid>
                <a:gridCol w="569880"/>
                <a:gridCol w="1150920"/>
                <a:gridCol w="2665440"/>
                <a:gridCol w="1295640"/>
                <a:gridCol w="1439640"/>
                <a:gridCol w="1362240"/>
              </a:tblGrid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pretn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atere so ključne competence organizacije, kaj organizacija  dela najboljše in načini razvoja organizacijskih kompetenc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7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kupne vrednote in cilj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Usmerjevalni koncepti in  osnovne  ideje organizacije okoli katerih se razvija  poslovanje, poslanstvo organizacije, ki mora biti enostavno in mora biti razumljivo vsem v organizaciji  čeprav morda še neprepoznano s strani zunanjega okol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kupna ocena organiza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289080" y="5086440"/>
            <a:ext cx="16574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cenjevalna lestvic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1 – zelo šibk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2 – pretežno šibk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3 – srednj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4 – precej moč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5 – zelo moč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Skupinska Vaj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azdelite se v skupine po 3 udeležence in poizkusite na primeru enega od lastnih podjetij izpolniti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Vprašalnik (orodje) za ocenjevanje organizacijskih kapacitet  neprofitnih organizaci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(max 30 min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a koncu bo vsaka skupina prezentirala 5 izbranmih prioritetnih aktivnosti za izboljšanje  delovanja ter  osnovno idejo projekta za podporo iz sredstev ES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Domača nalog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zvedite  vodene intervju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z vsaj eno organizacijo   javnega sektorja (občine, javni zavodi, ministrstva) z uporabo  orodja za ugotavljanje manjkajočih tehničnih kompetenc in splošnih organizacijskih kompeten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Z vsaj 5 različnih institucij/podjetij s področja  socialne ekonomije ( Uporaba  metode 7S Strategy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Z vsaj 2-ma organizacijama/podjetjema  poglobljeno oceno s pomočjo  uporabe “Orodja za oceno organizacijskih kapacitet  neprofitnih organizacij.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300" spc="-1" strike="noStrike">
                <a:solidFill>
                  <a:srgbClr val="f4727e"/>
                </a:solidFill>
                <a:latin typeface="Arial"/>
              </a:rPr>
              <a:t>Na podlagi pridobljenih  informacij poizkušajte oblikovati vsak vsaj 1 projektni predlog za “ capacity building”, ki ga boste v nadaljevanju razdelovali v okviru 4.in 5. modula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 veliko ustvarjalnosti pri delu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Cilj 3.Modula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deležence  seznani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z nekaterimi  metodologijami raziskovanja organizacijskih kapacitet sektorja  socialne ekonomi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 pristopi k  razvoju novih kompetenc oz.  novih poklicnih profilov potrebnih za hitrejši razvoj socialnega podjetniš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Zakaj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ojekti  za pridobitev podpore  strukturnih skladov se  bodo nanašali tako na 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popolnoma nove podje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akor tu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na  projekte tipa “ razvoja kapacitet obstoječih subjektov”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za njihovo učinkovito vlogo na  področju trga socialnih, ekoloških in drugih relevantnih storitev za socialno ekonomijo in zaposlovan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Osnovni metodološki pripomočk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U –TESES -  Country Report on T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etodologija za raziskovanje organizacijskih kapacitet ( Mc Kinsey 7S Strategy +TNA ) </a:t>
            </a:r>
            <a:r>
              <a:rPr b="0" lang="sl-SI" sz="2900" spc="-1" strike="noStrike">
                <a:solidFill>
                  <a:srgbClr val="000000"/>
                </a:solidFill>
                <a:latin typeface="Arial"/>
              </a:rPr>
              <a:t>Orodje za vrednotenje organizacijskih kapacitet neprofitno usmerjenih organizacij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U Benchmark   novih potrebnih poklicnih profilov (kompetenc) za razvoj soc. podjetništ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tudija primera  oblikovanja poklicnega profila (tehničnih kompetenc)  -Pomela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možna metodološka gradi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MCF –Organizational Capacity Assesment Tool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Marguerite Casey Foundat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Nekaj iztočnic za  diskusij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dnarodna primerjava trdnosti  civilno-družbenih organizacij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USAID  2005 NGO sustainability index  - NSI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 ocenjevalni lstvici  od 1-7 , kjer 1 pomeni najboljšo oceno in  7 najnižjo oceno,  je znašal splošen  indeks vdržnosti slovenskih nevladnih organizacij  v letu  2001 3,9 in v letu 2005 4,0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!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400" spc="-1" strike="noStrike">
                <a:solidFill>
                  <a:srgbClr val="000000"/>
                </a:solidFill>
                <a:latin typeface="Arial"/>
              </a:rPr>
              <a:t>Primerjava po  posameznih elementi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avno okolje 3,7 indeksnih toč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rganizacijska moč 4,2 toč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posobnost zagovarjanj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4,9  toč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Zagotav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anje storitev 3,6  toč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azpoložljiva infrastruktura 4.1 točk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avni  ugled 4.2  točk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blike aktivnosti na področju družbene ekonomije in nekaj podatkov o zaposlenosti v tem sektorju v Sloveniji  (2005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8360" y="1125360"/>
          <a:ext cx="8207280" cy="49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25360"/>
                    <a:ext cx="8207280" cy="49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WOT ANALIZA SEKTORJA  </a:t>
            </a: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DRUŽBENE EKONOMIJE V SLOVENIJI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642160" cy="478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9:12:12Z</dcterms:created>
  <dc:creator>Tina Kociper</dc:creator>
  <dc:description/>
  <dc:language>en-US</dc:language>
  <cp:lastModifiedBy>ZDENKA KOVAČ</cp:lastModifiedBy>
  <dcterms:modified xsi:type="dcterms:W3CDTF">2007-09-19T22:57:08Z</dcterms:modified>
  <cp:revision>18</cp:revision>
  <dc:subject/>
  <dc:title>Diapozitiv 1</dc:title>
</cp:coreProperties>
</file>