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AC1-5343-4CBB-9220-690E5F63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45B-98B6-4450-9AD3-48F3DCB3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672-06FB-408C-95B7-BE6F9324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03E-4111-403E-A7B2-8BDA4432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74D-08EC-47FF-BA50-04BD443E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37F3-CE43-46AF-BFBC-F29D1324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208-96DC-42CF-8E1C-22AA1969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E45-0554-4888-9421-4ACC084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57F-627D-421B-ADF2-47E558FB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A38-9DFE-4AF1-ABD8-F41D9DDE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5C9-DFB7-4635-88BA-9E055EB6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75A-75DE-4A1C-9764-1608005C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DE65-51C9-41F1-930A-0D485EDE4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3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4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373800" y="5524560"/>
            <a:ext cx="2401920" cy="1220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444600" y="5905440"/>
            <a:ext cx="289548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-9360" y="2658960"/>
            <a:ext cx="9153360" cy="2616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177840" y="229392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7" descr=""/>
          <p:cNvPicPr/>
          <p:nvPr/>
        </p:nvPicPr>
        <p:blipFill>
          <a:blip r:embed="rId3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640" y="644040"/>
            <a:ext cx="76788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Vrednotenje izvajanja kohezijske politike OP 2014 – 2020</a:t>
            </a:r>
            <a:br>
              <a:rPr sz="2400"/>
            </a:br>
            <a:br>
              <a:rPr sz="3600"/>
            </a:br>
            <a:r>
              <a:rPr b="1" lang="sl-SI" sz="1600" spc="-1" strike="noStrike">
                <a:solidFill>
                  <a:srgbClr val="2f5597"/>
                </a:solidFill>
                <a:latin typeface="Calibri"/>
              </a:rPr>
              <a:t>OzS, 29.9.2020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otnik 1"/>
          <p:cNvSpPr/>
          <p:nvPr/>
        </p:nvSpPr>
        <p:spPr>
          <a:xfrm>
            <a:off x="787320" y="2917800"/>
            <a:ext cx="73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579600" y="30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oljeZBesedilom 3"/>
          <p:cNvSpPr/>
          <p:nvPr/>
        </p:nvSpPr>
        <p:spPr>
          <a:xfrm>
            <a:off x="907920" y="723960"/>
            <a:ext cx="67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Od zadnjega poročanja n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oljeZBesedilom 4"/>
          <p:cNvSpPr/>
          <p:nvPr/>
        </p:nvSpPr>
        <p:spPr>
          <a:xfrm>
            <a:off x="1018080" y="1608120"/>
            <a:ext cx="45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stopanje od potrj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ileme z objavo javnega razpi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njave ministr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Cov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njena sestav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oljeZBesedilom 1"/>
          <p:cNvSpPr/>
          <p:nvPr/>
        </p:nvSpPr>
        <p:spPr>
          <a:xfrm>
            <a:off x="1588680" y="9381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Nadaljevanje aktivnosti vrednot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oljeZBesedilom 2"/>
          <p:cNvSpPr/>
          <p:nvPr/>
        </p:nvSpPr>
        <p:spPr>
          <a:xfrm>
            <a:off x="1429560" y="2001960"/>
            <a:ext cx="772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za dve vrednoten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(Učinkovitost in uspešnost izvajanja specifičnih ciljev „Povečan delež inovacijsko aktivnih podjetij“ in „Povečan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učinkovitosti rabe energije v javnem sektorju“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otrditev prenovljene Interdisciplinarne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Sprememba letnega načrta vrednotenj za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prava letnega načrta vrednotenj za 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in izved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 Light"/>
              </a:rPr>
              <a:t>Hvala za pozornost</a:t>
            </a: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18542" t="11954" r="2709" b="82682"/>
          <a:stretch/>
        </p:blipFill>
        <p:spPr>
          <a:xfrm>
            <a:off x="0" y="68400"/>
            <a:ext cx="9144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Vincekovic, Lidija (SI - Ljubljana)</dc:creator>
  <dc:description/>
  <dc:language>en-US</dc:language>
  <cp:lastModifiedBy>Mateja Mahkovec</cp:lastModifiedBy>
  <cp:lastPrinted>2019-12-17T12:58:53Z</cp:lastPrinted>
  <dcterms:modified xsi:type="dcterms:W3CDTF">2020-09-28T05:53:33Z</dcterms:modified>
  <cp:revision>164</cp:revision>
  <dc:subject/>
  <dc:title>PowerPoint Presentation</dc:title>
</cp:coreProperties>
</file>