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733-5BEE-4B62-915C-5277D987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C53-8E23-4C1C-8A62-61D571C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A03-FAC9-46A5-93D1-93F52E29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659-8CAA-4626-86D7-5238A619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1869-72C9-4A5F-98E5-2A9DFCED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BD6A-C49A-4D59-BC91-085A15AF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48A5-9007-4CBC-AB53-04945CFA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26C5-115F-42E4-BE3F-296714C2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7F3-5180-460A-A116-5A22B46E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7639-E37E-498E-8BC3-3D6EE2EF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805B-4CA9-4F9C-9F58-2EFB728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8E3D-4CC3-4994-9AEC-7E51998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AC39-3C84-4D72-8009-11A37C8B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ACDC-B7AF-4F4A-BED0-66F65AF3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EC67-9DFB-491F-BB8F-B5498C00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82E7-9CA7-422D-9954-2601728B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1CE3-E89A-4AA7-B20D-46A53EE8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1275-36FF-4354-BDE2-F43F10A4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28DB-C686-42F9-A479-5D0F5F12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1E08-1F06-4D83-87CF-358F57EA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E60C-1369-442C-B0C2-CD7C9E9F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DDE9-51F6-4B6B-9464-C66610EA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0681-3067-4793-8DBC-D69670E0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A830-1F09-4536-9BAA-537155E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C0DA8-57D6-4CB3-B6F5-BFAE8C2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B0A8-EA81-49E1-AF31-74CB0C83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3B58-C35E-48AB-AC60-DB12ECF8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361AD-335D-4398-8874-2654160E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0E0-0CEC-46BF-BDAA-239E6468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2EC-94C8-4F70-92D9-8C1D4918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A0A-F79B-4898-B1E3-E30A03D9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DE1-BEC7-452C-B3FB-565109CE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A6C-DEAB-42D6-BB6D-C82270E6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EDE-72CA-4226-9121-56995B55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06A-0344-4963-9AFA-09FE7B4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410-DECC-434C-86D8-CEE3BAC6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5F74-F497-43F3-8381-F2C7669CB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D579-A168-4558-9AB5-1B7FFC566F3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CC54-0F3B-4D9F-9BB5-8B53472D527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87440" y="650880"/>
            <a:ext cx="86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7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059280" y="5797440"/>
            <a:ext cx="35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Brdo pri Kranj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9. september 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576720" y="1876320"/>
            <a:ext cx="842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9 k točki 7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hodišči za spremembo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ovenije za razvoj in evropsko kohezijsko politiko, da pripra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končni predlog spremembe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in ga pošlje v potrditev na dopis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587160" y="239868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0 k točki 8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 Letnim načrtom komuniciranja za leto 2020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646560" y="2327400"/>
            <a:ext cx="759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1 k točki 9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m vrednotenj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7000" y="236700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ttp://www.eu-skladi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2"/>
          <p:cNvSpPr/>
          <p:nvPr/>
        </p:nvSpPr>
        <p:spPr>
          <a:xfrm>
            <a:off x="981000" y="2494080"/>
            <a:ext cx="77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 k točki 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za spremljanje sprejme predlagani dnevni 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631800" y="22748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2 k točki 2: Odbor za spremljanje potrdi zapisni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7. in 8. dopisne seje Odbora za spremljanje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obdob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4–2020 v predlagani obl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561240" y="2279520"/>
            <a:ext cx="82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3 k točki 3: Odbor za spremljanje potrdi Letno poroči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9 o izvajanju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pooblašča Službo Vlade Republike Slovenije za razvo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o kohezijsko politiko, da pred pošiljanjem Let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a Evropski komisiji izvede popravke in poročilo pošl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i komisi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482040" y="2505240"/>
            <a:ext cx="8462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4 k točki 3: Odbor za spremljanje se je seznanil s stan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a področju izvajanja finančnih instrumentov (FI)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1"/>
          <p:cNvSpPr/>
          <p:nvPr/>
        </p:nvSpPr>
        <p:spPr>
          <a:xfrm>
            <a:off x="552960" y="2398680"/>
            <a:ext cx="804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5 k točki 3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aktivnostmi, povezanimi z Makroregionalnimi strategijami E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im teritorialnim sodelovanjem v programsk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678240" y="2541600"/>
            <a:ext cx="78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6 k točki 4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organa za potrjevanje za Operativni program z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 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287640" y="23749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7 k točki 5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revizijskega organa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567000" y="2184480"/>
            <a:ext cx="823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8 k točki 6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 predlaganimi izhodišči za spremembo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dobju 2014–2020 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Sloven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a razvoj in evropsko kohezijsko politiko, da pripravi konč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log spremembe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 in 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šlje v potrditev na dopisno 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RT- Robert</cp:lastModifiedBy>
  <cp:lastPrinted>2019-06-05T11:34:57Z</cp:lastPrinted>
  <dcterms:modified xsi:type="dcterms:W3CDTF">2020-09-28T22:42:40Z</dcterms:modified>
  <cp:revision>49</cp:revision>
  <dc:subject/>
  <dc:title>PowerPoint Presentation</dc:title>
</cp:coreProperties>
</file>