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9B52C-3A2E-4890-8EB1-85C6A5F9E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31918-E785-4704-8D53-4DB7E381E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996CE-1CE4-479B-9EEB-C95677AE9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7950D-021F-4093-990B-8E1F0AE9C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7D317-F8DA-44C1-AA4E-74753C7B1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BF1D0-CBDA-40A9-BE82-53F10EDD3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3DADF-D6A8-45E3-9BF4-C61D33802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3E09E-365D-47A4-A594-FB6410B62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29EE4-3DF1-4C72-96ED-70E0BA6A0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0606-1085-42B1-88B2-91037E73C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CA64B-A98A-4ABE-B8AF-360AEBC8E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3E393-A771-467D-927C-CF621F3B7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A684-2BA2-4512-9D8D-8EFB30156AA0}"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15920"/>
            <a:ext cx="10515600" cy="782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ffffff"/>
                </a:solidFill>
                <a:latin typeface="Calibri Light"/>
              </a:rPr>
              <a:t>Finančni instrumenti</a:t>
            </a:r>
            <a:endParaRPr b="0" lang="en-US" sz="4400" spc="-1" strike="noStrike">
              <a:solidFill>
                <a:srgbClr val="000000"/>
              </a:solidFill>
              <a:latin typeface="Calibri Light"/>
            </a:endParaRPr>
          </a:p>
        </p:txBody>
      </p:sp>
      <p:sp>
        <p:nvSpPr>
          <p:cNvPr id="4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Calibri"/>
              </a:rPr>
              <a:t>Finančni instrumenti – izvajanje</a:t>
            </a:r>
            <a:endParaRPr b="0" lang="en-US" sz="2800" spc="-1" strike="noStrike">
              <a:solidFill>
                <a:srgbClr val="000000"/>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Calibri"/>
              </a:rPr>
              <a:t>Poslovanje sklada skladov FI 14-20 in sklada skladov FI COVID – 19</a:t>
            </a:r>
            <a:endParaRPr b="0" lang="en-US" sz="2800" spc="-1" strike="noStrike">
              <a:solidFill>
                <a:srgbClr val="000000"/>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ff"/>
                </a:solidFill>
                <a:latin typeface="Calibri"/>
              </a:rPr>
              <a:t>Namera znižanja operacije FI 14-20 v delu podpore FI za PN 4.1 (Energetska učinkovito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322280" y="200160"/>
            <a:ext cx="9144000" cy="6285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ffffff"/>
                </a:solidFill>
                <a:latin typeface="Calibri Light"/>
              </a:rPr>
              <a:t>Finančni instrumenti - izvajanje </a:t>
            </a:r>
            <a:endParaRPr b="0" lang="en-US" sz="3600" spc="-1" strike="noStrike">
              <a:solidFill>
                <a:srgbClr val="000000"/>
              </a:solidFill>
              <a:latin typeface="Calibri Light"/>
            </a:endParaRPr>
          </a:p>
        </p:txBody>
      </p:sp>
      <p:sp>
        <p:nvSpPr>
          <p:cNvPr id="44" name="PlaceHolder 2"/>
          <p:cNvSpPr>
            <a:spLocks noGrp="1"/>
          </p:cNvSpPr>
          <p:nvPr>
            <p:ph type="subTitle"/>
          </p:nvPr>
        </p:nvSpPr>
        <p:spPr>
          <a:xfrm>
            <a:off x="725400" y="1476360"/>
            <a:ext cx="9144000" cy="4384800"/>
          </a:xfrm>
          <a:prstGeom prst="rect">
            <a:avLst/>
          </a:prstGeom>
          <a:noFill/>
          <a:ln w="0">
            <a:noFill/>
          </a:ln>
        </p:spPr>
        <p:txBody>
          <a:bodyPr anchor="t">
            <a:no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Calibri"/>
              </a:rPr>
              <a:t>Finančni instrumenti se izvajajo preko dveh operacij:</a:t>
            </a:r>
            <a:endParaRPr b="0" lang="en-US" sz="1800" spc="-1" strike="noStrike">
              <a:solidFill>
                <a:srgbClr val="000000"/>
              </a:solidFill>
              <a:latin typeface="Calibri"/>
            </a:endParaRPr>
          </a:p>
          <a:p>
            <a:pPr algn="just">
              <a:lnSpc>
                <a:spcPct val="90000"/>
              </a:lnSpc>
              <a:spcBef>
                <a:spcPts val="10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Calibri"/>
              </a:rPr>
              <a:t>FI 2014-2020</a:t>
            </a:r>
            <a:r>
              <a:rPr b="0" lang="sl-SI" sz="1800" spc="-1" strike="noStrike">
                <a:solidFill>
                  <a:srgbClr val="ffffff"/>
                </a:solidFill>
                <a:latin typeface="Calibri"/>
              </a:rPr>
              <a:t>,  ki se je začela izvajati novembra 2017 s podpisom SOF med RS MGRT in  skladom skladov – SID banko d.d. v višini 253mio EUR. Operacija podpira štiri naložbena področja PN 1.2-RRI, PN 3.1-MSP,  PN 4.1-EE, in PN 6.3-UR. Sredstva EU se v FI- skladu skladov vplačajo v 4 tranšah (63,25m EUR). Ponujeni finančni produkti: Posojila za RRI za MSP in velika podjetja, Mikroposojila za MSP, Lastniško in kvazi lastniško financiranje MSP, Posojila za celovito energetsko prenovo javnih stavb, Posojila za urbani razvoj, Portfeljske garancije za MSP, Portfeljske garancije za RRI; Sredstva se posredujejo preko 4 finančnih posrednikov izbranih v skladu z ZJN oz. 28.čl.ZJN  ter prek SID banke, v vlogi finančnega posrednika. Tri finančne institucije so prejemnice jamstva.</a:t>
            </a:r>
            <a:endParaRPr b="0" lang="en-US" sz="18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10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Calibri"/>
              </a:rPr>
              <a:t>FI COVID-19</a:t>
            </a:r>
            <a:r>
              <a:rPr b="0" lang="sl-SI" sz="1800" spc="-1" strike="noStrike">
                <a:solidFill>
                  <a:srgbClr val="ffffff"/>
                </a:solidFill>
                <a:latin typeface="Calibri"/>
              </a:rPr>
              <a:t>,</a:t>
            </a:r>
            <a:r>
              <a:rPr b="1" lang="sl-SI" sz="1800" spc="-1" strike="noStrike">
                <a:solidFill>
                  <a:srgbClr val="ffffff"/>
                </a:solidFill>
                <a:latin typeface="Calibri"/>
              </a:rPr>
              <a:t> </a:t>
            </a:r>
            <a:r>
              <a:rPr b="0" lang="sl-SI" sz="1800" spc="-1" strike="noStrike">
                <a:solidFill>
                  <a:srgbClr val="ffffff"/>
                </a:solidFill>
                <a:latin typeface="Calibri"/>
              </a:rPr>
              <a:t>ki se je začela izvajati septembra 2020 s podpisom SOF med RS MGRT in  skladom skladov COVID – SID banko d.d. v višini 65mio EUR. Operacija podpira dve naložbeni področji PN 1.2-RRI in PN 3.1-MSP. Sredstva EU se v FI- skladu skladov vplačajo v 4 tranšah (16,25m EUR). Ponujeni finančni produkti: posojila za RRI COVID-19 ter Mikroposojila COVID-19 za MSP.</a:t>
            </a:r>
            <a:endParaRPr b="0" lang="en-US" sz="18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22160" y="209520"/>
            <a:ext cx="10515600" cy="712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ffffff"/>
                </a:solidFill>
                <a:latin typeface="Calibri Light"/>
              </a:rPr>
              <a:t>Finančni instrumenti - izvajanje </a:t>
            </a:r>
            <a:endParaRPr b="0" lang="en-US" sz="3600" spc="-1" strike="noStrike">
              <a:solidFill>
                <a:srgbClr val="000000"/>
              </a:solidFill>
              <a:latin typeface="Calibri Light"/>
            </a:endParaRPr>
          </a:p>
        </p:txBody>
      </p:sp>
      <p:graphicFrame>
        <p:nvGraphicFramePr>
          <p:cNvPr id="46" name=""/>
          <p:cNvGraphicFramePr/>
          <p:nvPr/>
        </p:nvGraphicFramePr>
        <p:xfrm>
          <a:off x="927000" y="1647720"/>
          <a:ext cx="10815840" cy="4795920"/>
        </p:xfrm>
        <a:graphic>
          <a:graphicData uri="http://schemas.openxmlformats.org/drawingml/2006/table">
            <a:tbl>
              <a:tblPr/>
              <a:tblGrid>
                <a:gridCol w="1401840"/>
                <a:gridCol w="2354400"/>
                <a:gridCol w="2352600"/>
                <a:gridCol w="2354400"/>
                <a:gridCol w="2352600"/>
              </a:tblGrid>
              <a:tr h="444960">
                <a:tc gridSpan="2">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peracija FI 2014-202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64620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1.12.2021</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dobreni znesek prispevka ESI skladov</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alibri"/>
                        </a:rPr>
                        <a:t>Vplačan znesek ESI skladov v FI</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Sklenjene pogodbe s finančnimi posredniki (znesek ESI skladov)</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Izplačano končnim prejemnikom (znesek ESI skladov)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944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088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RRI-PN 1.2</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88.0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6.0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85.723.310,97</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7.080.960,77</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052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MSP-PN 3.1</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35.0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01.25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30.161.501,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2.988.887,89</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052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EE-PN 4.1</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0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8.75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4.75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753.786,57</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088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PN 6.3</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5.0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75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4.9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75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944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r>
                        <a:rPr b="0" lang="sl-SI" sz="1400" spc="-1" strike="noStrike">
                          <a:solidFill>
                            <a:srgbClr val="000000"/>
                          </a:solidFill>
                          <a:latin typeface="Calibri"/>
                        </a:rPr>
                        <a:t>Skupaj</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3.0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89.75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45.534.811,97</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04.573.635,23</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4640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peracija FI COVID-19</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64620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1.12.2021</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dobreni znesek prispevka ESI skladov</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alibri"/>
                        </a:rPr>
                        <a:t>Vplačan znesek ESI skladov v FI</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Sklenjene pogodbe s finančnimi posredniki (znesek ESI skladov)</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Izplačano končnim prejemnikom (znesek ESI skladov)</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052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RRI-PN 1.2</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5.0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5.0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5.0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177.870,93</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088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MSP-PN 3.1</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0.0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0.0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58.262.5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48.573.375,75</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908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r>
                        <a:rPr b="0" lang="sl-SI" sz="1400" spc="-1" strike="noStrike">
                          <a:solidFill>
                            <a:srgbClr val="000000"/>
                          </a:solidFill>
                          <a:latin typeface="Calibri"/>
                        </a:rPr>
                        <a:t>Skupaj</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5.0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5.0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3.262.5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50.751.246,68</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22160" y="209520"/>
            <a:ext cx="10515600" cy="712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ffffff"/>
                </a:solidFill>
                <a:latin typeface="Calibri Light"/>
              </a:rPr>
              <a:t>Poslovanje sklad skladov FI 14-20 </a:t>
            </a:r>
            <a:endParaRPr b="0" lang="en-US" sz="3600" spc="-1" strike="noStrike">
              <a:solidFill>
                <a:srgbClr val="000000"/>
              </a:solidFill>
              <a:latin typeface="Calibri Light"/>
            </a:endParaRPr>
          </a:p>
        </p:txBody>
      </p:sp>
      <p:sp>
        <p:nvSpPr>
          <p:cNvPr id="48" name="Pravokotnik 7"/>
          <p:cNvSpPr/>
          <p:nvPr/>
        </p:nvSpPr>
        <p:spPr>
          <a:xfrm>
            <a:off x="577800" y="4618080"/>
            <a:ext cx="9767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Calibri"/>
              </a:rPr>
              <a:t>      </a:t>
            </a:r>
            <a:r>
              <a:rPr b="0" lang="sl-SI" sz="1800" spc="-1" strike="noStrike">
                <a:solidFill>
                  <a:srgbClr val="ffffff"/>
                </a:solidFill>
                <a:latin typeface="Calibri"/>
              </a:rPr>
              <a:t>Vplačilo zadnje, 4. tranše ESI sredstev v sklad skladov, se načrtuje v zadnjem četrtletju 2022.</a:t>
            </a:r>
            <a:endParaRPr b="0" lang="en-US" sz="1800" spc="-1" strike="noStrike">
              <a:solidFill>
                <a:srgbClr val="000000"/>
              </a:solidFill>
              <a:latin typeface="Calibri"/>
            </a:endParaRPr>
          </a:p>
        </p:txBody>
      </p:sp>
      <p:graphicFrame>
        <p:nvGraphicFramePr>
          <p:cNvPr id="49" name=""/>
          <p:cNvGraphicFramePr/>
          <p:nvPr/>
        </p:nvGraphicFramePr>
        <p:xfrm>
          <a:off x="1252440" y="1886040"/>
          <a:ext cx="9093240" cy="2361960"/>
        </p:xfrm>
        <a:graphic>
          <a:graphicData uri="http://schemas.openxmlformats.org/drawingml/2006/table">
            <a:tbl>
              <a:tblPr/>
              <a:tblGrid>
                <a:gridCol w="2616120"/>
                <a:gridCol w="1295640"/>
                <a:gridCol w="1295280"/>
                <a:gridCol w="1295280"/>
                <a:gridCol w="1295640"/>
                <a:gridCol w="1295280"/>
              </a:tblGrid>
              <a:tr h="34128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7</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8</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9</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r>
                        <a:rPr b="0" lang="sl-SI" sz="1400" spc="-1" strike="noStrike">
                          <a:solidFill>
                            <a:srgbClr val="000000"/>
                          </a:solidFill>
                          <a:latin typeface="Calibri"/>
                        </a:rPr>
                        <a:t>202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r>
                        <a:rPr b="0" lang="sl-SI" sz="1400" spc="-1" strike="noStrike">
                          <a:solidFill>
                            <a:srgbClr val="000000"/>
                          </a:solidFill>
                          <a:latin typeface="Calibri"/>
                        </a:rPr>
                        <a:t>2021</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66996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Vplačilo v sklad skladov(FI-EU del)-kumulativno</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3.25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89.75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67140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ačunana provizija  do 31.12.-kumulativno</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893.986,12</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433.120,63</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5.503.665,34</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7.887.988,6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3984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esti</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5.109,41</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21.426,72</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84.172,37</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54.468,17</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62.770,56</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3948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slabitve (v skladu z MRS 9)</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11.7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47.634,98</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9.292.684,9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993.222,81</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49.785,04</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22160" y="209520"/>
            <a:ext cx="10515600" cy="712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ffffff"/>
                </a:solidFill>
                <a:latin typeface="Calibri Light"/>
              </a:rPr>
              <a:t>Poslovanje sklad skladov FI COVID-19 </a:t>
            </a:r>
            <a:endParaRPr b="0" lang="en-US" sz="3600" spc="-1" strike="noStrike">
              <a:solidFill>
                <a:srgbClr val="000000"/>
              </a:solidFill>
              <a:latin typeface="Calibri Light"/>
            </a:endParaRPr>
          </a:p>
        </p:txBody>
      </p:sp>
      <p:sp>
        <p:nvSpPr>
          <p:cNvPr id="51" name="Pravokotnik 7"/>
          <p:cNvSpPr/>
          <p:nvPr/>
        </p:nvSpPr>
        <p:spPr>
          <a:xfrm>
            <a:off x="1871640" y="5146560"/>
            <a:ext cx="821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Calibri"/>
              </a:rPr>
              <a:t>                      </a:t>
            </a:r>
            <a:r>
              <a:rPr b="0" lang="sl-SI" sz="1800" spc="-1" strike="noStrike">
                <a:solidFill>
                  <a:srgbClr val="ffffff"/>
                </a:solidFill>
                <a:latin typeface="Calibri"/>
              </a:rPr>
              <a:t>Do konca 2021 vplačano 100% načrtovanih EU sredste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2" name=""/>
          <p:cNvGraphicFramePr/>
          <p:nvPr/>
        </p:nvGraphicFramePr>
        <p:xfrm>
          <a:off x="1211400" y="1557360"/>
          <a:ext cx="8351640" cy="3005280"/>
        </p:xfrm>
        <a:graphic>
          <a:graphicData uri="http://schemas.openxmlformats.org/drawingml/2006/table">
            <a:tbl>
              <a:tblPr/>
              <a:tblGrid>
                <a:gridCol w="2784240"/>
                <a:gridCol w="2783160"/>
                <a:gridCol w="2784240"/>
              </a:tblGrid>
              <a:tr h="49212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r>
                        <a:rPr b="0" lang="sl-SI" sz="1400" spc="-1" strike="noStrike">
                          <a:solidFill>
                            <a:srgbClr val="000000"/>
                          </a:solidFill>
                          <a:latin typeface="Calibri"/>
                        </a:rPr>
                        <a:t>202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r>
                        <a:rPr b="0" lang="sl-SI" sz="1400" spc="-1" strike="noStrike">
                          <a:solidFill>
                            <a:srgbClr val="000000"/>
                          </a:solidFill>
                          <a:latin typeface="Calibri"/>
                        </a:rPr>
                        <a:t>2021</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83340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Vplačilo v sklad skladov(FI-EU del)-kumulativno</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2.5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5.000.000,00</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83340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ačunana provizija  do 31.12.-kumulativno</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5.547,45</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145.143,02</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2408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esti</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800,65</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8.270,48</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22280">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slabitve (v skladu z MRS 9)</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993.222,81</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480" rIns="6480" tIns="64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29.286,67</a:t>
                      </a:r>
                      <a:endParaRPr b="0" lang="en-US" sz="1400" spc="-1" strike="noStrike">
                        <a:solidFill>
                          <a:srgbClr val="000000"/>
                        </a:solidFill>
                        <a:latin typeface="Calibri"/>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73280" y="115560"/>
            <a:ext cx="11129760" cy="765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ffffff"/>
                </a:solidFill>
                <a:latin typeface="Calibri"/>
              </a:rPr>
              <a:t>Znižanje operacije FI 14-20 v delu podpore FI za PN 4.1</a:t>
            </a:r>
            <a:endParaRPr b="0" lang="en-US" sz="3600" spc="-1" strike="noStrike">
              <a:solidFill>
                <a:srgbClr val="000000"/>
              </a:solidFill>
              <a:latin typeface="Calibri Light"/>
            </a:endParaRPr>
          </a:p>
        </p:txBody>
      </p:sp>
      <p:sp>
        <p:nvSpPr>
          <p:cNvPr id="54" name=""/>
          <p:cNvSpPr txBox="1"/>
          <p:nvPr/>
        </p:nvSpPr>
        <p:spPr>
          <a:xfrm>
            <a:off x="838080" y="1283760"/>
            <a:ext cx="10515600" cy="4892760"/>
          </a:xfrm>
          <a:prstGeom prst="rect">
            <a:avLst/>
          </a:prstGeom>
          <a:noFill/>
          <a:ln w="0">
            <a:noFill/>
          </a:ln>
        </p:spPr>
        <p:txBody>
          <a:bodyPr anchor="t">
            <a:normAutofit/>
          </a:bodyPr>
          <a:p>
            <a:pPr marL="343080" indent="-343080" algn="just">
              <a:lnSpc>
                <a:spcPct val="95000"/>
              </a:lnSpc>
              <a:spcBef>
                <a:spcPts val="1001"/>
              </a:spcBef>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95000"/>
              </a:lnSpc>
              <a:spcBef>
                <a:spcPts val="1001"/>
              </a:spcBef>
              <a:spcAft>
                <a:spcPts val="7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ea typeface="Calibri"/>
              </a:rPr>
              <a:t>V okviru operacije Finančni instrumenti 2014-2020 (v nadaljevanju: FI 2014-2020) je za FI podporo področju prednostne naložbe PN 4.1 EE (energetska učinkovitost - posojila za celovite energetske prenove javnih stavb), načrtovano 25 mio EUR sredstev iz sredstev Kohezijskega sklada. Do konca 2021 so bila v skladu z načrtom operacije FI 14-20 izvršena tri vplačila v sklad skladov, od tega za del podpore FI PN 4.1 EE skupaj 18,75 mio EUR ESI sredstev (3 x 6,25 mio EUR).</a:t>
            </a:r>
            <a:endParaRPr b="0" lang="en-US" sz="1800" spc="-1" strike="noStrike">
              <a:solidFill>
                <a:srgbClr val="000000"/>
              </a:solidFill>
              <a:latin typeface="Calibri"/>
            </a:endParaRPr>
          </a:p>
          <a:p>
            <a:pPr marL="343080" indent="-343080" algn="just">
              <a:lnSpc>
                <a:spcPct val="95000"/>
              </a:lnSpc>
              <a:spcBef>
                <a:spcPts val="1001"/>
              </a:spcBef>
              <a:spcAft>
                <a:spcPts val="7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ea typeface="Calibri"/>
              </a:rPr>
              <a:t>Med izvajanjem operacije se je ugotovilo, da kljub povečani aktivnosti in iskanju možnih izvedbenih rešitev finančnega posrednika in pristojnega ministrstva za to področje (MZI), realizacija FI na PN 4.1 EE, ki se je pričel tržiti v maju 2019, močno zaostaja za načrtovano in da sredstev do konca obdobja upravičenosti ne bo mogoče uspešno plasirati do končnih prejemnikov.</a:t>
            </a:r>
            <a:endParaRPr b="0" lang="en-US" sz="1800" spc="-1" strike="noStrike">
              <a:solidFill>
                <a:srgbClr val="000000"/>
              </a:solidFill>
              <a:latin typeface="Calibri"/>
            </a:endParaRPr>
          </a:p>
          <a:p>
            <a:pPr marL="343080" indent="-343080" algn="just">
              <a:lnSpc>
                <a:spcPct val="95000"/>
              </a:lnSpc>
              <a:spcBef>
                <a:spcPts val="1001"/>
              </a:spcBef>
              <a:spcAft>
                <a:spcPts val="7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ea typeface="Calibri"/>
              </a:rPr>
              <a:t>Upravljavec sklada skladov, SID banka, je zato izdelal Analizo izvajanja finančnih instrumentov za energetsko učinkovitost v okviru operacije FI 2014-2020, v kateri opiše že izvedene aktivnosti (vključno z navedbo izvedenih market testov ter javnih pozivov) in predstavi analizo izvajanja FI za EE po letih, oceni možno realizacijo ter poda predloge za pospešitev in okrepitev izvajanja do konca obdobja upravičenosti.</a:t>
            </a:r>
            <a:endParaRPr b="0" lang="en-US" sz="1800" spc="-1" strike="noStrike">
              <a:solidFill>
                <a:srgbClr val="000000"/>
              </a:solidFill>
              <a:latin typeface="Calibri"/>
            </a:endParaRPr>
          </a:p>
          <a:p>
            <a:pPr marL="343080" indent="-343080">
              <a:lnSpc>
                <a:spcPct val="7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98480" y="41040"/>
            <a:ext cx="10522080" cy="87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ffffff"/>
                </a:solidFill>
                <a:latin typeface="Calibri"/>
              </a:rPr>
              <a:t>Znižanje operacije FI 14-20 v delu podpore FI za PN 4.1</a:t>
            </a:r>
            <a:endParaRPr b="0" lang="en-US" sz="3600" spc="-1" strike="noStrike">
              <a:solidFill>
                <a:srgbClr val="000000"/>
              </a:solidFill>
              <a:latin typeface="Calibri Light"/>
            </a:endParaRPr>
          </a:p>
        </p:txBody>
      </p:sp>
      <p:sp>
        <p:nvSpPr>
          <p:cNvPr id="56" name="Pravokotnik 2"/>
          <p:cNvSpPr/>
          <p:nvPr/>
        </p:nvSpPr>
        <p:spPr>
          <a:xfrm>
            <a:off x="590400" y="1147680"/>
            <a:ext cx="10914120" cy="6694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spcAft>
                <a:spcPts val="7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ea typeface="Calibri"/>
              </a:rPr>
              <a:t>Analiza ugotavlja, da je bilo izvajanje FI na zadevnem področju, ob upoštevanju ciljnih končnih prejemnikov posojil (občine, drugi javni subjekti, ESCO podjetja) oteženo zaradi različnih ovir, kot so predvsem: nerazvit ESCO trg, financiranje objektov v državni lasti oz. javnih subjektov iz vidika vpliva na javni dolg, ter od začetka 2020 vpliv COVID krize, spremenjenih okoliščin in povečane konkurence nepovratne podpore in, da načrtovane podpore FI na PN 4.1 do končnih prejemnikov do konca programskega obdobja ne bo mogoče realizirati v celoti, temveč le za 6,73mio EUR ESI sredstev.</a:t>
            </a:r>
            <a:endParaRPr b="0" lang="en-US" sz="1800" spc="-1" strike="noStrike">
              <a:solidFill>
                <a:srgbClr val="000000"/>
              </a:solidFill>
              <a:latin typeface="Calibri"/>
            </a:endParaRPr>
          </a:p>
          <a:p>
            <a:pPr marL="343080" indent="-343080" algn="just">
              <a:lnSpc>
                <a:spcPct val="115000"/>
              </a:lnSpc>
              <a:spcAft>
                <a:spcPts val="7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ea typeface="Calibri"/>
              </a:rPr>
              <a:t>Sodelujoče ministrstvo MZI, pristojno za PN 4.1 ob soglasju ministrstva pristojnega za izvajanje FI, MGRT, je na podlagi analize pripravilo predlog o znižanju operacije FI 2014-2020 v delu podpore FI PN 4.1 EE za  18,27 mio EUR alociranih sredstev ESI (KS) in sicer iz 25mio EUR na 6,73mio EUR, posledično se za znesek 18,27 mio EUR zniža celoten znesek operacije FI 2014-2020 iz 253 mio EUR na 234,73 mio EUR.</a:t>
            </a:r>
            <a:endParaRPr b="0" lang="en-US" sz="1800" spc="-1" strike="noStrike">
              <a:solidFill>
                <a:srgbClr val="000000"/>
              </a:solidFill>
              <a:latin typeface="Calibri"/>
            </a:endParaRPr>
          </a:p>
          <a:p>
            <a:pPr marL="343080" indent="-343080" algn="just">
              <a:lnSpc>
                <a:spcPct val="115000"/>
              </a:lnSpc>
              <a:spcAft>
                <a:spcPts val="799"/>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ea typeface="Calibri"/>
              </a:rPr>
              <a:t>Znižanje operacije FI 2014-2020 v delu podpore FI za PN 4.1 se po spremembi ODLP izvede na način, da sklad skladov od že vplačanih sredstev v FI za PN 4.1, vrne na podračun Kohezijskega sklada znesek 12,02mio EUR ESI sredstev ter, da se načrtovana zadnja tranša v delu podpore FI za PN 4.1  za EE v višini 6,25 mio ESI sredstev (KS), ki je načrtovana v zadnjem četrtletju 2022, ne izvede. </a:t>
            </a:r>
            <a:endParaRPr b="0" lang="en-US" sz="1800" spc="-1" strike="noStrike">
              <a:solidFill>
                <a:srgbClr val="000000"/>
              </a:solidFill>
              <a:latin typeface="Calibri"/>
            </a:endParaRPr>
          </a:p>
          <a:p>
            <a:pPr marL="343080" indent="-343080" algn="just">
              <a:lnSpc>
                <a:spcPct val="115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15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15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15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0T09:07:30Z</dcterms:created>
  <dc:creator>Andreja</dc:creator>
  <dc:description/>
  <dc:language>en-US</dc:language>
  <cp:lastModifiedBy>EK</cp:lastModifiedBy>
  <cp:lastPrinted>2022-05-13T08:13:40Z</cp:lastPrinted>
  <dcterms:modified xsi:type="dcterms:W3CDTF">2022-05-13T08:16:03Z</dcterms:modified>
  <cp:revision>78</cp:revision>
  <dc:subject/>
  <dc:title>PowerPointova predstavitev</dc:title>
</cp:coreProperties>
</file>