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834-BEB5-4171-86D7-1D3C0CA4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AFE-8C64-4C9A-9E10-6C7A88A3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E9F-613D-45DB-8979-662DAF4A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1F0-744E-4AF4-BEB0-5FC8B0B2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09E-D4CF-4421-B619-89F700AF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38C-38C5-4CB6-8B02-FECC5C2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899-5655-4EF0-8275-B5D269F8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17C-6C05-49CB-8BBC-E01AC32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D9B-31E4-420B-B871-A7F93E6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551-E7D4-4880-AA61-EFF1FD3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BDE-4E22-43BF-9945-C120BC7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5F7-D4B0-4B91-9B7B-9932F18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76E-CB8C-4C62-A5C4-256BCEA94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STOPEK IMENO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2800" y="63036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STOPEK IMENOVANJA - PRAVNA PODLAG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089080" y="2165400"/>
            <a:ext cx="80661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23. in 124. člen Uredbe (EU) št. 1303/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3. člen Uredbe (EU) št. 1011/2014 (Priloga 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Zakon o izvrševanju proračuna RS za leti 2014 in 2015 (predlog  2016 in 20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lovenska ured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mernice 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vodila 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10920" y="6778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ISTEM UPRAVLJANJA IN NADZOR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70000" y="2381040"/>
            <a:ext cx="5297400" cy="27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 OP = 1 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trije nivoji (OU, PO in I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ločenost funkc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ČASOVNA DINAMIKA – 1. DE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14720" y="179712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OVEMBER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ključen OSUN za 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egled OSUN-ov za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iprava sporazumov OU-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ECEMBER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jem Strategije za boj proti goljufijam na področju EK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sredovanje OSUN-ov za na 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ČASOVNA DINAMIKA – 2. DE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079720" y="187812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ANUAR – JUNIJ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polnitve OSUN-ov za OU, MF-CA in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ov informacijski si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jem ARACH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istem priprave izjave o upravljanju in letnega povzet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trditev končnega OSUN s strani 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sredovanje mnenja na 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08T13:01:32Z</dcterms:modified>
  <cp:revision>6</cp:revision>
  <dc:subject/>
  <dc:title>POSTOPEK IMENOVANJA</dc:title>
</cp:coreProperties>
</file>