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dt" idx="16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ftr" idx="17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 type="sldNum" idx="18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2393-5E46-450B-9A2D-E6E7D520D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sega tega ni moč doseči brez Razdelanega celovitega svežnja ukrepov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kjer so poleg ukrepov namenjenih raziskavam, razvoju in inovacijam tud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ukrepi za razvoj človeških virov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za področje podjetništv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in razvoja podeželj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ter za spodbujevalne ukrepe razvojne države (javna naročila, davčne olajšave, gospodarska diplomacija in promocija, izdajo dovoljenj in odprava regulacijskih ovir ter učinkovito pravosodj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Ograda številke diapozitiva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897F-3FDB-4500-9411-AC89FCEA5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059D-65EF-48F1-A18B-7061F590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C739-91E4-4A5E-8B30-13CDD5E6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B8C-67C4-481A-9E0F-46C79FD3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3323-A8DD-473D-8650-F4DF9CFF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7767-212F-46AB-8923-234FEFC8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0EC9-9467-4C4F-B470-6C15AEDC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602C-667C-40DC-B368-71DDE060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2254-B2D3-4AB4-85ED-479F208E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6C93-A558-4C25-8CB2-5EA6E70D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A5E3-3F68-489F-824E-6BDDDEF5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E75F-4777-4992-9EA4-B18E0CDE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C78F-7D41-4DF3-B242-B6228BF8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ACDC-0796-416C-995B-FD91C939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9D1E-4957-45A3-B747-3C6F9870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CBAD-D62E-4D27-BF25-BA27C1F0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A8E9-D02E-4AE3-8B63-6D14020B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67A9C-2C27-4FFC-9C2B-6D1992AF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B1690-93BA-41C3-AED3-A55D7274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D207E-E506-489A-A95B-206DBE91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B5EB8-7527-41B2-94DC-53E17648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95869-9D4A-4629-8E22-728FF30F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A9EB5-E26B-42E3-99BE-890784E6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6E1DD-47A8-4F1C-847D-CCDD659B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7F07D-BD92-4D85-AD33-6A637778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FF886-E6DC-4BE5-A08B-CCD0C74F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0FF40-B585-4C8F-A6FB-A62750AB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AC095-F273-4B51-9E76-ED1F08DA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69355-A351-4EAD-A163-8FD86C6A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7AFCC-2A0E-42E6-A38C-B4E7CB10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813D4-D3B5-4A6E-AB56-92DEF9D9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B9767-B99E-4DDA-9DAD-CA9E2D55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FDBEB-EAE2-4921-9EBE-AD901474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27087-0C5F-4A66-A792-12B04720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44FB4-603F-4CD5-A8A3-F964A64F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8C312-C5FA-47F0-9589-2C144FD9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ABB-CF17-4396-B151-4E0E7D6D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05D06-9262-493B-AA6E-6649A330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8A3BB-125D-41CA-99F7-44DF26E5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BA31C-6D53-4248-964A-7AE09CA9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E2A1F-49C4-458B-9C70-F85E4322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DF47A-F607-4D3A-B753-F077762B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432B6-E4C3-41E8-92D5-14A121B7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8B819-5141-4D8D-855B-5390F47A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2CC43-DB72-4B26-AA9C-D4E0E5FB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0191F-1EC3-4FAF-AB5F-3FC8A935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C0FD8-BBCB-46E6-B245-0123D086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FD5F9-16AE-49F1-AC7B-A9993BCC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86F47-80D8-4479-BD1E-C10A8414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8B323-AD77-4006-9A35-67D3346B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87775-50FD-49F6-A298-2FA65F61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FE769-ACC0-4FE7-AEB6-B85CF088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92BAD-68A5-4FB8-8615-89A2527F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77D6A-0AF4-4991-BB1E-95D1C69C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F625-2E12-4179-A3F6-00DECCB9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B929-E3FA-427C-AEAC-B2ACBBF4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160C-229D-42CF-9301-5A78B552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89E7-9AC6-4153-A39A-FC446765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8813-E6E9-409E-9FE5-F089061D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2B8F-2729-4AD2-A093-D1C6C4F0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E3AE-03AF-4BBF-8DA0-CD311C48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5928-5653-4A09-A1DB-6C003BE790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1892-19A6-4335-923A-8B3B326F38B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EE73-EE27-421A-A3B8-5DD305034744}" type="slidenum">
              <a:rPr b="0" lang="sl-SI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EEAD-3CC9-481F-BA4D-E86D608D78D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FD6D-7ABD-49DA-8029-1FE659F2B1A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0" y="5418000"/>
            <a:ext cx="914400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lovenska Strategija pametne specializaci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4</a:t>
            </a: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10.11.2015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5" name="Picture 2" descr="naslovna slika 1"/>
          <p:cNvPicPr/>
          <p:nvPr/>
        </p:nvPicPr>
        <p:blipFill>
          <a:blip r:embed="rId1"/>
          <a:stretch/>
        </p:blipFill>
        <p:spPr>
          <a:xfrm>
            <a:off x="0" y="0"/>
            <a:ext cx="9174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Calibri Light"/>
              </a:rPr>
              <a:t>SVEŽENJ UKREPOV</a:t>
            </a:r>
            <a:br>
              <a:rPr sz="4000"/>
            </a:br>
            <a:r>
              <a:rPr b="1" lang="sl-SI" sz="4000" spc="-1" strike="noStrike">
                <a:solidFill>
                  <a:srgbClr val="000000"/>
                </a:solidFill>
                <a:latin typeface="Calibri Light"/>
              </a:rPr>
              <a:t>                                    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6" name="Ograda številke diapozitiva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2C84-9A9F-4955-9FAB-E20158F731B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742968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Calibri Light"/>
              </a:rPr>
              <a:t>Finančni del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8" name="Ograda številke diapozitiva 3"/>
          <p:cNvSpPr/>
          <p:nvPr/>
        </p:nvSpPr>
        <p:spPr>
          <a:xfrm>
            <a:off x="70866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F13A-3B2A-43B6-87CC-0B8F989EFFF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425520" y="1404720"/>
            <a:ext cx="77738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0" name=""/>
          <p:cNvGraphicFramePr/>
          <p:nvPr/>
        </p:nvGraphicFramePr>
        <p:xfrm>
          <a:off x="901800" y="1359000"/>
          <a:ext cx="7515000" cy="4995720"/>
        </p:xfrm>
        <a:graphic>
          <a:graphicData uri="http://schemas.openxmlformats.org/drawingml/2006/table">
            <a:tbl>
              <a:tblPr/>
              <a:tblGrid>
                <a:gridCol w="3138480"/>
                <a:gridCol w="749160"/>
                <a:gridCol w="1530360"/>
                <a:gridCol w="1347840"/>
                <a:gridCol w="749160"/>
              </a:tblGrid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 2016-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prečno let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ež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25.483.5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1.827.8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362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2014-202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.957.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.319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  <a:tr h="498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sv-S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egralna sredst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2.526.5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.508.8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  <a:tr h="362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jetništ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7.923.1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.974.3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361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2014-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.923.1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.974.3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  <a:tr h="362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lna sredst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.00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00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  <a:tr h="361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loveški vi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234.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744.8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362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69.641.2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6.547.0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1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6.353.8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.117.9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0.667.9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.555.9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8.451.4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.483.8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V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4.167.9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.389.3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/>
          </p:nvPr>
        </p:nvSpPr>
        <p:spPr>
          <a:xfrm>
            <a:off x="555480" y="482760"/>
            <a:ext cx="69343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Finančni 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55120" y="2075040"/>
            <a:ext cx="709956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Raziskave, razvoj in inovacije v verigah in mrežah vrednost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Podpora naložb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Raziskovalna infrastrukt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Raziskovalni potencial raziskovalcev in mednarodna mobi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Znanje in kompetence zaposlen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Mladi in ustvarja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Optimizacija podpornega okolja za podjetništvo in inovacije, s poudarkom n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Novonastalih podjetjih in prenosu zn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podbujanju rasti in razvoja MS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nternacionalizaci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555480" y="482760"/>
            <a:ext cx="67183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Raziskave, razvoj in inovacije v verigah in mrežah vred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4" name="Picture 2" descr=""/>
          <p:cNvPicPr/>
          <p:nvPr/>
        </p:nvPicPr>
        <p:blipFill>
          <a:blip r:embed="rId1"/>
          <a:stretch/>
        </p:blipFill>
        <p:spPr>
          <a:xfrm>
            <a:off x="619200" y="1490760"/>
            <a:ext cx="811188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982800" y="4067280"/>
            <a:ext cx="7253280" cy="2790720"/>
          </a:xfrm>
          <a:prstGeom prst="rect">
            <a:avLst/>
          </a:prstGeom>
          <a:noFill/>
          <a:ln w="28440">
            <a:solidFill>
              <a:srgbClr val="41719c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Povezava s </a:t>
            </a:r>
            <a:r>
              <a:rPr b="1" lang="sl-SI" sz="3200" spc="-1" strike="noStrike" u="sng">
                <a:solidFill>
                  <a:srgbClr val="ff0000"/>
                </a:solidFill>
                <a:uFillTx/>
                <a:latin typeface="Calibri"/>
              </a:rPr>
              <a:t>podpornim okolj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ovonastala podjetja in prenos znan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Rast in razvoj MS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nfrastruktura + Finance + Vsebinska podpora + Poenoteno izvajanje in promo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Ograda številke diapozitiva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3F17-A3AE-4C4F-835B-8A19DA41D00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36920"/>
          </a:xfrm>
          <a:prstGeom prst="rect">
            <a:avLst/>
          </a:prstGeom>
          <a:ln w="0">
            <a:noFill/>
          </a:ln>
        </p:spPr>
      </p:pic>
      <p:sp>
        <p:nvSpPr>
          <p:cNvPr id="859" name="Dvosmerna navpična puščica 4"/>
          <p:cNvSpPr/>
          <p:nvPr/>
        </p:nvSpPr>
        <p:spPr>
          <a:xfrm>
            <a:off x="982800" y="3468600"/>
            <a:ext cx="218880" cy="424080"/>
          </a:xfrm>
          <a:prstGeom prst="upDownArrow">
            <a:avLst>
              <a:gd name="adj1" fmla="val 50000"/>
              <a:gd name="adj2" fmla="val 5007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Dvosmerna navpična puščica 6"/>
          <p:cNvSpPr/>
          <p:nvPr/>
        </p:nvSpPr>
        <p:spPr>
          <a:xfrm>
            <a:off x="1749600" y="3468600"/>
            <a:ext cx="217440" cy="424080"/>
          </a:xfrm>
          <a:prstGeom prst="upDownArrow">
            <a:avLst>
              <a:gd name="adj1" fmla="val 50000"/>
              <a:gd name="adj2" fmla="val 5004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Dvosmerna navpična puščica 7"/>
          <p:cNvSpPr/>
          <p:nvPr/>
        </p:nvSpPr>
        <p:spPr>
          <a:xfrm>
            <a:off x="2540160" y="3468600"/>
            <a:ext cx="218880" cy="424080"/>
          </a:xfrm>
          <a:prstGeom prst="upDownArrow">
            <a:avLst>
              <a:gd name="adj1" fmla="val 50000"/>
              <a:gd name="adj2" fmla="val 5007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Dvosmerna navpična puščica 8"/>
          <p:cNvSpPr/>
          <p:nvPr/>
        </p:nvSpPr>
        <p:spPr>
          <a:xfrm>
            <a:off x="3305160" y="3468600"/>
            <a:ext cx="217440" cy="424080"/>
          </a:xfrm>
          <a:prstGeom prst="upDownArrow">
            <a:avLst>
              <a:gd name="adj1" fmla="val 50000"/>
              <a:gd name="adj2" fmla="val 5004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Dvosmerna navpična puščica 9"/>
          <p:cNvSpPr/>
          <p:nvPr/>
        </p:nvSpPr>
        <p:spPr>
          <a:xfrm>
            <a:off x="4071960" y="3468600"/>
            <a:ext cx="217440" cy="424080"/>
          </a:xfrm>
          <a:prstGeom prst="upDownArrow">
            <a:avLst>
              <a:gd name="adj1" fmla="val 50000"/>
              <a:gd name="adj2" fmla="val 5004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Dvosmerna navpična puščica 10"/>
          <p:cNvSpPr/>
          <p:nvPr/>
        </p:nvSpPr>
        <p:spPr>
          <a:xfrm>
            <a:off x="4862520" y="3468600"/>
            <a:ext cx="219240" cy="424080"/>
          </a:xfrm>
          <a:prstGeom prst="upDown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Dvosmerna navpična puščica 11"/>
          <p:cNvSpPr/>
          <p:nvPr/>
        </p:nvSpPr>
        <p:spPr>
          <a:xfrm>
            <a:off x="5653080" y="3468600"/>
            <a:ext cx="217440" cy="424080"/>
          </a:xfrm>
          <a:prstGeom prst="upDownArrow">
            <a:avLst>
              <a:gd name="adj1" fmla="val 50000"/>
              <a:gd name="adj2" fmla="val 5004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Dvosmerna navpična puščica 12"/>
          <p:cNvSpPr/>
          <p:nvPr/>
        </p:nvSpPr>
        <p:spPr>
          <a:xfrm>
            <a:off x="6418440" y="3468600"/>
            <a:ext cx="218880" cy="424080"/>
          </a:xfrm>
          <a:prstGeom prst="upDownArrow">
            <a:avLst>
              <a:gd name="adj1" fmla="val 50000"/>
              <a:gd name="adj2" fmla="val 5007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Dvosmerna navpična puščica 13"/>
          <p:cNvSpPr/>
          <p:nvPr/>
        </p:nvSpPr>
        <p:spPr>
          <a:xfrm>
            <a:off x="7210440" y="3468600"/>
            <a:ext cx="219240" cy="424080"/>
          </a:xfrm>
          <a:prstGeom prst="upDown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Dvosmerna navpična puščica 14"/>
          <p:cNvSpPr/>
          <p:nvPr/>
        </p:nvSpPr>
        <p:spPr>
          <a:xfrm>
            <a:off x="8018640" y="3468600"/>
            <a:ext cx="217440" cy="424080"/>
          </a:xfrm>
          <a:prstGeom prst="upDownArrow">
            <a:avLst>
              <a:gd name="adj1" fmla="val 50000"/>
              <a:gd name="adj2" fmla="val 5004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Desni zaviti oklepaj 1"/>
          <p:cNvSpPr/>
          <p:nvPr/>
        </p:nvSpPr>
        <p:spPr>
          <a:xfrm rot="5400000">
            <a:off x="4319640" y="3508560"/>
            <a:ext cx="504720" cy="439704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4397040"/>
              <a:gd name="textAreaBottom" fmla="*/ 4384080 h 439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4"/>
                  <a:pt x="10800" y="207"/>
                </a:cubicBezTo>
                <a:lnTo>
                  <a:pt x="10800" y="10593"/>
                </a:lnTo>
                <a:cubicBezTo>
                  <a:pt x="10800" y="10697"/>
                  <a:pt x="16200" y="10800"/>
                  <a:pt x="21600" y="10800"/>
                </a:cubicBezTo>
                <a:cubicBezTo>
                  <a:pt x="16200" y="10800"/>
                  <a:pt x="10800" y="10904"/>
                  <a:pt x="10800" y="11007"/>
                </a:cubicBezTo>
                <a:lnTo>
                  <a:pt x="10800" y="21393"/>
                </a:lnTo>
                <a:cubicBezTo>
                  <a:pt x="10800" y="21497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6494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Calibri Light"/>
              </a:rPr>
              <a:t>Nefinančni del: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Razvojna držav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628560" y="2847960"/>
            <a:ext cx="7886880" cy="37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novativna in zelena javna naroči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Davčne olajš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Gospodarska diplomacija in promo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daja dovoljenj in odprava regulacijskih ov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Učinkovito pravosod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Ograda številke diapozitiva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528A-9C2B-4CAB-9C90-F196660848B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184440" y="782640"/>
            <a:ext cx="2863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Calibri Light"/>
              </a:rPr>
              <a:t>Od razvoja do trg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74" name="Ograda vsebin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8991720" cy="5497560"/>
          </a:xfrm>
          <a:prstGeom prst="rect">
            <a:avLst/>
          </a:prstGeom>
          <a:ln w="0">
            <a:noFill/>
          </a:ln>
        </p:spPr>
      </p:pic>
      <p:sp>
        <p:nvSpPr>
          <p:cNvPr id="875" name="Ograda številke diapozitiva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8224-D0D2-4443-B653-961190AC1A9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oljeZBesedilom 6"/>
          <p:cNvSpPr/>
          <p:nvPr/>
        </p:nvSpPr>
        <p:spPr>
          <a:xfrm>
            <a:off x="1893960" y="1973160"/>
            <a:ext cx="13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Bazična zna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oljeZBesedilom 7"/>
          <p:cNvSpPr/>
          <p:nvPr/>
        </p:nvSpPr>
        <p:spPr>
          <a:xfrm>
            <a:off x="3657600" y="3003480"/>
            <a:ext cx="53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Izboljšanj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mednarodne konkurenčnosti in odličnosti raziskav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za sodelovanje v verigah  vred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oljeZBesedilom 9"/>
          <p:cNvSpPr/>
          <p:nvPr/>
        </p:nvSpPr>
        <p:spPr>
          <a:xfrm>
            <a:off x="771480" y="3603600"/>
            <a:ext cx="12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POTRDITEV KONCEP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oljeZBesedilom 10"/>
          <p:cNvSpPr/>
          <p:nvPr/>
        </p:nvSpPr>
        <p:spPr>
          <a:xfrm>
            <a:off x="2398680" y="4925880"/>
            <a:ext cx="13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PROTOT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oljeZBesedilom 11"/>
          <p:cNvSpPr/>
          <p:nvPr/>
        </p:nvSpPr>
        <p:spPr>
          <a:xfrm>
            <a:off x="4975200" y="6119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T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oljeZBesedilom 13"/>
          <p:cNvSpPr/>
          <p:nvPr/>
        </p:nvSpPr>
        <p:spPr>
          <a:xfrm>
            <a:off x="5189400" y="3745080"/>
            <a:ext cx="395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Podpora RRI procesom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Manjši inovacijski projek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ME Instr. Plu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projek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Večji  RRI projek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oljeZBesedilom 16"/>
          <p:cNvSpPr/>
          <p:nvPr/>
        </p:nvSpPr>
        <p:spPr>
          <a:xfrm>
            <a:off x="7772400" y="5568840"/>
            <a:ext cx="127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Podpora naložbam: Povratna sredst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uščica dol 4"/>
          <p:cNvSpPr/>
          <p:nvPr/>
        </p:nvSpPr>
        <p:spPr>
          <a:xfrm>
            <a:off x="3098880" y="2692440"/>
            <a:ext cx="243036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263160" bIns="263160" anchor="ctr">
            <a:noAutofit/>
          </a:bodyPr>
          <a:p>
            <a:pPr algn="ctr">
              <a:lnSpc>
                <a:spcPct val="90000"/>
              </a:lnSpc>
              <a:spcAft>
                <a:spcPts val="1613"/>
              </a:spcAft>
              <a:tabLst>
                <a:tab algn="l" pos="0"/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oljeZBesedilom 2"/>
          <p:cNvSpPr/>
          <p:nvPr/>
        </p:nvSpPr>
        <p:spPr>
          <a:xfrm>
            <a:off x="2662200" y="1419120"/>
            <a:ext cx="2997360" cy="673200"/>
          </a:xfrm>
          <a:prstGeom prst="rect">
            <a:avLst/>
          </a:prstGeom>
          <a:gradFill rotWithShape="0">
            <a:gsLst>
              <a:gs pos="0">
                <a:srgbClr val="9ac3f6"/>
              </a:gs>
              <a:gs pos="100000">
                <a:srgbClr val="e1ecfb"/>
              </a:gs>
            </a:gsLst>
            <a:lin ang="5400000"/>
          </a:gradFill>
          <a:ln cap="rnd" w="316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ljša izraba in razvoj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ziskovalne infrastruk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oljeZBesedilom 18"/>
          <p:cNvSpPr/>
          <p:nvPr/>
        </p:nvSpPr>
        <p:spPr>
          <a:xfrm>
            <a:off x="3228840" y="6481800"/>
            <a:ext cx="3503880" cy="398880"/>
          </a:xfrm>
          <a:prstGeom prst="rect">
            <a:avLst/>
          </a:prstGeom>
          <a:gradFill rotWithShape="0">
            <a:gsLst>
              <a:gs pos="0">
                <a:srgbClr val="9ac3f6"/>
              </a:gs>
              <a:gs pos="100000">
                <a:srgbClr val="e1ecfb"/>
              </a:gs>
            </a:gsLst>
            <a:lin ang="5400000"/>
          </a:gradFill>
          <a:ln cap="rnd" w="316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Inovativna javna naročila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oljeZBesedilom 19"/>
          <p:cNvSpPr/>
          <p:nvPr/>
        </p:nvSpPr>
        <p:spPr>
          <a:xfrm>
            <a:off x="1974960" y="465120"/>
            <a:ext cx="2879640" cy="947520"/>
          </a:xfrm>
          <a:prstGeom prst="rect">
            <a:avLst/>
          </a:prstGeom>
          <a:gradFill rotWithShape="0">
            <a:gsLst>
              <a:gs pos="0">
                <a:srgbClr val="9ac3f6"/>
              </a:gs>
              <a:gs pos="100000">
                <a:srgbClr val="e1ecfb"/>
              </a:gs>
            </a:gsLst>
            <a:lin ang="5400000"/>
          </a:gradFill>
          <a:ln cap="rnd" w="316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Komplementarnost z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bzorje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020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: (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Teaming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ERC, Twinning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oljeZBesedilom 20"/>
          <p:cNvSpPr/>
          <p:nvPr/>
        </p:nvSpPr>
        <p:spPr>
          <a:xfrm>
            <a:off x="6732720" y="6481800"/>
            <a:ext cx="2411280" cy="398880"/>
          </a:xfrm>
          <a:prstGeom prst="rect">
            <a:avLst/>
          </a:prstGeom>
          <a:gradFill rotWithShape="0">
            <a:gsLst>
              <a:gs pos="0">
                <a:srgbClr val="9ac3f6"/>
              </a:gs>
              <a:gs pos="100000">
                <a:srgbClr val="e1ecfb"/>
              </a:gs>
            </a:gsLst>
            <a:lin ang="5400000"/>
          </a:gradFill>
          <a:ln cap="rnd" w="316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Internacionalizac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oljeZBesedilom 21"/>
          <p:cNvSpPr/>
          <p:nvPr/>
        </p:nvSpPr>
        <p:spPr>
          <a:xfrm>
            <a:off x="3657600" y="3645000"/>
            <a:ext cx="5261040" cy="398880"/>
          </a:xfrm>
          <a:prstGeom prst="rect">
            <a:avLst/>
          </a:prstGeom>
          <a:gradFill rotWithShape="0">
            <a:gsLst>
              <a:gs pos="0">
                <a:srgbClr val="9ac3f6"/>
              </a:gs>
              <a:gs pos="100000">
                <a:srgbClr val="e1ecfb"/>
              </a:gs>
            </a:gsLst>
            <a:lin ang="5400000"/>
          </a:gradFill>
          <a:ln cap="rnd" w="316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Mednarodne iniciative (EUREKA)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Ograda številke diapozitiva 3"/>
          <p:cNvSpPr/>
          <p:nvPr/>
        </p:nvSpPr>
        <p:spPr>
          <a:xfrm>
            <a:off x="70866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73C9-3123-40FB-80EB-4BB52D22577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0" name="Picture 2" descr="naslovna slika 1"/>
          <p:cNvPicPr/>
          <p:nvPr/>
        </p:nvPicPr>
        <p:blipFill>
          <a:blip r:embed="rId1"/>
          <a:stretch/>
        </p:blipFill>
        <p:spPr>
          <a:xfrm>
            <a:off x="-14400" y="3313080"/>
            <a:ext cx="9174240" cy="3429000"/>
          </a:xfrm>
          <a:prstGeom prst="rect">
            <a:avLst/>
          </a:prstGeom>
          <a:ln w="0">
            <a:noFill/>
          </a:ln>
        </p:spPr>
      </p:pic>
      <p:pic>
        <p:nvPicPr>
          <p:cNvPr id="891" name="Pravokotnik 7" descr=""/>
          <p:cNvPicPr/>
          <p:nvPr/>
        </p:nvPicPr>
        <p:blipFill>
          <a:blip r:embed="rId2"/>
          <a:stretch/>
        </p:blipFill>
        <p:spPr>
          <a:xfrm>
            <a:off x="3517920" y="1676520"/>
            <a:ext cx="3621240" cy="1689120"/>
          </a:xfrm>
          <a:prstGeom prst="rect">
            <a:avLst/>
          </a:prstGeom>
          <a:ln w="0">
            <a:noFill/>
          </a:ln>
        </p:spPr>
      </p:pic>
      <p:sp>
        <p:nvSpPr>
          <p:cNvPr id="892" name="PoljeZBesedilom 8"/>
          <p:cNvSpPr/>
          <p:nvPr/>
        </p:nvSpPr>
        <p:spPr>
          <a:xfrm>
            <a:off x="6656400" y="3936960"/>
            <a:ext cx="23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bf9000"/>
                </a:solidFill>
                <a:latin typeface="Calibri"/>
                <a:ea typeface="Arial"/>
              </a:rPr>
              <a:t>gorazd.jenko@gov.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3" name="Picture 3" descr=""/>
          <p:cNvPicPr/>
          <p:nvPr/>
        </p:nvPicPr>
        <p:blipFill>
          <a:blip r:embed="rId3"/>
          <a:stretch/>
        </p:blipFill>
        <p:spPr>
          <a:xfrm>
            <a:off x="-271440" y="-392040"/>
            <a:ext cx="3495600" cy="2293920"/>
          </a:xfrm>
          <a:prstGeom prst="rect">
            <a:avLst/>
          </a:prstGeom>
          <a:ln w="0">
            <a:noFill/>
          </a:ln>
        </p:spPr>
      </p:pic>
      <p:sp>
        <p:nvSpPr>
          <p:cNvPr id="894" name="PoljeZBesedilom 8"/>
          <p:cNvSpPr/>
          <p:nvPr/>
        </p:nvSpPr>
        <p:spPr>
          <a:xfrm>
            <a:off x="0" y="3070080"/>
            <a:ext cx="23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bf9000"/>
                </a:solidFill>
                <a:latin typeface="Calibri"/>
                <a:ea typeface="Arial"/>
              </a:rPr>
              <a:t>peter.wostner@gov.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oljeZBesedilom 8"/>
          <p:cNvSpPr/>
          <p:nvPr/>
        </p:nvSpPr>
        <p:spPr>
          <a:xfrm>
            <a:off x="235080" y="6373800"/>
            <a:ext cx="24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bf9000"/>
                </a:solidFill>
                <a:latin typeface="Calibri"/>
                <a:ea typeface="Arial"/>
              </a:rPr>
              <a:t>simona.hocevar@gov.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oljeZBesedilom 8"/>
          <p:cNvSpPr/>
          <p:nvPr/>
        </p:nvSpPr>
        <p:spPr>
          <a:xfrm>
            <a:off x="6827760" y="6432480"/>
            <a:ext cx="23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bf9000"/>
                </a:solidFill>
                <a:latin typeface="Calibri"/>
                <a:ea typeface="Arial"/>
              </a:rPr>
              <a:t>marko.hren@gov.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39760"/>
            <a:ext cx="74296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Calibri Light"/>
              </a:rPr>
              <a:t>Cilj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Ograda številke diapozitiva 3"/>
          <p:cNvSpPr/>
          <p:nvPr/>
        </p:nvSpPr>
        <p:spPr>
          <a:xfrm>
            <a:off x="70866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B135-2C05-4259-9447-AEE6DC39CC1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425520" y="1404720"/>
            <a:ext cx="77738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Dvig dodane vrednosti na zaposlenega </a:t>
            </a:r>
            <a:r>
              <a:rPr b="0" lang="sl-S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 ravni posameznih prednostnih področij.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ovečan delež visokotehnološko intenzivnih proizvodov v </a:t>
            </a:r>
            <a:r>
              <a:rPr b="1" i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izvozu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dvig od 22,3 % na povprečno raven EU-15 (26,5 %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ovečan delež izvoza storitev z visokim deležem znanja v celotnem </a:t>
            </a:r>
            <a:r>
              <a:rPr b="1" i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izvozu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od 21,4 % na 33 %, kar pomeni prepolovitev zaostanka do povprečja E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vig celotne </a:t>
            </a:r>
            <a:r>
              <a:rPr b="1" i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podjetniške aktivnosti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 sedanjih 11 % vsaj na raven povprečja EU, to je 12,8 %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*******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0000"/>
                </a:solidFill>
                <a:uFillTx/>
                <a:latin typeface="Calibri"/>
              </a:rPr>
              <a:t>Ambicija SI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 (na prednostnih nišnih področj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222a35"/>
                </a:solidFill>
                <a:latin typeface="Calibri"/>
              </a:rPr>
              <a:t>od sledilca v </a:t>
            </a:r>
            <a:r>
              <a:rPr b="1" lang="sl-SI" sz="2400" spc="-1" strike="noStrike" u="sng">
                <a:solidFill>
                  <a:srgbClr val="222a35"/>
                </a:solidFill>
                <a:uFillTx/>
                <a:latin typeface="Calibri"/>
              </a:rPr>
              <a:t>soustvarjalca globalnih trendo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312480" y="542520"/>
            <a:ext cx="851508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Calibri"/>
              </a:rPr>
              <a:t>Bistvo S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4 potrebujemo za </a:t>
            </a:r>
            <a:r>
              <a:rPr b="0" i="1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OSREDOTOČENJE razvojnih vlaganj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na področja, kjer ima Slovenija kritično maso znanja, kapacitet in kompetenc in na katerih ima inovacijski potencial za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) </a:t>
            </a:r>
            <a:r>
              <a:rPr b="0" i="1" lang="sl-SI" sz="2000" spc="-1" strike="noStrike">
                <a:solidFill>
                  <a:srgbClr val="000000"/>
                </a:solidFill>
                <a:latin typeface="Calibri"/>
              </a:rPr>
              <a:t>pozicioniranje na globalnih trgih ter </a:t>
            </a: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Calibri"/>
              </a:rPr>
              <a:t>z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Calibri"/>
              </a:rPr>
              <a:t>(ii) krepitev SI prepoznavnosti</a:t>
            </a:r>
            <a:r>
              <a:rPr b="0" i="1" lang="sl-SI" sz="20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 u="sng">
                <a:solidFill>
                  <a:srgbClr val="ff0000"/>
                </a:solidFill>
                <a:uFillTx/>
                <a:latin typeface="Calibri"/>
              </a:rPr>
              <a:t>PRIORITIZACIJA</a:t>
            </a:r>
            <a:r>
              <a:rPr b="0" i="1" lang="sl-SI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sl-SI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i="1" lang="sl-S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l-SI" sz="2800" spc="-1" strike="noStrike" u="sng">
                <a:solidFill>
                  <a:srgbClr val="2e75b6"/>
                </a:solidFill>
                <a:uFillTx/>
                <a:latin typeface="Calibri"/>
              </a:rPr>
              <a:t>PREDNOSTNA PODROČ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4 je platforma za </a:t>
            </a:r>
            <a:r>
              <a:rPr b="0" i="1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POVEZOVANJE in </a:t>
            </a:r>
            <a:r>
              <a:rPr b="0" i="1" lang="sl-SI" sz="2800" spc="-1" strike="noStrike" u="sng">
                <a:solidFill>
                  <a:srgbClr val="ff0000"/>
                </a:solidFill>
                <a:uFillTx/>
                <a:latin typeface="Calibri"/>
              </a:rPr>
              <a:t>SODELOVANJE 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za</a:t>
            </a:r>
            <a:r>
              <a:rPr b="0" i="1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vodenje usklajene razvojne politike inovacij 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i="1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sl-SI" sz="2800" spc="-1" strike="noStrike" u="sng">
                <a:solidFill>
                  <a:srgbClr val="2e75b6"/>
                </a:solidFill>
                <a:uFillTx/>
                <a:latin typeface="Calibri"/>
              </a:rPr>
              <a:t>UPRAVLJANJE (Strateška partnerstv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Calibri Light"/>
              </a:rPr>
              <a:t>Glavne usmeritve S4 pristop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272880" y="1854000"/>
            <a:ext cx="870768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Konsistentnost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TRL, čas, velikost projekt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Celovit pristop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: RRI, infrastruktura, človeški viri, ukrepi na strani povpraševanja, regulacija, internacionalizacij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Strateški pristop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z jasno opredeljenimi prioritetami in prilagojeno strukturo upravlj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Dopolnjevanje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glede na druge instrumente (vzvod) ter med nepovratnimi in povratnimi oblikami podp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Obstoječe in prihajajoče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ndustrije (ciljno 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Prilagojen odziv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glede na specifičnosti priorit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Ograda številke diapozitiva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1426-E70B-4975-A8B8-02514112B87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Calibri Light"/>
              </a:rPr>
              <a:t>PREDNOSTNA PODROČJA</a:t>
            </a:r>
            <a:br>
              <a:rPr sz="4000"/>
            </a:br>
            <a:r>
              <a:rPr b="1" lang="sl-SI" sz="4000" spc="-1" strike="noStrike">
                <a:solidFill>
                  <a:srgbClr val="000000"/>
                </a:solidFill>
                <a:latin typeface="Calibri Light"/>
              </a:rPr>
              <a:t>                                        </a:t>
            </a:r>
            <a:r>
              <a:rPr b="1" i="1" lang="sl-SI" sz="4000" spc="-1" strike="noStrike">
                <a:solidFill>
                  <a:srgbClr val="ff0000"/>
                </a:solidFill>
                <a:latin typeface="Calibri Light"/>
              </a:rPr>
              <a:t>PRIORITIZACIJA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25" name="Ograda številke diapozitiva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0FDE-5622-44A8-B24A-AD034C9C75E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99960" y="26676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44546a"/>
                </a:solidFill>
                <a:latin typeface="Calibri Light"/>
              </a:rPr>
              <a:t>Utemeljitev prednostnih področij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7" name="Ograda številke diapozitiva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E588-9064-46A4-B651-D3F92154E32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8" name="Slika 5" descr=""/>
          <p:cNvPicPr/>
          <p:nvPr/>
        </p:nvPicPr>
        <p:blipFill>
          <a:blip r:embed="rId1"/>
          <a:stretch/>
        </p:blipFill>
        <p:spPr>
          <a:xfrm>
            <a:off x="482760" y="1179360"/>
            <a:ext cx="8178480" cy="55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Ograda številke diapozitiva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00DB-FD73-4A9B-9DD6-4A2A46C0E0D2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07640" y="333000"/>
            <a:ext cx="294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d5b93"/>
                </a:solidFill>
                <a:latin typeface="Calibri Light"/>
              </a:rPr>
              <a:t>Prednostna področj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31" name="Ograda vsebine 8" descr=""/>
          <p:cNvPicPr/>
          <p:nvPr/>
        </p:nvPicPr>
        <p:blipFill>
          <a:blip r:embed="rId1"/>
          <a:stretch/>
        </p:blipFill>
        <p:spPr>
          <a:xfrm>
            <a:off x="646200" y="676440"/>
            <a:ext cx="79074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Calibri Light"/>
              </a:rPr>
              <a:t>UPRAVLJANJE         -       </a:t>
            </a:r>
            <a:r>
              <a:rPr b="1" i="1" lang="sl-SI" sz="4000" spc="-1" strike="noStrike">
                <a:solidFill>
                  <a:srgbClr val="ff0000"/>
                </a:solidFill>
                <a:latin typeface="Calibri Light"/>
              </a:rPr>
              <a:t>SODELOVANJ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34" name="Ograda številke diapozitiva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F623-2115-45B1-813C-A2B16272ED6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Enakokraki trikotnik 7"/>
          <p:cNvSpPr/>
          <p:nvPr/>
        </p:nvSpPr>
        <p:spPr>
          <a:xfrm>
            <a:off x="0" y="30240"/>
            <a:ext cx="9144000" cy="6827760"/>
          </a:xfrm>
          <a:prstGeom prst="triangle">
            <a:avLst>
              <a:gd name="adj" fmla="val 50000"/>
            </a:avLst>
          </a:prstGeom>
          <a:solidFill>
            <a:srgbClr val="5b9bd5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Ograda vsebine 4" descr=""/>
          <p:cNvPicPr/>
          <p:nvPr/>
        </p:nvPicPr>
        <p:blipFill>
          <a:blip r:embed="rId1"/>
          <a:stretch/>
        </p:blipFill>
        <p:spPr>
          <a:xfrm>
            <a:off x="676440" y="4668840"/>
            <a:ext cx="7900920" cy="1781280"/>
          </a:xfrm>
          <a:prstGeom prst="rect">
            <a:avLst/>
          </a:prstGeom>
          <a:ln w="0">
            <a:noFill/>
          </a:ln>
        </p:spPr>
      </p:pic>
      <p:sp>
        <p:nvSpPr>
          <p:cNvPr id="837" name="Ograda številke diapozitiva 3"/>
          <p:cNvSpPr/>
          <p:nvPr/>
        </p:nvSpPr>
        <p:spPr>
          <a:xfrm>
            <a:off x="65102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1677-C6BE-40B6-993C-244A3B7F136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8" name="Pravokotnik 5" descr=""/>
          <p:cNvPicPr/>
          <p:nvPr/>
        </p:nvPicPr>
        <p:blipFill>
          <a:blip r:embed="rId2"/>
          <a:stretch/>
        </p:blipFill>
        <p:spPr>
          <a:xfrm>
            <a:off x="2077920" y="743040"/>
            <a:ext cx="4951440" cy="1566720"/>
          </a:xfrm>
          <a:prstGeom prst="rect">
            <a:avLst/>
          </a:prstGeom>
          <a:ln w="0">
            <a:noFill/>
          </a:ln>
        </p:spPr>
      </p:pic>
      <p:pic>
        <p:nvPicPr>
          <p:cNvPr id="839" name="Pravokotnik 6" descr=""/>
          <p:cNvPicPr/>
          <p:nvPr/>
        </p:nvPicPr>
        <p:blipFill>
          <a:blip r:embed="rId3"/>
          <a:stretch/>
        </p:blipFill>
        <p:spPr>
          <a:xfrm>
            <a:off x="646200" y="2724120"/>
            <a:ext cx="7802640" cy="914400"/>
          </a:xfrm>
          <a:prstGeom prst="rect">
            <a:avLst/>
          </a:prstGeom>
          <a:ln w="0">
            <a:noFill/>
          </a:ln>
        </p:spPr>
      </p:pic>
      <p:sp>
        <p:nvSpPr>
          <p:cNvPr id="840" name="Enakokraki trikotnik 8"/>
          <p:cNvSpPr/>
          <p:nvPr/>
        </p:nvSpPr>
        <p:spPr>
          <a:xfrm>
            <a:off x="152280" y="182520"/>
            <a:ext cx="9144000" cy="6827760"/>
          </a:xfrm>
          <a:prstGeom prst="triangle">
            <a:avLst>
              <a:gd name="adj" fmla="val 50000"/>
            </a:avLst>
          </a:prstGeom>
          <a:solidFill>
            <a:srgbClr val="5b9bd5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1" name="Skupina 1"/>
          <p:cNvGrpSpPr/>
          <p:nvPr/>
        </p:nvGrpSpPr>
        <p:grpSpPr>
          <a:xfrm>
            <a:off x="573120" y="4438800"/>
            <a:ext cx="8101080" cy="1662120"/>
            <a:chOff x="573120" y="4438800"/>
            <a:chExt cx="8101080" cy="1662120"/>
          </a:xfrm>
        </p:grpSpPr>
        <p:pic>
          <p:nvPicPr>
            <p:cNvPr id="842" name="Pravokotnik 9" descr=""/>
            <p:cNvPicPr/>
            <p:nvPr/>
          </p:nvPicPr>
          <p:blipFill>
            <a:blip r:embed="rId4"/>
            <a:stretch/>
          </p:blipFill>
          <p:spPr>
            <a:xfrm>
              <a:off x="573120" y="4950000"/>
              <a:ext cx="810108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3" name="Pravokotnik 10" descr=""/>
            <p:cNvPicPr/>
            <p:nvPr/>
          </p:nvPicPr>
          <p:blipFill>
            <a:blip r:embed="rId5"/>
            <a:stretch/>
          </p:blipFill>
          <p:spPr>
            <a:xfrm>
              <a:off x="573120" y="4438800"/>
              <a:ext cx="8101080" cy="79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Peter Wostner</cp:lastModifiedBy>
  <cp:lastPrinted>2015-06-01T06:13:16Z</cp:lastPrinted>
  <dcterms:modified xsi:type="dcterms:W3CDTF">2015-11-10T08:06:23Z</dcterms:modified>
  <cp:revision>260</cp:revision>
  <dc:subject/>
  <dc:title>PowerPoint Presentation</dc:title>
</cp:coreProperties>
</file>