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5004-F26C-4218-AFE8-D35C45BD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4282-1F7A-40BD-98F7-2EB7276B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CF13-7340-47BC-A862-61084AF9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9917-94EF-4537-8A51-FAABE63A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08AC-EF30-4C3F-A468-14592F90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1B78-7E7C-4D22-86F8-EEF6C0CA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C6A-1EB0-4F8F-8C90-4AF45B08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C2D6-4DCC-435F-AA77-BC6E5D39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B294-9E42-4FD6-B16E-4562F6EC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83E3-EB5A-4305-9E91-9BA5DDA3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086D-A3CB-4BA6-BC85-A55FE466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C130-E26A-4C49-BC9A-196629AB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9B4C-E1C5-4295-8085-B13FEE131F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040" y="339840"/>
            <a:ext cx="665172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Finančni instrumenti 2014-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oljeZBesedilom 2"/>
          <p:cNvSpPr/>
          <p:nvPr/>
        </p:nvSpPr>
        <p:spPr>
          <a:xfrm>
            <a:off x="833400" y="682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Zakonodaj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oljeZBesedilom 3"/>
          <p:cNvSpPr/>
          <p:nvPr/>
        </p:nvSpPr>
        <p:spPr>
          <a:xfrm>
            <a:off x="950760" y="1554120"/>
            <a:ext cx="7391520" cy="3385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ložbe v kapital ali navidezni lastniški kapital, posojila, jamstva ali drugi instrumenti delitve tveganj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podbujati mora znatno udeležbo zasebnih vlagateljev in finančnih institucij na podlagi ustrezne delitve tveganja.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mogočati morajo kritje celote naložb brez razlikovanja stroškov, povezanih z DDV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dpraviti administrativna bremena za končne prejemni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oljeZBesedilom 2"/>
          <p:cNvSpPr/>
          <p:nvPr/>
        </p:nvSpPr>
        <p:spPr>
          <a:xfrm>
            <a:off x="833400" y="682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Predhodna oce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oljeZBesedilom 3"/>
          <p:cNvSpPr/>
          <p:nvPr/>
        </p:nvSpPr>
        <p:spPr>
          <a:xfrm>
            <a:off x="950760" y="1563840"/>
            <a:ext cx="7391520" cy="3385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Uporabljajo se v primeru posebnih tržnih potreb in ne smejo ovirati zasebnega financiranj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dločitev o financiranju podpornih ukrepov s finančnimi instrumenti je zato treba sprejeti na podlagi predhodne ocene, s katero so bili ugotovljeni nedelovanje trga ali neoptimalne naložbene razmere, ter ocenjeni ravni in obsegu potreb po javnih naložbah, ki pa hkrati določa vrste podprtih finančnih instrumentov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oljeZBesedilom 2"/>
          <p:cNvSpPr/>
          <p:nvPr/>
        </p:nvSpPr>
        <p:spPr>
          <a:xfrm>
            <a:off x="833400" y="682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Področ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oljeZBesedilom 3"/>
          <p:cNvSpPr/>
          <p:nvPr/>
        </p:nvSpPr>
        <p:spPr>
          <a:xfrm>
            <a:off x="950760" y="1563840"/>
            <a:ext cx="7391520" cy="41173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raziskav, tehnološkega razvoja in inovacij (TC 1 in 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ovečanje konkurenčnosti MSP, kmetijskega sektorja (za EKSRP) ter sektorja ribištva in akvakulture (za ESPR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TC 1, 3, 8, 9)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dpora prehodu na gospodarstvo z nizkimi emisijami ogljika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(TC 3 in 4)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ančni instrumenti za urbani in teritorialni razvoj: 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TC 4, 6,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oljeZBesedilom 2"/>
          <p:cNvSpPr/>
          <p:nvPr/>
        </p:nvSpPr>
        <p:spPr>
          <a:xfrm>
            <a:off x="833400" y="682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Metodologi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oljeZBesedilom 3"/>
          <p:cNvSpPr/>
          <p:nvPr/>
        </p:nvSpPr>
        <p:spPr>
          <a:xfrm>
            <a:off x="950760" y="1563840"/>
            <a:ext cx="7391520" cy="48488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onudba:  pregled finančnega sektorja z namenom določitve okvira razpoložljivih finančnih sredstva brez razpoložljivih shem javne intervencij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ovpraševanje: MSP spletni vprašalnik, RRI podatki o predhodni aktivnosti na tem področju in intervjuji z velikimi podjetji, Urbani razvoj in energetska sanacija (JESSICA in podatki občin – mehanizem CTN). Javni sektor podatki iz strategije o Energetski prenovi stav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 podlagi analize ponudbe in povpraševanja je izdelana ocena nedelovanja trga, skupaj z navedbo neoptimalnih naložbenih razm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oljeZBesedilom 2"/>
          <p:cNvSpPr/>
          <p:nvPr/>
        </p:nvSpPr>
        <p:spPr>
          <a:xfrm>
            <a:off x="833400" y="63972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Predlog finančnih produkto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3" descr=""/>
          <p:cNvPicPr/>
          <p:nvPr/>
        </p:nvPicPr>
        <p:blipFill>
          <a:blip r:embed="rId1"/>
          <a:stretch/>
        </p:blipFill>
        <p:spPr>
          <a:xfrm>
            <a:off x="282600" y="1606680"/>
            <a:ext cx="872172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oljeZBesedilom 2"/>
          <p:cNvSpPr/>
          <p:nvPr/>
        </p:nvSpPr>
        <p:spPr>
          <a:xfrm>
            <a:off x="833400" y="682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Nadaljnji korak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oljeZBesedilom 3"/>
          <p:cNvSpPr/>
          <p:nvPr/>
        </p:nvSpPr>
        <p:spPr>
          <a:xfrm>
            <a:off x="950760" y="1563840"/>
            <a:ext cx="7391520" cy="26542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EK še ni izdala vseh navodil, trenutno so v pripravi navodila za izbiro finančnih posrednikov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dločitev o modelu upravljanja in izbira finančnih posrednikov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odpis sporazuma o financiranju in izvajanje finančnih instrumentov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cp:lastPrinted>2015-03-24T12:44:18Z</cp:lastPrinted>
  <dcterms:modified xsi:type="dcterms:W3CDTF">2015-11-11T08:03:45Z</dcterms:modified>
  <cp:revision>39</cp:revision>
  <dc:subject/>
  <dc:title>PowerPoint Presentation</dc:title>
</cp:coreProperties>
</file>