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41F-C916-4798-8EC3-57CC8E9D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5DE-3D2E-4141-852C-5A16CE9C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C4E-ACB2-46DF-86F0-04FB5D2C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2B7-31DA-49C7-BE1F-FD13F4B0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484-1674-4E04-911A-9F5DCEA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919-7B7B-48E6-B5BC-60BB0D8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87D-922D-4677-B528-78F3A07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66A-3601-4014-BA5D-C3440C9E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7AD-B5CA-4205-A72E-38FACAC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56C-C388-4EAF-80B3-F6F4FD7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B52-2358-4220-9BFD-289BAFC1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9CE-5200-4670-806B-69742B3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E43A-66BD-45D6-9423-A530748A7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9194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ENOSTAVLJENE OBLIKE STROŠKOV „POS“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2800" y="63036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IZKUŠNJE 2007-2013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79320" y="1864800"/>
            <a:ext cx="80658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AVŠAL ZA POSREDNE STRO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5% za operacije sofinancirane iz ESS od leta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20% za operacije sofinancirane iz ESRR od leta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TANDARDNI STROŠKI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NKRATNA IZPLAČ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9800" y="856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17240" y="1373040"/>
            <a:ext cx="93092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v obdobju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O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 se lahko za vse vrste stroškov (ne le za posred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25% pavšalno financiranje za posredne stroške na podlagi metodolo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15% pavšalnega financiranja za posredne stroške, ki se določijo na podlagi upravičenih neposrednih stroškov za oseb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a stopenj pavšalnega financiranja, ki obstajajo v politikah Unije (Obzorje 2020,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SS – do 40% za vse ostale stroške glede na upravičene neposredne stroške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12560" y="1784520"/>
            <a:ext cx="96202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STANDARDNE LESTVICE STROŠKOV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rezulta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 in rezulta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rmula za urno postavko stroškov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I ZNE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kombiniranje vseh oblik „PO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09T08:42:28Z</dcterms:modified>
  <cp:revision>12</cp:revision>
  <dc:subject/>
  <dc:title>POSTOPEK IMENOVANJA</dc:title>
</cp:coreProperties>
</file>