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9.wmf" ContentType="image/x-wmf"/>
  <Override PartName="/ppt/media/image2.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F64F5-ABC0-4DAB-8AA7-1B06D7023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EC466-B7C8-411E-8B54-691576176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EB9B0-EF30-46F3-B303-049945D0A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A601D-06DD-48C6-94A3-B2859F2F3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5980A-506C-41B3-B382-B854F80C0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2A7A4-5974-439B-A0EB-B26E1FFD9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AF430-3F14-41EC-A979-80FA8888A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A35C1-C3EB-4888-990C-0A20E745C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16BCC-0BF6-40C5-B83A-D9AFA4FE1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0D2F4-9190-4891-A431-9CC3CC3D7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A754-E8DF-44DD-81C4-23DE08DE6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33C2B-C7DC-4527-956A-7F1B03562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CEE5-BA49-4885-A2A6-647F210B9F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hyperlink" Target="http://www.eu-skladi.si/" TargetMode="External"/><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hyperlink" Target="http://www.eu-skladi.si/" TargetMode="External"/><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63400" y="339840"/>
            <a:ext cx="538488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NAČRT VREDNOTENJA IZVAJANJA OPERATIVNEGA PROGRAMA EVROPSKE KOHEZIJSKE POLITIKE V SLOVENIJI V OBDOBJU 2014-2020</a:t>
            </a:r>
            <a:endParaRPr b="0" lang="en-US" sz="2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ravokotnik 3"/>
          <p:cNvSpPr/>
          <p:nvPr/>
        </p:nvSpPr>
        <p:spPr>
          <a:xfrm>
            <a:off x="771480" y="-222120"/>
            <a:ext cx="7346880" cy="62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OBVEŠČANJE IN SPREMLJANJE PRIPOROČIL IZ VREDNOTENJ:</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S ciljem, da se poveča uporaba rezultatov vrednotenj in izvajanje priporočil, bo za ciljne skupine </a:t>
            </a:r>
            <a:r>
              <a:rPr b="1" lang="sl-SI" sz="1400" spc="-1" strike="noStrike">
                <a:solidFill>
                  <a:srgbClr val="000000"/>
                </a:solidFill>
                <a:latin typeface="Calibri"/>
              </a:rPr>
              <a:t>zagotovljeno obveščanje o rezultatih vrednotenj. </a:t>
            </a:r>
            <a:r>
              <a:rPr b="0" lang="sl-SI" sz="1400" spc="-1" strike="noStrike">
                <a:solidFill>
                  <a:srgbClr val="000000"/>
                </a:solidFill>
                <a:latin typeface="Calibri"/>
              </a:rPr>
              <a:t>Pri načrtovanju obveščanja o rezultatih vrednotenj bodo identificirane ciljne skupine in izbran najbolj primeren način obveščanja.</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Ciljne skupine </a:t>
            </a:r>
            <a:r>
              <a:rPr b="0" lang="sl-SI" sz="1400" spc="-1" strike="noStrike">
                <a:solidFill>
                  <a:srgbClr val="000000"/>
                </a:solidFill>
                <a:latin typeface="Calibri"/>
              </a:rPr>
              <a:t>so denimo Evropska Komisija, OzS, PO, OU, Interdisciplinarna posvetovalna skupina za vrednotenje, izvajalci projektov in upravičenci projektov financiranih iz ESI skladov, uporabniki rezultatov projektov, izvajalci vrednotenj in splošna javnos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Način za obveščanje o vrednotenju </a:t>
            </a:r>
            <a:r>
              <a:rPr b="0" lang="sl-SI" sz="1400" spc="-1" strike="noStrike">
                <a:solidFill>
                  <a:srgbClr val="000000"/>
                </a:solidFill>
                <a:latin typeface="Calibri"/>
              </a:rPr>
              <a:t>lahko predstavlja poročilo vrednotenja, njegov povzetek ali kratek povzetek rezultatov, posebna publikacija o vrednotenju, predstavitev (npr. na OzS ali Interdisciplinarni posvetovalni skupini za vrednotenje), izjava na konferenci ali drugem dogodku, sporočilo za javnost, objava na spletni strani ali objava povezave do spletne strani v publikaciji Kohezijski e-kotiček.</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 izvedenih vrednotenjih izvajalec vrednotenja skupaj z naročnikom predstavi rezultate vrednotenja širši zainteresirani javnosti.</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Po zaključku vrednotenja bomo spremljali izvajanje priporočil. </a:t>
            </a:r>
            <a:r>
              <a:rPr b="0" lang="sl-SI" sz="1400" spc="-1" strike="noStrike">
                <a:solidFill>
                  <a:srgbClr val="000000"/>
                </a:solidFill>
                <a:latin typeface="Calibri"/>
              </a:rPr>
              <a:t>Skupina za vrednotenje na OU bo pripravila pregled priporočil ter zagotavljala sprotno spremljanje izvajanja priporočil. Določeni bodo roki za izvedbo priporočila in odgovorni organ za izvedbo priporočila. Uporabo rezultatov vrednotenja in izvajanje priporočil vrednotenj bo spremljala tudi Interdisciplinarna posvetovalna skupina za vrednotenj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
          <p:cNvPicPr/>
          <p:nvPr/>
        </p:nvPicPr>
        <p:blipFill>
          <a:blip r:embed="rId1"/>
          <a:stretch/>
        </p:blipFill>
        <p:spPr>
          <a:xfrm>
            <a:off x="914400" y="557280"/>
            <a:ext cx="7004160" cy="5832360"/>
          </a:xfrm>
          <a:prstGeom prst="rect">
            <a:avLst/>
          </a:prstGeom>
          <a:ln w="0">
            <a:noFill/>
          </a:ln>
        </p:spPr>
      </p:pic>
      <p:pic>
        <p:nvPicPr>
          <p:cNvPr id="575" name="Picture 3" descr=""/>
          <p:cNvPicPr/>
          <p:nvPr/>
        </p:nvPicPr>
        <p:blipFill>
          <a:blip r:embed="rId2"/>
          <a:stretch/>
        </p:blipFill>
        <p:spPr>
          <a:xfrm>
            <a:off x="5448240" y="5621400"/>
            <a:ext cx="1752840" cy="495360"/>
          </a:xfrm>
          <a:prstGeom prst="rect">
            <a:avLst/>
          </a:prstGeom>
          <a:ln w="0">
            <a:noFill/>
          </a:ln>
        </p:spPr>
      </p:pic>
      <p:pic>
        <p:nvPicPr>
          <p:cNvPr id="576" name="Picture 4" descr=""/>
          <p:cNvPicPr/>
          <p:nvPr/>
        </p:nvPicPr>
        <p:blipFill>
          <a:blip r:embed="rId3"/>
          <a:stretch/>
        </p:blipFill>
        <p:spPr>
          <a:xfrm>
            <a:off x="1104840" y="557280"/>
            <a:ext cx="5875560" cy="174600"/>
          </a:xfrm>
          <a:prstGeom prst="rect">
            <a:avLst/>
          </a:prstGeom>
          <a:ln w="0">
            <a:noFill/>
          </a:ln>
        </p:spPr>
      </p:pic>
      <p:sp>
        <p:nvSpPr>
          <p:cNvPr id="577" name="AutoShape 5"/>
          <p:cNvSpPr/>
          <p:nvPr/>
        </p:nvSpPr>
        <p:spPr>
          <a:xfrm>
            <a:off x="1198440" y="547560"/>
            <a:ext cx="6720120" cy="58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AutoShape 208"/>
          <p:cNvSpPr/>
          <p:nvPr/>
        </p:nvSpPr>
        <p:spPr>
          <a:xfrm>
            <a:off x="1198440" y="547560"/>
            <a:ext cx="6720120" cy="58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ravokotnik 4"/>
          <p:cNvSpPr/>
          <p:nvPr/>
        </p:nvSpPr>
        <p:spPr>
          <a:xfrm>
            <a:off x="822240" y="528480"/>
            <a:ext cx="5821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Načrtovani vrednotenji v letih 2015-2016:</a:t>
            </a:r>
            <a:endParaRPr b="0" lang="en-US" sz="1400" spc="-1" strike="noStrike">
              <a:solidFill>
                <a:srgbClr val="000000"/>
              </a:solidFill>
              <a:latin typeface="Calibri"/>
            </a:endParaRPr>
          </a:p>
        </p:txBody>
      </p:sp>
      <p:graphicFrame>
        <p:nvGraphicFramePr>
          <p:cNvPr id="580" name=""/>
          <p:cNvGraphicFramePr/>
          <p:nvPr/>
        </p:nvGraphicFramePr>
        <p:xfrm>
          <a:off x="1138320" y="836640"/>
          <a:ext cx="4978440" cy="5767200"/>
        </p:xfrm>
        <a:graphic>
          <a:graphicData uri="http://schemas.openxmlformats.org/drawingml/2006/table">
            <a:tbl>
              <a:tblPr/>
              <a:tblGrid>
                <a:gridCol w="885600"/>
                <a:gridCol w="4092840"/>
              </a:tblGrid>
              <a:tr h="50652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rednotenje priprave Izvedbe pobude za zaposlovanje mladih - znižanje brezposelnosti mladih, ki niso zaposleni in se ne izobražujejo ali usposabljajo v starosti od 15 do 29 let v kohezijski regiji vzhodna Slovenija</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1572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Predmet</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obuda za zaposlovanje mladih in izvajanje jamstva za mlade (Program Prvi izziv)                                                         </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0652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Cilj</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Oceniti </a:t>
                      </a:r>
                      <a:endParaRPr b="0" lang="en-US" sz="900" spc="-1" strike="noStrike">
                        <a:solidFill>
                          <a:srgbClr val="000000"/>
                        </a:solidFill>
                        <a:latin typeface="Calibri"/>
                      </a:endParaRPr>
                    </a:p>
                    <a:p>
                      <a:pPr>
                        <a:lnSpc>
                          <a:spcPct val="115000"/>
                        </a:lnSpc>
                        <a:buClr>
                          <a:srgbClr val="000000"/>
                        </a:buClr>
                        <a:buFont typeface="Calibri"/>
                        <a:buAutoNum type="arabicParenR"/>
                        <a:tabLst>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ripravo programa in sistem izvajanja</a:t>
                      </a:r>
                      <a:endParaRPr b="0" lang="en-US" sz="900" spc="-1" strike="noStrike">
                        <a:solidFill>
                          <a:srgbClr val="000000"/>
                        </a:solidFill>
                        <a:latin typeface="Calibri"/>
                      </a:endParaRPr>
                    </a:p>
                    <a:p>
                      <a:pPr>
                        <a:lnSpc>
                          <a:spcPct val="115000"/>
                        </a:lnSpc>
                        <a:buClr>
                          <a:srgbClr val="000000"/>
                        </a:buClr>
                        <a:buFont typeface="Calibri"/>
                        <a:buAutoNum type="arabicParenR"/>
                        <a:tabLst>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omplementarnost, učinkovitost, uspešnost ter vpliv podpore</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6840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Metode</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2001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1. faza: kabinetni pregled stanja, intervjuji s pripravljavci in predstavniki ciljnih skupin, analiza obstoječih gradiv in analiz ter postopkov in baz podatkov</a:t>
                      </a:r>
                      <a:endParaRPr b="0" lang="en-US" sz="900" spc="-1" strike="noStrike">
                        <a:solidFill>
                          <a:srgbClr val="000000"/>
                        </a:solidFill>
                        <a:latin typeface="Calibri"/>
                      </a:endParaRPr>
                    </a:p>
                    <a:p>
                      <a:pPr>
                        <a:lnSpc>
                          <a:spcPct val="115000"/>
                        </a:lnSpc>
                        <a:tabLst>
                          <a:tab algn="l" pos="0"/>
                          <a:tab algn="l" pos="200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15000"/>
                        </a:lnSpc>
                        <a:tabLst>
                          <a:tab algn="l" pos="0"/>
                          <a:tab algn="l" pos="2001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2. faza: analiza podatkov spremljanja. Kvalitativna analiza zaposlitev (kvaliteta delovnih mest, vključenost ranljivih skupin, trajnost zaposlitev ipd.)</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0616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Potrebni podatki</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zalniki glede na prilogo 1 in 2 Uredbe za ESS – vir  sistem spremljanja ZRSZ, podatki MDDSZ, OU</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Analize, študije, rezultati dosedanjih podobnih programov.</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78308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Predlog vprašanj</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Ali je sistem narejen na način, da bo omogočal kvalitetno izvajanje in spremljanje?</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kšna je učinkovitost programa iz stroškovnega in procesnega vidika?</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ozitivni in morebitni negativni vplivi programa (morebitno spodbujanje anomalij na trgu dela)?</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kšna je uspešnost programa (kvaliteta delovnih mest, pokritost posameznih segmentov znotraj ciljnih skupin (npr. visoko izobraženi, ranljive skupine ipd.)?</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kšna je trajnost zaposlitev?</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Ali je dosežena zadovoljiva komplementarnost?</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956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Časovnica</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November 2015 – december 2018</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3660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Sodelovanje SVRK z</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MDDSZ</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 </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3840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Finančni okvir</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Cca 20.000 EUR oziroma 400 svetovalnih ur</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3.000 leto 2015, 2.000 leto 2016, 2.000 leto 2017, 13.000 leto 2018)</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3624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Opombe</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rogram še ni potrjen na OU. Natančna tehnična specifikacija, ki se prilagodi fazam v izvajanju - znano ob potrditvi programa oziroma objavi razpisov. </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1" name=""/>
          <p:cNvGraphicFramePr/>
          <p:nvPr/>
        </p:nvGraphicFramePr>
        <p:xfrm>
          <a:off x="1030320" y="682560"/>
          <a:ext cx="4949640" cy="5965920"/>
        </p:xfrm>
        <a:graphic>
          <a:graphicData uri="http://schemas.openxmlformats.org/drawingml/2006/table">
            <a:tbl>
              <a:tblPr/>
              <a:tblGrid>
                <a:gridCol w="880920"/>
                <a:gridCol w="4068720"/>
              </a:tblGrid>
              <a:tr h="63144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rednotenje prispevkov OP k nacionalnim ciljem Strategije Unije za pametno, trajnostno in vključujočo rast (povezava z drugimi programi EU), komplementarnost med strukturnimi in drugimi EU skladi</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7340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met</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Vrednotenje prispevkov OP k nacionalnim ciljem Strategije Unije za pametno, trajnostno in vključujočo rast</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47340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Cilj</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Oceniti vpliv  EU strukturnih skladov pri doseganju EU in nacionalnih strateških ciljev na področju pametne, trajnostne in vključujoče rasti</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5804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etode</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redlaga izvajalec, naročnik potrdi</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1608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otrebni podatki</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odatki spremljanja/Administrativni podatki/Javno dostopni podatki</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880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log vprašanj</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tere ukrepi so največ prispevali k doseganju EU in nacionalnih strateških ciljev? Ali obstaja področje, kjer vlaganje sredstev ni pustilo pečata? Kakšne spremembe lahko ugotovimo na posameznih področjih (pozitivne/negativne)? Ali bodo rezultati programa in vpliv ostali tudi v prihodnosti? Na katera področja bi bilo potrebno še dodatno usmerjati sredstva in s kakšnimi ukrepi, da bi dosegli cilje? Ali in v kakšni meri so k prehodu v nizkoogljično družbo prispevali ukrepi, ki niso neposredno povezani s TC 4 in sicer iz Prednostnih osi 1, 3, 5, 6, 7, 8 in 10? Ali so bili poleg ukrepov za zmanjševanje emisij toplogrednih plinov izvedeni tudi ukrepi, ki podpirajo učinkovito rabo virov in prehod v Krožno gospodarstvo (predvsem 1 in 3)? Ali je pri izvajanju ukrepov iz prednostnih osi  1, 3, 5, 6, 7, 8 in 10  vzpostavljena ustrezna povezava/sodelovanje, ki zagotavlja doseganje sinergičnih učinkov? Ali oziroma  kako je zagotovljeno ustrezno usposabljanje in izobraževanje tistih, ki so vključeni v proces izvajanja prej naštetih prednostnih osi za področje zmanjševanja in prilagajanja na podnebne spremembe in za področje učinkovite rabe virov oz. prehoda v krožno gospodarstvo? Druga vprašanja navedena v razpisni dokumentaciji!</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5804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Časovnic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2. pol. 2016 do 1. polovice 2017</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1608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Sodelovanje SVRK s</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SVRK s posredniškimi organi</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5804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Finančni okvir</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Cca 100.000 EUR</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6260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Opombe</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
        <p:nvSpPr>
          <p:cNvPr id="582" name="Rectangle 3"/>
          <p:cNvSpPr/>
          <p:nvPr/>
        </p:nvSpPr>
        <p:spPr>
          <a:xfrm>
            <a:off x="2647800" y="16178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599760" y="232236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500" spc="-1" strike="noStrike">
                <a:solidFill>
                  <a:srgbClr val="000000"/>
                </a:solidFill>
                <a:latin typeface="Calibri"/>
              </a:rPr>
              <a:t>Hvala za pozornost!</a:t>
            </a:r>
            <a:br>
              <a:rPr sz="2500"/>
            </a:br>
            <a:br>
              <a:rPr sz="2500"/>
            </a:br>
            <a:br>
              <a:rPr sz="1300"/>
            </a:br>
            <a:r>
              <a:rPr b="0" lang="sl-SI" sz="1300" spc="-1" strike="noStrike" u="sng">
                <a:solidFill>
                  <a:srgbClr val="0563c1"/>
                </a:solidFill>
                <a:uFillTx/>
                <a:latin typeface="Calibri"/>
                <a:hlinkClick r:id="rId1"/>
              </a:rPr>
              <a:t>http://www.eu-skladi.si</a:t>
            </a:r>
            <a:br>
              <a:rPr sz="1300"/>
            </a:br>
            <a:br>
              <a:rPr sz="1300"/>
            </a:br>
            <a:br>
              <a:rPr sz="2500"/>
            </a:br>
            <a:r>
              <a:rPr b="1" lang="sl-SI" sz="1000" spc="-1" strike="noStrike">
                <a:solidFill>
                  <a:srgbClr val="000000"/>
                </a:solidFill>
                <a:latin typeface="Calibri"/>
              </a:rPr>
              <a:t>mirjam.tolar@gov.si</a:t>
            </a:r>
            <a:endParaRPr b="0" lang="en-US" sz="1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ravokotnik 1"/>
          <p:cNvSpPr/>
          <p:nvPr/>
        </p:nvSpPr>
        <p:spPr>
          <a:xfrm>
            <a:off x="711360" y="975600"/>
            <a:ext cx="7629480" cy="22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IZHODIŠČA:</a:t>
            </a:r>
            <a:endParaRPr b="0" lang="en-US" sz="1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Načrt vrednotenja izvajanja Operativnega programa Evropske kohezijske politike v Sloveniji v obdobju 2014-2020 </a:t>
            </a:r>
            <a:r>
              <a:rPr b="0" lang="sl-SI" sz="1400" spc="-1" strike="noStrike">
                <a:solidFill>
                  <a:srgbClr val="000000"/>
                </a:solidFill>
                <a:latin typeface="Calibri"/>
              </a:rPr>
              <a:t>(v nadaljevanju NV) </a:t>
            </a:r>
            <a:r>
              <a:rPr b="1" lang="sl-SI" sz="1400" spc="-1" strike="noStrike">
                <a:solidFill>
                  <a:srgbClr val="000000"/>
                </a:solidFill>
                <a:latin typeface="Calibri"/>
              </a:rPr>
              <a:t>je strateški dokument, </a:t>
            </a:r>
            <a:r>
              <a:rPr b="0" lang="sl-SI" sz="1400" spc="-1" strike="noStrike">
                <a:solidFill>
                  <a:srgbClr val="000000"/>
                </a:solidFill>
                <a:latin typeface="Calibri"/>
              </a:rPr>
              <a:t>katerega namen je zagotoviti sistematično vrednotenje izvajanja Operativnega programa Evropske kohezijske politike v Sloveniji v obdobju 2014-2020, njegove uspešnosti, učinkovitosti in vpliv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NV se predloži Odboru za spremljanje (OzS) najkasneje eno leto po sprejetju operativnega programa (v primeru Slovenije </a:t>
            </a:r>
            <a:r>
              <a:rPr b="1" lang="sl-SI" sz="1400" spc="-1" strike="noStrike">
                <a:solidFill>
                  <a:srgbClr val="000000"/>
                </a:solidFill>
                <a:latin typeface="Calibri"/>
              </a:rPr>
              <a:t>do 16. decembra 2015</a:t>
            </a:r>
            <a:r>
              <a:rPr b="0" lang="sl-SI"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65" name="Picture 2" descr=""/>
          <p:cNvPicPr/>
          <p:nvPr/>
        </p:nvPicPr>
        <p:blipFill>
          <a:blip r:embed="rId1"/>
          <a:stretch/>
        </p:blipFill>
        <p:spPr>
          <a:xfrm>
            <a:off x="380880" y="3535200"/>
            <a:ext cx="7807320" cy="231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ravokotnik 1"/>
          <p:cNvSpPr/>
          <p:nvPr/>
        </p:nvSpPr>
        <p:spPr>
          <a:xfrm>
            <a:off x="681120" y="-995400"/>
            <a:ext cx="7691400" cy="785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Calibri"/>
              </a:rPr>
              <a:t>.</a:t>
            </a:r>
            <a:r>
              <a:rPr b="1" lang="sl-SI" sz="1400" spc="-1" strike="noStrike" u="sng">
                <a:solidFill>
                  <a:srgbClr val="000000"/>
                </a:solidFill>
                <a:uFillTx/>
                <a:latin typeface="Calibri"/>
              </a:rPr>
              <a:t>NV JE PRIPRAVLJEN NA OSNOVI NASLEDNJIH PREDPISOV IN NAVODI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EU) št. 1303/2013 Evropskega parlamenta in Sveta z dne 17. decembra 2013 o skupnih določbah o Evropskem skladu za regionalni razvoj, Evropskem socialnem skladu, Kohezijskem skladu, Evropskem kmetijskem skladu za razvoj podeželja in Evropskem skladu za pomorstvo in ribištvo, o splošnih določbah o Evropskem skladu ra regionalni razvoj, Evropskem socialnem skladu, Kohezijskem skladu in Evropskem skladu za pomorstvo in ribištvo ter o razveljavitvi Uredbe Sveta (ES) št. 1083/2006 (v nadaljevanju Uredba o splošnih določbah št. 1303/2013);</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EU) št. 1304/2013 Evropskega parlamenta in Sveta z dne 17. decembra 2013 o Evropskem socialnem skladu in razveljavitvi Uredbe Sveta (ES) št. 1081/2006;</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EU) št. 1301/2013 Evropskega parlamenta in Sveta z dne 17. decembra 2013 o Evropskem skladu za regionalni razvoj in o posebnih določbah glede cilja »naložbe za rast in delovna mesta« ter o razveljavitvi Uredbe (ES) št. 1080/2006;</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EU) št. 1300/2013 Evropskega parlamenta in Sveta z dne 17. decembra 2013 o Kohezijskem skladu in razveljavitvi Uredbe Sveta (ES) št. 1084/2006;</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o porabi sredstev evropske kohezijske politike v Republiki Sloveniji v programskem obdobju 2014-2020 za cilj naložbe za rast in delovna mesta (Ur. l. RS, št. 29/15);</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o izvajanju dela uredbe (EU) o skupnih in splošnih določbah o skladih za podporo v okviru kohezijske politike Unije (Ur. l. RS, št. 13/2015);</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nitoring and Evaluation of the European Cohesion Policy, ERDF, ESF, CF, Guidance Document on Evaluation Plans, Terms of Reference for Impact Evaluation. Guidance on Quality Management of External Evaluation, February 2015, European Commission;</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nitoring and Evaluation of European Cohesion Policy, European Social Fund, (The programming period 2014-2020) , Guidance document, European commission, June 2015);</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ance on Evaluation of the Youth Employment Initiative , European commission, July 2014;</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ance document on Evaluation Plans, European Cohesion policy, ERDF, ESF, CF, Terms of Reference for impact Evaluations , European commission, April 2014;</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ance document on Monitoring and Evaluation , European Cohesion Found, European Regional development Found, Concept and Recommendations, The programming period 2014-2020, European Commission, march 20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ravokotnik 1"/>
          <p:cNvSpPr/>
          <p:nvPr/>
        </p:nvSpPr>
        <p:spPr>
          <a:xfrm>
            <a:off x="893880" y="-2847600"/>
            <a:ext cx="7538760" cy="904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DOLOČBE ZA VREDNOTENJE V ZAKONODAJI O ESI SKLADIH:</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Členi 54-57 in 114 Uredbe o splošnih določbah št. 1303/2013 opredeljujejo cilje in metode vrednotenj in določajo odgovornosti držav članic na področju vrednotenja. Na osnovi predpisanega morajo biti do konca programskega obdobja izvedena:</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u="sng">
                <a:solidFill>
                  <a:srgbClr val="000000"/>
                </a:solidFill>
                <a:uFillTx/>
                <a:latin typeface="Calibri"/>
              </a:rPr>
              <a:t>Predhodno vrednotenje </a:t>
            </a:r>
            <a:r>
              <a:rPr b="0" lang="sl-SI" sz="1400" spc="-1" strike="noStrike">
                <a:solidFill>
                  <a:srgbClr val="000000"/>
                </a:solidFill>
                <a:latin typeface="Calibri"/>
              </a:rPr>
              <a:t>– države članice opravijo predhodno vrednotenje za izboljšanje kakovosti zasnove vsakega programa. Za predhodno vrednotenje je odgovoren organ, pristojen za pripravo programov. Predhodno vrednotenje in celovita presoja vplivov na okolje z dodatkom za varovana območja (Natura 2000) za Operativni program za izvajanje Evropske kohezijske politike 2014-2020 je bilo izvede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u="sng">
                <a:solidFill>
                  <a:srgbClr val="000000"/>
                </a:solidFill>
                <a:uFillTx/>
                <a:latin typeface="Calibri"/>
              </a:rPr>
              <a:t>Vrednotenja v programskem obdobju </a:t>
            </a:r>
            <a:r>
              <a:rPr b="0" lang="sl-SI" sz="1400" spc="-1" strike="noStrike">
                <a:solidFill>
                  <a:srgbClr val="000000"/>
                </a:solidFill>
                <a:latin typeface="Calibri"/>
              </a:rPr>
              <a:t>– glede na 56. člen Uredbe o splošnih določbah št. 1303/2013 se vsaj enkrat v programskem obdobju ovrednoti, kako je podpora iz skladov ESI prispevala k ciljem za vsako prednostno os. Vsaj dvakrat v programskem obdobju se z vrednotenjem oceni uspešnost, učinkovitost in vpliv skupne podpore iz ESS in posebnih sredstev za pobudo za zaposlovanje mladih in izvajanje jamstva za mlade (prvo do 31.12.2015 in drugo do 31.12.2018). Vrednotenja se izvedejo za vsak program na podlagi NV.</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u="sng">
                <a:solidFill>
                  <a:srgbClr val="000000"/>
                </a:solidFill>
                <a:uFillTx/>
                <a:latin typeface="Calibri"/>
              </a:rPr>
              <a:t>Naknadna vrednotenja </a:t>
            </a:r>
            <a:r>
              <a:rPr b="0" lang="sl-SI" sz="1400" spc="-1" strike="noStrike">
                <a:solidFill>
                  <a:srgbClr val="000000"/>
                </a:solidFill>
                <a:latin typeface="Calibri"/>
              </a:rPr>
              <a:t>– naknadno vrednotenje izvaja Komisija ali država članica, v tesnem sodelovanju s Komisijo. Naknadno vrednotenje preučuje uspešnost in učinkovitost skladov ESI ter njihov prispevek k strategiji Unije za pametno, trajnostno in vključujočo rast ob upoštevanju ciljnih vrednosti, določenih za strategijo Unije, in v skladu s posebnimi zahtevami iz pravil za posamezne sklade. Naknadno vrednotenje se opravi do 31. decembra 2024.</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7"/>
                                        </p:tgtEl>
                                        <p:attrNameLst>
                                          <p:attrName>style.visibility</p:attrName>
                                        </p:attrNameLst>
                                      </p:cBhvr>
                                      <p:to>
                                        <p:strVal val="visible"/>
                                      </p:to>
                                    </p:set>
                                    <p:anim calcmode="lin" valueType="num">
                                      <p:cBhvr additive="base">
                                        <p:cTn id="7" dur="500" fill="hold"/>
                                        <p:tgtEl>
                                          <p:spTgt spid="567"/>
                                        </p:tgtEl>
                                        <p:attrNameLst>
                                          <p:attrName>ppt_x</p:attrName>
                                        </p:attrNameLst>
                                      </p:cBhvr>
                                      <p:tavLst>
                                        <p:tav tm="0">
                                          <p:val>
                                            <p:strVal val="#ppt_x"/>
                                          </p:val>
                                        </p:tav>
                                        <p:tav tm="100000">
                                          <p:val>
                                            <p:strVal val="#ppt_x"/>
                                          </p:val>
                                        </p:tav>
                                      </p:tavLst>
                                    </p:anim>
                                    <p:anim calcmode="lin" valueType="num">
                                      <p:cBhvr additive="base">
                                        <p:cTn id="8"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ravokotnik 1"/>
          <p:cNvSpPr/>
          <p:nvPr/>
        </p:nvSpPr>
        <p:spPr>
          <a:xfrm>
            <a:off x="741240" y="-165600"/>
            <a:ext cx="7010640" cy="715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VREDNOTENJE MED PROGRAMSKIM OBDOBJE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Vrednotenje vpliva </a:t>
            </a:r>
            <a:r>
              <a:rPr b="0" lang="sl-SI" sz="1400" spc="-1" strike="noStrike">
                <a:solidFill>
                  <a:srgbClr val="000000"/>
                </a:solidFill>
                <a:latin typeface="Calibri"/>
              </a:rPr>
              <a:t>je vrednotenje, s katerim želimo identificirati spremembe, ki so posledica izvajanja OP. Odgovarja predvsem na vprašanje, v kakšni meri so izvedene operacije prispevale k socialno-ekonomskim in okoljskim spremembam, ki so se pojavile. Predmet vrednotenja je lahko Partnerski sporazum, ki opredeljuje porabo evropskih strukturnih in investicijskih skladov (ESI) v programskem obdobju 2014-2020 (v nadaljevanju PS), OP ali njegov del (prednostna os, prednostna naložba, ukrep).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Vrednotenje vpliva ESI skladov v programskem obdobju 2014-2020 na strateške cilje, Pobudo za zaposlovanje mladih ter izvajanje Jamstva za mlade in upoštevanje načela trajnostnega razvoja. </a:t>
            </a:r>
            <a:r>
              <a:rPr b="0" lang="sl-SI" sz="1400" spc="-1" strike="noStrike">
                <a:solidFill>
                  <a:srgbClr val="000000"/>
                </a:solidFill>
                <a:latin typeface="Calibri"/>
              </a:rPr>
              <a:t>Predmet teh vrednotenj je vpliv PS in OP na napredek pri doseganju ciljev Strategije Unije za pametno, trajnostno in vključujočo rast in Pobuda za zaposlovanje mladih in izvajanje Jamstva za mlade ter vrednotenje upoštevanja načela trajnostnega razvoja pri izvajanju OP.</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Vrednotenje vpliva prednostnih osi OP. </a:t>
            </a:r>
            <a:r>
              <a:rPr b="0" lang="sl-SI" sz="1400" spc="-1" strike="noStrike">
                <a:solidFill>
                  <a:srgbClr val="000000"/>
                </a:solidFill>
                <a:latin typeface="Calibri"/>
              </a:rPr>
              <a:t>Skladno s 56.(3) členom Uredbe o splošnih določbah št. 1303/2013 se vsaj enkrat v programskem obdobju ovrednoti, kako je podpora iz skladov ESI prispevala k ciljem za vsako prednostno os. </a:t>
            </a:r>
            <a:endParaRPr b="0" lang="en-US" sz="1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ravokotnik 1"/>
          <p:cNvSpPr/>
          <p:nvPr/>
        </p:nvSpPr>
        <p:spPr>
          <a:xfrm>
            <a:off x="735120" y="885960"/>
            <a:ext cx="7159680" cy="37170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Z </a:t>
            </a:r>
            <a:r>
              <a:rPr b="1" lang="sl-SI" sz="1400" spc="-1" strike="noStrike">
                <a:solidFill>
                  <a:srgbClr val="000000"/>
                </a:solidFill>
                <a:latin typeface="Calibri"/>
              </a:rPr>
              <a:t>vrednotenjem izvajanja </a:t>
            </a:r>
            <a:r>
              <a:rPr b="0" lang="sl-SI" sz="1400" spc="-1" strike="noStrike">
                <a:solidFill>
                  <a:srgbClr val="000000"/>
                </a:solidFill>
                <a:latin typeface="Calibri"/>
              </a:rPr>
              <a:t>želimo izboljšati izvajanje OP kot tudi izboljšanje upravljanja in vodenja OP. Predmet vrednotenja je OP na ravni prednostne osi, prednostne naložbe, ukrepa, sistem vodenja in upravljanja, njegovi posamezni deli in naloge, vključevanje interesnih skupin v izvajanje OP in podobno.</a:t>
            </a:r>
            <a:endParaRPr b="0" lang="en-US" sz="1400" spc="-1" strike="noStrike">
              <a:solidFill>
                <a:srgbClr val="000000"/>
              </a:solidFill>
              <a:latin typeface="Calibri"/>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Vmesna vrednotenja (vrednotenja napredka) izvajanja OP</a:t>
            </a:r>
            <a:r>
              <a:rPr b="0" lang="sl-SI" sz="1400" spc="-1" strike="noStrike">
                <a:solidFill>
                  <a:srgbClr val="000000"/>
                </a:solidFill>
                <a:latin typeface="Calibri"/>
              </a:rPr>
              <a:t>. Ta vrednotenja so usmerjena v vrednotenje napredka pri izvajanju izbrane prednostne osi ali specifičnega cilja OP (ustreznost izbranih naložb, učinkovitost ukrepov in izvajanje projekta, napredek pri doseganju ciljev, spremljanje izpolnjevanja kazalnikov in možnost doseganja slednjih, vpliv zunanjih dejavnikov na napredek) z namenom, da se pravočasno pridobijo podatki, na podlagi katerih se odloča o vsebini naložb in izboljšanju njihovega izvajanja.</a:t>
            </a:r>
            <a:endParaRPr b="0" lang="en-US" sz="1400" spc="-1" strike="noStrike">
              <a:solidFill>
                <a:srgbClr val="000000"/>
              </a:solidFill>
              <a:latin typeface="Calibri"/>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Vrednotenje učinkovitosti upravljanja in vodenja OP. </a:t>
            </a:r>
            <a:r>
              <a:rPr b="0" lang="sl-SI" sz="1400" spc="-1" strike="noStrike">
                <a:solidFill>
                  <a:srgbClr val="000000"/>
                </a:solidFill>
                <a:latin typeface="Calibri"/>
              </a:rPr>
              <a:t>V času izvajanja programa se analizirajo problemi in tveganja izvajanja, učinkovitost upravljanja, povezava ESI skladov z drugimi finančnimi viri, druga aktualna vprašanj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ravokotnik 1"/>
          <p:cNvSpPr/>
          <p:nvPr/>
        </p:nvSpPr>
        <p:spPr>
          <a:xfrm>
            <a:off x="660240" y="792000"/>
            <a:ext cx="8017200" cy="79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NAČELA VREDNOTENJ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Partnerstvo</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partnerji so vključeni v celoten proces vrednotenja</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stanovitev Interdisciplinarne posvetovalne skupine za vrednotenje (4.9.2015, 20.10.2015)</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Sistematičnost</a:t>
            </a:r>
            <a:r>
              <a:rPr b="0" lang="sl-SI"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Sistematičen pregled vrednotenj</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Transparentnost</a:t>
            </a:r>
            <a:r>
              <a:rPr b="0" lang="sl-SI"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vestila, javna naročila ter ugotovitve vrednotenj bodo dostopne širši javnosti prek objav na spletni strani OU in na </a:t>
            </a:r>
            <a:r>
              <a:rPr b="0" lang="sl-SI" sz="1400" spc="-1" strike="noStrike" u="sng">
                <a:solidFill>
                  <a:srgbClr val="0563c1"/>
                </a:solidFill>
                <a:uFillTx/>
                <a:latin typeface="Calibri"/>
                <a:hlinkClick r:id="rId1"/>
              </a:rPr>
              <a:t>www.eu-skladi.si</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pripravijo se povzetki vrednotenj v angleškem jeziku zaradi lažje disseminacije ugotovitev vrednotenj na ravni EU</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s ciljem, da se poveča uporaba rezultatov vrednotenj in izvajanje priporočil, bo za ciljne skupine zagotovljeno obveščanje o rezultatih vrednotenj (EK, OzS, IPSV, PO, OU, upravičenci projektov, izvajalci projektov, splošna javnos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Neodvisnos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rednotenja bodo izvajali zunanji izvajalci, ki bodo izbrani na podlagi javnih naročil ali drugih postopkov opredeljenih v internih pravilnikih OU za zbiranje ponudb za storitve pod pragom določenim za izvedbo postopkov javnega naročanja (Pravilnik o postopku oddaje javnih naročil v Službi Vlade RS za razvoj in evropsko kohezijsko politiko)</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izvedbo vrednotenj bo koordiniral SVRK, Sektor za razvojne politike, ki ni odgovoren za izvajanje OP</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Kakovost</a:t>
            </a:r>
            <a:r>
              <a:rPr b="0" lang="sl-SI"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sledenje standardom in navodilom EK na področju vrednotenja in zagotavljanje kakovostnih podatkov</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ravokotnik 2"/>
          <p:cNvSpPr/>
          <p:nvPr/>
        </p:nvSpPr>
        <p:spPr>
          <a:xfrm>
            <a:off x="538200" y="0"/>
            <a:ext cx="736596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KREPITEV USPOSOBLJENOSTI:</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U zagotavlja </a:t>
            </a:r>
            <a:r>
              <a:rPr b="1" lang="sl-SI" sz="1400" spc="-1" strike="noStrike">
                <a:solidFill>
                  <a:srgbClr val="000000"/>
                </a:solidFill>
                <a:latin typeface="Calibri"/>
              </a:rPr>
              <a:t>stalno prisotnost ključnih oseb na delovnih skupinah Evropske komisije za vrednotenje</a:t>
            </a:r>
            <a:r>
              <a:rPr b="0" lang="sl-SI" sz="1400" spc="-1" strike="noStrike">
                <a:solidFill>
                  <a:srgbClr val="000000"/>
                </a:solidFill>
                <a:latin typeface="Calibri"/>
              </a:rPr>
              <a:t> (Evaluation partnership za ESS in Evaluation network za ESRR). Udeleženci delovnih skupin o vsebinah sestankov redno obveščajo tudi druge zaposlene, katerim so namenjene določene vsebin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Za zagotavljanje uporabne vrednosti vrednotenj, krepitev usposobljenosti pri definiranju ciljev, kazalnikov in metod vrednotenja v procesih izvajanja kohezijske politike so </a:t>
            </a:r>
            <a:r>
              <a:rPr b="1" lang="sl-SI" sz="1400" spc="-1" strike="noStrike">
                <a:solidFill>
                  <a:srgbClr val="000000"/>
                </a:solidFill>
                <a:latin typeface="Calibri"/>
              </a:rPr>
              <a:t>potrebna stalna izobraževanja vseh udeležencev na različnih nivojih</a:t>
            </a:r>
            <a:r>
              <a:rPr b="0" lang="sl-SI" sz="1400" spc="-1" strike="noStrike">
                <a:solidFill>
                  <a:srgbClr val="000000"/>
                </a:solidFill>
                <a:latin typeface="Calibri"/>
              </a:rPr>
              <a:t>. Izobraževanja bo po potrebi in kjer bo to relevantno, organiziral tudi OU preko sredstev tehnične pomoči.</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Za </a:t>
            </a:r>
            <a:r>
              <a:rPr b="1" lang="sl-SI" sz="1400" spc="-1" strike="noStrike">
                <a:solidFill>
                  <a:srgbClr val="000000"/>
                </a:solidFill>
                <a:latin typeface="Calibri"/>
              </a:rPr>
              <a:t>krepitev individualne ravni znanja </a:t>
            </a:r>
            <a:r>
              <a:rPr b="0" lang="sl-SI" sz="1400" spc="-1" strike="noStrike">
                <a:solidFill>
                  <a:srgbClr val="000000"/>
                </a:solidFill>
                <a:latin typeface="Calibri"/>
              </a:rPr>
              <a:t>na področju vrednotenj se bodo osebe, ki se ukvarjajo z vrednotenji na OU in PO udeleževale izobraževanj doma in v tujini, ki bodo prilagojena njihovim potrebam in znanju.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Za </a:t>
            </a:r>
            <a:r>
              <a:rPr b="1" lang="sl-SI" sz="1400" spc="-1" strike="noStrike">
                <a:solidFill>
                  <a:srgbClr val="000000"/>
                </a:solidFill>
                <a:latin typeface="Calibri"/>
              </a:rPr>
              <a:t>krepitev institucionalne ravni </a:t>
            </a:r>
            <a:r>
              <a:rPr b="0" lang="sl-SI" sz="1400" spc="-1" strike="noStrike">
                <a:solidFill>
                  <a:srgbClr val="000000"/>
                </a:solidFill>
                <a:latin typeface="Calibri"/>
              </a:rPr>
              <a:t>na področju vrednotenja so aktivnosti za izvajanje vrednotenj jasno definirane v dokumentih, ki opredeljujejo aktivnosti teles, ki so odgovorna za izvajanje vrednotenja (npr. področje dela posameznega sektorja, opis del v sistematizaciji delovnih mest itd.).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ravokotnik 1"/>
          <p:cNvSpPr/>
          <p:nvPr/>
        </p:nvSpPr>
        <p:spPr>
          <a:xfrm>
            <a:off x="757080" y="-2711520"/>
            <a:ext cx="6915240" cy="79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0.</a:t>
            </a:r>
            <a:r>
              <a:rPr b="0" lang="sl-SI"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OBVEZNOST POROČANJA</a:t>
            </a:r>
            <a:r>
              <a:rPr b="0" lang="sl-SI"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Od leta 2016 mora letno poročilo o izvajanju vsebovati </a:t>
            </a:r>
            <a:r>
              <a:rPr b="0" lang="sl-SI" sz="1400" spc="-1" strike="noStrike">
                <a:solidFill>
                  <a:srgbClr val="000000"/>
                </a:solidFill>
                <a:latin typeface="Calibri"/>
              </a:rPr>
              <a:t>zbirno poročilo o ugotovitvah vseh vrednotenj OP, ki so bile objavljene v predhodnem finančnem letu, morebitna vprašanja, ki vplivajo na delovanje programa ter sprejete ukrep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Letno poročilo o izvajanju, ki se predloži v letu 2017, navaja in ocenjuje informacije iz 50(2) člena Uredbe o splošnih določbah št. 1303/3013 ter napredek pri doseganju ciljev programa, vključno s prispevkom skladov ESI k spremembam vrednosti kazalnikov rezultatov, kadar so na voljo ustrezni podatki vrednotenja. Ocenjuje tudi, ali so dejavnosti, ki se podpirajo iz skladov ESI, v skladu z veljavnim pravom Unije in nacionalnim pravom, spodbujanje enakosti moških in žensk ter nediskriminacija, trajnostni razvoj, vloge partnerjev pri izvajanju programa ter poroča o podpori, ki se uporablja za cilje, povezane s podnebnimi spremembami. </a:t>
            </a:r>
            <a:r>
              <a:rPr b="1" lang="sl-SI" sz="1400" spc="-1" strike="noStrike">
                <a:solidFill>
                  <a:srgbClr val="000000"/>
                </a:solidFill>
                <a:latin typeface="Calibri"/>
              </a:rPr>
              <a:t>Letni poročili o izvajanju v letih 2017 in 2019 bosta vsebovali tudi informacijo o izvajanju Načrta vrednotenja in nadaljnjem spremljanju ugotovitev vrednotenja ter informacijo o vključitvi partnerjev v vrednotenje OP.</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OU do 31. decembra 2022 </a:t>
            </a:r>
            <a:r>
              <a:rPr b="0" lang="sl-SI" sz="1400" spc="-1" strike="noStrike">
                <a:solidFill>
                  <a:srgbClr val="000000"/>
                </a:solidFill>
                <a:latin typeface="Calibri"/>
              </a:rPr>
              <a:t>Komisiji predloži poročilo s povzetkom ugotovitev vrednotenj, opravljenih med programskim obdobjem in glavnimi realizacijami in rezultati OP, s pripombami na posredovane informacij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Mirjam Tolar</cp:lastModifiedBy>
  <cp:lastPrinted>2015-09-03T11:41:29Z</cp:lastPrinted>
  <dcterms:modified xsi:type="dcterms:W3CDTF">2015-11-03T08:01:35Z</dcterms:modified>
  <cp:revision>104</cp:revision>
  <dc:subject/>
  <dc:title>PowerPoint Presentation</dc:title>
</cp:coreProperties>
</file>