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FE2-A35A-4A86-9FD1-10936C1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799-C449-41A4-A1DC-B295BF34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602-9C9C-4D97-B1D5-BC8A0400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6E5-DFCE-437C-A58E-5CE26F67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9BE-19E3-4952-A836-08506AF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D5B-27D1-4076-81B0-18491DF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225-F181-451B-9586-383EA2A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7B7-CC22-4C94-80AF-7D7CCF2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A97-A5AA-45E2-AE28-AA32CC2B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66B-23DA-4F54-9E3A-9670355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161-0ED2-4668-BA47-F7C27B9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019-7924-447B-96F9-9A5DE72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E631-0D33-4CE8-A9D0-B13DC9798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OP 2014-2020 - Stanje na področju izvaj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oljeZBesedilom 2"/>
          <p:cNvSpPr/>
          <p:nvPr/>
        </p:nvSpPr>
        <p:spPr>
          <a:xfrm>
            <a:off x="1108080" y="826920"/>
            <a:ext cx="534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tanje na področju izvajanja – na dan 9.11.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oljeZBesedilom 3"/>
          <p:cNvSpPr/>
          <p:nvPr/>
        </p:nvSpPr>
        <p:spPr>
          <a:xfrm>
            <a:off x="1108080" y="1754280"/>
            <a:ext cx="614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rgan upravljanja je v avgustu 2015 pričel s potrjevanjem ukrepov v okviru OP 2014-20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 sedaj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10 neposrednih potrditev operacij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2 javna razpi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ehnična pomoč – v celo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aj dodeljenih 9,57% vseh razpoložljivih pravic pora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oljeZBesedilom 1"/>
          <p:cNvSpPr/>
          <p:nvPr/>
        </p:nvSpPr>
        <p:spPr>
          <a:xfrm>
            <a:off x="870120" y="826920"/>
            <a:ext cx="53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tanje na področju izvaj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942840" y="141120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trjeni ukrepi – Prednostna os 4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oljeZBesedilom 3"/>
          <p:cNvSpPr/>
          <p:nvPr/>
        </p:nvSpPr>
        <p:spPr>
          <a:xfrm>
            <a:off x="685800" y="1635120"/>
            <a:ext cx="6172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trjen JR „Celostne prometne strategije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ijavitelji: lokalne skupno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a vrednost: 3.750.00 EUR (od tega EU del 3.187.500 EUR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delana CPS je pogoj za pridobitev sredstev za trajnostno mobilnost na javnih razpisih v prihodnj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ok za oddajo prijav: 10.11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trjeni ukrepi – Prednostna os 6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oljeZBesedilom 3"/>
          <p:cNvSpPr/>
          <p:nvPr/>
        </p:nvSpPr>
        <p:spPr>
          <a:xfrm>
            <a:off x="684360" y="215424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"/>
          <p:cNvPicPr/>
          <p:nvPr/>
        </p:nvPicPr>
        <p:blipFill>
          <a:blip r:embed="rId1"/>
          <a:stretch/>
        </p:blipFill>
        <p:spPr>
          <a:xfrm>
            <a:off x="885960" y="2154240"/>
            <a:ext cx="6895800" cy="3349800"/>
          </a:xfrm>
          <a:prstGeom prst="rect">
            <a:avLst/>
          </a:prstGeom>
          <a:ln w="0">
            <a:noFill/>
          </a:ln>
        </p:spPr>
      </p:pic>
      <p:sp>
        <p:nvSpPr>
          <p:cNvPr id="573" name="PoljeZBesedilom 2"/>
          <p:cNvSpPr/>
          <p:nvPr/>
        </p:nvSpPr>
        <p:spPr>
          <a:xfrm>
            <a:off x="885960" y="1450800"/>
            <a:ext cx="66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otrjenih 9 neposrednih potrditev operacij. Projekti imajo že izbrane izvajalce in so v veliki meri že v izvajanj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trjeni ukrepi – PO 8 in PO 11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oljeZBesedilom 3"/>
          <p:cNvSpPr/>
          <p:nvPr/>
        </p:nvSpPr>
        <p:spPr>
          <a:xfrm>
            <a:off x="606600" y="1336680"/>
            <a:ext cx="690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eposredna potrditev operacije „Prvi izziv 2015“ (v okviru YEI-vzho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ičenec: Zavod za zaposlovanje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a vrednost: 20.725.956 EUR (od tega EU del 18.425.375 EU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men: Subvencija za zaposlitev mladih do 29 let. Izvajanje v letih 2015-2018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4"/>
          <p:cNvSpPr/>
          <p:nvPr/>
        </p:nvSpPr>
        <p:spPr>
          <a:xfrm>
            <a:off x="689040" y="3819600"/>
            <a:ext cx="718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avni razpis za krepitev zmogljivosti NVO za zagovorništvo in izvajanje javnih storitev 2015-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a vrednost: 6.259.608 EUR (od tega EU del 5.007.686 EU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men:  Krepitev zmogljivosti NVO za zagovorništvo in izvajanje javnih storitev  v letih 2016-2019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red potrditvijo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606600" y="1380960"/>
            <a:ext cx="72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(končen obseg investicije in EU dela še ni določen) – PO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C Draženci Gruškovje v višini 63,5 mio EUR – PO 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JR Prva zaposlitev na področju vzgoje in izobraževanja. Skupna vrednost 5.400.000 EUR – PO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PO Izvajanje storitev za brezposelne, druge iskalce zaposlitve in delodajalce. Skupna vrednost 15.497.241 EUR – PO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PO Krepitev svetovalnega dela z mladimi v ZRSZ. Skupna vrednost: 3.980.711 EUR – PO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Veliki projekt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oljeZBesedilom 3"/>
          <p:cNvSpPr/>
          <p:nvPr/>
        </p:nvSpPr>
        <p:spPr>
          <a:xfrm>
            <a:off x="1011240" y="1081080"/>
            <a:ext cx="65851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AC Draženci – Gruškov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Ocenjena vrednost 250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EU del: 63,5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osredovana na EK: 10.8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rejete pripombe:    28.10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rojekt v gradnji.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oljeZBesedilom 4"/>
          <p:cNvSpPr/>
          <p:nvPr/>
        </p:nvSpPr>
        <p:spPr>
          <a:xfrm>
            <a:off x="1073160" y="3632040"/>
            <a:ext cx="65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Odvajanje in čiščenje odpadne vode na območju vodonosnika Ljubljanskega pol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dopolnjevanju glede na podane pripombe JASPERS. Predvideno posredovanje v potrditev december 2015 (IQR JASPERS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redvidena dinamika izplačil iz INOP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1316160" y="1546200"/>
            <a:ext cx="651024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VRK</cp:lastModifiedBy>
  <cp:lastPrinted>2015-11-09T11:31:02Z</cp:lastPrinted>
  <dcterms:modified xsi:type="dcterms:W3CDTF">2015-11-09T12:23:09Z</dcterms:modified>
  <cp:revision>29</cp:revision>
  <dc:subject/>
  <dc:title>PowerPoint Presentation</dc:title>
</cp:coreProperties>
</file>