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EE5F5-6462-44F9-A383-5F72C09F9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F6CB9-AED2-4289-8CEF-BF2AF0762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E1D53-CE6F-4B1E-9639-44DDC032D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684EA-BC2C-45D3-A46E-35CD1790F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5FE86-8443-403A-A28D-DE125A7AF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595D4-8828-4D85-BD28-7A3BB7704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11DA4-4181-4E4E-B981-9E18D634E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25AD5-E317-48FC-85CB-06E48C062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EB2AE-2504-4EDE-AB88-67FA90DF1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C5465-A579-4305-9159-39A9F2E7A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24059-0585-4657-9BB7-03C3DC250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C9D21-F65B-41D3-955A-30B21C85F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B38AE-12F2-4978-80F3-65A9C0E4C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C69F1-81F7-4660-A1B9-65E4D7C67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C78FC-6F1E-47FC-A6F3-D54310D5C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248C0-899B-489D-9BEE-9E8513C3F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10E2A3-3771-461A-84D7-C4991EB0E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120DC5-E686-4C6C-AE8E-8DDF7F118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AFDD6F-5FBD-470C-9789-46DFC8B98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ED75E1-A546-4565-A0F5-134C21E64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9E0860-F9EB-41CC-BA97-5F1374455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1083E9-43FE-41D3-A4EC-2A2FCAF3A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A19985-0758-4EA1-9ECA-776F3892C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C9840C-CCAE-4B1E-877D-0D0F2EBE6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E98A58-66FA-4C09-B4CE-0DA7750A6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1536B2-A653-440E-A405-26E65E13C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482900-82A1-40BB-B41B-D730446BF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B0C468-8281-4C64-86A5-783D82184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67D19-34E1-484C-B896-DED4E56CE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D478D-C619-47FC-AC68-E0AB5990D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32D4A-0C5C-4280-B7B4-36E96087C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00CDA-A97F-43CC-A537-367B11379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6E025-94EF-4E90-B97F-4F942FB15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B2D51-8A51-4768-9074-DF5B233B6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E176F-541D-4EA8-A2D4-68B93F705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7C733-E905-4383-B425-3223AFC90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0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1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63730-37B9-4349-8E76-E0874F164C5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3" descr=""/>
          <p:cNvPicPr/>
          <p:nvPr/>
        </p:nvPicPr>
        <p:blipFill>
          <a:blip r:embed="rId2"/>
          <a:stretch/>
        </p:blipFill>
        <p:spPr>
          <a:xfrm rot="20700000">
            <a:off x="7700760" y="-412560"/>
            <a:ext cx="2241360" cy="276408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4" descr=""/>
          <p:cNvPicPr/>
          <p:nvPr/>
        </p:nvPicPr>
        <p:blipFill>
          <a:blip r:embed="rId2"/>
          <a:stretch/>
        </p:blipFill>
        <p:spPr>
          <a:xfrm>
            <a:off x="7543800" y="128520"/>
            <a:ext cx="2987640" cy="255600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Picture 3" descr=""/>
          <p:cNvPicPr/>
          <p:nvPr/>
        </p:nvPicPr>
        <p:blipFill>
          <a:blip r:embed="rId2"/>
          <a:stretch/>
        </p:blipFill>
        <p:spPr>
          <a:xfrm>
            <a:off x="7707240" y="-112680"/>
            <a:ext cx="2718000" cy="214164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5" descr=""/>
          <p:cNvPicPr/>
          <p:nvPr/>
        </p:nvPicPr>
        <p:blipFill>
          <a:blip r:embed="rId2"/>
          <a:stretch/>
        </p:blipFill>
        <p:spPr>
          <a:xfrm>
            <a:off x="7297560" y="181080"/>
            <a:ext cx="2497320" cy="199368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2e75b6"/>
              </a:gs>
              <a:gs pos="100000">
                <a:srgbClr val="9dc3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64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65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e7e6e6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6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e7e6e6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7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8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9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E003C-6229-4751-9936-33848792BA12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27511-9A5A-49A6-80E7-9916F893137D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9" descr=""/>
          <p:cNvPicPr/>
          <p:nvPr/>
        </p:nvPicPr>
        <p:blipFill>
          <a:blip r:embed="rId4"/>
          <a:stretch/>
        </p:blipFill>
        <p:spPr>
          <a:xfrm>
            <a:off x="-606600" y="2532240"/>
            <a:ext cx="10110960" cy="2889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10"/>
          <p:cNvSpPr/>
          <p:nvPr/>
        </p:nvSpPr>
        <p:spPr>
          <a:xfrm>
            <a:off x="6235560" y="1366920"/>
            <a:ext cx="192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ww.eu-skladi.s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8" descr=""/>
          <p:cNvPicPr/>
          <p:nvPr/>
        </p:nvPicPr>
        <p:blipFill>
          <a:blip r:embed="rId2"/>
          <a:stretch/>
        </p:blipFill>
        <p:spPr>
          <a:xfrm rot="20700000">
            <a:off x="8420040" y="-12600"/>
            <a:ext cx="1787760" cy="28065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3" descr=""/>
          <p:cNvPicPr/>
          <p:nvPr/>
        </p:nvPicPr>
        <p:blipFill>
          <a:blip r:embed="rId2"/>
          <a:stretch/>
        </p:blipFill>
        <p:spPr>
          <a:xfrm>
            <a:off x="7440480" y="54000"/>
            <a:ext cx="3802320" cy="2394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4" descr=""/>
          <p:cNvPicPr/>
          <p:nvPr/>
        </p:nvPicPr>
        <p:blipFill>
          <a:blip r:embed="rId2"/>
          <a:stretch/>
        </p:blipFill>
        <p:spPr>
          <a:xfrm>
            <a:off x="7299360" y="38160"/>
            <a:ext cx="4879800" cy="24588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3" descr=""/>
          <p:cNvPicPr/>
          <p:nvPr/>
        </p:nvPicPr>
        <p:blipFill>
          <a:blip r:embed="rId2"/>
          <a:stretch/>
        </p:blipFill>
        <p:spPr>
          <a:xfrm rot="20700000">
            <a:off x="7799400" y="72720"/>
            <a:ext cx="2368440" cy="25318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4" descr=""/>
          <p:cNvPicPr/>
          <p:nvPr/>
        </p:nvPicPr>
        <p:blipFill>
          <a:blip r:embed="rId2"/>
          <a:stretch/>
        </p:blipFill>
        <p:spPr>
          <a:xfrm rot="13198800">
            <a:off x="7043040" y="420480"/>
            <a:ext cx="3143160" cy="16588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3" descr=""/>
          <p:cNvPicPr/>
          <p:nvPr/>
        </p:nvPicPr>
        <p:blipFill>
          <a:blip r:embed="rId2"/>
          <a:stretch/>
        </p:blipFill>
        <p:spPr>
          <a:xfrm rot="20700000">
            <a:off x="7705800" y="190080"/>
            <a:ext cx="2381040" cy="214164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4" descr=""/>
          <p:cNvPicPr/>
          <p:nvPr/>
        </p:nvPicPr>
        <p:blipFill>
          <a:blip r:embed="rId2"/>
          <a:stretch/>
        </p:blipFill>
        <p:spPr>
          <a:xfrm>
            <a:off x="7736040" y="-520560"/>
            <a:ext cx="3033720" cy="301752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07880" y="1212840"/>
            <a:ext cx="6166080" cy="127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Arial"/>
                <a:ea typeface="Arial"/>
              </a:rPr>
              <a:t>Normativni okvir za programsko obdobje 2014–2020 za cilj „naložbe za rast in delovna mesta„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3" name="TextBox 2"/>
          <p:cNvSpPr/>
          <p:nvPr/>
        </p:nvSpPr>
        <p:spPr>
          <a:xfrm>
            <a:off x="3490920" y="4446720"/>
            <a:ext cx="239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Calibri"/>
              </a:rPr>
              <a:t>Vipolže, 10.11.20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TextBox 1"/>
          <p:cNvSpPr/>
          <p:nvPr/>
        </p:nvSpPr>
        <p:spPr>
          <a:xfrm>
            <a:off x="657360" y="647640"/>
            <a:ext cx="67532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Calibri"/>
                <a:ea typeface="Arial"/>
              </a:rPr>
              <a:t>IZVEDBENI NAČR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TextBox 2"/>
          <p:cNvSpPr/>
          <p:nvPr/>
        </p:nvSpPr>
        <p:spPr>
          <a:xfrm>
            <a:off x="563400" y="2114640"/>
            <a:ext cx="8058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Arial"/>
              </a:rPr>
              <a:t>Naslednja dopolnitev v decembr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Arial"/>
              </a:rPr>
              <a:t>Dopolnitev v juniju 2016 – vključitev leta 201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599760" y="2322360"/>
            <a:ext cx="7985160" cy="127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Hvala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TextBox 1"/>
          <p:cNvSpPr/>
          <p:nvPr/>
        </p:nvSpPr>
        <p:spPr>
          <a:xfrm>
            <a:off x="1285920" y="240984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  <a:ea typeface="Arial"/>
              </a:rPr>
              <a:t>NORMATIVNE PODLAG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TextBox 1"/>
          <p:cNvSpPr/>
          <p:nvPr/>
        </p:nvSpPr>
        <p:spPr>
          <a:xfrm>
            <a:off x="657360" y="647640"/>
            <a:ext cx="675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Calibri"/>
                <a:ea typeface="Arial"/>
              </a:rPr>
              <a:t>NORMATIVNE PODL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TextBox 2"/>
          <p:cNvSpPr/>
          <p:nvPr/>
        </p:nvSpPr>
        <p:spPr>
          <a:xfrm>
            <a:off x="571680" y="1514520"/>
            <a:ext cx="8057880" cy="48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Arial"/>
              </a:rPr>
              <a:t>Uredba o porabi sredstev evropske kohezijske politike v Republiki Sloveniji v programskem obdobju 2014-2020 za cilj naložbe za rast in delovna mesta – april (UL RS, št. 29/15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Arial"/>
              </a:rPr>
              <a:t>Merila za izbor operacij – maj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Arial"/>
              </a:rPr>
              <a:t>Zakon o izvrševanju proračunov Republike Slovenije za leti 2014 in 2015 – junij (UL RS, št. 46/15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Arial"/>
              </a:rPr>
              <a:t>Odlok o sprejetju izvedbenega načrta Operativnega programa – julij, avgust, oktober (UL RS, št. 76/15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Arial"/>
              </a:rPr>
              <a:t>Navodila organa upravljanj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TextBox 1"/>
          <p:cNvSpPr/>
          <p:nvPr/>
        </p:nvSpPr>
        <p:spPr>
          <a:xfrm>
            <a:off x="657360" y="647640"/>
            <a:ext cx="675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NAVODILA ORGANA UPRAVLJANJA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  <a:ea typeface="Arial"/>
              </a:rPr>
              <a:t>…..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TextBox 2"/>
          <p:cNvSpPr/>
          <p:nvPr/>
        </p:nvSpPr>
        <p:spPr>
          <a:xfrm>
            <a:off x="571680" y="1514520"/>
            <a:ext cx="80578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Arial"/>
              </a:rPr>
              <a:t>o upravičenih stroških za sredstva evropske kohezijske politike v obdobju 2014-2020 – julij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Arial"/>
              </a:rPr>
              <a:t>za finančno upravljanje evropske kohezijske politike cilja Naložbe za rast in delovna mesta v programskem obdobju 2014-2020 – julij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Arial"/>
              </a:rPr>
              <a:t>za načrtovanje, odločanje o podpori, spremljanje, poročanje in vrednotenje izvajanja evropske kohezijske politike v programskem obdobju 2014-2020 - julij/novemb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Arial"/>
              </a:rPr>
              <a:t>za izvajanje upravljalnih preverjanj po 125. členu Uredbe (EU) št. 1303/2013 programsko obdobje 2014-2020 – julij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Arial"/>
              </a:rPr>
              <a:t>Priloge - avgu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TextBox 1"/>
          <p:cNvSpPr/>
          <p:nvPr/>
        </p:nvSpPr>
        <p:spPr>
          <a:xfrm>
            <a:off x="657360" y="647640"/>
            <a:ext cx="675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NAVODILA ORGANA UPRAVLJANJA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  <a:ea typeface="Arial"/>
              </a:rPr>
              <a:t>…..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TextBox 2"/>
          <p:cNvSpPr/>
          <p:nvPr/>
        </p:nvSpPr>
        <p:spPr>
          <a:xfrm>
            <a:off x="571680" y="1514520"/>
            <a:ext cx="80578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Arial"/>
              </a:rPr>
              <a:t>na področju komuniciranja vsebin evropske kohezijske politike v programskem obdobju 2014–2020 – avgu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Arial"/>
              </a:rPr>
              <a:t>o izpolnjevanju pogojev za opravljanje nalog posredniškega organa v programskem obdobju 2014-2020 – septemb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Arial"/>
              </a:rPr>
              <a:t>za izvajanje tehnične podpore operativnega programa evropske kohezijske politike za programsko obdobje 2014-2020 – september/novemb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TextBox 1"/>
          <p:cNvSpPr/>
          <p:nvPr/>
        </p:nvSpPr>
        <p:spPr>
          <a:xfrm>
            <a:off x="657360" y="647640"/>
            <a:ext cx="675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Calibri"/>
                <a:ea typeface="Arial"/>
              </a:rPr>
              <a:t>NORMATIVNE PODL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TextBox 2"/>
          <p:cNvSpPr/>
          <p:nvPr/>
        </p:nvSpPr>
        <p:spPr>
          <a:xfrm>
            <a:off x="571680" y="1514520"/>
            <a:ext cx="8057880" cy="54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Arial"/>
              </a:rPr>
              <a:t>Uredba o izvajanju lokalnega razvoja, ki ga vodi skupnost, v programskem obdobju 2014–2020 – junij (UL RS, št. 42/15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2400" spc="-1" strike="noStrike">
                <a:solidFill>
                  <a:srgbClr val="000000"/>
                </a:solidFill>
                <a:latin typeface="Calibri"/>
                <a:ea typeface="Arial"/>
              </a:rPr>
              <a:t>Zakon o izvrševanju proračunov Republike Slovenije za leti 2016 in 2017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2400" spc="-1" strike="noStrike">
                <a:solidFill>
                  <a:srgbClr val="000000"/>
                </a:solidFill>
                <a:latin typeface="Calibri"/>
                <a:ea typeface="Arial"/>
              </a:rPr>
              <a:t>Uredba o porabi sredstev evropske kohezijske politike v Republiki Sloveniji v programskem obdobju 2014-2020 za cilj naložbe za rast in delovna mes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2400" spc="-1" strike="noStrike">
                <a:solidFill>
                  <a:srgbClr val="000000"/>
                </a:solidFill>
                <a:latin typeface="Calibri"/>
                <a:ea typeface="Arial"/>
              </a:rPr>
              <a:t>celostne teritorialne naložb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2400" spc="-1" strike="noStrike">
                <a:solidFill>
                  <a:srgbClr val="000000"/>
                </a:solidFill>
                <a:latin typeface="Calibri"/>
                <a:ea typeface="Arial"/>
              </a:rPr>
              <a:t>finančni instrument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TextBox 1"/>
          <p:cNvSpPr/>
          <p:nvPr/>
        </p:nvSpPr>
        <p:spPr>
          <a:xfrm>
            <a:off x="1285920" y="240984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  <a:ea typeface="Arial"/>
              </a:rPr>
              <a:t>IZVEDBENI NAČR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TextBox 1"/>
          <p:cNvSpPr/>
          <p:nvPr/>
        </p:nvSpPr>
        <p:spPr>
          <a:xfrm>
            <a:off x="657360" y="647640"/>
            <a:ext cx="675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Calibri"/>
                <a:ea typeface="Arial"/>
              </a:rPr>
              <a:t>IZVEDBENI NAČR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65" name=""/>
          <p:cNvGraphicFramePr/>
          <p:nvPr/>
        </p:nvGraphicFramePr>
        <p:xfrm>
          <a:off x="352440" y="2448000"/>
          <a:ext cx="7915320" cy="1608120"/>
        </p:xfrm>
        <a:graphic>
          <a:graphicData uri="http://schemas.openxmlformats.org/drawingml/2006/table">
            <a:tbl>
              <a:tblPr/>
              <a:tblGrid>
                <a:gridCol w="658800"/>
                <a:gridCol w="660240"/>
                <a:gridCol w="658800"/>
                <a:gridCol w="660600"/>
                <a:gridCol w="658800"/>
                <a:gridCol w="660240"/>
                <a:gridCol w="658800"/>
                <a:gridCol w="660600"/>
                <a:gridCol w="658800"/>
                <a:gridCol w="660240"/>
                <a:gridCol w="658800"/>
                <a:gridCol w="660600"/>
              </a:tblGrid>
              <a:tr h="6364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ispeve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1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1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1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1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1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2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2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2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2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kupaj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24000">
                <a:tc rowSpan="3"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kupaj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U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497b0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7,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497b0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r>
                        <a:rPr b="1" lang="sl-SI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</a:t>
                      </a: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</a:t>
                      </a:r>
                      <a:r>
                        <a:rPr b="1" lang="sl-SI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497b0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9,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497b0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19,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497b0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66,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497b0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23,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497b0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2,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497b0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6,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497b0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497b0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011,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497b0"/>
                    </a:solidFill>
                  </a:tcPr>
                </a:tc>
              </a:tr>
              <a:tr h="323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497b0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497b0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r>
                        <a:rPr b="1" lang="sl-SI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</a:t>
                      </a:r>
                      <a:r>
                        <a:rPr b="1" lang="sl-SI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497b0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9,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497b0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8,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497b0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,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497b0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91,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497b0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2,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497b0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,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497b0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497b0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2,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497b0"/>
                    </a:solidFill>
                  </a:tcPr>
                </a:tc>
              </a:tr>
              <a:tr h="324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EU + SI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497b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6,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497b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7,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497b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98,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497b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28,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497b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66,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497b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14,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497b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5,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497b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7,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497b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497b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614,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497b0"/>
                    </a:solidFill>
                  </a:tcPr>
                </a:tc>
              </a:tr>
            </a:tbl>
          </a:graphicData>
        </a:graphic>
      </p:graphicFrame>
      <p:sp>
        <p:nvSpPr>
          <p:cNvPr id="666" name="TextBox 4"/>
          <p:cNvSpPr/>
          <p:nvPr/>
        </p:nvSpPr>
        <p:spPr>
          <a:xfrm>
            <a:off x="6964200" y="2109960"/>
            <a:ext cx="149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Calibri"/>
              </a:rPr>
              <a:t>- v mio EU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TextBox 1"/>
          <p:cNvSpPr/>
          <p:nvPr/>
        </p:nvSpPr>
        <p:spPr>
          <a:xfrm>
            <a:off x="657360" y="647640"/>
            <a:ext cx="675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Calibri"/>
                <a:ea typeface="Arial"/>
              </a:rPr>
              <a:t>IZVEDBENI NAČR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68" name=""/>
          <p:cNvGraphicFramePr/>
          <p:nvPr/>
        </p:nvGraphicFramePr>
        <p:xfrm>
          <a:off x="1360440" y="2500200"/>
          <a:ext cx="5872320" cy="1739880"/>
        </p:xfrm>
        <a:graphic>
          <a:graphicData uri="http://schemas.openxmlformats.org/drawingml/2006/table">
            <a:tbl>
              <a:tblPr/>
              <a:tblGrid>
                <a:gridCol w="1468440"/>
                <a:gridCol w="1467000"/>
                <a:gridCol w="1468440"/>
                <a:gridCol w="1468440"/>
              </a:tblGrid>
              <a:tr h="6796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459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kupaj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6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497b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7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497b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98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497b0"/>
                    </a:solidFill>
                  </a:tcPr>
                </a:tc>
              </a:tr>
              <a:tr h="3459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VR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497b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9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497b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6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497b0"/>
                    </a:solidFill>
                  </a:tcPr>
                </a:tc>
              </a:tr>
              <a:tr h="3682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Že dodelje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497b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497b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497b0"/>
                    </a:solidFill>
                  </a:tcPr>
                </a:tc>
              </a:tr>
            </a:tbl>
          </a:graphicData>
        </a:graphic>
      </p:graphicFrame>
      <p:sp>
        <p:nvSpPr>
          <p:cNvPr id="669" name="TextBox 1"/>
          <p:cNvSpPr/>
          <p:nvPr/>
        </p:nvSpPr>
        <p:spPr>
          <a:xfrm>
            <a:off x="5913360" y="2109960"/>
            <a:ext cx="149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Calibri"/>
              </a:rPr>
              <a:t>- v mio EU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26T08:26:11Z</dcterms:created>
  <dc:creator>Mitja Ribic</dc:creator>
  <dc:description/>
  <dc:language>en-US</dc:language>
  <cp:lastModifiedBy>Andrej</cp:lastModifiedBy>
  <dcterms:modified xsi:type="dcterms:W3CDTF">2015-11-08T20:05:50Z</dcterms:modified>
  <cp:revision>33</cp:revision>
  <dc:subject/>
  <dc:title>PowerPoint Presentation</dc:title>
</cp:coreProperties>
</file>