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C9B-EE5B-4565-B365-B2A397F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39E-514B-42D6-84C5-DD7522D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2CB-374D-4180-AA10-55571BE3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E58-9DCF-467D-9399-6AE68993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A3B-0962-4839-BB26-1AB5B9A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864-5228-4706-A2E0-2B20E65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09D-4CCC-4A3B-B3D6-DD4FE00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42F-746C-4377-B9B9-C0A63BD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478-8CB2-4212-AB56-7D13DAA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CC0-2FD3-4A08-9B49-903F7A8A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6E3-06E7-441D-8FA7-F083826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6F2-C3FF-4F08-A617-A057AFE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D33A-2AD9-4A6C-B2EC-D695028F96F6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alibri Light"/>
              </a:rPr>
              <a:t>Vrednotenje izvajanja kohezijske politike OP 2014 – 202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alibri"/>
              </a:rPr>
              <a:t>OzS, 17. 5.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avokotnik 3"/>
          <p:cNvSpPr/>
          <p:nvPr/>
        </p:nvSpPr>
        <p:spPr>
          <a:xfrm>
            <a:off x="10263240" y="193680"/>
            <a:ext cx="1527120" cy="604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U Skladi"/>
          <p:cNvPicPr/>
          <p:nvPr/>
        </p:nvPicPr>
        <p:blipFill>
          <a:blip r:embed="rId1"/>
          <a:stretch/>
        </p:blipFill>
        <p:spPr>
          <a:xfrm>
            <a:off x="10329840" y="217440"/>
            <a:ext cx="139392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0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alibri Light"/>
              </a:rPr>
              <a:t>Aktivnosti vrednoten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Cov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Ponovitev javnega razpisa za dve vrednoten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Calibri"/>
              </a:rPr>
              <a:t>(Učinkovitost in uspešnost izvajanja specifičnih ciljev „Povečan delež inovacijsko aktivnih podjetij“ in „Povečanje učinkovitosti rabe energije v javnem sektorju“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Sprememba članov Interdisciplinarne skupine (IPSV) in seja IP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Priprava letnega načrta vrednotenj 2021-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93400"/>
            <a:ext cx="10515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alibri Light"/>
              </a:rPr>
              <a:t>Letni načrt vrednotenj 2021-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IPSV je na dopisni seji podala pozitivno mnenje k Letnemu načrtu vrednotenj 2021-2022 (LN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LNV vključuje nujna vrednotenja za oceno preteklega dela in podlago za napr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LNV vključuje tudi nujna nerealizirana vrednotenja prejšnjih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38080" y="1825560"/>
          <a:ext cx="10515600" cy="4175280"/>
        </p:xfrm>
        <a:graphic>
          <a:graphicData uri="http://schemas.openxmlformats.org/drawingml/2006/table">
            <a:tbl>
              <a:tblPr/>
              <a:tblGrid>
                <a:gridCol w="474840"/>
                <a:gridCol w="10040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tni načrt vrednotenj 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izvajanja projekta Finančni instrumenti 2014–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izvajanja ukrepov povezovanja poklicnega izobraževanja z gospodarstvom, ki prispevajo k zmanjševanju neskladij med usposobljenostjo in potrebami trga d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politik socialne aktivacije in aktivnega  vključe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izvajanja ukrepov s področja svetovalne dejavnosti v izobraževanju odraslih in karierne ter poklicne orientacije za študente in drugo šolajočo mladino in vrednotenje uspešnosti izvajanja ukrepov s področja neformalnih   izobraževalnih programov za odrasle in javnoveljavnih izobraževalnih programov za odrasle, po katerih se ne pridobi javnoveljavna izobraz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činkovitosti in uspešnosti izvajanja ukrepov s področja visokega šolstva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izvajanja operacije Učinkovito pravosod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in učinkovitosti izvajanja projekta večgeneracijskih centrov za dvig socialne vključe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izvajanja vseživljenjske karierne orientacije (v nadaljevanju: VKO), vključno s sistemom napovedovanja potreb na trgu dela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spodbujanje izvajanja RR programov in RR projekt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tenje uspešnosti izvajanja učinkovitega svetovanja za transnacionalno mobilnost delovne sile preko storitev E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0" y="-81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alibri Light"/>
              </a:rPr>
              <a:t>Letni načrt vrednotenj 2021-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Hvala za pozorno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19T14:07:48Z</dcterms:created>
  <dc:creator>koperckal</dc:creator>
  <dc:description/>
  <dc:language>en-US</dc:language>
  <cp:lastModifiedBy>pstrugar</cp:lastModifiedBy>
  <dcterms:modified xsi:type="dcterms:W3CDTF">2022-05-12T07:43:20Z</dcterms:modified>
  <cp:revision>10</cp:revision>
  <dc:subject/>
  <dc:title>PowerPointova predstavitev</dc:title>
</cp:coreProperties>
</file>