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DC0-4ECC-4660-84EF-44C0D94D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333-FAFA-496C-98AC-9E420C55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2B1-BB0E-4D9C-A2C8-188C3320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029-AD06-4505-8362-9B6D917C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7BD-59CB-4C7B-9BA1-1EAC92B7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0F9-AEF6-4B59-B823-14CA47DB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54F-56A7-4FA0-84B9-E16EC99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B85-DD6F-4F6F-B8EF-BE877759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A24-E816-4D42-90DD-B153B2A7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465-2F93-44AA-8146-9C5C77F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B9E-315E-47F7-AF0B-3BCAD3B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3DC-57E7-417E-A1D3-4CB4690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DC3D-112E-41CB-92AD-312CD74C9CF3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B13-8C8C-4E45-9E8B-AC713B40ED1B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jeZBesedilom 16"/>
          <p:cNvSpPr/>
          <p:nvPr/>
        </p:nvSpPr>
        <p:spPr>
          <a:xfrm>
            <a:off x="10024920" y="2318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#NextGenerationE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Naslov 1"/>
          <p:cNvSpPr/>
          <p:nvPr/>
        </p:nvSpPr>
        <p:spPr>
          <a:xfrm>
            <a:off x="0" y="0"/>
            <a:ext cx="7432560" cy="63324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2cc"/>
                </a:solidFill>
                <a:latin typeface="Calibri Light"/>
              </a:rPr>
              <a:t>       </a:t>
            </a:r>
            <a:r>
              <a:rPr b="0" lang="pl-PL" sz="3200" spc="-1" strike="noStrike">
                <a:solidFill>
                  <a:srgbClr val="fff2cc"/>
                </a:solidFill>
                <a:latin typeface="Calibri Light"/>
              </a:rPr>
              <a:t>NAČRT ZA OKREVANJE IN ODP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03360" y="630360"/>
          <a:ext cx="8294760" cy="5641920"/>
        </p:xfrm>
        <a:graphic>
          <a:graphicData uri="http://schemas.openxmlformats.org/drawingml/2006/table">
            <a:tbl>
              <a:tblPr/>
              <a:tblGrid>
                <a:gridCol w="2160720"/>
                <a:gridCol w="3341520"/>
                <a:gridCol w="960480"/>
                <a:gridCol w="961920"/>
                <a:gridCol w="870120"/>
              </a:tblGrid>
              <a:tr h="326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roč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8869a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kt / Ukr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8869a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8869a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vratni del (mio E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8869a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vratni del    (mio E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8869a"/>
                    </a:solidFill>
                  </a:tcPr>
                </a:tc>
              </a:tr>
              <a:tr h="355680">
                <a:tc row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ELENI PREH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1: Obnovljivi viri energije in učinkovita raba energije v gospodarstv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6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6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2: Trajnostna prenova stav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,0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,0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3: Čisto in varno okol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2,8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2,8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4: Trajnostna mobil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7,8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4,8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5: Krožno gospodarstvo - učinkovita raba vir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cb758"/>
                    </a:solidFill>
                  </a:tcPr>
                </a:tc>
              </a:tr>
              <a:tr h="169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79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60,6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7937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7,6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7937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3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7937"/>
                    </a:solidFill>
                  </a:tcPr>
                </a:tc>
              </a:tr>
              <a:tr h="355680"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GITALNA PREOBRAZ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1: Digitalna preobrazba gospodarst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,5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,5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n-NO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2: Digitalna preobrazba javnega sektorja in javne upra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4,0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4,0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36ba3"/>
                    </a:solidFill>
                  </a:tcPr>
                </a:tc>
              </a:tr>
              <a:tr h="169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c436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30,5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c436d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30,5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c436d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c436d"/>
                    </a:solidFill>
                  </a:tcPr>
                </a:tc>
              </a:tr>
              <a:tr h="217440">
                <a:tc row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METNA, TRAJNOSTNA IN VKLJUČUJOČA 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1: Raziskave, razvoj in inovac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2,81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2,81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2: Dvig produktivnosti, prijazno poslovno okolje za investitor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7,5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7,5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3: Trg dela – ukrepi za zmanjševanje posledic negativnih strukturnih trend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,28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,28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4: Preoblikovanje slovenskega turizma ter investicije v infrastrukturo na področju turizma in kulturne dedišč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7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7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5: Krepitev kompetenc, zlasti digitalnih in tistih, ki jih zahtevajo novi pokl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,8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,2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</a:tr>
              <a:tr h="2034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6: Učinkovite javne instituc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aac6"/>
                    </a:solidFill>
                  </a:tcPr>
                </a:tc>
              </a:tr>
              <a:tr h="16956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1718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9,59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1718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5,39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1718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,2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17184"/>
                    </a:solidFill>
                  </a:tcPr>
                </a:tc>
              </a:tr>
              <a:tr h="17784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RAVSTVO IN SOCIALNA VAR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1: Zdravst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4,9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4,9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2: Socialna varnost in dolgotrajna oskr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9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9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MPONENTA 3: Stanovanjska poli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9c7b"/>
                    </a:solidFill>
                  </a:tcPr>
                </a:tc>
              </a:tr>
              <a:tr h="16848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6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3,9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65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4,9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65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9,0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6550"/>
                    </a:solidFill>
                  </a:tcPr>
                </a:tc>
              </a:tr>
            </a:tbl>
          </a:graphicData>
        </a:graphic>
      </p:graphicFrame>
      <p:sp>
        <p:nvSpPr>
          <p:cNvPr id="44" name="Pravokotnik 3"/>
          <p:cNvSpPr/>
          <p:nvPr/>
        </p:nvSpPr>
        <p:spPr>
          <a:xfrm>
            <a:off x="6237000" y="627228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Calibri"/>
              </a:rPr>
              <a:t>Skupaj   2.504,67    1.838,47    666,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9T13:29:50Z</dcterms:created>
  <dc:creator>koperckal</dc:creator>
  <dc:description/>
  <dc:language>en-US</dc:language>
  <cp:lastModifiedBy>Janika Gregorič Zečevič</cp:lastModifiedBy>
  <cp:lastPrinted>2021-04-29T06:26:06Z</cp:lastPrinted>
  <dcterms:modified xsi:type="dcterms:W3CDTF">2021-05-27T07:18:49Z</dcterms:modified>
  <cp:revision>173</cp:revision>
  <dc:subject/>
  <dc:title>Predlog priporočil v zvezi s pripravo nacionalnega Načrta za okrevanje in odpornost</dc:title>
</cp:coreProperties>
</file>