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D5B-3F47-46DA-B3F5-E8E3B325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60E-088B-4790-8A17-2AC90200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68D-2732-4B34-B5FF-BD24B82D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05A-E964-491D-B969-BBE037B7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E8D-5A5B-453F-8DDC-64D44356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3F7-D925-475C-807D-7A199A39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620-4C52-4EA4-8EE3-7B64B75B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40A-94A9-4B56-9158-46D053EB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BAF-9C14-4D00-A56B-BB019FBF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6AB-B488-4C1B-B8CE-A2C3E4A6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613-CC6A-4929-8F0F-17ED060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530-3EE8-47EB-A517-3EADBCB3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EBF4-99EE-4307-9B47-04660BC3E8AC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alibri Light"/>
              </a:rPr>
              <a:t>Vrednotenje izvajanja kohezijske politike OP 2014 – 2020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alibri"/>
              </a:rPr>
              <a:t>OzS, 26. 5. 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ravokotnik 3"/>
          <p:cNvSpPr/>
          <p:nvPr/>
        </p:nvSpPr>
        <p:spPr>
          <a:xfrm>
            <a:off x="10263240" y="193680"/>
            <a:ext cx="1527120" cy="604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EU Skladi"/>
          <p:cNvPicPr/>
          <p:nvPr/>
        </p:nvPicPr>
        <p:blipFill>
          <a:blip r:embed="rId1"/>
          <a:stretch/>
        </p:blipFill>
        <p:spPr>
          <a:xfrm>
            <a:off x="10329840" y="217440"/>
            <a:ext cx="139392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62080"/>
            <a:ext cx="10515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 Light"/>
              </a:rPr>
              <a:t>Od zadnjega poročanja na Oz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Odstopanje od potrjenega načr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Covi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70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alibri Light"/>
              </a:rPr>
              <a:t>Nadaljevanje aktivnosti vrednoten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Priprava javnega razpisa za dve vrednoten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Calibri"/>
              </a:rPr>
              <a:t>(Učinkovitost in uspešnost izvajanja specifičnih ciljev „Povečan delež inovacijsko aktivnih podjetij“ in „Povečanje učinkovitosti rabe energije v javnem sektorju“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Objava javnega razpisa in izvedba ter neuspel izbor ponu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Sprememba članov Interdisciplinarne sku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Priprava letnega načrta vrednotenj za 20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Hvala za pozorno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19T14:07:48Z</dcterms:created>
  <dc:creator>koperckal</dc:creator>
  <dc:description/>
  <dc:language>en-US</dc:language>
  <cp:lastModifiedBy>Janika Gregorič Zečevič</cp:lastModifiedBy>
  <dcterms:modified xsi:type="dcterms:W3CDTF">2021-05-25T10:55:09Z</dcterms:modified>
  <cp:revision>4</cp:revision>
  <dc:subject/>
  <dc:title>PowerPointova predstavitev</dc:title>
</cp:coreProperties>
</file>