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C34-5DD6-4A02-8F06-C6B0927E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CCB-CBD9-4B79-AB8C-E4AE402B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400-C8E5-443C-937B-F7828914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E46-7F30-4196-96B5-00C04B21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3BB-4BC3-488B-93AB-D307D850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F18-7442-44AF-B4DB-4F8A502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5BD-04C4-4802-8283-0A9ADCB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16C-F975-42FF-AEF5-D93064A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F3E-C1B4-4FF0-A76D-8C22E753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480-9AFC-4E1D-8048-3A8A3EE1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911-6D88-4FEE-A7A5-F22E90A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DB4-D7BB-449C-AF11-E3E551FD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A67-DED9-44BC-BD4C-A548EA414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3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3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"/>
          <p:cNvPicPr/>
          <p:nvPr/>
        </p:nvPicPr>
        <p:blipFill>
          <a:blip r:embed="rId3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"/>
          <p:cNvPicPr/>
          <p:nvPr/>
        </p:nvPicPr>
        <p:blipFill>
          <a:blip r:embed="rId4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1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373800" y="5524560"/>
            <a:ext cx="2401920" cy="1220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444600" y="5905440"/>
            <a:ext cx="2895480" cy="5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-9360" y="2658960"/>
            <a:ext cx="9153360" cy="2616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177840" y="229392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09" name="Object 7" descr=""/>
          <p:cNvPicPr/>
          <p:nvPr/>
        </p:nvPicPr>
        <p:blipFill>
          <a:blip r:embed="rId3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Object 7" descr=""/>
          <p:cNvPicPr/>
          <p:nvPr/>
        </p:nvPicPr>
        <p:blipFill>
          <a:blip r:embed="rId2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"/>
          <p:cNvPicPr/>
          <p:nvPr/>
        </p:nvPicPr>
        <p:blipFill>
          <a:blip r:embed="rId4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12640" y="644040"/>
            <a:ext cx="76788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Vrednotenje izvajanja kohezijske politike OP 2014 – 2020</a:t>
            </a:r>
            <a:br>
              <a:rPr sz="2400"/>
            </a:br>
            <a:br>
              <a:rPr sz="3600"/>
            </a:br>
            <a:r>
              <a:rPr b="1" lang="sl-SI" sz="1600" spc="-1" strike="noStrike">
                <a:solidFill>
                  <a:srgbClr val="2f5597"/>
                </a:solidFill>
                <a:latin typeface="Calibri"/>
              </a:rPr>
              <a:t>OzS, 29.9.2020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ravokotnik 1"/>
          <p:cNvSpPr/>
          <p:nvPr/>
        </p:nvSpPr>
        <p:spPr>
          <a:xfrm>
            <a:off x="787320" y="2917800"/>
            <a:ext cx="73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628560" y="2867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579600" y="30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oljeZBesedilom 3"/>
          <p:cNvSpPr/>
          <p:nvPr/>
        </p:nvSpPr>
        <p:spPr>
          <a:xfrm>
            <a:off x="907920" y="723960"/>
            <a:ext cx="67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Od zadnjega poročanja n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oljeZBesedilom 4"/>
          <p:cNvSpPr/>
          <p:nvPr/>
        </p:nvSpPr>
        <p:spPr>
          <a:xfrm>
            <a:off x="1018080" y="1608120"/>
            <a:ext cx="457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stopanje od potrjenega nač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ileme z objavo javnega razpi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Menjave ministr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Covi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njena sestava Oz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oljeZBesedilom 1"/>
          <p:cNvSpPr/>
          <p:nvPr/>
        </p:nvSpPr>
        <p:spPr>
          <a:xfrm>
            <a:off x="1588680" y="9381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Nadaljevanje aktivnosti vrednot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oljeZBesedilom 2"/>
          <p:cNvSpPr/>
          <p:nvPr/>
        </p:nvSpPr>
        <p:spPr>
          <a:xfrm>
            <a:off x="1429560" y="2001960"/>
            <a:ext cx="7726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za dve vrednoten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(Učinkovitost in uspešnost izvajanja specifičnih ciljev „Povečan delež inovacijsko aktivnih podjetij“ in „Poveča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učinkovitosti rabe energije v javnem sektorju“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otrditev prenovljene Interdisciplinarne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Sprememba letnega načrta vrednotenj za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Priprava letnega načrta vrednotenj za 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Arial"/>
              </a:rPr>
              <a:t>Objava javnega razpisa in izved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9600" y="2854440"/>
            <a:ext cx="7984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f5597"/>
                </a:solidFill>
                <a:latin typeface="Calibri Light"/>
              </a:rPr>
              <a:t>Hvala za pozornost</a:t>
            </a:r>
            <a:r>
              <a:rPr b="1" lang="sl-SI" sz="2400" spc="-1" strike="noStrike">
                <a:solidFill>
                  <a:srgbClr val="2f5597"/>
                </a:solidFill>
                <a:latin typeface="Calibri"/>
              </a:rPr>
              <a:t>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18542" t="11954" r="2709" b="82682"/>
          <a:stretch/>
        </p:blipFill>
        <p:spPr>
          <a:xfrm>
            <a:off x="0" y="68400"/>
            <a:ext cx="91440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Vincekovic, Lidija (SI - Ljubljana)</dc:creator>
  <dc:description/>
  <dc:language>en-US</dc:language>
  <cp:lastModifiedBy>Mateja Mahkovec</cp:lastModifiedBy>
  <cp:lastPrinted>2019-12-17T12:58:53Z</cp:lastPrinted>
  <dcterms:modified xsi:type="dcterms:W3CDTF">2020-09-28T05:53:33Z</dcterms:modified>
  <cp:revision>164</cp:revision>
  <dc:subject/>
  <dc:title>PowerPoint Presentation</dc:title>
</cp:coreProperties>
</file>