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E0DC-706F-4CAB-A1C8-21D851041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889F-26B0-4FF8-BFB7-6715107B5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7491-B935-4DBC-B3B4-DC2869201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D712-E42F-4C29-B450-77256AB97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45433-63AE-4A7A-A1EA-6B6FF28F5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E7095-1806-4A3C-A412-9619F85CD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AE7BC-EA46-48A5-8BE0-6827E782F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85D3A-AE65-4A6B-8258-102E593F8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D5D9D-4167-4BE9-B312-8EEBA7792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F07AB-85D1-4767-A99D-6E1F9D02C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C8AF6-4276-456A-A759-D335FB53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B30FC-0934-4C30-B024-D7958F403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84913-3C28-4BA9-A895-2D08D00D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59EC2-977D-4AF4-9FF5-302CB434E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AC857-6B6D-47B2-84F6-646E9A0B5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9A43F-4DFE-43B1-B3FB-5A5406457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A63BA-3B3C-48D1-AEB6-D76D59853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CA99E-A3A0-4D0D-ADAB-B7C5CE0F7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5C31B-3FFE-4713-ACD7-F1DCFFBE1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7FFE7-93BD-465B-84F2-ED2119A13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714AD-A752-47D9-95E2-ECBE5026C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7593F-C5A8-4AFA-B84B-207CAF471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B5E95-DDC0-4E3B-9418-AB7F6518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BEC1D-9EBD-409F-A782-18EDE13E6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AF867-EB3D-4D21-ACF1-D70A2486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0E657-B0D4-452A-89AD-FDFE7EB7E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EE98E-18B2-4B51-95E7-A44961106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0E17C-4219-4BA8-9544-4884D89B2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254D-6194-4A52-905E-9136C7A95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6B86-C924-4896-A296-BEAA0EE93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F183-275E-40D3-8CA0-E24243BC9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165C-2C73-477C-9E46-434C5D02B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4D08-9E2B-4214-9B92-7C2CD8963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D848-F896-4689-A4B2-72E1C9F2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A8C5-9034-4418-B550-17FF2DC67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7D87-59EA-4376-9D59-77398BB2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96E9A-8DE7-4ABB-81F3-359FA7FFD2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2e75b6"/>
              </a:gs>
              <a:gs pos="100000">
                <a:srgbClr val="9dc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65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e7e6e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e7e6e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0E583-5593-40A9-AD91-2EF3ED79AA28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958BF-6A07-48EA-A5A0-7B7E24C6B061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87440" y="650880"/>
            <a:ext cx="86565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7. REDNA SEJA ODBORA ZA SPREMLJANJE OPERATIVNEGA PROGRAMA ZA IZVAJANJE EVROPSKE KOHEZIJSKE POLITIKE V OBDOBJU 2014</a:t>
            </a:r>
            <a:r>
              <a:rPr b="1" i="1" lang="sl-SI" sz="2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2020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3" name="TextBox 2"/>
          <p:cNvSpPr/>
          <p:nvPr/>
        </p:nvSpPr>
        <p:spPr>
          <a:xfrm>
            <a:off x="3059280" y="5797440"/>
            <a:ext cx="3573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Brdo pri Kranju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29. september 20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TextBox 1"/>
          <p:cNvSpPr/>
          <p:nvPr/>
        </p:nvSpPr>
        <p:spPr>
          <a:xfrm>
            <a:off x="576720" y="1876320"/>
            <a:ext cx="842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Sklep št. 9 k točki 7: Odbor za spremljanje se je seznanil z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izhodišči za spremembo meril za izbor operacij v okviru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Operativnega programa za izvajanje evropske kohezijsk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politike v obdobju 2014–2020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in nalaga </a:t>
            </a: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Službi Vlade Republik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Slovenije za razvoj in evropsko kohezijsko politiko, da priprav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končni predlog spremembe meril za izbor operacij v okviru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Operativnega programa za izvajanje evropske kohezijsk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politike v obdobju 2014–2020 in ga pošlje v potrditev na dopisn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sejo najkasneje do konca oktobra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TextBox 1"/>
          <p:cNvSpPr/>
          <p:nvPr/>
        </p:nvSpPr>
        <p:spPr>
          <a:xfrm>
            <a:off x="587160" y="2398680"/>
            <a:ext cx="740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Sklep št. 10 k točki 8: Odbor za spremljanje se je seznani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z Letnim načrtom komuniciranja za leto 2020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TextBox 1"/>
          <p:cNvSpPr/>
          <p:nvPr/>
        </p:nvSpPr>
        <p:spPr>
          <a:xfrm>
            <a:off x="646560" y="2327400"/>
            <a:ext cx="7593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Sklep št. 11 k točki 9: Odbor za spremljanje se je seznanil z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izvajanjem vrednotenj za Operativni program za izvajanj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evropske kohezijske politike v obdobju 2014–202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57000" y="2367000"/>
            <a:ext cx="79851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http://www.eu-skladi.si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TextBox 2"/>
          <p:cNvSpPr/>
          <p:nvPr/>
        </p:nvSpPr>
        <p:spPr>
          <a:xfrm>
            <a:off x="981000" y="2494080"/>
            <a:ext cx="772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Sklep št. 1 k točki 1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Odbor za spremljanje sprejme predlagani dnevni r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TextBox 4"/>
          <p:cNvSpPr/>
          <p:nvPr/>
        </p:nvSpPr>
        <p:spPr>
          <a:xfrm>
            <a:off x="631800" y="2274840"/>
            <a:ext cx="799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Sklep št. 2 k točki 2: Odbor za spremljanje potrdi zapisnik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7. in 8. dopisne seje Odbora za spremljanje operativneg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Programa za izvajanje evropske kohezijske politike v obdobju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2014–2020 v predlagani oblik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TextBox 1"/>
          <p:cNvSpPr/>
          <p:nvPr/>
        </p:nvSpPr>
        <p:spPr>
          <a:xfrm>
            <a:off x="561240" y="2279520"/>
            <a:ext cx="8258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Sklep št. 3 k točki 3: Odbor za spremljanje potrdi Letno poročil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2019 o izvajanju Operativnega programa za izvajanj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evropske kohezijske politike v obdobju 2014–2020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Odbor pooblašča Službo Vlade Republike Slovenije za razvoj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in evropsko kohezijsko politiko, da pred pošiljanjem Letneg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poročila Evropski komisiji izvede popravke in poročilo pošlj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Evropski komisij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TextBox 1"/>
          <p:cNvSpPr/>
          <p:nvPr/>
        </p:nvSpPr>
        <p:spPr>
          <a:xfrm>
            <a:off x="482040" y="2505240"/>
            <a:ext cx="846216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Sklep št. 4 k točki 3: Odbor za spremljanje se je seznanil s stanj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na področju izvajanja finančnih instrumentov (FI) 2014–202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TextBox 1"/>
          <p:cNvSpPr/>
          <p:nvPr/>
        </p:nvSpPr>
        <p:spPr>
          <a:xfrm>
            <a:off x="552960" y="2398680"/>
            <a:ext cx="804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Sklep št. 5 k točki 3: Odbor za spremljanje se je seznanil z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aktivnostmi, povezanimi z Makroregionalnimi strategijami EU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in Evropskim teritorialnim sodelovanjem v programske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obdobju 2014–202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TextBox 1"/>
          <p:cNvSpPr/>
          <p:nvPr/>
        </p:nvSpPr>
        <p:spPr>
          <a:xfrm>
            <a:off x="678240" y="2541600"/>
            <a:ext cx="780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Sklep št. 6 k točki 4: Odbor za spremljanje se je seznanil 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poročilom organa za potrjevanje za Operativni program z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izvajanje evropske kohezijske politike v obdobju 2014–202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1"/>
          <p:cNvSpPr/>
          <p:nvPr/>
        </p:nvSpPr>
        <p:spPr>
          <a:xfrm>
            <a:off x="287640" y="2374920"/>
            <a:ext cx="846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Sklep št. 7 k točki 5: Odbor za spremljanje se je seznanil 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poročilom revizijskega organa za Operativni program za izvajanj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evropske kohezijske politike v obdobju 2014–202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TextBox 1"/>
          <p:cNvSpPr/>
          <p:nvPr/>
        </p:nvSpPr>
        <p:spPr>
          <a:xfrm>
            <a:off x="567000" y="2184480"/>
            <a:ext cx="8231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Sklep št. 8 k točki 6: Odbor za spremljanje se je seznani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s predlaganimi izhodišči za spremembo Operativneg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programa za izvajanje evropske kohezijske politike 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obdobju 2014–2020 in nalaga </a:t>
            </a: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Službi Vlade Republike Slovenij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za razvoj in evropsko kohezijsko politiko, da pripravi končn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predlog spremembe Operativnega programa za izvajanj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evropske kohezijske politike v obdobju 2014–2020 in g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pošlje v potrditev na dopisno sejo najkasneje do konca oktobra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RT- Robert</cp:lastModifiedBy>
  <cp:lastPrinted>2019-06-05T11:34:57Z</cp:lastPrinted>
  <dcterms:modified xsi:type="dcterms:W3CDTF">2020-09-28T22:42:40Z</dcterms:modified>
  <cp:revision>49</cp:revision>
  <dc:subject/>
  <dc:title>PowerPoint Presentation</dc:title>
</cp:coreProperties>
</file>