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06E-9146-4F3F-8AF7-8DF79DFA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9C9-6F2D-445F-B289-D81E482B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9E4-5BA0-4AB8-9F3D-E59EABDD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30A-EB7A-4808-95FE-72389CB0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1BC-041A-4480-B405-20965F2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33E-7424-448A-942A-67BA23FD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A0D-3272-48CE-8908-3C2819E4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BDF-A135-4DE1-9140-0BE46DE1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8FA-2680-49FD-9B2D-C34C631D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3E0-FA84-4905-B089-3203D776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946-EF2D-4D19-BD7E-A6013699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078-CE0F-4BF2-B03A-248EC4C4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D95B-81B0-40A8-A5D1-DB2AB7FA1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3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3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3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"/>
          <p:cNvPicPr/>
          <p:nvPr/>
        </p:nvPicPr>
        <p:blipFill>
          <a:blip r:embed="rId3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3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4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373800" y="5524560"/>
            <a:ext cx="2401920" cy="1220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444600" y="5905440"/>
            <a:ext cx="289548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-9360" y="2658960"/>
            <a:ext cx="9153360" cy="2616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177840" y="2293920"/>
            <a:ext cx="19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7" descr=""/>
          <p:cNvPicPr/>
          <p:nvPr/>
        </p:nvPicPr>
        <p:blipFill>
          <a:blip r:embed="rId3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4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5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12640" y="644040"/>
            <a:ext cx="76788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Vrednotenje izvajanja kohezijske politike OP 2014 – 2020</a:t>
            </a:r>
            <a:br>
              <a:rPr sz="2400"/>
            </a:br>
            <a:br>
              <a:rPr sz="3600"/>
            </a:br>
            <a:r>
              <a:rPr b="1" lang="sl-SI" sz="1600" spc="-1" strike="noStrike">
                <a:solidFill>
                  <a:srgbClr val="2f5597"/>
                </a:solidFill>
                <a:latin typeface="Calibri"/>
              </a:rPr>
              <a:t>OzS, 29.9.2020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ravokotnik 1"/>
          <p:cNvSpPr/>
          <p:nvPr/>
        </p:nvSpPr>
        <p:spPr>
          <a:xfrm>
            <a:off x="787320" y="2917800"/>
            <a:ext cx="73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579600" y="30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oljeZBesedilom 3"/>
          <p:cNvSpPr/>
          <p:nvPr/>
        </p:nvSpPr>
        <p:spPr>
          <a:xfrm>
            <a:off x="907920" y="723960"/>
            <a:ext cx="67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Od zadnjega poročanja n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oljeZBesedilom 4"/>
          <p:cNvSpPr/>
          <p:nvPr/>
        </p:nvSpPr>
        <p:spPr>
          <a:xfrm>
            <a:off x="1018080" y="1608120"/>
            <a:ext cx="45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stopanje od potrjenega nač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ileme z objavo javnega razpi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Menjave ministr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Covi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njena sestav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oljeZBesedilom 1"/>
          <p:cNvSpPr/>
          <p:nvPr/>
        </p:nvSpPr>
        <p:spPr>
          <a:xfrm>
            <a:off x="1588680" y="93816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Nadaljevanje aktivnosti vrednot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oljeZBesedilom 2"/>
          <p:cNvSpPr/>
          <p:nvPr/>
        </p:nvSpPr>
        <p:spPr>
          <a:xfrm>
            <a:off x="1429560" y="2001960"/>
            <a:ext cx="7726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za dve vrednoten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(Učinkovitost in uspešnost izvajanja specifičnih ciljev „Povečan delež inovacijsko aktivnih podjetij“ in „Povečan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učinkovitosti rabe energije v javnem sektorju“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otrditev prenovljene Interdisciplinarne skup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Sprememba letnega načrta vrednotenj za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riprava letnega načrta vrednotenj za 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in izved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 Light"/>
              </a:rPr>
              <a:t>Hvala za pozornost</a:t>
            </a: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rcRect l="18542" t="11954" r="2709" b="82682"/>
          <a:stretch/>
        </p:blipFill>
        <p:spPr>
          <a:xfrm>
            <a:off x="0" y="68400"/>
            <a:ext cx="9144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Vincekovic, Lidija (SI - Ljubljana)</dc:creator>
  <dc:description/>
  <dc:language>en-US</dc:language>
  <cp:lastModifiedBy>Mateja Mahkovec</cp:lastModifiedBy>
  <cp:lastPrinted>2019-12-17T12:58:53Z</cp:lastPrinted>
  <dcterms:modified xsi:type="dcterms:W3CDTF">2020-09-28T05:53:33Z</dcterms:modified>
  <cp:revision>164</cp:revision>
  <dc:subject/>
  <dc:title>PowerPoint Presentation</dc:title>
</cp:coreProperties>
</file>