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1C7-7224-4E64-A43C-FA0006DB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945-1902-4ED3-AD9D-23AB2A5D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D27-8BF2-44B5-A966-3F561CE6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ED2-3A96-4296-8EAA-AECA1DF0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C38-6A57-4A52-B930-39D42FBC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840-9F06-432F-A1C4-22934F1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EAC5-CF3E-4300-9F20-558135C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039B-940A-40E0-BF4D-BE42C5D9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AAF7-AF3E-4AE9-BEE1-1B75FC7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450-1572-4310-BA8F-51708F1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16B4-EBDF-412E-893C-1950935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A9E-4F10-4352-BA05-BE70150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7733-7C67-440D-8DD0-66D55F35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AB63-8999-48B4-A474-355374D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80EF-90E3-449B-8BEE-31C14BAF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5D0E-CD15-4090-B4FB-DCC0BC2F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FE2A-CDD2-40A2-844F-59A91456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E049-0158-4F07-A165-F9949B1E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20AF-683E-461E-875F-3F6B515D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0531B-6713-405A-AF51-5D171561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C27C-7257-4B15-8609-A134B4CC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95D3-E4B9-41DB-8D85-AE6F628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1B6-E0CF-44E7-A87F-744BD54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C541-C129-480A-9008-6AAED54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0917-3B3E-4D6C-8B8F-375611E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08B3-0CCE-4501-A0CA-B8011D6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D82F-5A71-4827-9348-616B34C1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ACAA-0108-42E8-92D1-833B073B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B116-7A45-464E-8BB7-72DB3EAD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3E0E-D4C4-4F7A-B828-9CF045C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1FE7-70F1-4391-94A4-10CE7256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E5F7-177D-4A91-927E-C60E5ED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A5A3-CB77-4BEA-8BE5-5E6B7DC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863-7401-4D59-985D-FB3D79B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6DEF-D795-4C2C-8D1D-7CC43331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A8FC-A03A-4EF5-BAC0-829CD0A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E363-9ECF-41EF-B273-6C084B32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5C3D-1233-43C3-9B2C-E59FC66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99B4-7B6D-433A-85E2-D2747DC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07FD-4D60-4413-AAB2-3CD9A0C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824F-C944-4BF0-BF80-00D486B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1E92-5D9B-4D56-BDDE-6541A368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632A-3E37-4581-9CF4-3D18D302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C9AE-3208-4586-98CB-7CC2AFCB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C5A-9802-49BA-A2F6-89DBA00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BF426-478A-4C78-8946-DE625A5E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A752-8148-45FE-A1D2-49AB25E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FE52-7A52-41FD-9ACA-4227EF6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1A09-FA12-438E-B347-EDABF927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3C831-2284-4B1E-885B-0B74451C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0FF3-0BC7-4E42-9582-226499B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17C7-9DC8-4417-9059-79E1326F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CE01-AEBF-4FB5-A0B6-4A89A83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6D73-E33C-400E-BBE2-3525245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D3DF-EF1F-4A44-8806-26203999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4A6-85FC-4A2E-9EAA-251CC69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7C2B-8FB8-4008-AA3A-8C53E20B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BE5A-4867-437A-82A5-CFBC843B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2C96-6AED-4F70-8F9B-DC948B7C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3B24-ED1B-4D2B-B672-2E0BAB31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327C-CF89-4BB8-A81C-D3815BC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EE00-B39B-4516-913A-66353CFE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0C9C-9800-4CFD-AFF1-FB521BC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C17C1-EB4A-467C-AF0D-B5F9FA5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5392-CF9F-4B00-B9D4-DB03F0E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92720-EC10-4CAB-8262-0D7461D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061-191D-4D19-977B-8073C2B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0B26-4403-4919-80A9-1816786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71B7-0183-4ACF-9C03-6E6A4267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F9D82-35BC-4F6A-9F13-352E09E2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6F9-7D07-4F46-AF92-555D6AE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CA2-391D-4DC2-ACBF-FF7FFDA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03300-387D-4582-85B8-3AAC7802E92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3813-1B5B-41BC-9B61-19E46B0458E8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C8889-6CBF-4019-B134-40A95FF90E2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0EEAA-5C74-4738-90B8-22981078E78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3A63C-8967-4CD2-9AED-FC0DCE1C08C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86E09-7D12-4A60-B9BE-69D1605C883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2916360" y="404640"/>
            <a:ext cx="320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INISTR</a:t>
            </a:r>
            <a:r>
              <a:rPr b="1" lang="sl-SI" sz="1200" spc="-1" strike="noStrike">
                <a:solidFill>
                  <a:srgbClr val="000000"/>
                </a:solidFill>
                <a:latin typeface="Arial Narrow"/>
                <a:ea typeface="Arial"/>
              </a:rPr>
              <a:t>STVO ZA ZUNANJE ZADEVE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REPUBLI</a:t>
            </a:r>
            <a:r>
              <a:rPr b="1" lang="sl-SI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A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SLOVENI</a:t>
            </a:r>
            <a:r>
              <a:rPr b="1" lang="sl-SI" sz="1200" spc="-1" strike="noStrike">
                <a:solidFill>
                  <a:srgbClr val="000000"/>
                </a:solidFill>
                <a:latin typeface="Arial Narrow"/>
                <a:ea typeface="Arial"/>
              </a:rPr>
              <a:t>J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A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7" name="Picture 9" descr="grb-barvni"/>
          <p:cNvPicPr/>
          <p:nvPr/>
        </p:nvPicPr>
        <p:blipFill>
          <a:blip r:embed="rId1"/>
          <a:stretch/>
        </p:blipFill>
        <p:spPr>
          <a:xfrm>
            <a:off x="4211640" y="189000"/>
            <a:ext cx="487440" cy="6206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9640" y="4581360"/>
            <a:ext cx="81583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cionalna koordinato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250920" y="981000"/>
            <a:ext cx="8642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999999"/>
                </a:solidFill>
                <a:latin typeface="Arial"/>
                <a:ea typeface="Arial"/>
              </a:rPr>
              <a:t>SLOVENIJA IN EU MAKROREGIONALNE STRATEGIJE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60" name="Picture 9" descr="The EU Strategy for the Danube Region"/>
          <p:cNvPicPr/>
          <p:nvPr/>
        </p:nvPicPr>
        <p:blipFill>
          <a:blip r:embed="rId2"/>
          <a:stretch/>
        </p:blipFill>
        <p:spPr>
          <a:xfrm>
            <a:off x="185760" y="333360"/>
            <a:ext cx="1361880" cy="504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The EU Strategy for the Adriatic Ionian"/>
          <p:cNvPicPr/>
          <p:nvPr/>
        </p:nvPicPr>
        <p:blipFill>
          <a:blip r:embed="rId3"/>
          <a:stretch/>
        </p:blipFill>
        <p:spPr>
          <a:xfrm>
            <a:off x="1882800" y="123840"/>
            <a:ext cx="1905120" cy="561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eusalp logo"/>
          <p:cNvPicPr/>
          <p:nvPr/>
        </p:nvPicPr>
        <p:blipFill>
          <a:blip r:embed="rId4"/>
          <a:stretch/>
        </p:blipFill>
        <p:spPr>
          <a:xfrm>
            <a:off x="6588000" y="81000"/>
            <a:ext cx="1762200" cy="1009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\\mzzdm01.dkpmzz.si\Uporabniki\MZZ\A1603\Pictures\mladika_pogled1_M.jpg"/>
          <p:cNvPicPr/>
          <p:nvPr/>
        </p:nvPicPr>
        <p:blipFill>
          <a:blip r:embed="rId5"/>
          <a:stretch/>
        </p:blipFill>
        <p:spPr>
          <a:xfrm>
            <a:off x="3286080" y="3141720"/>
            <a:ext cx="25718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7750080" y="1600200"/>
            <a:ext cx="959040" cy="1023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2874960" y="210960"/>
            <a:ext cx="5935680" cy="65595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7600" y="439200"/>
            <a:ext cx="799164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IDNOST –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klajeno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d mednarodnih konvencij do lokalnih ukre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1600200"/>
            <a:ext cx="335916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200" spc="-1" strike="noStrike">
                <a:solidFill>
                  <a:srgbClr val="000000"/>
                </a:solidFill>
                <a:latin typeface="Arial"/>
              </a:rPr>
              <a:t>25. 9. – 1.10.2016 IZ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TEDEN SREDOZEMSKE OBALE / </a:t>
            </a:r>
            <a:r>
              <a:rPr b="1" lang="sl-SI" sz="2200" spc="-1" strike="noStrike">
                <a:solidFill>
                  <a:srgbClr val="00b050"/>
                </a:solidFill>
                <a:latin typeface="Arial"/>
              </a:rPr>
              <a:t>TEDEN MAKROREGIONALNIH STRATEG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Konkreten prikaz usklajenih prizadevanj akterjev Podonavske, Jadransko jonske in Alpske regij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za usklajeno delovanje na področju ekološke povezljivosti (modri in zeleni koridorji/ zavarovana območj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G 7 in AG 5 EUSALP + TSG 3 EUSAIR in EUSAIR FP  + PA 10 EUSD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631800" y="5489640"/>
            <a:ext cx="1762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2160" y="1406160"/>
            <a:ext cx="7772400" cy="25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19040" y="1600200"/>
            <a:ext cx="75996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ko iz 3x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v 3x </a:t>
            </a:r>
            <a:r>
              <a:rPr b="0" lang="sl-SI" sz="4400" spc="-1" strike="noStrike">
                <a:solidFill>
                  <a:srgbClr val="00b050"/>
                </a:solidFill>
                <a:latin typeface="Arial"/>
              </a:rPr>
              <a:t>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predelitev nacionalnega inte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rezen sistem upravljanja / človeški v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nergije finančnih vi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b05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i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1 - Opredelitev nacionalnega interesa</a:t>
            </a:r>
            <a:br>
              <a:rPr sz="2500"/>
            </a:br>
            <a:r>
              <a:rPr b="1" lang="sl-SI" sz="2500" spc="-1" strike="noStrike">
                <a:solidFill>
                  <a:srgbClr val="ff0000"/>
                </a:solidFill>
                <a:latin typeface="Arial"/>
              </a:rPr>
              <a:t>SPOMLADANSKO POROČILO Vlade RS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a letna seznanitev Vlade RS o načrtovanih in izvedenih aktivnostih sodelujočih resorjev o vseh 3 M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5. maj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a letna obravnava poročila Vlade RS v Državnem zboru (OZP+OZ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junij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trezen sistem upravlj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si predstavniki Slovenije v strukturi upravljanja vseh 3 MRS imajo mandat Vlade RS, tudi nevladni  - CEF, UMB, O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ključevanje obstoječih struktur v Sloveniji – univerze, Poslovni angeli, zbornice, platforme –eRegions, združenja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novita medresorska koordinacija (MZZ-NK) za vse 3 MRS vključno z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ergije finančnih vi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dprta in redna komunikacija med MRS in 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S deležniki predstavljajo pomemben del sodelujočih na informativnih dneh T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litična podpora procesu "EMBEDDING" – ministrske deklaracije EUDSR, EUS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nergije finančnih vi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90160" y="1600200"/>
            <a:ext cx="83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ling"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projektov MRS še ni dosegel želenega rezultata k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a vrednost MRS projektov ni sistemsko priznana v procesu pridobivanja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kusi dodatnega točkovanja v okviru DANUBE in ADRION terjajo evalvacijo doseženih učin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522600" y="1562040"/>
            <a:ext cx="2210040" cy="143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6602400" y="2013120"/>
            <a:ext cx="2293920" cy="850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1035000" y="1636560"/>
            <a:ext cx="21384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4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dno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e ključnega pomena za medsektorsko usklajeno delovanje, za mreženje in doseganje sinergij ter potrebne kritične mase za delova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idnost pomeni vedenje kaj kdo d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5837400" y="4492800"/>
            <a:ext cx="2557440" cy="2084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6580080" y="5302080"/>
            <a:ext cx="10699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6-05-16T09:43:34Z</cp:lastPrinted>
  <dcterms:modified xsi:type="dcterms:W3CDTF">2016-05-16T09:43:51Z</dcterms:modified>
  <cp:revision>46</cp:revision>
  <dc:subject/>
  <dc:title>MAKROREGIONALNE STRATEGIJE V EU</dc:title>
</cp:coreProperties>
</file>