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731-61E7-4E96-A44B-6E2C625F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4E1-972B-42C1-B754-7F559A2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B6F-BF6F-4F96-8814-FF14234E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32C-07D4-4BE6-950C-AE7AE6F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8F5-C5A2-4C10-914B-3424835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8AD-C039-45EE-9880-F57AC88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3F8-129D-4B74-98F4-A38DF90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825-4945-409F-993C-36B5AE3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5D1-30E5-4CC2-B8D2-BEE9C29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1FF-6A53-4219-ABE6-5D1102A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B58-480F-4E44-9B87-10010DA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7DB-8910-4FBE-9B1A-A4F3C02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276-8C9A-489B-8BD2-1C273CF36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71080" y="717480"/>
            <a:ext cx="10153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Predstavitev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rememb 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vedbene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ga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načrt</a:t>
            </a: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Hvala za vašo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Služba Vlade Republike Slovenije za razvoj in evropsko kohezijsko politi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memba INOP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4600" y="1803240"/>
            <a:ext cx="9342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Tokratno spremembo Odloka je narekova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treba po dopolnitvi INOP s prikazom dinamike črpanja posameznih proračunskih uporabnikov v letu 2018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razporeditev sredstev, planiranih za tekoče in naslednje leto s postavk OU na postavke PO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ažuriranje dinamik izvajanja evropske kohezijske politike v obdobju 2014–202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sebine, ki se na novo vključujejo v INOP / 1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9280" y="15368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664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V INOP se je na novo vključilo 85 NIO v vrednosti 268 mio EUR (skupna vrednost za obdobje 2016-20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664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Glavna področja, ki se na novo vključujejo v INO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Izboljšanje infrastrukture za raziskave in inovacije ter zmogljivosti za razvoj odličnosti pri raziskavah in inovacijah ter promocija kompetenčnih centrov, zlasti tistih v evropskem interesu (PN 1.1. – 5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odbujanje naložb podjetij v raziskave in inovacije ter vzpostavljanje povezav in sinergij med podjetji, centri za raziskave in razvoj ter visokošolskim izobraževalnim sektorjem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1.2. – 41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, zlasti za urbana območja, vključno s spodbujanjem trajnostne multimodalne urbane mobilnosti in ustreznimi omilitvenimi prilagoditvenimi ukrepi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4.4. – 1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6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831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Vsebine, ki se na novo vključujejo v INOP / 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8720" y="164160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Varstvo in obnova biotske raznovrstnosti in tal ter spodbujanje ekosistemskih storitev, vključno z omrežjem NATURA 2000 in zelenimi infrastrukturami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PN 6.2. – 14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, zmanjšanju neenakosti pri zdravstvenem statusu, spodbujanje socialne vključenosti z lažjim dostopom do družbenih, kulturnih in rekreacijskih storitev, ter prehodom z institucionalnih storitev na skupnostne oblike storitev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PN 9.3. – 27 mio za obdobje 2016-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49800" indent="-215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Krepitev enake dostopnosti vseživljenjskega učenja za vse starostne skupine v formalnem, neformalnem in priložnostnem okolju, izpopolnjevanje znanj, spretnosti in kompetenc delovne sile ter spodbujanje prožnih možnosti učenja, vključno s poklicnim usmerjanjem in validiranjem pridobljenih kompetenc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PN 10.1. – 26 mio za obdobje 2016-18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Razčlenitev INOP po NPU za leta 2016, 2017 in 2018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104396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676440" y="1314360"/>
            <a:ext cx="97725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1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18640" y="182232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 obdobje 2016-2018 nerazporejenih okoli 408 mio evrov – sredstva ostajajo na postavkah 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redstva ostajajo nerazporejena predvsem na sledečih podorčji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krepi, ki se bodo izvajali v okviru mehanizma celostnih teritorialnih naložb (CT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krepi v okviru dogovorov za razvoj regi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izgradnja centra znanosti in centra raziskovalnih umet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ojekti s področja železniške infrastruk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ojekti iz področja socialne in zdravstvene infrastruk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lokalni razvoj, ki ga vodi skupnost (CL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redstva bo organ upravljanja prerazporejal, ko se bodo posamezni NIO uskladili in ko bodo izpolnjeni vsi pogoji, skladno z določbami ZIPRS 16-1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6" name="Picture 5" descr=""/>
          <p:cNvPicPr/>
          <p:nvPr/>
        </p:nvPicPr>
        <p:blipFill>
          <a:blip r:embed="rId1"/>
          <a:stretch/>
        </p:blipFill>
        <p:spPr>
          <a:xfrm>
            <a:off x="550800" y="1273320"/>
            <a:ext cx="1033956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Nerazporejena sredstva v okviru INOP / 3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415800" y="1362240"/>
            <a:ext cx="101077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Regionalni vidik glede na kohezijski regij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642960" y="1765440"/>
            <a:ext cx="108172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6:46:37Z</dcterms:created>
  <dc:creator>Domen Kovač</dc:creator>
  <dc:description/>
  <dc:language>en-US</dc:language>
  <cp:lastModifiedBy>Andrej</cp:lastModifiedBy>
  <cp:lastPrinted>2016-04-18T11:16:44Z</cp:lastPrinted>
  <dcterms:modified xsi:type="dcterms:W3CDTF">2016-05-16T20:58:12Z</dcterms:modified>
  <cp:revision>59</cp:revision>
  <dc:subject/>
  <dc:title>Predstavitev Uredbe o porabi sredstev evropske kohezijske politike v Republiki Sloveniji v programskem obdobju 2014–2020 za cilj „naložbe za rast in delovna mesta“</dc:title>
</cp:coreProperties>
</file>