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46E-8E4F-4074-B181-52AF568D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D41-EB8A-483C-AB05-B4150566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C4F-538A-49B3-8115-CB6DB76B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83C-21C2-4158-B1E4-38B75FD1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366-0F0E-4277-B7E1-1D7B119A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336-734C-47AA-819F-11217CDD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9D8-1B33-4F57-92CB-2EA0F7CC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D73-7C92-435F-B937-8B6F6E53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B73-BDA1-4F2D-819E-282536CF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65D-B948-49B1-B0CC-3E781CB3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882-3E05-4ABD-AE56-C65B1473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661-F4B2-4636-97F0-D063C8BC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9680-E41B-4DEB-974A-D72DB30B3C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alibri"/>
              </a:rPr>
              <a:t>Letni načrt vrednotenja izvajanja OP EKP v obdobju 2014-2020 za leti 2016 in 2017, poročilo o izvajanju letnega načrta vrednotenja izvajanja OP EKP za leto 2015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ravokotnik 1"/>
          <p:cNvSpPr/>
          <p:nvPr/>
        </p:nvSpPr>
        <p:spPr>
          <a:xfrm>
            <a:off x="627120" y="58680"/>
            <a:ext cx="8026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Ugotovitv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strument ustrezno naslavlja ključno problematiko in pričakovanja ciljne skupin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zpostavljeni sistem spremljanja zagotavlja tako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kvantitativno kot kvalitativno izvedbo vrednotenja programa v letu 20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dino identificirano tveganje v vzpostavljenem sistemu spremljanja 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dsotnost merljive definicije »kvalitete« zaposlite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(obvladovanje s pogodbo o zaposlitvi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primeru programa Prvi izziv 2015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 začetni fazi ni smiselno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graditi vzporedne kontrolne skupine, saj so do subvencije upravičeni vsi brezposelni mladi v KRV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ogram Prvi izziv 2015 gradi na izkušnjah preteklih programov finančne perspektive 2007 – 2013, tako da s predhodnim postopkom in prednostnimi skupinami ZRSZ že zmanjšuje učinek „mrtve teže“ instrument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ogram spodbuja nediskriminacijo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ne diskriminira ne znotraj specifično opredeljene ciljne skupine in ne v okviru javnega povabila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enakosti moških in žensk direktno ne spodbuja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ZRSZ na vključevanje glede na spol lahko vpliva le v fazi napotitev oseb, izbira je stvar odločitve delodajalca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javno povabilo se ne osredotoča na trajnostni razvoj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dejavnost podjetja nima teže pri odločitvi glede odobritve subvencij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ravokotnik 1"/>
          <p:cNvSpPr/>
          <p:nvPr/>
        </p:nvSpPr>
        <p:spPr>
          <a:xfrm>
            <a:off x="668160" y="795240"/>
            <a:ext cx="7527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Priporočil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nadaljnje spremljanje razmerja med spoloma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 ukrepanje za zagotovitev čim boljšega razmerj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hranjanje dobre prakse vzpostavljanja kontrolnih skupin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udi za program „ Prvi izziv 2015“ (kontrolna skupina mora biti vzpostavljena v drugi polovici leta 2018, da bi sovpadala z rokom za izvedbo vrednotenja konec leta 2018; v vzpostavitev kontrolne skupine se bo vključil evalvator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veriti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miselnost vzpostavitve sistema spremljanja administrativnih stroško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vedbe program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omembno, da ZRSZ zagotavlja sinergije med raznovrstnimi progra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 vrednotenja pobud za mlade drugih držav članic  EU izhaja, da 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ključna dobra komunikacija med mladimi in delodajalc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je bilo zato predlagano, da se ZRSZ osredotoči tudi na različne oblike podpore delodajalc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vala za pozornost!</a:t>
            </a:r>
            <a:br>
              <a:rPr sz="2800"/>
            </a:b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mirjam.tolar@gov.s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ravokotnik 1"/>
          <p:cNvSpPr/>
          <p:nvPr/>
        </p:nvSpPr>
        <p:spPr>
          <a:xfrm>
            <a:off x="736560" y="1023840"/>
            <a:ext cx="69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ravokotnik 3"/>
          <p:cNvSpPr/>
          <p:nvPr/>
        </p:nvSpPr>
        <p:spPr>
          <a:xfrm>
            <a:off x="668160" y="646200"/>
            <a:ext cx="7485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Letni načrt vrednotenja izvajanja OP EKP v obdobju 2014-2020 (LNV) za leto 2016 predstavljajo naslednja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rednotenje aktivne politike zaposlovanja v RS/ Connecting People with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ončno vrednotenje Komunikacijskega načrta informiranja in obveščanja javnosti o izvajanju Operativnih programov v programskem obdobju 2007-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ončno vrednotenje izvajanja Operativnih programov programskega obdobja 2007-2013 v Sloveni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Letni načrt vrednotenja izvajanja OP EKP v obdobju 2014-2020 (LNV) za leto 2017 predstavljajo naslednja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rednotenje prispevka krepitve zmogljivosti NVO na izvajanje zagovorništva in javnih storit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mesno vrednotenje učinkovitosti in uspešnosti izvajanja ukrepov s področja visokega šolst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ba LNV sta bila predstavljena in obravnavana na Interdisciplinarni posvetovalni skupini za vrednotenje (IPSV), ki se je sestala 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22.4.2016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ravokotnik 2"/>
          <p:cNvSpPr/>
          <p:nvPr/>
        </p:nvSpPr>
        <p:spPr>
          <a:xfrm>
            <a:off x="762120" y="644400"/>
            <a:ext cx="7459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Letni načrt vrednotenja izvajanja OP EKP v obdobju 2014-2020 za leto 2016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rednotenje aktivne politike zaposlovanja v RS/ Connecting People with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nadaljevanje vrednotenja, ki se je začelo izvajati v letu 20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Cilji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vrednotenje bo vključevalo podroben pregled ukrepov, ki so se financirali iz OP RČV 2007 – 2013 ter pregled ostalih ukrepov za povečevanje delovne aktivnosti predvsem najbolj ranljivih skupi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pripravljena bodo  priporočila za nadgradnjo in večjo učinkovitost ukrepov, ki se bodo financirali iz OP EKP 2014 - 2020 ter za druge potrebne spremembe, ki bodo prispevale k večji delovni aktivnosti in s tem bolj vključujočemu trgu del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izdelana bo mednarodna primerjava položaja ciljnih skupin in pregled dobrih praks v okviru držav EU in OEC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ravokotnik 2"/>
          <p:cNvSpPr/>
          <p:nvPr/>
        </p:nvSpPr>
        <p:spPr>
          <a:xfrm>
            <a:off x="662040" y="730080"/>
            <a:ext cx="7785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2. Končno vrednotenje Komunikacijskega načrta informiranja in obveščanja javnosti o izvajanju operativnih programov v programskem obdobju 2007-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letu 2011 je bilo notranje izvedeno vmesno vrednotenje Komunikacijskega načrta, na podlagi katerega je bil v začetku leta 2012 Komunikacijski načrt tudi posodoblj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Cilji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ceniti uspešnost (doseganje ciljev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ceniti učinkovitost (opravičljivost višine stroškov z vidika pridobljenih koristi, možne izboljšave, ustreznost izbranih aktivnosti, dobre prakse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ceniti vpliv (identifikacija sprememb, ki so posledica izvajanja Komunikacijskega načrt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ravokotnik 2"/>
          <p:cNvSpPr/>
          <p:nvPr/>
        </p:nvSpPr>
        <p:spPr>
          <a:xfrm>
            <a:off x="830160" y="820800"/>
            <a:ext cx="746784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3. Končno vrednotenje izvajanja Operativnih programov programskega obdobja 2007-2013 v Sloveni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Cilji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zbrati izkušnje ter dobre/slabe prakse (lessons learned) posameznih akterjev kohezijske politik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združiti dosežene rezultate vseh operativnih programov glede na zastavljene cilje in oceniti sinergij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pregled dosežkov področij, ki v preteklem obdobju še niso bila predmet evalvacij, vendar predstavljajo pomemben ekonomski dejavnik oziroma so vanje predvidena vlaganja v prihodnosti z vidika trajnosti (turistična </a:t>
            </a:r>
            <a:r>
              <a:rPr b="0" lang="sl-SI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frastruktura, socialna podjetja, kompetenčni centri za razvoj kadrov – KOC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ravokotnik 1"/>
          <p:cNvSpPr/>
          <p:nvPr/>
        </p:nvSpPr>
        <p:spPr>
          <a:xfrm>
            <a:off x="873000" y="671400"/>
            <a:ext cx="783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Letni načrt vrednotenja izvajanja OP EKP v obdobju 2014-2020 za leto 2017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rednotenje prispevka krepitve zmogljivosti NVO na izvajanje zagovorništva in javnih storit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dmet vrednotenja je Javni razpis za krepitev zmogljivosti NVO za zagovorništvo in izvajanje javnih storitev 2015–2019. Izvedba zunanje evalvacije izvajanja projektov je bila načrtovana že v fazi priprave javnega razpi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Cilji vrednotenj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uspešnost programa na ravni aktivnosti (obseg in kakovost izvedenih aktivnosti) in rezultatov (raven in kakovost doseganja rezultatov) izvajanja odobrenih projektov – po mrežah / stičiščih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vpliv mehanizma na upravičenc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učinkovitost izvajanja projektov (časovni okvir, mehanizmi spremljanja, učinkovita raba virov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trajnost doseženih rezultatov odobrenih projektov po mreža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identificirati primere dobrih praks in pridobljene izkušnje -»lessons learned«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ravokotnik 1"/>
          <p:cNvSpPr/>
          <p:nvPr/>
        </p:nvSpPr>
        <p:spPr>
          <a:xfrm>
            <a:off x="846000" y="770040"/>
            <a:ext cx="7467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2. Vmesno vrednotenje učinkovitosti in uspešnosti izvajanja ukrepov s področja visokega šolst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dmet vrednotenja so operacije s področja visokega šolstv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obilnost slovenskih visokošolskih učiteljev 2016-20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rajša in daljša gostovanja tujih strokovnjakov in visokošolskih učiteljev na slovenskih visokošolskih zavodih 2016 – 20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 kreativni poti do znanja 2015-2020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ojektno delo z negospodarskim in neprofitnim sektorjem v lokalnem in regionalnem okolju  - študentski inovativni projekti za družbeno korist 2016-201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Cilji vrednotenj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uspešnost izvajanja projektov (doseganje rezultatov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oceniti učinkovitost izvajanja projektov (časovni okvir, finančni okvi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premljanje doseganje kazalnikov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ključna priporočila za podobne projekte v prihodnj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ravokotnik 1"/>
          <p:cNvSpPr/>
          <p:nvPr/>
        </p:nvSpPr>
        <p:spPr>
          <a:xfrm>
            <a:off x="855720" y="838080"/>
            <a:ext cx="785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Poročilo o izvajanju letnega načrta vrednotenja izvajanja OP EKP za leto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1. Vrednotenje Pobude za zaposlovanje mladih (program </a:t>
            </a: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»Prvi izziv 2015«)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- znižanje brezposelnosti mladih, ki niso zaposleni in se ne izobražujejo ali usposabljajo v starosti od 15 do 29 let v kohezijski regiji Vzhodna Slovenija – 1. fa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avna podlag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Uredba št. 1304/2013 Evropskega parlamenta in Sveta z dne 17. decembra 2013 o Evropskem socialnem skladu in razveljavitvi Uredbe Sveta (ES) št. 1081/2006 v 19. členu, ki govori o spremljanju in vrednotenju, v 6. točki določa, da se vsaj dvakrat v programskem obdobju z vrednotenjem oceni uspešnost, učinkovitost in vpliv skupne podpore iz ESS in posebnih sredstev za pobudo za zaposlovanje mladih in izvajanje jamstva za mlade. 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Prvo vrednotenje mora biti zaključeno do 31. decembra 2015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drugo vrednotenje pa do 31. decembra 201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ravokotnik 1"/>
          <p:cNvSpPr/>
          <p:nvPr/>
        </p:nvSpPr>
        <p:spPr>
          <a:xfrm>
            <a:off x="728640" y="592200"/>
            <a:ext cx="7729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ogram „Prvi izziv 2015“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ciljna skupina so mladi od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15 do 29 le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i niso zaposleni in se ne izobražujejo ali usposabljajo, s stalnim prebivališčem v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KRVS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so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ezposeln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so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skalci del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ladi iz ciljne skupine so vključeni v subvencionirano zaposlitev pri delodajalcih v obliki delovnega razmerja za obdob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15 mesecev,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trimesečnim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poskusnim delom (3+12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cilj je vključitev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2.859 mladih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razpoložljiva sredstva: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20,7 milijonov evro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YEI, ESS, SI udeležb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va faza vrednotenja, ki je bila izvedena v decembru 2015 je obsegal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ceno priprave program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(vključno z javnim povabilom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ceno pripravljenosti sistema spremlja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za potrebe vrednotenja učinkov in rezultatov ter vplivov v letu 2018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miselnost in pogoje za izvedbo t.i. analize nasprotnih dejste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counterfactual evaluation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upoštevanje horizontalnih načel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enakost moških in žensk, nediskriminacija in trajnostni razvoj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irjam Tolar</cp:lastModifiedBy>
  <cp:lastPrinted>2016-05-09T05:34:55Z</cp:lastPrinted>
  <dcterms:modified xsi:type="dcterms:W3CDTF">2016-05-11T08:10:22Z</dcterms:modified>
  <cp:revision>94</cp:revision>
  <dc:subject/>
  <dc:title>PowerPoint Presentation</dc:title>
</cp:coreProperties>
</file>