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9CF-E229-4CC4-A0C0-1EB3F6D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345-4568-486B-812B-BA94034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2E7-0E43-4F1D-BB0E-2AF1B4B9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07E-1FEB-42D6-9F25-E616368E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ACA6-AC91-471E-A9CB-4E25FCCD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3C33-CA29-4963-B45B-966852F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2C31-7D80-4D96-80F5-ACDEF4FE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111-8F18-499C-B6C1-3AA4B7C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DDC8-A11A-42B5-A774-F034678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EFA2-24D6-43A1-9172-AF12B5D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9852-08EF-4796-AD93-484C8AFD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F52-49B8-42C1-B6A1-7461E18B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776-2617-410C-8792-1B44378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A9C-4801-4E9D-98A5-D52B05B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F7E2-EA17-4673-B7E9-914239DD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305-A085-4AFF-B040-C4DD1526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170B-AABC-487F-A951-F9D99EF6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2AD0-7B21-4269-8CD1-B81EBE6D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2F86-EB1C-479E-B3D9-7CAE113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B7CE-3408-46DC-8E8B-6C0CFAD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4C5A-462D-479D-A4AB-DDFF762F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5353-67E8-45EB-832A-2309092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E44F-4970-4E46-B976-0A0AB74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998A-0DE3-4632-A0E3-03DD0DC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6971-9639-4FF5-BB87-811FF6F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00B2-CAAB-43B0-B921-6F6CE3F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EB5D-D45D-4AA5-9F08-35D3754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F8E4-B9C5-4847-A676-F4C2A6DB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AC0-F5E5-450F-A7B2-62CB044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07F-DC30-4325-8275-FFABA3C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288-B6E3-4921-A09E-80324C7E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505-AAC7-4656-B583-1BB244F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956-F0E9-4445-9F1E-722B7D3B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AEF-F091-4E48-A911-FA94D10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7DA-FE8F-438F-9B18-D96353C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2B5-BC35-4181-8232-31E28EF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F55-90EB-47B3-BC26-F93A6F246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586-5747-4DF3-9E22-C4EACBE223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650-9D92-42F5-8DC8-68B959BCB7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77920" y="1695240"/>
            <a:ext cx="865656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3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178080" y="6040440"/>
            <a:ext cx="29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lovenj Gradec, 19.5.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6-05-16T14:27:14Z</dcterms:modified>
  <cp:revision>35</cp:revision>
  <dc:subject/>
  <dc:title>PowerPoint Presentation</dc:title>
</cp:coreProperties>
</file>