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A4B-06B9-4E1C-945E-9A2BF2E5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955-946B-4AE1-9AA0-34CE3B94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D19-48C4-4B10-B0CC-EFF4CC19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E46-3DE4-4875-956A-81B20B29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109-606C-4B6D-8B01-57FC177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1C8-5E84-4B31-919B-FA19DD46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DC9-66FB-4651-A6AE-0FF56AD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461-AAE2-46BF-ACA6-D2E35E7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B82-C02C-4DB0-B15C-5D00280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AE1-AE14-48BA-8876-17C1BC2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265-6881-4243-8A69-49929126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A3F-6B60-4EBF-833C-7FF570B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A08-226D-4B74-8C43-6959F525C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47800" y="21420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2080" y="1260000"/>
            <a:ext cx="99694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eizpolnjene: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</a:rPr>
              <a:t>Javno naroč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Okoljska zakonodaja; Statistični sistem in kazalniki rezultat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782800"/>
          <a:ext cx="12192120" cy="4075200"/>
        </p:xfrm>
        <a:graphic>
          <a:graphicData uri="http://schemas.openxmlformats.org/drawingml/2006/table">
            <a:tbl>
              <a:tblPr/>
              <a:tblGrid>
                <a:gridCol w="2265480"/>
                <a:gridCol w="3782880"/>
                <a:gridCol w="1341360"/>
                <a:gridCol w="1538280"/>
                <a:gridCol w="1720800"/>
                <a:gridCol w="154332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1. seji / 2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 / 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, 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11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11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Raziskave in inov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Infrastruktura za raziskave in inov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Digitalna ras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Infrastruktura za omrežja naslednje generac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Spodbujanje Akta za mala podjetj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Ukrepi za spodbujanje energetske učinkovitosti stavb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Ukrepi za spodbujanje proizvodnje in distribucije obnovljivih virov energi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Preprečevanje in obvladovanje tveganj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Vodni sektor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Prome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Železniški prome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ff0000"/>
                </a:solidFill>
                <a:latin typeface="Calibri"/>
                <a:ea typeface="Calibri"/>
              </a:rPr>
              <a:t>Drugi načini prevoz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Aktivno in zdravo star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Zdrav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sl-SI" sz="2400" spc="-1" strike="noStrike">
                <a:solidFill>
                  <a:srgbClr val="00b050"/>
                </a:solidFill>
                <a:latin typeface="Calibri"/>
                <a:ea typeface="Calibri"/>
              </a:rPr>
              <a:t>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47800" y="-9684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92160" y="900000"/>
          <a:ext cx="12038040" cy="5958000"/>
        </p:xfrm>
        <a:graphic>
          <a:graphicData uri="http://schemas.openxmlformats.org/drawingml/2006/table">
            <a:tbl>
              <a:tblPr/>
              <a:tblGrid>
                <a:gridCol w="2530440"/>
                <a:gridCol w="3651120"/>
                <a:gridCol w="1360440"/>
                <a:gridCol w="1598760"/>
                <a:gridCol w="1492200"/>
                <a:gridCol w="140508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en v 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/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6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/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9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1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98280" y="976320"/>
          <a:ext cx="11995200" cy="5824440"/>
        </p:xfrm>
        <a:graphic>
          <a:graphicData uri="http://schemas.openxmlformats.org/drawingml/2006/table">
            <a:tbl>
              <a:tblPr/>
              <a:tblGrid>
                <a:gridCol w="2467080"/>
                <a:gridCol w="3667320"/>
                <a:gridCol w="1374480"/>
                <a:gridCol w="1589400"/>
                <a:gridCol w="1420560"/>
                <a:gridCol w="1476360"/>
              </a:tblGrid>
              <a:tr h="13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2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ec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4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268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71280" y="1436760"/>
          <a:ext cx="12055680" cy="4360680"/>
        </p:xfrm>
        <a:graphic>
          <a:graphicData uri="http://schemas.openxmlformats.org/drawingml/2006/table">
            <a:tbl>
              <a:tblPr/>
              <a:tblGrid>
                <a:gridCol w="2494080"/>
                <a:gridCol w="3656160"/>
                <a:gridCol w="1387440"/>
                <a:gridCol w="1623960"/>
                <a:gridCol w="1393920"/>
                <a:gridCol w="15001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določen v 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. na 1. seji / 2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predviden na 3. se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b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2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9dafb"/>
                        </a:gs>
                        <a:gs pos="100000">
                          <a:srgbClr val="e9f2f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300" spc="-1" strike="noStrike">
                <a:solidFill>
                  <a:srgbClr val="7f7f7f"/>
                </a:solidFill>
                <a:latin typeface="Calibri"/>
              </a:rPr>
              <a:t>http://www.svrk.gov.si/</a:t>
            </a:r>
            <a:br>
              <a:rPr sz="1300"/>
            </a:br>
            <a:r>
              <a:rPr b="0" i="1" lang="sl-SI" sz="1300" spc="-1" strike="noStrike">
                <a:solidFill>
                  <a:srgbClr val="7f7f7f"/>
                </a:solidFill>
                <a:latin typeface="Calibri"/>
              </a:rPr>
              <a:t>http://www.eu-skladi.si/</a:t>
            </a:r>
            <a:br>
              <a:rPr sz="2900"/>
            </a:br>
            <a:br>
              <a:rPr sz="1400"/>
            </a:br>
            <a:endParaRPr b="0" lang="en-US" sz="1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š</cp:lastModifiedBy>
  <cp:lastPrinted>2015-03-10T14:20:03Z</cp:lastPrinted>
  <dcterms:modified xsi:type="dcterms:W3CDTF">2016-04-28T08:11:40Z</dcterms:modified>
  <cp:revision>86</cp:revision>
  <dc:subject/>
  <dc:title>Predhodne pogojenosti</dc:title>
</cp:coreProperties>
</file>