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B78F-9E82-4D86-8F10-1B596C3AB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E6B5-38A1-4854-8F4A-5D9D2E6A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6727-EAE3-4C87-A045-B4CBCED54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CD34-EC46-41F2-83D3-70F4A7391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5124-A148-43FA-AA10-1FA1A372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5811-196F-4152-A65E-4AC00231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8DAF-CCBB-4959-9172-BD5AF5E6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4E7C-BCB9-4F58-8C07-12C35F39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8DE1-37C5-496E-A8E6-0F6A370D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18B1-5EEA-4F99-9D72-333553C7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72ED-702B-4F33-8502-469F1DBE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37E1-5AB5-4C75-A62D-413DE7E6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76EC-3F1F-4CF6-BACB-51FD907B2A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 rot="20700000">
            <a:off x="10217160" y="-601560"/>
            <a:ext cx="2421000" cy="298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2"/>
          <a:stretch/>
        </p:blipFill>
        <p:spPr>
          <a:xfrm>
            <a:off x="10377360" y="139680"/>
            <a:ext cx="3241800" cy="277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10745640" y="-112680"/>
            <a:ext cx="2892600" cy="227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9968040" y="108000"/>
            <a:ext cx="2695320" cy="21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4"/>
          <a:stretch/>
        </p:blipFill>
        <p:spPr>
          <a:xfrm>
            <a:off x="0" y="2004840"/>
            <a:ext cx="12192120" cy="34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9821880" y="133668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 rot="20700000">
            <a:off x="11091960" y="-12600"/>
            <a:ext cx="178740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10250640" y="54000"/>
            <a:ext cx="380196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007640" y="38160"/>
            <a:ext cx="5675400" cy="2859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 rot="20700000">
            <a:off x="10651680" y="47160"/>
            <a:ext cx="2610000" cy="2791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2"/>
          <a:stretch/>
        </p:blipFill>
        <p:spPr>
          <a:xfrm rot="12600000">
            <a:off x="9807120" y="447120"/>
            <a:ext cx="3503880" cy="184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 rot="20700000">
            <a:off x="10433160" y="137880"/>
            <a:ext cx="2741400" cy="2465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" descr=""/>
          <p:cNvPicPr/>
          <p:nvPr/>
        </p:nvPicPr>
        <p:blipFill>
          <a:blip r:embed="rId2"/>
          <a:stretch/>
        </p:blipFill>
        <p:spPr>
          <a:xfrm>
            <a:off x="10499760" y="-447840"/>
            <a:ext cx="3160800" cy="3146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1320" y="309600"/>
            <a:ext cx="82674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200" spc="-1" strike="noStrike">
                <a:solidFill>
                  <a:srgbClr val="4472c4"/>
                </a:solidFill>
                <a:latin typeface="Calibri"/>
              </a:rPr>
              <a:t>POSTOPEK ZA IMENOVANJE ORGANA UPRAVLJANJA IN ORGANA ZA POTRJEVANJE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4472c4"/>
                </a:solidFill>
                <a:latin typeface="Calibri"/>
              </a:rPr>
              <a:t>PRIPRAVA PODLAG ZA OPIS SISTEM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633680" y="1781280"/>
            <a:ext cx="930888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prememba nacionalne Uredb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prememba navodil organa upravljan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riprava sistema izvajanja vključno z navodili z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vajanje finančnih instrumento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vajanje celostnih teritorialnih nalož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riprava sporazumov o načinu izvajanja nalog med organom upravljanja in posredniškimi orga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riprava priročnikov organa upravljanja in posredniških organov za izvajanje evropske kohezijske politike 2014-20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4472c4"/>
                </a:solidFill>
                <a:latin typeface="Calibri"/>
              </a:rPr>
              <a:t>OPIS SISTEMA UPRAVLJANJA IN NADZOR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474920" y="1676520"/>
            <a:ext cx="930888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Dopolnitve opisov sistema s strani posredniških organ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pecifikacije informacijskega sistema ISARR2 (akcijski načrt za vzpostavitev novega informacijskega sistema eM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vedba preverjanj izpolnjevanja pogojev za posredniške orga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polnitev kontrolnih listov skladnosti opisov sistema z zahtevami evropske in nacionalne zakonoda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sredovanje na revizijski org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65200" y="1706400"/>
            <a:ext cx="92613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cerne.tanja@gov.si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8T12:05:15Z</dcterms:created>
  <dc:creator>Tanja Černe</dc:creator>
  <dc:description/>
  <dc:language>en-US</dc:language>
  <cp:lastModifiedBy>Tanja Černe</cp:lastModifiedBy>
  <dcterms:modified xsi:type="dcterms:W3CDTF">2016-05-18T08:18:04Z</dcterms:modified>
  <cp:revision>11</cp:revision>
  <dc:subject/>
  <dc:title>POSTOPEK IMENOVANJA</dc:title>
</cp:coreProperties>
</file>