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D3EE-9AAD-4ABB-8478-77F9F4A127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BF36-5E21-49ED-9B48-E55030CAB3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5E7D-356F-42EB-866F-5D5CF84A6B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2B76-9EBE-4064-8224-66FEA18475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A04A-56E0-43C0-AB42-4F43E9C0B3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7B3-9508-49EE-BEFA-636CD3E213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AFD6-064B-4A53-842C-3D188284B7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5F45-A59B-43E6-A5C1-4A388396FF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673B-EB67-48E6-B547-4ED64853A6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0423-143E-4D08-AE7C-A610EA7E9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9215-42BC-4CDD-B33A-EC6042A24A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B5AF-32B9-40BD-8A2A-2ACDFF6E85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DF8E-EAC1-4292-A2F5-72E62162C0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7438-E2C1-4E3C-9A0D-9BC1BCE211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3AFA-A1E1-4429-AC85-AA08ED4A8C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D595-D5CD-4C74-90BF-3FD9762CC3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9B90-6809-4FE8-B355-E79C72B8C7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081F-7E6E-4452-AD68-221D156E34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AB6-D872-4536-B47E-235DB007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259-70B3-4ACF-A7CD-F7277C7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1EDE9-EA15-46A8-B560-25D7653F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78B56-870C-4C33-BE5F-0F0BBD14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2AA01-119F-4F20-9027-9778BA44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4FC87-C6D6-4C0D-BE1C-A5EC899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9FD4C-C3B6-4AEF-8528-99A58B8E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6CB06-D2E6-4D37-9748-A7FDA046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AC185-B6E4-4644-8501-03E872D3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119C9-91AA-4F82-BDBA-EFF1950F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A508C-512B-4842-A795-0A911A20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12723-984D-41E0-8FAB-7FA6E824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EB5-F6AA-4F49-98FC-B4DF188E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BAD30-D0D1-44E4-85B7-D8363A85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E62BE-99F2-46B7-982C-C6D7BF80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AF17A-0083-464F-9F5F-8D82FFAA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70276-7FB9-4ED4-88B5-A6FF8BD1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1BDD7-2DE2-4250-A9D2-078EF037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2F4F1-1487-4AB7-95F3-8D3CB18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A3B81-AB01-42FB-A07E-BCE58275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432C1-3E1A-4CEF-AE7F-8D39F013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E8F8F-BC4D-4B03-A6EF-2DD43AF5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4371C-2692-49EE-8348-55339B9C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28B-6A29-466C-BAFC-090E8CE8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52044-EFAF-4B78-8080-81F05EBD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D9242-74D2-4C20-AD68-E37F8999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06EAD-6B0B-4B4E-91F5-2BCE4190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533AA-CA06-42A6-BB20-4D2C10E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5219D-8CD2-411C-8D0C-BA7DEAAA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62FA8-1317-4253-88AE-901B4A6D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CF94F-CCB0-4D92-B150-AC605282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3C5D8-B789-4859-8314-C64F6F9F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F0B8E-94E9-4F0A-B6A5-3037A1B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ADBBC-D103-46D3-9B59-64F00790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8A6E-3189-40A0-BB0D-4C2B6C58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93232-9F55-460E-B387-19A7D806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77F07-6FDF-48D7-A84E-8B42293A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9F190-7B68-48E6-9FFC-36B5AD6E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BB39E-EB6B-4CA1-81A2-73B38AEC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0C100-069E-4426-9066-40198DDA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A7FEE-EF22-420B-A0F0-94EBE4FC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0D52D-2985-40D9-A136-1346D7DE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77B8F-9F6A-47F8-B387-FA3843B0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C0987-A23E-4E7E-9BA4-8A0F0A9C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036D1-17CD-4FE9-B4FA-D74E332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12DC-FA28-4856-8ED7-744386B2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9E1A1-A0E3-4F4C-A3EF-1DA72702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5D057-3A40-4195-85D7-0368BDD0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8E9EF-A024-4C2A-A112-9F3D4660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27B51-29B3-4992-8A8A-6F6603A7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C0505-DAF0-4625-B9E4-58174BF2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ACC0-68E9-4E24-8121-EE3B4EEE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340E-3079-4650-AB4C-49DDFFF3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EEDE-F331-4793-8524-65758EA8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B43D-6832-438E-924B-40061C9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2080-0020-4E3D-817D-602C8BD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D6C-F515-4AC8-B95D-38AB713E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8C64-261F-4FD1-9458-86959038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9388-D2B0-476A-8B5B-B9E791C0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AF26-6436-475A-94E7-B88ADAA7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4D5B-DCC9-4D7C-9B32-AD6BC596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8882-251D-4D0A-BD5E-385A37C8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161D-8310-4485-BB2C-1EDFC235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E5CB-D7ED-47D4-9BC6-4B126FF2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D094-1D85-4B04-B7AC-BB7263FF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042E-9C7C-42A1-BFBC-EE9B8E99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71A7-945F-4AB2-A867-221A708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E35-AD51-403B-8227-1CCDBD0B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6D5F-74D1-4872-8CC0-60AD7005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72A9-064F-4683-9F4B-C0956D99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62B3-19A2-44C5-A815-A2B79BE9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2095-33E0-4313-8E17-E19EDEDC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1D62-CB7A-4B4B-B1A8-FE3FFF0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902D-7D90-495D-8B54-FF8E32BF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2816-33BE-441B-A0DB-9C4EEF4C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1644-177F-44A9-99E1-6FD49ED4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F4178-6EFB-497A-A75F-2D0C7215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9806-F8D1-4C92-8E9D-34D156D9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A81-D752-4789-8A6D-6EFC0479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21C3-F757-4A8F-957A-6C4117F6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57C2-C34A-4C65-94FD-B8A2E484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CE56-3370-45FE-A8FC-B484C20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B4BA-9A04-4965-9EE3-F6F4845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9D63-B4DD-49FA-AC06-D9BC9E5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1573-5DD0-43BB-AF16-4E474CDF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C9EF-9508-4FAE-86BA-F93904CA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A19E2-E586-41B4-946B-FC54D450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B6C1-09C8-4DC4-BEFB-13EFF07E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D2A2-D409-4802-860E-5470C2B3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720-97F2-4BD6-B905-12747D3B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FC286-1D96-476B-B505-2C4A5447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63031-EB79-40EA-9021-0305DD99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EED5-9DA0-407F-BD0B-18DACC30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26B3-85F0-46CC-88E6-6CAB17C2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AB92-7616-49B1-980E-24875D59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8E3EF-D7A1-4344-AA8C-10F4255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AA62A-24F4-4A6F-A7EB-38DF9363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98527-865B-410C-A929-10412C9B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0618-5B4B-4872-9B0B-42BA2E2E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1AA6D-F27C-49C2-8754-C5162BD8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FC3-2927-4587-AD1F-7C595A6D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21970-C4EB-4720-8DCF-A0670103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F500B-7489-4067-ADB7-85163C72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4751B-F258-41E4-AEC2-750A6938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64EBA-2121-409F-8616-6D0170A6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8B930-29C3-45F2-A124-D8E9FB1B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D6A4F-EB67-4F4F-9AF7-A4B0261C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87B81-4CFB-4A42-829E-8E938307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E2F9C-2C71-43B3-BC31-DEB89E23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E0C76-CBB6-40A4-A463-71B8A9D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F98CE-810B-4702-96DD-F2ADA3E5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275-8CBB-4AFA-9EC2-8E9F89C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43B4C-862D-4735-8590-A2AE5DB8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F0A75-EBCA-4C5A-820A-B06F485E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5D3A-DFE8-4F39-B175-8CEAC7A2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46AFE-E6B8-4B51-B4F8-48A17B87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8E61-467F-4504-82D5-BB718C87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502D8-05E2-4183-B132-5F21C98A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4A749-8562-4C57-9550-E44DC752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C0936-40B1-4EE8-AEC2-3FF6A7FF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A8112-6590-42BA-B0AE-C83F0900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81A1F-8B79-44A3-A871-D9F273A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C68-953A-49B7-B55B-7906D8C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33D14-5120-4B5B-87AC-20A9D84C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85F0-E1A3-49E0-ABEA-882775EB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55604-0B22-423C-B9BB-76D31315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2C611-9F62-43C8-AD18-D6C6C2D2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A178B-9231-4937-AD94-E043BEF9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F8E34-A26D-4815-A413-26115676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A867A-67CD-43C1-B3D0-EEB278AA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F1845-83AE-49D8-9919-69C6B8FD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96E0F-4402-4B19-BD31-93E58D9D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6267-D728-4A67-AF52-89375D5D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DC1-A36B-4EA3-919F-39A5454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F8913-990C-42AB-A3E6-2D4E7827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BB920-3901-4E88-B627-1EC987AB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7D89-F5B4-4A8A-9635-9240B7F4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6F3CF-6DAC-4C4D-BAFA-DEB150D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3F0B7-C905-44A6-BC77-F903E1A8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8CE8D-A2AE-4FBC-9E7A-7DE6CDED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604B5-59A9-4D79-9AE6-2AB6A036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4A427-380C-4CDF-9BFA-1A176F39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3CAF4-9561-4728-B8F3-96F35A1B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4804A-88CF-4A81-B955-1579044B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BD4C-0CF9-4EA5-BCEB-B828EB498D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285A-CD66-4CFA-93C0-18E46D8B4E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6894-61D7-4DCD-9719-D90DF7D17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6A89-5E8A-4984-B8A3-DC5D524B44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4"/>
          <p:cNvSpPr/>
          <p:nvPr/>
        </p:nvSpPr>
        <p:spPr>
          <a:xfrm>
            <a:off x="4251240" y="1224000"/>
            <a:ext cx="623880" cy="3168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0548-30BE-4256-A0DF-701611AA0EA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A7C9-C820-4A9F-9EAC-E4B7043C03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416A-B91A-4CA0-A1BD-E1E041C1CB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96A8-6B49-44A4-B5A8-2449552BA2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257E-FF2A-44BD-B724-B48A54612C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7494-0A42-4F32-9837-68BBCB3E72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8D1C-3CB2-4C77-8CC1-1533797FD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9"/>
          <p:cNvSpPr/>
          <p:nvPr/>
        </p:nvSpPr>
        <p:spPr>
          <a:xfrm>
            <a:off x="4251240" y="1222200"/>
            <a:ext cx="623880" cy="39960"/>
          </a:xfrm>
          <a:prstGeom prst="rect">
            <a:avLst/>
          </a:prstGeom>
          <a:solidFill>
            <a:srgbClr val="ee8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E736-F8C9-4FD9-BCD3-ED607A78DE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324000" y="4941360"/>
            <a:ext cx="8604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Monitoring committee, 19 May 2016, Ljubljan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95280" y="5805360"/>
            <a:ext cx="69134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Adam Poko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irectorate-General for Employment, Social Affairs and I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179280" y="1916280"/>
            <a:ext cx="878544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ESF funding period 2014-2020: Report from Brussel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untry Report – Slovenia: Labour Market and Social policy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79280" y="2347920"/>
            <a:ext cx="87948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f5494"/>
                </a:solidFill>
                <a:latin typeface="Verdana"/>
              </a:rPr>
              <a:t>Ageing Society as a key challenge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f5494"/>
                </a:solidFill>
                <a:latin typeface="Verdana"/>
              </a:rPr>
              <a:t>Slovenia is projected to experience one of the largest increases in public pension expenditure in the EU; the expenditure for long-term care and health is also projected to increase substantially 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f5494"/>
                </a:solidFill>
                <a:latin typeface="Verdana"/>
              </a:rPr>
              <a:t>Labour market performance is gradually improving and social conditions stabilised for the first time after the crisis.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ow shares of older and low-skilled workers participating in the labour marke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ong-term unemployment represents more than half of all unemployed (low skilled or older than 50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9CA0-5DB2-4283-845F-9205E5C229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569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untry Specific Recommendations 2016 - Sloveni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256356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1…Complete and implement the reform of the long-term care and healthcare systems, making them more cost-efficient to ensure long-term sustainability of accessible and quality care. By the end of 2017, adopt the reform of the pension system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2. In consultation with social partners, increase the employability of low-skilled and older workers, including through targeted lifelong learning and activation measur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5A9-D5C1-4A9A-B0E6-786378DA0C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urved Up Arrow 1"/>
          <p:cNvSpPr/>
          <p:nvPr/>
        </p:nvSpPr>
        <p:spPr>
          <a:xfrm>
            <a:off x="7451640" y="4724280"/>
            <a:ext cx="649440" cy="144720"/>
          </a:xfrm>
          <a:custGeom>
            <a:avLst/>
            <a:gdLst>
              <a:gd name="textAreaLeft" fmla="*/ 148680 w 649440"/>
              <a:gd name="textAreaRight" fmla="*/ 482760 w 64944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569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untry Specific Recommendations 2016 - Sloveni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256356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3. Improve the financing conditions for creditworthy business, including by facilitating durable resolution of non-performing loans and access to alternative financing sources. Ensure the proper implementation of the bank asset management company strategy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4. Take measures to modernise public administration and reduce the administrative burden on business. Improve the governance and the performance of state-owned enterprises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2D56-69FF-4E25-95AF-9FC5775CCB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urved Up Arrow 1"/>
          <p:cNvSpPr/>
          <p:nvPr/>
        </p:nvSpPr>
        <p:spPr>
          <a:xfrm>
            <a:off x="7451640" y="4724280"/>
            <a:ext cx="649440" cy="144720"/>
          </a:xfrm>
          <a:custGeom>
            <a:avLst/>
            <a:gdLst>
              <a:gd name="textAreaLeft" fmla="*/ 148680 w 649440"/>
              <a:gd name="textAreaRight" fmla="*/ 482760 w 64944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igrations and Refugees: Statistic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39CC-3053-4B61-A7DF-9DF8A487FF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" descr=""/>
          <p:cNvPicPr/>
          <p:nvPr/>
        </p:nvPicPr>
        <p:blipFill>
          <a:blip r:embed="rId1"/>
          <a:stretch/>
        </p:blipFill>
        <p:spPr>
          <a:xfrm>
            <a:off x="622440" y="2205000"/>
            <a:ext cx="7775280" cy="40086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2"/>
          <p:cNvSpPr/>
          <p:nvPr/>
        </p:nvSpPr>
        <p:spPr>
          <a:xfrm>
            <a:off x="7450200" y="3541680"/>
            <a:ext cx="1511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Other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Ira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Afghan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Sy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ontent Placeholder 2"/>
          <p:cNvSpPr/>
          <p:nvPr/>
        </p:nvSpPr>
        <p:spPr>
          <a:xfrm>
            <a:off x="395280" y="2205000"/>
            <a:ext cx="8229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In the EU member states registered first-time applicants for asylum 2015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,26 mio Asylum applications in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73% men; 83% &lt; 34 years; 14,5% unaccompanied minor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igration and Refugees - Developments at EU leve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97B3-9E62-4749-90F0-96EDBFCCE8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form of the Common European Asylum System (CEA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Building a fair and sustainable European asylum policy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Ensuring and promoting safe and legal migration path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ction Plan for the integration of third country national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Concrete requirements for support of MS at EU level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Special focus on labour market integration of refuge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vision of the Blue Card Directiv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daptation of Skills Initiative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w Skills Agenda for Europe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pected on June 7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package will contain a chapeau communication and proposals for the European Quality Framework (EQR) and for Euro Pa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nten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 the general level of skill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roving compatibility between skills and labour market needs (improving forecasts of skills needs, cooperation with employers, social partners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2235-C970-4478-8B65-DEBBB87218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w Skills Agenda for Europe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nten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rove the comparability of qualific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Reducing illiteracy in the popul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Importance of vocational qualific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Digital competenc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Improving access to qualific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458C-498B-4957-8F75-57B3679BF9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d624"/>
                </a:solidFill>
                <a:latin typeface="Verdana"/>
              </a:rPr>
              <a:t>Thank you </a:t>
            </a:r>
            <a:br>
              <a:rPr sz="4800"/>
            </a:br>
            <a:r>
              <a:rPr b="1" lang="en-GB" sz="4800" spc="-1" strike="noStrike">
                <a:solidFill>
                  <a:srgbClr val="ffd624"/>
                </a:solidFill>
                <a:latin typeface="Verdana"/>
              </a:rPr>
              <a:t>for your attention!</a:t>
            </a: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5040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tructur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18760" y="1988640"/>
            <a:ext cx="8373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   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European Pillar of Social Righ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Council Recommendation on the integration of the long-term unemployed into the labour marke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Simplifications: the High Level Expert Group ("HLG Simplification"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Country Report: analysis and timeline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Migrations and Refuge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Calibri"/>
              </a:rPr>
              <a:t>New Skills Agenda for Europ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e508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23640" y="133992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ropean Pillar of Social Rights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24000" y="220320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reliminary outline was published on 8 March 2016 (Announcement + Annex)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f5494"/>
                </a:solidFill>
                <a:uFillTx/>
                <a:latin typeface="Verdana"/>
              </a:rPr>
              <a:t>Objective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: building on the existing EU Social legislation, principles to support comprehensive and fair labour markets and welfare systems should be defined; they should be valid in the Eurozone (other countries can join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f5494"/>
                </a:solidFill>
                <a:uFillTx/>
                <a:latin typeface="Verdana"/>
              </a:rPr>
              <a:t>Final paper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: to serve as a contribution to the Commission's White Paper of deepening the EMU, foreseen in Spring 2017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6845-9918-4FDA-A315-976CA7D5B3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353440" cy="5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ocial Pillar: 3 main chapt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95280" y="198900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QUAL OPPORTUNITIES AND ACCESS TO THE LABOUR MARKE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Skills, education and life-long learning 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Flexible and secure labour contracts 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Secure professional transitions 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Active support for employment 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Gender equality and work-life balance 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Equal opportunitie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FAIR WORKING CONDITIONS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Conditions of employment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Wages 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Health and safety at work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Social dialogue and involvement of 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   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worker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ADEQUATE AND SUSTAINABLE SOCIAL PROTEC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Integrated social benefits and services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Health care and sickness benefit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Pensions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Unemployment benefit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Minimum income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Disability benefit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Long-term care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Childcare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Housing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300" spc="-1" strike="noStrike">
                <a:solidFill>
                  <a:srgbClr val="0f5494"/>
                </a:solidFill>
                <a:latin typeface="Verdana"/>
                <a:ea typeface="Verdana"/>
              </a:rPr>
              <a:t>* Access to essential services</a:t>
            </a:r>
            <a:endParaRPr b="1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8B99-6EE1-4CB4-99A1-0AF57E189D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604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ocial Pillar – Consultations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2204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nsultation is aimed at citizens, organisations and authorities (deadline: 31 December 2016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Goal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ventory and evaluation of the current EU Social legislation (Social „Acquis“);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eflection on new trends and developments in the labour marke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e50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btaining feedback signals (to role, scope, content and responsiveness of the proposed European pillar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e5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articipation in the consultation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social/main.jsp?langId=de&amp;catId=699&amp;consultId=22&amp;visib=0&amp;furtherConsult=y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B4F1-07F7-437F-BE7A-FC8B6547A3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4000" y="1339920"/>
            <a:ext cx="8712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uncil Recommendation on the integration of long-term unemployed into the labour market on 15 February 2016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commendation was formally adopted by the council on 15 February 2016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pectations connected with recommend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SF as best practice and Financial instru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aluation of the implementation of the recommend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6377-575E-45AD-8D9C-21E38EFF68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24000" y="1339920"/>
            <a:ext cx="8712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uncil Recommendation on the integration of long-term unemployed into the labour market on 15 February 2016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 the registration of jobseekers and a closer labour-market orientation of integration measures, inter alia, through a closer link with employer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rovide individual assessments to registered long-term unemployed person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ke a specific offer of a job-integration agreement at the very latest when a long-term unemployed person has reached 18 months of unemployment. […]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D0B-AC89-4A6C-B6F2-562363EBF7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Verdana"/>
              </a:rPr>
              <a:t>Simplifications: the High Level Expert Group ("HLG Simplification"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79280" y="2492280"/>
            <a:ext cx="8856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f5494"/>
                </a:solidFill>
                <a:uFillTx/>
                <a:latin typeface="Verdana"/>
              </a:rPr>
              <a:t>HLG task: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dvise the Commission (analysis of the use and implementation of simplification and good practi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f5494"/>
                </a:solidFill>
                <a:uFillTx/>
                <a:latin typeface="Verdana"/>
              </a:rPr>
              <a:t>Recommendations to the Commission (2nd Meeting)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cognition of the SCOs potential but uncertainties, i.e. state aid, to be clarifi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ore support for the programing author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 possibilities of ex-ante assurance and an accelerated approval for simplifications i.e. Article 14 of ESF regul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ring forward legislative chang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E4F9-8BDE-453B-A9DD-43F67FD92B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569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untry Report: Analysis and timeline (European Semester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56356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untry Report published on February 26, 2016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-depth review of the prevention and correction of macroeconomic imbalanc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cus is on investment and fiscal sustainability including pensions, long-term care and health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bour market and other social policies are discussed in the chapter "other structural aspects"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untry Report is discussed with the Member States at different levels (committees, visits to MS, Social Partners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untry specific Recommendations were published on 18 May 2016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759E-6426-4FD0-9A76-5D4DF402BC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urved Up Arrow 1"/>
          <p:cNvSpPr/>
          <p:nvPr/>
        </p:nvSpPr>
        <p:spPr>
          <a:xfrm>
            <a:off x="7451640" y="4724280"/>
            <a:ext cx="649440" cy="144720"/>
          </a:xfrm>
          <a:custGeom>
            <a:avLst/>
            <a:gdLst>
              <a:gd name="textAreaLeft" fmla="*/ 148680 w 649440"/>
              <a:gd name="textAreaRight" fmla="*/ 482760 w 64944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1:35:10Z</dcterms:created>
  <dc:creator>JOUNILA Pekka (REGIO)</dc:creator>
  <dc:description/>
  <dc:language>en-US</dc:language>
  <cp:lastModifiedBy>POKORNY Adam (EMPL)</cp:lastModifiedBy>
  <cp:lastPrinted>2016-05-17T14:59:40Z</cp:lastPrinted>
  <dcterms:modified xsi:type="dcterms:W3CDTF">2016-05-18T14:47:15Z</dcterms:modified>
  <cp:revision>673</cp:revision>
  <dc:subject/>
  <dc:title>PowerPoint Presentation</dc:title>
</cp:coreProperties>
</file>