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wmf" ContentType="image/x-wmf"/>
  <Override PartName="/ppt/media/image21.wmf" ContentType="image/x-wmf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D99EE-2326-49E8-8DF0-BC08E330A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4F3A4-38B2-4C6E-B78F-C20F98151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70D47-164A-4EAB-9240-C415553DF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55A74-16CB-4DB1-9308-CCEA405D4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7630D-ADE0-44C9-9AB7-24C5D5C9C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0E340-9A6B-44FF-8267-345FCC7DC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00227-1D7E-48A8-93AC-4ED85526E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643CB-3DB9-40D3-B2B9-EC31E4597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66835-0437-4160-A107-2DB84E41C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D7912-AF04-4CE1-A19A-E1ECC80E7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E2756-0FDA-4A26-94A9-A6D35C046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B7EED-CDD9-4B5C-BEF4-BB4415B4A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0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1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79934-E9B9-4EC1-A84D-800786E887B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3" descr=""/>
          <p:cNvPicPr/>
          <p:nvPr/>
        </p:nvPicPr>
        <p:blipFill>
          <a:blip r:embed="rId2"/>
          <a:stretch/>
        </p:blipFill>
        <p:spPr>
          <a:xfrm rot="20700000">
            <a:off x="7700760" y="-412560"/>
            <a:ext cx="2241360" cy="276408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4" descr=""/>
          <p:cNvPicPr/>
          <p:nvPr/>
        </p:nvPicPr>
        <p:blipFill>
          <a:blip r:embed="rId2"/>
          <a:stretch/>
        </p:blipFill>
        <p:spPr>
          <a:xfrm>
            <a:off x="7543800" y="128520"/>
            <a:ext cx="2987640" cy="255600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Picture 3" descr=""/>
          <p:cNvPicPr/>
          <p:nvPr/>
        </p:nvPicPr>
        <p:blipFill>
          <a:blip r:embed="rId2"/>
          <a:stretch/>
        </p:blipFill>
        <p:spPr>
          <a:xfrm>
            <a:off x="7707240" y="-112680"/>
            <a:ext cx="2718000" cy="214164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5" descr=""/>
          <p:cNvPicPr/>
          <p:nvPr/>
        </p:nvPicPr>
        <p:blipFill>
          <a:blip r:embed="rId2"/>
          <a:stretch/>
        </p:blipFill>
        <p:spPr>
          <a:xfrm>
            <a:off x="7297560" y="181080"/>
            <a:ext cx="2497320" cy="199368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9" descr=""/>
          <p:cNvPicPr/>
          <p:nvPr/>
        </p:nvPicPr>
        <p:blipFill>
          <a:blip r:embed="rId4"/>
          <a:stretch/>
        </p:blipFill>
        <p:spPr>
          <a:xfrm>
            <a:off x="-606600" y="2532240"/>
            <a:ext cx="10110960" cy="2889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10"/>
          <p:cNvSpPr/>
          <p:nvPr/>
        </p:nvSpPr>
        <p:spPr>
          <a:xfrm>
            <a:off x="6235560" y="1366920"/>
            <a:ext cx="192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ww.eu-skladi.s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8" descr=""/>
          <p:cNvPicPr/>
          <p:nvPr/>
        </p:nvPicPr>
        <p:blipFill>
          <a:blip r:embed="rId2"/>
          <a:stretch/>
        </p:blipFill>
        <p:spPr>
          <a:xfrm rot="20700000">
            <a:off x="8420040" y="-12600"/>
            <a:ext cx="1787760" cy="28065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3" descr=""/>
          <p:cNvPicPr/>
          <p:nvPr/>
        </p:nvPicPr>
        <p:blipFill>
          <a:blip r:embed="rId2"/>
          <a:stretch/>
        </p:blipFill>
        <p:spPr>
          <a:xfrm>
            <a:off x="7440480" y="54000"/>
            <a:ext cx="3802320" cy="2394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4" descr=""/>
          <p:cNvPicPr/>
          <p:nvPr/>
        </p:nvPicPr>
        <p:blipFill>
          <a:blip r:embed="rId2"/>
          <a:stretch/>
        </p:blipFill>
        <p:spPr>
          <a:xfrm>
            <a:off x="7299360" y="38160"/>
            <a:ext cx="4879800" cy="24588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3" descr=""/>
          <p:cNvPicPr/>
          <p:nvPr/>
        </p:nvPicPr>
        <p:blipFill>
          <a:blip r:embed="rId2"/>
          <a:stretch/>
        </p:blipFill>
        <p:spPr>
          <a:xfrm rot="20700000">
            <a:off x="7799400" y="72720"/>
            <a:ext cx="2368440" cy="25318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4" descr=""/>
          <p:cNvPicPr/>
          <p:nvPr/>
        </p:nvPicPr>
        <p:blipFill>
          <a:blip r:embed="rId2"/>
          <a:stretch/>
        </p:blipFill>
        <p:spPr>
          <a:xfrm rot="13198800">
            <a:off x="7043040" y="420480"/>
            <a:ext cx="3143160" cy="16588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3" descr=""/>
          <p:cNvPicPr/>
          <p:nvPr/>
        </p:nvPicPr>
        <p:blipFill>
          <a:blip r:embed="rId2"/>
          <a:stretch/>
        </p:blipFill>
        <p:spPr>
          <a:xfrm rot="20700000">
            <a:off x="7705800" y="190080"/>
            <a:ext cx="2381040" cy="214164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4" descr=""/>
          <p:cNvPicPr/>
          <p:nvPr/>
        </p:nvPicPr>
        <p:blipFill>
          <a:blip r:embed="rId2"/>
          <a:stretch/>
        </p:blipFill>
        <p:spPr>
          <a:xfrm>
            <a:off x="7736040" y="-520560"/>
            <a:ext cx="3033720" cy="301752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5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u-skladi.si/" TargetMode="External"/><Relationship Id="rId2" Type="http://schemas.openxmlformats.org/officeDocument/2006/relationships/slideLayout" Target="../slideLayouts/slideLayout15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5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5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5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5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63400" y="339840"/>
            <a:ext cx="5384880" cy="127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Calibri"/>
              </a:rPr>
              <a:t>POROČILO O FINANČNEM IN SISTEMSKEM IZVAJANJU </a:t>
            </a:r>
            <a:br>
              <a:rPr sz="3200"/>
            </a:br>
            <a:r>
              <a:rPr b="1" lang="sl-SI" sz="3200" spc="-1" strike="noStrike">
                <a:solidFill>
                  <a:srgbClr val="000000"/>
                </a:solidFill>
                <a:latin typeface="Calibri"/>
              </a:rPr>
              <a:t>OP 14-20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579600" y="287280"/>
            <a:ext cx="7983360" cy="127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Calibri"/>
              </a:rPr>
              <a:t>Poročilo o izvajanju evropske kohezijske politike</a:t>
            </a:r>
            <a:br>
              <a:rPr sz="2800"/>
            </a:br>
            <a:r>
              <a:rPr b="1" lang="sl-SI" sz="2800" spc="-1" strike="noStrike">
                <a:solidFill>
                  <a:srgbClr val="000000"/>
                </a:solidFill>
                <a:latin typeface="Calibri"/>
              </a:rPr>
              <a:t>januar 2014 – marec 2016 – po skladih in regijah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85" name="Picture 4" descr=""/>
          <p:cNvPicPr/>
          <p:nvPr/>
        </p:nvPicPr>
        <p:blipFill>
          <a:blip r:embed="rId1"/>
          <a:stretch/>
        </p:blipFill>
        <p:spPr>
          <a:xfrm>
            <a:off x="157320" y="1500120"/>
            <a:ext cx="8827920" cy="437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99760" y="528480"/>
            <a:ext cx="7985160" cy="577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200" spc="-1" strike="noStrike" u="sng">
                <a:solidFill>
                  <a:srgbClr val="000000"/>
                </a:solidFill>
                <a:uFillTx/>
                <a:latin typeface="Calibri"/>
              </a:rPr>
              <a:t>ESS ukrepi</a:t>
            </a:r>
            <a:br>
              <a:rPr sz="1200"/>
            </a:br>
            <a:br>
              <a:rPr sz="1200"/>
            </a:br>
            <a:r>
              <a:rPr b="1" lang="en-US" sz="1200" spc="-1" strike="noStrike" u="sng">
                <a:solidFill>
                  <a:srgbClr val="000000"/>
                </a:solidFill>
                <a:uFillTx/>
                <a:latin typeface="Calibri"/>
              </a:rPr>
              <a:t>Prednostna os 8: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Spodbujanje zaposlovanja in transnacionalna mobilnost delovne sile</a:t>
            </a:r>
            <a:br>
              <a:rPr sz="1200"/>
            </a:br>
            <a:r>
              <a:rPr b="1" lang="sl-SI" sz="1200" spc="-1" strike="noStrike">
                <a:solidFill>
                  <a:srgbClr val="000000"/>
                </a:solidFill>
                <a:latin typeface="Calibri"/>
              </a:rPr>
              <a:t>Na PO 8 je bilo do konca marca 2016 izdanih šest odločitev o podpori.</a:t>
            </a:r>
            <a:br>
              <a:rPr sz="1200"/>
            </a:br>
            <a:r>
              <a:rPr b="1" lang="sl-SI" sz="1200" spc="-1" strike="noStrike">
                <a:solidFill>
                  <a:srgbClr val="000000"/>
                </a:solidFill>
                <a:latin typeface="Calibri"/>
              </a:rPr>
              <a:t>Izvajanje storitev za brezposelne, druge iskalce zaposlitve in delodajalce v višini 12.251.910 EUR in NPO Usposabljanje na delovnem mestu v višini 7.035.513 EUR. </a:t>
            </a:r>
            <a:br>
              <a:rPr sz="1200"/>
            </a:br>
            <a:r>
              <a:rPr b="1" lang="sl-SI" sz="1200" spc="-1" strike="noStrike">
                <a:solidFill>
                  <a:srgbClr val="000000"/>
                </a:solidFill>
                <a:latin typeface="Calibri"/>
              </a:rPr>
              <a:t>Spodbujanje pripravništev v višini 1.467.123 EUR in NPO Krepitev svetovalnega dela z mladimi v Zavodu RS za zaposlovanje v višini 3.147.311 EUR ter javni razpis Prva zaposlitev na področju VIZ v višini 4.320.000 EUR (prvi in ponovljeni razpis skupaj).</a:t>
            </a:r>
            <a:br>
              <a:rPr sz="1200"/>
            </a:br>
            <a:r>
              <a:rPr b="1" lang="sl-SI" sz="1200" spc="-1" strike="noStrike">
                <a:solidFill>
                  <a:srgbClr val="000000"/>
                </a:solidFill>
                <a:latin typeface="Calibri"/>
              </a:rPr>
              <a:t>V okviru specifičnega cilja, namenjenega izvedbi Pobude za zaposlovanje mladih, je bil potrjen NPO v višini 18.423.072 EUR.</a:t>
            </a:r>
            <a:br>
              <a:rPr sz="1200"/>
            </a:br>
            <a:r>
              <a:rPr b="1" lang="en-US" sz="1200" spc="-1" strike="noStrike" u="sng">
                <a:solidFill>
                  <a:srgbClr val="000000"/>
                </a:solidFill>
                <a:uFillTx/>
                <a:latin typeface="Calibri"/>
              </a:rPr>
              <a:t>Prednostna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Calibri"/>
              </a:rPr>
              <a:t>os 9: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Socialna vključenost in zmanjševanje tveganja revščine</a:t>
            </a:r>
            <a:br>
              <a:rPr sz="1200"/>
            </a:br>
            <a:r>
              <a:rPr b="1" lang="sl-SI" sz="1200" spc="-1" strike="noStrike">
                <a:solidFill>
                  <a:srgbClr val="000000"/>
                </a:solidFill>
                <a:latin typeface="Calibri"/>
              </a:rPr>
              <a:t>V januarju 2016 sta bili izdani 2 odločitvi o podpori, in sicer za program Zdrav življenjski slog, ki ga izvaja Zavod za šport RS Planica (vrednost 4 mio EUR) ter za projekt Razvoj delovnih kompetenc zaprtih oseb, ki ga izvaja Uprava RS za izvrševanje kazenskih sankcij (vrednost 784.000 EUR). Izdana je bila tudi odločitev o podpori za Javni razpis za izbor operacij za večjo socialno vključenost pripadnikov ranljivih družbenih skupin na področju kulture v okviru ESS v letih 2016-2017, ki ga izvaja MK (v vrednosti 960.000 EUR). Prav tako je bila za MK izdana odločitev o podpori za projekt Vključujemo in aktiviramo!, ki ga bo izvajala Javna agencija RS za knjigo (v vrednosti 680.000 EUR). Konec marca je bila izdana odločitev o podpori za program Projektno učenje za mlade odrasle, ki ga izvaja Zavod RS za zaposlovanje (vrednost 9,6 mio EUR). </a:t>
            </a:r>
            <a:br>
              <a:rPr sz="1200"/>
            </a:br>
            <a:r>
              <a:rPr b="1" lang="en-US" sz="1200" spc="-1" strike="noStrike" u="sng">
                <a:solidFill>
                  <a:srgbClr val="000000"/>
                </a:solidFill>
                <a:uFillTx/>
                <a:latin typeface="Calibri"/>
              </a:rPr>
              <a:t>Prednostna os 10: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Znanje, spretnosti in vseživljenjsko učenje za boljšo zaposljivost</a:t>
            </a:r>
            <a:br>
              <a:rPr sz="1200"/>
            </a:br>
            <a:r>
              <a:rPr b="1" lang="sl-SI" sz="1200" spc="-1" strike="noStrike">
                <a:solidFill>
                  <a:srgbClr val="000000"/>
                </a:solidFill>
                <a:latin typeface="Calibri"/>
              </a:rPr>
              <a:t>V mesecu februarju je bila do sedaj izdana odločitev o podpori za program Štipendije za deficitarne poklice v vrednosti 11.061.232 EUR (EU del).</a:t>
            </a:r>
            <a:br>
              <a:rPr sz="1200"/>
            </a:br>
            <a:r>
              <a:rPr b="1" lang="en-US" sz="1200" spc="-1" strike="noStrike" u="sng">
                <a:solidFill>
                  <a:srgbClr val="000000"/>
                </a:solidFill>
                <a:uFillTx/>
                <a:latin typeface="Calibri"/>
              </a:rPr>
              <a:t>Prednostna os 11: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Pravna država, izboljšanje institucionalnih zmogljivosti, učinkovita javna uprava,podpora razvoju NVO ter krepitev zmogljivosti socialnih partnerjev</a:t>
            </a:r>
            <a:br>
              <a:rPr sz="1200"/>
            </a:br>
            <a:r>
              <a:rPr b="1" lang="sl-SI" sz="1200" spc="-1" strike="noStrike">
                <a:solidFill>
                  <a:srgbClr val="000000"/>
                </a:solidFill>
                <a:latin typeface="Calibri"/>
              </a:rPr>
              <a:t>V okviru PO 11 je bila v letu 2015 izdana ena odločitev o podpori. V okviru doseganja cilja, ki je namenjen povečani stopnji profesionalnosti nevladnim organizacijam je bil potrjen Javni razpis za krepitev zmogljivosti NVO za zagovorništvo in izvajanje javnih storitev 2015-2019 (5.007.686 EUR EU del). </a:t>
            </a:r>
            <a:br>
              <a:rPr sz="1100"/>
            </a:br>
            <a:br>
              <a:rPr sz="1100"/>
            </a:br>
            <a:endParaRPr b="0" lang="en-US" sz="12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542520" y="512640"/>
            <a:ext cx="7985160" cy="127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Calibri"/>
              </a:rPr>
              <a:t>Poročilo o stanju sistema izvajanja evropske kohezijske politike za obdobje 2014-202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8" name="PoljeZBesedilom 2"/>
          <p:cNvSpPr/>
          <p:nvPr/>
        </p:nvSpPr>
        <p:spPr>
          <a:xfrm>
            <a:off x="519120" y="1998720"/>
            <a:ext cx="7597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Sklep Vlade RS št. 54402-2/2016/6 z dne 3.3.2016 s predvidenimi ukrepi (sistem sicer deluje, vendar je potrebno izvesti aktivnosti, ki bodo omogočile optimizacijo sistema ter akreditacijo, designacijo organov)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Informacija o stanju izvajanja je bila dne 4.5.2016 dana v seznanitev Vladi R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Večina aktivnosti zahteva sistematičen pristop, zaradi česar so bili roki za izvedbo postavljeni v drugo polovico leta 2016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Ocena SVRK je, da uresničevanje aktivnosti trenutno poteka v skladu s pričakovanji ter da bo akcijski načrt za dokončno vzpostavitev sistema lahko izveden v rokih, kot je bilo predvideno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33160" y="1569960"/>
            <a:ext cx="7985160" cy="477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 u="sng">
                <a:solidFill>
                  <a:srgbClr val="000000"/>
                </a:solidFill>
                <a:uFillTx/>
                <a:latin typeface="Calibri"/>
              </a:rPr>
              <a:t>KLJUČNI UKREPI</a:t>
            </a:r>
            <a:br>
              <a:rPr sz="1800"/>
            </a:br>
            <a:br>
              <a:rPr sz="1800"/>
            </a:b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- objava napovedi javnih razpisov na spletnih straneh in sheme pravnih podlag</a:t>
            </a:r>
            <a:br>
              <a:rPr sz="1800"/>
            </a:br>
            <a:br>
              <a:rPr sz="1800"/>
            </a:b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- vzpostavitev učinkovitega informacijskega sistema</a:t>
            </a:r>
            <a:br>
              <a:rPr sz="1800"/>
            </a:br>
            <a:br>
              <a:rPr sz="1800"/>
            </a:b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- poenostavitve, kjer bo to možno (optimizacija, spremembe navodil OU)</a:t>
            </a:r>
            <a:br>
              <a:rPr sz="1800"/>
            </a:br>
            <a:br>
              <a:rPr sz="1800"/>
            </a:b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- preučitev pravnih podlag za prednostno obravnavo projektov iz evropskih sredstev pri pridobivanju dovoljenj (MOP, Direkcija za vode, ARSO itd.)</a:t>
            </a:r>
            <a:br>
              <a:rPr sz="1800"/>
            </a:br>
            <a:br>
              <a:rPr sz="1800"/>
            </a:b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- večja poenotenost, usklajenost med izvajanjem kohezijske politike in nacionalnih politik, predvsem v smislu izvrševanja proračuna in financiranja iz javnih virov (UEM, državne pomoči)</a:t>
            </a:r>
            <a:br>
              <a:rPr sz="1800"/>
            </a:br>
            <a:br>
              <a:rPr sz="1800"/>
            </a:b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- določitev manjkajočih elementov za delovanje sistema na posameznih konkretnih vsebinskih področjih, na katerih so bile s strani ministrstev zaznane bistvene pomanjkljivosti: sistem izvajanja CTN, sistem izvajanja finančnih instrumentov, priprava podlag za akreditacijo sistema, organizacija usposabljanj za deležnike v sistemu ipd. </a:t>
            </a:r>
            <a:br>
              <a:rPr sz="1600"/>
            </a:br>
            <a:br>
              <a:rPr sz="1300"/>
            </a:br>
            <a:br>
              <a:rPr sz="1300"/>
            </a:br>
            <a:br>
              <a:rPr sz="1300"/>
            </a:br>
            <a:br>
              <a:rPr sz="1300"/>
            </a:br>
            <a:br>
              <a:rPr sz="1300"/>
            </a:br>
            <a:br>
              <a:rPr sz="1300"/>
            </a:br>
            <a:br>
              <a:rPr sz="1300"/>
            </a:br>
            <a:br>
              <a:rPr sz="1300"/>
            </a:b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99760" y="2322360"/>
            <a:ext cx="7985160" cy="127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Calibri"/>
              </a:rPr>
              <a:t>Hvala za pozornost!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71680" y="326880"/>
            <a:ext cx="7983360" cy="127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Calibri"/>
              </a:rPr>
              <a:t>POROČILO O IZVAJANJU EKP 2014-2020</a:t>
            </a:r>
            <a:br>
              <a:rPr sz="2800"/>
            </a:br>
            <a:r>
              <a:rPr b="1" lang="sl-SI" sz="2800" spc="-1" strike="noStrike">
                <a:solidFill>
                  <a:srgbClr val="000000"/>
                </a:solidFill>
                <a:latin typeface="Calibri"/>
              </a:rPr>
              <a:t>za obdobje januar 2014 - marec 2016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5" name="PoljeZBesedilom 2"/>
          <p:cNvSpPr/>
          <p:nvPr/>
        </p:nvSpPr>
        <p:spPr>
          <a:xfrm>
            <a:off x="855720" y="1433520"/>
            <a:ext cx="74102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Vlada RS se je s poročilom seznanila na seji 28.4.2016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 u="sng">
                <a:solidFill>
                  <a:srgbClr val="000000"/>
                </a:solidFill>
                <a:uFillTx/>
                <a:latin typeface="Calibri"/>
              </a:rPr>
              <a:t>KLJUČNE NOVOSTI, KI VPLIVAJO NA IZVAJANJ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PREDHODNE POGOJENOSTI - vnaprej opredeljen ključni dejavnik, ki je pogoj za uspešno in učinkovito doseganje ciljev prednostnih osi oziroma naložb O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EN OPERATIVNI PROGRAM 14-20 za cilj Naložbe za rast in delovna mesta, v katerem se kombinirajo 3 skladi in 2 kohezijski regiji – sinergij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IZVEDBENI NAČRT OP kot faza „prednačrtovanja“ ukrepov, ki ga sprejema Vlada RS z odlokom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transparentnos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usklajevanje in dopolnjevanje ukrepov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zagotavljanje doseganja okvirja uspešnosti, ustrezne finančne realizacije ter doseganja ostalih ciljev O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577440" y="465120"/>
            <a:ext cx="7985160" cy="127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Calibri"/>
              </a:rPr>
              <a:t>Izvedbeni načrt OP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7" name="PoljeZBesedilom 2"/>
          <p:cNvSpPr/>
          <p:nvPr/>
        </p:nvSpPr>
        <p:spPr>
          <a:xfrm>
            <a:off x="833400" y="2728800"/>
            <a:ext cx="73738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4. sprememba Odloka sprejeta na Vladi RS 12.5.2016, objavljen na v Ur. L. RS dne 13.5.2016, na voljo tudi na spletnih straneh </a:t>
            </a:r>
            <a:r>
              <a:rPr b="0" lang="sl-SI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www.eu-skladi.s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8" name=""/>
          <p:cNvGraphicFramePr/>
          <p:nvPr/>
        </p:nvGraphicFramePr>
        <p:xfrm>
          <a:off x="500040" y="227160"/>
          <a:ext cx="7832880" cy="5572080"/>
        </p:xfrm>
        <a:graphic>
          <a:graphicData uri="http://schemas.openxmlformats.org/drawingml/2006/table">
            <a:tbl>
              <a:tblPr/>
              <a:tblGrid>
                <a:gridCol w="2505240"/>
                <a:gridCol w="409320"/>
                <a:gridCol w="524160"/>
                <a:gridCol w="523800"/>
                <a:gridCol w="523800"/>
                <a:gridCol w="522360"/>
                <a:gridCol w="523800"/>
                <a:gridCol w="523800"/>
                <a:gridCol w="523800"/>
                <a:gridCol w="420840"/>
                <a:gridCol w="831960"/>
              </a:tblGrid>
              <a:tr h="207720"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rednostna o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rispevek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0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0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0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0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0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0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0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02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kupna vsot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35000">
                <a:tc rowSpan="2"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. Mednarodna konkurenčnost raziskav, inovacij in tehnološkega razvoja v skladu s pametno specializacijo za večjo konkurenčnosti in ozelenitev gospodarstv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U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6.080.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86.008.1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02.377.09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3.365.47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97.060.3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3.785.30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3.062.83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61.739.15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35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.020.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3.502.0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7.594.27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8.341.36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6.265.07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8.446.3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.265.70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83.434.79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35000">
                <a:tc rowSpan="2"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. Povečanje dostopnosti do informacijsko-komunikacijskih tehnologij ter njihove uporabe in kakovost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U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804.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8.788.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4.952.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4.448.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9.526.27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8.518.27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56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01.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.197.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.238.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.112.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.381.56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7.129.56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35000">
                <a:tc rowSpan="2"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. Dinamično in konkurenčno podjetništvo za zeleno gospodarsko ras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U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1.687.6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05.528.64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05.330.30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2.230.87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07.209.33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0.271.4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03.820.16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26.078.42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33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.658.34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9.158.49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9.417.6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9.515.92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0.283.43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9.247.24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2.223.36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4.504.4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35000">
                <a:tc rowSpan="2"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. Trajnostna raba in proizvodnja energije ter pametna omrežja</a:t>
                      </a:r>
                      <a:br>
                        <a:rPr sz="800"/>
                      </a:b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U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.724.95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4.913.73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9.057.03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3.044.44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4.347.12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7.134.09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8.410.6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81.632.00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58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833.8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.361.24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9.204.18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.375.29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.451.85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.111.8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.807.75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7.146.04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35000">
                <a:tc rowSpan="2"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. Prilagajanje na podnebne sprememb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U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.571.45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7.374.84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6.701.8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3.661.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.661.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.000.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4.051.83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83.021.93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35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.277.3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.989.67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.870.90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.237.8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.196.64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.179.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.362.08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5.113.45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35000">
                <a:tc rowSpan="2"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. Boljše stanje okolja in biotske raznovrstnost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U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84.088.44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88.258.64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9.345.63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3.494.73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3.961.54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0.403.46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0.684.2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00.236.67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33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4.839.13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5.491.66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2.769.43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.235.26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0.441.16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.109.98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.987.4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3.874.07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35000">
                <a:tc rowSpan="2"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. Izgradnja infrastrukture in ukrepi za spodbujanje trajnostne mobilnost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U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3.446.35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7.869.48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6.848.25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7.412.96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5.921.29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7.039.26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4.222.67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62.760.3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35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00.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824.7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.269.37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.813.70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8.398.86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3.501.35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.852.53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90.760.55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35000">
                <a:tc rowSpan="2"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8. Spodbujanje zaposlovanja in transnacionalna mobilnost delovne sil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U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4.188.84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7.370.4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7.623.6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0.313.2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8.295.86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5.872.48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3.283.70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96.948.13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34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9.658.33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3.428.6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.905.90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0.078.30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9.573.96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8.968.1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8.320.9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1.934.17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33560">
                <a:tc rowSpan="2"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9. Socialna vključenost in zmanjševanje tveganja revščin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U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0.023.37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4.968.65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3.117.3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4.710.18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2.479.1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4.304.93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0.699.65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20.303.24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35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.505.84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3.742.16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3.360.68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.177.54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8.113.77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.576.23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.674.9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5.151.15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34640">
                <a:tc rowSpan="2"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0. Znanje, spretnosti in vseživljenjsko učenje za boljšo zaposljivos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U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6.570.54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5.857.94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4.794.4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2.319.92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8.675.15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4.347.78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6.454.28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29.020.05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35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.142.63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.464.48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.198.60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0.579.98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9.668.78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.086.94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.113.57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7.255.0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35000">
                <a:tc rowSpan="2"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. Pravna država, izboljšanje institucionalnih zmogljivosti, učinkovita javna uprava, podpora razvoju NVO in krepitev zmogljivosti socialnih partnerjev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U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.305.48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6.057.23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4.402.80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9.482.39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.724.97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.156.17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.285.38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.659.52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2.073.98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35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.576.37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.014.30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.600.70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.370.5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.681.24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.039.04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821.34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14.88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5.518.49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35000">
                <a:tc rowSpan="2"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2. Tehnična pomoč (KS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U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2.056.87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5.047.4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5.069.65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.519.33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.978.50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2.045.13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.820.12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89.537.03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34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.127.68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.655.42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.659.35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.032.82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.113.85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.125.6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.085.90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5.800.65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35000">
                <a:tc rowSpan="2"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3. Tehnična pomoč (ESRR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U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.525.9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.600.05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.631.07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.410.19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.406.68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.356.35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.232.2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7.162.5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33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31.47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50.0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57.76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02.54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01.67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89.09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58.05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.290.6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34640">
                <a:tc rowSpan="2"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4. Tehnična pomoč (ESS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U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.105.77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.280.6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.292.8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.907.26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.453.99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.450.14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.377.43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2.868.04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35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26.44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70.1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73.20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76.8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63.49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62.53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44.35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.217.0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35000"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kupaj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U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51.179.6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82.923.8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24.543.8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30.320.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07.701.19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80.166.55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33.405.16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.659.52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.011.899.76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35000"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7.098.39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95.050.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08.320.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94.950.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8.535.4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87.343.39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3.417.94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14.88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05.130.03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33200"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KUPAJ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98.278.09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77.973.8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32.863.8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25.270.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26.236.6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67.509.94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86.823.1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.074.40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.617.029.80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35000">
                <a:tc rowSpan="4"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rerazporejeno na resorj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U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45.993.8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02.829.1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01.301.48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91.195.28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17.770.44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36.534.6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0.459.60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.659.52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.807.744.0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35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5.743.19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82.250.00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87.294.5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8.590.46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3.670.4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3.327.46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6.927.65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14.88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98.218.59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35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KUPAJ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91.737.09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85.079.16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88.596.00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59.785.74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71.440.86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69.862.07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37.387.25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.074.40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.205.962.6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35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ff0000"/>
                          </a:solidFill>
                          <a:latin typeface="Arial Narrow"/>
                        </a:rPr>
                        <a:t>98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ff0000"/>
                          </a:solidFill>
                          <a:latin typeface="Arial Narrow"/>
                        </a:rPr>
                        <a:t>72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ff0000"/>
                          </a:solidFill>
                          <a:latin typeface="Arial Narrow"/>
                        </a:rPr>
                        <a:t>67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ff0000"/>
                          </a:solidFill>
                          <a:latin typeface="Arial Narrow"/>
                        </a:rPr>
                        <a:t>68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ff0000"/>
                          </a:solidFill>
                          <a:latin typeface="Arial Narrow"/>
                        </a:rPr>
                        <a:t>43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ff0000"/>
                          </a:solidFill>
                          <a:latin typeface="Arial Narrow"/>
                        </a:rPr>
                        <a:t>46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ff0000"/>
                          </a:solidFill>
                          <a:latin typeface="Arial Narrow"/>
                        </a:rPr>
                        <a:t>36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ff0000"/>
                          </a:solidFill>
                          <a:latin typeface="Arial Narrow"/>
                        </a:rPr>
                        <a:t>10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ff0000"/>
                          </a:solidFill>
                          <a:latin typeface="Arial Narrow"/>
                        </a:rPr>
                        <a:t>61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33200">
                <a:tc rowSpan="3"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ostanek na SVRK - še nerazporejen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U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.185.8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80.094.66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23.242.32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39.124.7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89.930.74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43.631.93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22.945.55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.204.155.74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35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.355.2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2.799.99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1.025.48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6.359.53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4.865.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4.015.93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6.490.29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06.911.44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35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KUPAJ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.541.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92.894.65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44.267.8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65.484.25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54.795.74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97.647.86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49.435.85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.411.067.18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99760" y="2322360"/>
            <a:ext cx="7985160" cy="127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500" spc="-1" strike="noStrike">
                <a:solidFill>
                  <a:srgbClr val="000000"/>
                </a:solidFill>
                <a:latin typeface="Calibri"/>
              </a:rPr>
              <a:t>Ostaja na SVRK:</a:t>
            </a:r>
            <a:br>
              <a:rPr sz="2500"/>
            </a:br>
            <a:br>
              <a:rPr sz="2500"/>
            </a:br>
            <a:r>
              <a:rPr b="1" lang="sl-SI" sz="2500" spc="-1" strike="noStrike">
                <a:solidFill>
                  <a:srgbClr val="000000"/>
                </a:solidFill>
                <a:latin typeface="Calibri"/>
              </a:rPr>
              <a:t>- predlogi NIO za finančne instrumente, </a:t>
            </a:r>
            <a:br>
              <a:rPr sz="2500"/>
            </a:br>
            <a:r>
              <a:rPr b="1" lang="sl-SI" sz="2500" spc="-1" strike="noStrike">
                <a:solidFill>
                  <a:srgbClr val="000000"/>
                </a:solidFill>
                <a:latin typeface="Calibri"/>
              </a:rPr>
              <a:t>- izgradnjo centra znanosti in centra raziskovalnih umetnosti, </a:t>
            </a:r>
            <a:br>
              <a:rPr sz="2500"/>
            </a:br>
            <a:r>
              <a:rPr b="1" lang="sl-SI" sz="2500" spc="-1" strike="noStrike">
                <a:solidFill>
                  <a:srgbClr val="000000"/>
                </a:solidFill>
                <a:latin typeface="Calibri"/>
              </a:rPr>
              <a:t> - ukrepi, ki se bodo izvajali v okviru mehanizma CTN, </a:t>
            </a:r>
            <a:br>
              <a:rPr sz="2500"/>
            </a:br>
            <a:r>
              <a:rPr b="1" lang="sl-SI" sz="2500" spc="-1" strike="noStrike">
                <a:solidFill>
                  <a:srgbClr val="000000"/>
                </a:solidFill>
                <a:latin typeface="Calibri"/>
              </a:rPr>
              <a:t>- projekti s področja železniške infrastrukture, </a:t>
            </a:r>
            <a:br>
              <a:rPr sz="2500"/>
            </a:br>
            <a:r>
              <a:rPr b="1" lang="sl-SI" sz="2500" spc="-1" strike="noStrike">
                <a:solidFill>
                  <a:srgbClr val="000000"/>
                </a:solidFill>
                <a:latin typeface="Calibri"/>
              </a:rPr>
              <a:t>- CLLD, </a:t>
            </a:r>
            <a:br>
              <a:rPr sz="2500"/>
            </a:br>
            <a:r>
              <a:rPr b="1" lang="sl-SI" sz="2500" spc="-1" strike="noStrike">
                <a:solidFill>
                  <a:srgbClr val="000000"/>
                </a:solidFill>
                <a:latin typeface="Calibri"/>
              </a:rPr>
              <a:t>- projekti iz področja zdravstvene in socialne infrastrukture</a:t>
            </a:r>
            <a:endParaRPr b="0" lang="en-US" sz="25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571680" y="352440"/>
            <a:ext cx="7984800" cy="127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Calibri"/>
              </a:rPr>
              <a:t>DOSEGANJE N+3 po INOP – celoten OP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71" name="Grafikon 2" descr=""/>
          <p:cNvPicPr/>
          <p:nvPr/>
        </p:nvPicPr>
        <p:blipFill>
          <a:blip r:embed="rId1"/>
          <a:stretch/>
        </p:blipFill>
        <p:spPr>
          <a:xfrm>
            <a:off x="1311120" y="1743120"/>
            <a:ext cx="6674040" cy="337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42520" y="409680"/>
            <a:ext cx="7985160" cy="127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Calibri"/>
              </a:rPr>
              <a:t>Doseganje n+3 po INOP – po skladih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73" name="Picture 2" descr=""/>
          <p:cNvPicPr/>
          <p:nvPr/>
        </p:nvPicPr>
        <p:blipFill>
          <a:blip r:embed="rId1"/>
          <a:stretch/>
        </p:blipFill>
        <p:spPr>
          <a:xfrm>
            <a:off x="1271520" y="1860480"/>
            <a:ext cx="4789440" cy="1647720"/>
          </a:xfrm>
          <a:prstGeom prst="rect">
            <a:avLst/>
          </a:prstGeom>
          <a:ln w="0">
            <a:noFill/>
          </a:ln>
        </p:spPr>
      </p:pic>
      <p:pic>
        <p:nvPicPr>
          <p:cNvPr id="574" name="Picture 3" descr=""/>
          <p:cNvPicPr/>
          <p:nvPr/>
        </p:nvPicPr>
        <p:blipFill>
          <a:blip r:embed="rId2"/>
          <a:stretch/>
        </p:blipFill>
        <p:spPr>
          <a:xfrm>
            <a:off x="1271520" y="3825720"/>
            <a:ext cx="4789440" cy="1981440"/>
          </a:xfrm>
          <a:prstGeom prst="rect">
            <a:avLst/>
          </a:prstGeom>
          <a:ln w="0">
            <a:noFill/>
          </a:ln>
        </p:spPr>
      </p:pic>
      <p:sp>
        <p:nvSpPr>
          <p:cNvPr id="575" name="PoljeZBesedilom 2"/>
          <p:cNvSpPr/>
          <p:nvPr/>
        </p:nvSpPr>
        <p:spPr>
          <a:xfrm>
            <a:off x="6477120" y="21891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ESRR </a:t>
            </a:r>
            <a:r>
              <a:rPr b="0" lang="sl-SI" sz="1800" spc="-1" strike="noStrike">
                <a:solidFill>
                  <a:srgbClr val="ff0000"/>
                </a:solidFill>
                <a:latin typeface="Calibri"/>
              </a:rPr>
              <a:t>!!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oljeZBesedilom 6"/>
          <p:cNvSpPr/>
          <p:nvPr/>
        </p:nvSpPr>
        <p:spPr>
          <a:xfrm>
            <a:off x="6572160" y="463248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Naslov 1"/>
          <p:cNvSpPr/>
          <p:nvPr/>
        </p:nvSpPr>
        <p:spPr>
          <a:xfrm>
            <a:off x="542880" y="409680"/>
            <a:ext cx="79851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Calibri"/>
              </a:rPr>
              <a:t>Doseganje n+3 po INOP – po skladi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oljeZBesedilom 5"/>
          <p:cNvSpPr/>
          <p:nvPr/>
        </p:nvSpPr>
        <p:spPr>
          <a:xfrm>
            <a:off x="6516720" y="2189160"/>
            <a:ext cx="83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K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oljeZBesedilom 6"/>
          <p:cNvSpPr/>
          <p:nvPr/>
        </p:nvSpPr>
        <p:spPr>
          <a:xfrm>
            <a:off x="6572160" y="463248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YE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0" name="Picture 2" descr=""/>
          <p:cNvPicPr/>
          <p:nvPr/>
        </p:nvPicPr>
        <p:blipFill>
          <a:blip r:embed="rId1"/>
          <a:stretch/>
        </p:blipFill>
        <p:spPr>
          <a:xfrm>
            <a:off x="1160640" y="1517760"/>
            <a:ext cx="4532040" cy="1895400"/>
          </a:xfrm>
          <a:prstGeom prst="rect">
            <a:avLst/>
          </a:prstGeom>
          <a:ln w="0">
            <a:noFill/>
          </a:ln>
        </p:spPr>
      </p:pic>
      <p:pic>
        <p:nvPicPr>
          <p:cNvPr id="581" name="Picture 3" descr=""/>
          <p:cNvPicPr/>
          <p:nvPr/>
        </p:nvPicPr>
        <p:blipFill>
          <a:blip r:embed="rId2"/>
          <a:stretch/>
        </p:blipFill>
        <p:spPr>
          <a:xfrm>
            <a:off x="1160640" y="3932280"/>
            <a:ext cx="4532040" cy="185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79600" y="287280"/>
            <a:ext cx="7983360" cy="127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Calibri"/>
              </a:rPr>
              <a:t>Poročilo o izvajanju evropske kohezijske politike</a:t>
            </a:r>
            <a:br>
              <a:rPr sz="2800"/>
            </a:br>
            <a:r>
              <a:rPr b="1" lang="sl-SI" sz="2800" spc="-1" strike="noStrike">
                <a:solidFill>
                  <a:srgbClr val="000000"/>
                </a:solidFill>
                <a:latin typeface="Calibri"/>
              </a:rPr>
              <a:t>januar 2014 – marec 2016 – po oseh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83" name="Picture 4" descr=""/>
          <p:cNvPicPr/>
          <p:nvPr/>
        </p:nvPicPr>
        <p:blipFill>
          <a:blip r:embed="rId1"/>
          <a:stretch/>
        </p:blipFill>
        <p:spPr>
          <a:xfrm>
            <a:off x="179280" y="1341360"/>
            <a:ext cx="8828280" cy="45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26T08:26:11Z</dcterms:created>
  <dc:creator>Mitja Ribic</dc:creator>
  <dc:description/>
  <dc:language>en-US</dc:language>
  <cp:lastModifiedBy>Janika Gregorič Zečevič</cp:lastModifiedBy>
  <dcterms:modified xsi:type="dcterms:W3CDTF">2016-05-19T04:17:01Z</dcterms:modified>
  <cp:revision>33</cp:revision>
  <dc:subject/>
  <dc:title>PowerPoint Presentation</dc:title>
</cp:coreProperties>
</file>