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5D2-1A75-42A3-B965-BD768E36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4529-C373-4FF8-85DF-BE3688B8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3B2-9411-4AED-9532-DD8B3CA2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FEC2-3F39-4386-8CD9-F87E8B31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97C-268B-4F3D-BB89-7559E6CB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97B-3EA0-4832-93DA-648CEAFD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FAB9-3C3B-41F0-86B6-35BD7FAE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5C37-B37B-44A9-A2AE-6B5490E7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476-2126-4DD7-8599-E33D6B3D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717-90EF-4EEE-97BB-6FA8BA91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522E-C85F-46E5-8E30-9027F637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E088-FC5C-4DB8-8E52-5A19F8F3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833F-7FC0-4D70-8EA2-44CF069163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71080" y="717480"/>
            <a:ext cx="101538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"/>
              </a:rPr>
              <a:t>Dopolnitev uredbe o porabi sredstev EKP 14-20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ljučne dopoln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04600" y="1803240"/>
            <a:ext cx="934236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Celostne teritorialne nalož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Finančni instrument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Uskladitev z uredbo CL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Nosilni posredniški org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Upravljalna preverjanja za ukrepe tehnične podpo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Sprejemanje Izvedbenega nač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Dru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Celostne teritorialne naložb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00280" y="1812960"/>
            <a:ext cx="93088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ZMOS pristojen za izvajanje mehanizma CT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oločene naloge Z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 za CTN sta MOP in Mz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redstva tehnične podpore ZMOS zagotovi organ upravlj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Zahteva, da ZMOS prilagodi ustanovitveni akt in stat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831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Finančni instrumen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8720" y="1641600"/>
            <a:ext cx="93088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sredniški organ za finančne instrumente MGRT; MOP in MzI sodelujoči ministrstv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lnjenje sklada skladov ko so izpolnjeni pogoji za povračilo prispevka EU v državni proraču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Ustanovitev usmerjevalnega odbora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 katerim se PO posvetuje 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jučnih elementih F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nvesticijski strategi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zvedbenem načr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zboru izvajalca sklada sklad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zvajanj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rejemanje Izvedbenega načrt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18640" y="1822320"/>
            <a:ext cx="930924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premembe glede zapisa posveta, ki ga skliče organ upravljanja glede predloga izvedbenega načr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dločanje organa upravljanja o prerazporejanju pravic porabe v okviru sprejetega izvedbenega načrta s soglasjem predlagatelja finančnega načrta, brez da bi o spremembi morala odločati še Vlada 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Drugo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75880" y="1727280"/>
            <a:ext cx="930924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godba o sofinanciranju mora vsebovati vse določbe, ki jih organ upravljanja v navodilih določi kot bistv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2260440"/>
            <a:ext cx="930924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Hvala za vašo pozorn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Služba Vlade Republike Slovenije za razvoj in evropsko kohezijsko politik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06:46:37Z</dcterms:created>
  <dc:creator>Domen Kovač</dc:creator>
  <dc:description/>
  <dc:language>en-US</dc:language>
  <cp:lastModifiedBy>Janika Gregorič Zečevič</cp:lastModifiedBy>
  <cp:lastPrinted>2016-05-18T08:06:51Z</cp:lastPrinted>
  <dcterms:modified xsi:type="dcterms:W3CDTF">2016-05-18T08:12:10Z</dcterms:modified>
  <cp:revision>68</cp:revision>
  <dc:subject/>
  <dc:title>Predstavitev Uredbe o porabi sredstev evropske kohezijske politike v Republiki Sloveniji v programskem obdobju 2014–2020 za cilj „naložbe za rast in delovna mesta“</dc:title>
</cp:coreProperties>
</file>