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4D9-76A1-4BDE-9ACA-A8765E96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74E-4B3B-483D-94BC-0BE46A9E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C4E-64B1-4711-A9A6-3D6817E2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9FD-7F82-4199-BFFD-30FB0FFC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A45-20C1-414A-B435-AF4179C6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B2A-5B0F-440D-B768-FB69C1B1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F8D-CCC3-4FAD-A624-7CF97B95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260-3B3C-4BCA-A870-CCC81CAE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EC3-32D9-404C-AD93-584D4669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9DC-84EA-4A06-A7BA-E989245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71B-207E-4872-851F-13070B9B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2A4-61D5-4F4F-955D-09C0803F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F5D9-8661-444E-B061-474095A70F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592200"/>
            <a:ext cx="53848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stavitev izvajanja LNV izvajanja OP EKP v obdobju 2014-2020 za leti 2017 in 2018 in predstavitev in potrditev LNV izvajanja OP EKP za leto 2019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ravokotnik 1"/>
          <p:cNvSpPr/>
          <p:nvPr/>
        </p:nvSpPr>
        <p:spPr>
          <a:xfrm>
            <a:off x="601560" y="196920"/>
            <a:ext cx="72295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Letni načrt vrednotenja izvajanja OP EKP v obdobju 2014-2020 za leto 2017 predstavljata naslednji vrednotenj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. Vrednotenje prispevka krepitve zmogljivosti NVO na izvajanje zagovorništva in javnih storitev - </a:t>
            </a:r>
            <a:r>
              <a:rPr b="0" i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izvede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 Vmesno vrednotenje učinkovitosti in uspešnosti izvajanja ukrepov s področja visokega šolstva – </a:t>
            </a:r>
            <a:r>
              <a:rPr b="0" i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v fazi pregleda prejetih ponudb izvajalcev vrednoten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avokotnik 1"/>
          <p:cNvSpPr/>
          <p:nvPr/>
        </p:nvSpPr>
        <p:spPr>
          <a:xfrm>
            <a:off x="620640" y="674640"/>
            <a:ext cx="78343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Letni načrt vrednotenja izvajanja OP EKP v obdobju 2014-2020 za leto 2018 predstavljajo naslednja vrednotenj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. Vrednotenje Pobude za zaposlovanje mladih (Program »Prvi izziv 2015«) - znižanje brezposelnosti mladih, ki niso zaposleni in se ne izobražujejo ali usposabljajo v starosti od 15 do 29 let v kohezijski regiji Vzhodna Slovenija, 2. faza – </a:t>
            </a:r>
            <a:r>
              <a:rPr b="0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v fazi izvajan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 Vrednotenje uspešnosti izvajanja vseživljenjske karierne orientacije vključno s sistemom napovedovanja potreb na trgu dela – </a:t>
            </a:r>
            <a:r>
              <a:rPr b="0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v fazi priprave tehnične specifikacije za izvedbo vrednotenj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3. Vrednotenje uspešnosti programa PUM(O) – </a:t>
            </a:r>
            <a:r>
              <a:rPr b="0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predvidena je izbira izvajalca do oktobra 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4. Vrednotenje izvajanja v okviru PN 4.1. Spodbujanje energetske učinkovitosti, pametnega ravnanja z energijo in uporabe obnovljivih virov v javni infrastrukturi, vključno z javnimi stavbami, in v stanovanjskem sektorju, Specifični cilj 1: Povečanje učinkovitosti rabe energije v javnem sektorju - </a:t>
            </a:r>
            <a:r>
              <a:rPr b="0" i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predvidena je izbira izvajalca do oktobra 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5. Vrednotenje upoštevanja načela trajnostnega razvoja pri izvajanju OP EKP 2014-2020 – </a:t>
            </a:r>
            <a:r>
              <a:rPr b="0" i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v fazi priprave dokumentacije za izvedbo J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6. Vrednotenje prispevkov OP EKP 2014-2020 k nacionalnim ciljem Strategije Unije za pametno, trajnostno in vključujočo rast, komplementarnost med strukturnimi in drugimi evropskimi skladi - </a:t>
            </a:r>
            <a:r>
              <a:rPr b="0" i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v fazi priprave dokumentacije za izvedbo J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ravokotnik 1"/>
          <p:cNvSpPr/>
          <p:nvPr/>
        </p:nvSpPr>
        <p:spPr>
          <a:xfrm>
            <a:off x="479520" y="316080"/>
            <a:ext cx="804384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Calibri"/>
              </a:rPr>
              <a:t>Predlog Letnega načrta vrednotenja izvajanja OP EKP v obdobju 2014-2020 za leto 2019 predstavljajo naslednja vrednotenj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. Vrednotenje prispevka krepitve zmogljivosti NVO na izvajanje zagovorništva in javnih storitev (PO 11, PN 1, SC 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2. Vrednotenje izvajanja v okviru PN 3.1. Dinamično in konkurenčno podjetništvo za zeleno gospodarsko rast (PO 3, PN 1, SC 1, 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3. Vrednotenje učinkovitosti in uspešnosti izvajanja specifičnega cilja Povečan delež inovacijsko aktivnih podjetij (PO 1, PN 2, SC 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4. Vrednotenje uspešnosti izvajanja aktivacijskih politik z vidika izboljšanja dostopa do trga dela za določene ciljne skupine (dolgotrajno brezposelni, nizko izobraženi, starejši) in ustreznosti ukrepov za znižanje brezposelnosti mladih (PO 8, PN 1, SC 1 in PN 2, SC 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5. Vrednotenje uspešnosti ukrepov za trajnostno vključevanje mladih na trg dela (PO 8, PN 2, SC 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6. Vrednotenje uspešnosti izvajanja ukrepov s področja  svetovalne dejavnosti v izobraževanju odraslih in karierne ter poklicne orientacije za študente in drugo šolajočo mladino in vrednotenje uspešnosti izvajanja ukrepov s področja neformalnih izobraževalnih programov za odrasle in javnoveljavnih izobraževalnih programov za odrasle, po katerih se ne pridobi javnoveljavna izobrazba (PO 10, PN 1, SC 1,2,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7. Vrednotenje učinkovitosti in uspešnosti izvajanja ukrepov s področja visokega šolstva (PO 10, PN 1, SC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vala za pozornost!</a:t>
            </a:r>
            <a:br>
              <a:rPr sz="2800"/>
            </a:br>
            <a:r>
              <a:rPr b="1" lang="sl-SI" sz="1400" spc="-1" strike="noStrike">
                <a:solidFill>
                  <a:srgbClr val="000000"/>
                </a:solidFill>
                <a:latin typeface="Calibri"/>
              </a:rPr>
              <a:t>http://www.eu-skladi.si/portal/sl/ekp/studije-in-vrednotenja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irjam Tolar</cp:lastModifiedBy>
  <cp:lastPrinted>2017-05-22T10:39:40Z</cp:lastPrinted>
  <dcterms:modified xsi:type="dcterms:W3CDTF">2018-05-22T09:42:19Z</dcterms:modified>
  <cp:revision>101</cp:revision>
  <dc:subject/>
  <dc:title>PowerPoint Presentation</dc:title>
</cp:coreProperties>
</file>