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503-AD6D-4259-AA51-64F475B3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F80-0442-44B8-80D6-F4D089D2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D49-A58E-4688-954E-CEBECD2A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623-31D1-43C3-A023-5E9FD2AD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611C-CE4B-47E3-9B98-43BE6AEA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92FB-1CEF-42B4-8BC0-4770E5A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AAC-2525-43A6-8D74-7E953341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427F-3C5B-4766-BD7B-7BD259A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C34-9757-426B-BEDB-C1BC687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C86D-2533-4863-97EF-579014B7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4D28-C868-4FDD-B272-4B9893A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4903-A57E-404E-8ABE-E71D61C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225E-CABD-45B6-90A5-377E961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EF59-80E5-497B-88C9-199DAD2D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A121-04B3-4BCE-9031-364B5FE9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413-3042-4D58-B27B-5E90D7C9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9B86-1F5A-426A-B7E1-05F49D9B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A5D4-5ECB-48E9-8334-BAA15FC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4A92-0FA1-4936-AFB5-5587F88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1259-0FDF-49D5-A696-BE46DB5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42A5-B53F-49B4-B60C-92D49FC0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30C9-1E61-439E-8974-52918D5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608D-CC80-4113-90F6-F28C23D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6929-3652-4E69-B053-7C0F20EB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6611-BD45-4AA3-B09A-8FF3936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DFF9-3CE0-4B6F-B6FA-1FB28FD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5240-3699-46F9-B35A-ABF5C2AA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E6FA-74F3-4903-A74F-CA55ED66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A79-373B-4A8B-9DF1-3B93106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423-CFEF-40B8-8732-485BA071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248-BA4B-47CF-AF9C-A404661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F69-7CAE-457F-B483-88CE5949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E1D-BAC3-4D1F-A6A1-A33EB83F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3DF-FAE8-4B42-8544-8A9684E6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BAD-3AC5-49E5-A116-CF35702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E2E-4D2E-409A-AA80-93F1A24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891-AC0D-4702-A7B7-A01DFDC64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A93-8035-4D42-8328-0367E22E779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72CC-E710-4E6F-8E2C-57B98FB0558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77920" y="1695240"/>
            <a:ext cx="865656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5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9612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Čatež, 25. maj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ravokotnik 1"/>
          <p:cNvSpPr/>
          <p:nvPr/>
        </p:nvSpPr>
        <p:spPr>
          <a:xfrm>
            <a:off x="289080" y="328680"/>
            <a:ext cx="732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DNEVNI R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ravokotnik 2"/>
          <p:cNvSpPr/>
          <p:nvPr/>
        </p:nvSpPr>
        <p:spPr>
          <a:xfrm>
            <a:off x="289080" y="1020600"/>
            <a:ext cx="885492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zdravni nagov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n potrditev dnevnega re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trditev Zapisnika 4. redne seje Odbora za spremljanje Operativnega programa za izvajanje evropske kohezijske politike v obdobju 2014–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stavitev in potrditev Letnega poročila 2017 za Operativni program za izvajanje evropske kohezijske politike v obdobju 2014–2020 za cilj Naložbe za rast in delovna m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8155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5. Izvajanje finančnih instrumentov 2014–2020 (FI)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6. Sprememba meril za izbor operacij v okviru Operativnega programa za izvajanje evropske kohezijske politike v obdobju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7. Poročilo organa za potrjevanje za Operativni  program za izvajanje evropske kohezijske politike v obdobju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8. Poročilo revizijskega organa za Operativni program za izvajanje evropske kohezijske politike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9. Izvajanje Slovenske strategije pametne specializacije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15800" y="1531440"/>
            <a:ext cx="8304480" cy="32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0. Seznanitev z izhodišči za spremembo Operativnega programa za izvajanje evropske kohezijske politike v obdobju 2014–2020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1. Seznanitev o napredku komunikacijske strategije z analizo rezultatov in letnim načrtom za leto 2018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2. Predstavitev in potrditev Letnega načrta vrednotenja izvajanja Operativnega programa za izvajanje evropske kohezijske politike v obdobju 2014–2020 za leto 2019 in predstavitev izvajanja Letnega načrta vrednotenja izvajanja operativnega programa za leto 2017 in leto 2018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13. Predstavitev aktivnosti povezanimi z Makroregionalnimi strategijami EU in teritorialnim sodelovanjem v programskem obdobju 2014–2020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8-05-28T06:44:09Z</dcterms:modified>
  <cp:revision>42</cp:revision>
  <dc:subject/>
  <dc:title>PowerPoint Presentation</dc:title>
</cp:coreProperties>
</file>