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4EB-B18A-4632-A33F-2D383E6A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EE4-7075-4CFB-9C4C-CCA8C9D3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FC7-6A3E-4822-8F05-F6E6A6B7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E4A-126A-47F2-A2C2-83E05878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3A5-70CE-47D8-8533-08391EE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522-DC01-4316-AEA9-AF373C75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024-70A5-46DA-A6C3-A6A34DEF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BA1-1FE9-4A4E-BF06-9BD1B15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086-B245-4F3C-BC19-888233B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5BA-E39D-4456-BD08-FC93B1F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148-36B5-452C-A5CC-B0E4E42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DCB-921E-4019-B5CA-F0F0048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D42-5E88-4E41-9107-CB6DCA4FB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6517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 v obdobju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1"/>
          <p:cNvSpPr/>
          <p:nvPr/>
        </p:nvSpPr>
        <p:spPr>
          <a:xfrm>
            <a:off x="3490920" y="59072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imona Hočev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roč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3"/>
          <p:cNvSpPr/>
          <p:nvPr/>
        </p:nvSpPr>
        <p:spPr>
          <a:xfrm>
            <a:off x="950760" y="1563840"/>
            <a:ext cx="6364440" cy="32040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Krepitev raziskav, tehnološkega razvoja in inovacij (TC 1 in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večanje konkurenčnosti MSP, kmetijskega sektorja (za EKSRP) ter sektorja ribištva in akvakulture (za ES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TC 1, 3, 8, 9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dpora prehodu na gospodarstvo z nizkimi emisijami ogljik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(TC 3 in 4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čni instrumenti za urbani in teritorialni razvoj: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TC 4, 6, 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76" descr=""/>
          <p:cNvPicPr/>
          <p:nvPr/>
        </p:nvPicPr>
        <p:blipFill>
          <a:blip r:embed="rId1"/>
          <a:srcRect l="0" t="-669" r="-8" b="0"/>
          <a:stretch/>
        </p:blipFill>
        <p:spPr>
          <a:xfrm>
            <a:off x="1531800" y="1660680"/>
            <a:ext cx="6080400" cy="3536640"/>
          </a:xfrm>
          <a:prstGeom prst="rect">
            <a:avLst/>
          </a:prstGeom>
          <a:ln w="0">
            <a:noFill/>
          </a:ln>
        </p:spPr>
      </p:pic>
      <p:sp>
        <p:nvSpPr>
          <p:cNvPr id="568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truktura upravlj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redstva za F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042920" y="2133720"/>
          <a:ext cx="7201080" cy="3593880"/>
        </p:xfrm>
        <a:graphic>
          <a:graphicData uri="http://schemas.openxmlformats.org/drawingml/2006/table">
            <a:tbl>
              <a:tblPr/>
              <a:tblGrid>
                <a:gridCol w="2521080"/>
                <a:gridCol w="1584360"/>
                <a:gridCol w="1584360"/>
                <a:gridCol w="1511280"/>
              </a:tblGrid>
              <a:tr h="576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ostna nalož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 </a:t>
                      </a: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ali prispev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49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. - 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.464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.646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479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. - M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212.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212.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0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. – Energetska učinkovit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63.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63.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49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3. – Urbani razv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2.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12.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2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153.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.153.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Skupina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5254920" cy="676440"/>
          </a:xfrm>
          <a:prstGeom prst="rect">
            <a:avLst/>
          </a:prstGeom>
          <a:ln w="0">
            <a:noFill/>
          </a:ln>
        </p:spPr>
      </p:pic>
      <p:pic>
        <p:nvPicPr>
          <p:cNvPr id="572" name="Ograda vsebine 2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8645760" cy="2109960"/>
          </a:xfrm>
          <a:prstGeom prst="rect">
            <a:avLst/>
          </a:prstGeom>
          <a:ln w="0">
            <a:noFill/>
          </a:ln>
        </p:spPr>
      </p:pic>
      <p:pic>
        <p:nvPicPr>
          <p:cNvPr id="573" name="Ograda vsebine 2" descr=""/>
          <p:cNvPicPr/>
          <p:nvPr/>
        </p:nvPicPr>
        <p:blipFill>
          <a:blip r:embed="rId3"/>
          <a:stretch/>
        </p:blipFill>
        <p:spPr>
          <a:xfrm>
            <a:off x="109440" y="4145040"/>
            <a:ext cx="8564760" cy="2182680"/>
          </a:xfrm>
          <a:prstGeom prst="rect">
            <a:avLst/>
          </a:prstGeom>
          <a:ln w="0">
            <a:noFill/>
          </a:ln>
        </p:spPr>
      </p:pic>
      <p:sp>
        <p:nvSpPr>
          <p:cNvPr id="574" name="Zaobljeni pravokotnik 6"/>
          <p:cNvSpPr/>
          <p:nvPr/>
        </p:nvSpPr>
        <p:spPr>
          <a:xfrm>
            <a:off x="250920" y="992160"/>
            <a:ext cx="3630600" cy="358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aobljeni pravokotnik 7"/>
          <p:cNvSpPr/>
          <p:nvPr/>
        </p:nvSpPr>
        <p:spPr>
          <a:xfrm>
            <a:off x="324000" y="3645000"/>
            <a:ext cx="1814400" cy="36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</a:rPr>
              <a:t>FFW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ovizija - Struk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oljeZBesedilom 4"/>
          <p:cNvSpPr/>
          <p:nvPr/>
        </p:nvSpPr>
        <p:spPr>
          <a:xfrm>
            <a:off x="1120680" y="1733400"/>
            <a:ext cx="671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upravljanje Sklada Skladov je Upravičenec upravičen do osnovne upravljavske provizije in provizije za uspešnost (Uredba EK 480/201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novna upravljavska provizija v naslednjih časovnih razporeditvah in višina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vih 12 mesecih po podpisu tega sporazuma 3 % letno od zneska Podpore EU, plačane v Sklad Skladov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naslednjih 12 mesecih 1 % letno od celotnega zneska Podpore EU plačane v Sklad Skladov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sako nadaljnje leto pa 0,5 % letno od celotnega zneska Podpore EU plačane v Sklad Sklad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ovizija za uspešn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oljeZBesedilom 4"/>
          <p:cNvSpPr/>
          <p:nvPr/>
        </p:nvSpPr>
        <p:spPr>
          <a:xfrm>
            <a:off x="1120680" y="1733400"/>
            <a:ext cx="671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vizije za uspešnost znaša največ 0,5 % letno od Namenskega Portfelja upoštevaje spodnja štiri merila in utež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išina Namenskega Portfelja Sklada Skladov: 0,05 % letno od celotnega Namenskega Portfelj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išina vrnjenih sredstev iz Namenskega Portfelja Sklada Skladov: 0,05 % letno od celotnega Namenskega Portfelj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obseg  spremljevalnih  ukrep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0,2 % letno od celotnega Namenskega Portfelja, če ukrepi Upravičenca za pospešitev izvajanja Operacije dosegajo obseg tovrstnih ukrepov načrtovan v Letnem Načr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doseganje ciljnih vrednosti kazalni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0,2 % letno od celotnega Namenskega Portfelja, če dosežene vrednosti kazalnikov dosegajo vrednosti načrtovane v Letnem Načr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oljeZBesedilom 1"/>
          <p:cNvSpPr/>
          <p:nvPr/>
        </p:nvSpPr>
        <p:spPr>
          <a:xfrm>
            <a:off x="684360" y="92880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Rezultati poslovanja za leto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oljeZBesedilom 2"/>
          <p:cNvSpPr/>
          <p:nvPr/>
        </p:nvSpPr>
        <p:spPr>
          <a:xfrm>
            <a:off x="1057320" y="2263680"/>
            <a:ext cx="631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plačilo v sklad skladov: 63.250.000,00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bračunan provizija do 31.12.2017:  126.500,00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egativne obresti: 15.109,41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labitve odpisi: 211.700,00 EUR (v skladu z MRS 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736560" y="2654280"/>
            <a:ext cx="7210440" cy="2797200"/>
          </a:xfrm>
          <a:prstGeom prst="rect">
            <a:avLst/>
          </a:prstGeom>
          <a:ln w="0">
            <a:noFill/>
          </a:ln>
        </p:spPr>
      </p:pic>
      <p:sp>
        <p:nvSpPr>
          <p:cNvPr id="583" name="PoljeZBesedilom 5"/>
          <p:cNvSpPr/>
          <p:nvPr/>
        </p:nvSpPr>
        <p:spPr>
          <a:xfrm>
            <a:off x="684360" y="129384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lan izvajanja FI v letu 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imona Hočevar</cp:lastModifiedBy>
  <cp:lastPrinted>2015-03-24T12:44:18Z</cp:lastPrinted>
  <dcterms:modified xsi:type="dcterms:W3CDTF">2018-05-24T09:27:03Z</dcterms:modified>
  <cp:revision>51</cp:revision>
  <dc:subject/>
  <dc:title>PowerPoint Presentation</dc:title>
</cp:coreProperties>
</file>