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9481-E9B2-44A7-BC90-08368346F52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326B-123D-42A2-864A-5684378BE66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1E0B-E0A6-41B3-9F68-08209AD18A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0E29-B7BD-4A18-8415-1FEEDFC05C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2330-0B09-4601-A65A-DC737F2C61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CC92-E1F5-4133-8070-C02CEF3E0E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AB4F-5D51-43AA-B134-68BCC709E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10A1-3848-4703-A587-17A8A8C132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E4D0-FF22-4D20-A9A8-63DA490E7E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C3B4-F034-4F46-A088-755EBF34CD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6DB0-820A-4F30-A666-D1AAC2AC32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3879-4FDB-4F27-A8CD-0AB6227593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7838-FEE4-41F1-AFD9-D53D1F4556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CFF2-4ADA-419E-9147-DB1C431328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2F94C-349D-4DEA-A24E-4E4AB8CF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7150D-53A8-4914-94EE-DA7E1858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9993F-C30E-4FAA-98AF-8CF20A6B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A947A-79D5-48FC-A93C-52AD1C21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C6FD4-080E-4960-A6FE-01569EE8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0905D-4EFE-48E4-943C-D07232E1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3DA1F-19B6-4D36-83DC-93729AA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50D31-2ABA-4E3D-B24B-9E71833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79ABD-DFC6-4E83-8687-9915435E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8A6C6-D012-48AD-A496-663145BB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EBD54-748F-43EC-94C2-B9F630AF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21FFC-A6A6-4D43-B8C3-482465AA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19C11-F96B-4FF6-B25C-6AA27A82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0FF22-9103-4909-9637-76118531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640D4-C33B-4EB1-A139-90C2A9B7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B85EE-82BE-45F0-B9D7-8A588493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A1858-C366-496D-9B6F-44D5997E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D48B9-5133-4056-ABEE-B9618E24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7140E-C7FF-48A1-8BCA-5BE9976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1DC93-2E29-409B-9DAD-9B167670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572F6-D500-49DA-B396-E1F29BAE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B6258-F327-4C32-9961-B9DA68F8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BC54F-BFC7-4E93-8C2B-AE0AEDC0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6D9B0-9A4F-4331-B511-F9E094DB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B5554-1AA4-43C4-B1CD-28EC94BB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6A6F5-1F38-4C44-BBB9-9CAD5BEB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E36EC0-E9F8-4CDB-84DF-19BCB2B3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F87E1-B5D3-439D-837A-9DC9037B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C4CB8-BDEF-40BC-B0C1-38FA91AB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547D6-E96C-4152-BE63-AC659572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B4100-8B6F-4BB1-9C55-E1DEEA4A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F6436-1F82-4972-992B-30B09EE3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C29D4-8306-4089-97B4-E6596E39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2186C-3048-4C73-BB0E-3DFD15CD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164D9-5A5C-44E0-9997-61FC1A3A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3DF9A-30A2-43D5-8F70-EB01B7EF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2E65B-BC93-40AB-A992-3CE93CD5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52D6C-D71C-474C-AF0B-FAE0061D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BBEFF-04C7-4A6B-9075-3CDFE421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AF7A6-3639-4417-90C1-FA3F7D00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EC9CA-58E6-4FAB-AA8C-03E153BA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20640" y="1117080"/>
            <a:ext cx="7886880" cy="61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64DD5-163F-4E24-9E12-4EC1B3D4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43C36-EAC3-4C27-9FC5-1B22639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E557C-1326-4A1A-9219-A9FA8CFD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3FE25-280E-4944-A7DC-5ABB5EC8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FA9D7-4CF6-4EFA-845D-8FB79FB0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280" y="448992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354E0-DA59-4B12-87AE-6C55E30B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9544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62320" y="264600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856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9544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62320" y="4489920"/>
            <a:ext cx="253944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F781F-B609-482C-8077-AC31586E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646000"/>
            <a:ext cx="384876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489920"/>
            <a:ext cx="788688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Slika 16" descr=""/>
          <p:cNvPicPr/>
          <p:nvPr/>
        </p:nvPicPr>
        <p:blipFill>
          <a:blip r:embed="rId2"/>
          <a:stretch/>
        </p:blipFill>
        <p:spPr>
          <a:xfrm>
            <a:off x="3454560" y="266760"/>
            <a:ext cx="2217600" cy="530280"/>
          </a:xfrm>
          <a:prstGeom prst="rect">
            <a:avLst/>
          </a:prstGeom>
          <a:ln w="0">
            <a:noFill/>
          </a:ln>
        </p:spPr>
      </p:pic>
      <p:pic>
        <p:nvPicPr>
          <p:cNvPr id="3" name="Slika 17" descr=""/>
          <p:cNvPicPr/>
          <p:nvPr/>
        </p:nvPicPr>
        <p:blipFill>
          <a:blip r:embed="rId3"/>
          <a:stretch/>
        </p:blipFill>
        <p:spPr>
          <a:xfrm>
            <a:off x="324000" y="17316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4" name="Slika 18" descr=""/>
          <p:cNvPicPr/>
          <p:nvPr/>
        </p:nvPicPr>
        <p:blipFill>
          <a:blip r:embed="rId4"/>
          <a:stretch/>
        </p:blipFill>
        <p:spPr>
          <a:xfrm>
            <a:off x="6126120" y="14760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5" name="Slika 20" descr=""/>
          <p:cNvPicPr/>
          <p:nvPr/>
        </p:nvPicPr>
        <p:blipFill>
          <a:blip r:embed="rId5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3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5115240" cy="917640"/>
          </a:xfrm>
          <a:prstGeom prst="rect">
            <a:avLst/>
          </a:prstGeom>
          <a:ln w="0">
            <a:noFill/>
          </a:ln>
        </p:spPr>
      </p:pic>
      <p:pic>
        <p:nvPicPr>
          <p:cNvPr id="43" name="Slika 14" descr="C:\Users\rfiser\AppData\Local\Microsoft\Windows\INetCache\Content.Word\ppt_bg_si_hr_dvojez_main.jpg"/>
          <p:cNvPicPr/>
          <p:nvPr/>
        </p:nvPicPr>
        <p:blipFill>
          <a:blip r:embed="rId3"/>
          <a:stretch/>
        </p:blipFill>
        <p:spPr>
          <a:xfrm>
            <a:off x="826920" y="1461960"/>
            <a:ext cx="5115240" cy="795600"/>
          </a:xfrm>
          <a:prstGeom prst="rect">
            <a:avLst/>
          </a:prstGeom>
          <a:ln w="0">
            <a:noFill/>
          </a:ln>
        </p:spPr>
      </p:pic>
      <p:pic>
        <p:nvPicPr>
          <p:cNvPr id="44" name="Slika 15" descr=""/>
          <p:cNvPicPr/>
          <p:nvPr/>
        </p:nvPicPr>
        <p:blipFill>
          <a:blip r:embed="rId4"/>
          <a:stretch/>
        </p:blipFill>
        <p:spPr>
          <a:xfrm>
            <a:off x="3132000" y="847800"/>
            <a:ext cx="3562560" cy="561960"/>
          </a:xfrm>
          <a:prstGeom prst="rect">
            <a:avLst/>
          </a:prstGeom>
          <a:ln w="0">
            <a:noFill/>
          </a:ln>
        </p:spPr>
      </p:pic>
      <p:pic>
        <p:nvPicPr>
          <p:cNvPr id="45" name="Slika 16" descr=""/>
          <p:cNvPicPr/>
          <p:nvPr/>
        </p:nvPicPr>
        <p:blipFill>
          <a:blip r:embed="rId5"/>
          <a:stretch/>
        </p:blipFill>
        <p:spPr>
          <a:xfrm>
            <a:off x="6084720" y="1461960"/>
            <a:ext cx="2217960" cy="530280"/>
          </a:xfrm>
          <a:prstGeom prst="rect">
            <a:avLst/>
          </a:prstGeom>
          <a:ln w="0">
            <a:noFill/>
          </a:ln>
        </p:spPr>
      </p:pic>
      <p:pic>
        <p:nvPicPr>
          <p:cNvPr id="46" name="Slika 17" descr=""/>
          <p:cNvPicPr/>
          <p:nvPr/>
        </p:nvPicPr>
        <p:blipFill>
          <a:blip r:embed="rId6"/>
          <a:stretch/>
        </p:blipFill>
        <p:spPr>
          <a:xfrm>
            <a:off x="5834160" y="7308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47" name="Slika 18" descr=""/>
          <p:cNvPicPr/>
          <p:nvPr/>
        </p:nvPicPr>
        <p:blipFill>
          <a:blip r:embed="rId7"/>
          <a:stretch/>
        </p:blipFill>
        <p:spPr>
          <a:xfrm>
            <a:off x="755640" y="74448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48" name="Slika 19" descr=""/>
          <p:cNvPicPr/>
          <p:nvPr/>
        </p:nvPicPr>
        <p:blipFill>
          <a:blip r:embed="rId8"/>
          <a:stretch/>
        </p:blipFill>
        <p:spPr>
          <a:xfrm>
            <a:off x="4622760" y="847800"/>
            <a:ext cx="3679920" cy="561960"/>
          </a:xfrm>
          <a:prstGeom prst="rect">
            <a:avLst/>
          </a:prstGeom>
          <a:ln w="0">
            <a:noFill/>
          </a:ln>
        </p:spPr>
      </p:pic>
      <p:pic>
        <p:nvPicPr>
          <p:cNvPr id="49" name="Slika 20" descr=""/>
          <p:cNvPicPr/>
          <p:nvPr/>
        </p:nvPicPr>
        <p:blipFill>
          <a:blip r:embed="rId9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lika 16" descr=""/>
          <p:cNvPicPr/>
          <p:nvPr/>
        </p:nvPicPr>
        <p:blipFill>
          <a:blip r:embed="rId2"/>
          <a:stretch/>
        </p:blipFill>
        <p:spPr>
          <a:xfrm>
            <a:off x="3454560" y="266760"/>
            <a:ext cx="2217600" cy="530280"/>
          </a:xfrm>
          <a:prstGeom prst="rect">
            <a:avLst/>
          </a:prstGeom>
          <a:ln w="0">
            <a:noFill/>
          </a:ln>
        </p:spPr>
      </p:pic>
      <p:pic>
        <p:nvPicPr>
          <p:cNvPr id="87" name="Slika 17" descr=""/>
          <p:cNvPicPr/>
          <p:nvPr/>
        </p:nvPicPr>
        <p:blipFill>
          <a:blip r:embed="rId3"/>
          <a:stretch/>
        </p:blipFill>
        <p:spPr>
          <a:xfrm>
            <a:off x="324000" y="17316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88" name="Slika 18" descr=""/>
          <p:cNvPicPr/>
          <p:nvPr/>
        </p:nvPicPr>
        <p:blipFill>
          <a:blip r:embed="rId4"/>
          <a:stretch/>
        </p:blipFill>
        <p:spPr>
          <a:xfrm>
            <a:off x="6126120" y="14760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89" name="Slika 20" descr=""/>
          <p:cNvPicPr/>
          <p:nvPr/>
        </p:nvPicPr>
        <p:blipFill>
          <a:blip r:embed="rId5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655272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E715-6445-4345-A45B-1B26D1A2E6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2"/>
          </p:nvPr>
        </p:nvSpPr>
        <p:spPr>
          <a:xfrm>
            <a:off x="3330720" y="6259680"/>
            <a:ext cx="249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lika 16" descr=""/>
          <p:cNvPicPr/>
          <p:nvPr/>
        </p:nvPicPr>
        <p:blipFill>
          <a:blip r:embed="rId2"/>
          <a:stretch/>
        </p:blipFill>
        <p:spPr>
          <a:xfrm>
            <a:off x="3454560" y="266760"/>
            <a:ext cx="2217600" cy="530280"/>
          </a:xfrm>
          <a:prstGeom prst="rect">
            <a:avLst/>
          </a:prstGeom>
          <a:ln w="0">
            <a:noFill/>
          </a:ln>
        </p:spPr>
      </p:pic>
      <p:pic>
        <p:nvPicPr>
          <p:cNvPr id="131" name="Slika 17" descr=""/>
          <p:cNvPicPr/>
          <p:nvPr/>
        </p:nvPicPr>
        <p:blipFill>
          <a:blip r:embed="rId3"/>
          <a:stretch/>
        </p:blipFill>
        <p:spPr>
          <a:xfrm>
            <a:off x="324000" y="17316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132" name="Slika 18" descr=""/>
          <p:cNvPicPr/>
          <p:nvPr/>
        </p:nvPicPr>
        <p:blipFill>
          <a:blip r:embed="rId4"/>
          <a:stretch/>
        </p:blipFill>
        <p:spPr>
          <a:xfrm>
            <a:off x="6126120" y="14760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133" name="Slika 20" descr=""/>
          <p:cNvPicPr/>
          <p:nvPr/>
        </p:nvPicPr>
        <p:blipFill>
          <a:blip r:embed="rId5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E0E4-9434-488E-AD64-E0BDBB3A5154}" type="slidenum"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lika 16" descr=""/>
          <p:cNvPicPr/>
          <p:nvPr/>
        </p:nvPicPr>
        <p:blipFill>
          <a:blip r:embed="rId2"/>
          <a:stretch/>
        </p:blipFill>
        <p:spPr>
          <a:xfrm>
            <a:off x="3454560" y="266760"/>
            <a:ext cx="2217600" cy="530280"/>
          </a:xfrm>
          <a:prstGeom prst="rect">
            <a:avLst/>
          </a:prstGeom>
          <a:ln w="0">
            <a:noFill/>
          </a:ln>
        </p:spPr>
      </p:pic>
      <p:pic>
        <p:nvPicPr>
          <p:cNvPr id="176" name="Slika 17" descr=""/>
          <p:cNvPicPr/>
          <p:nvPr/>
        </p:nvPicPr>
        <p:blipFill>
          <a:blip r:embed="rId3"/>
          <a:stretch/>
        </p:blipFill>
        <p:spPr>
          <a:xfrm>
            <a:off x="324000" y="17316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177" name="Slika 18" descr=""/>
          <p:cNvPicPr/>
          <p:nvPr/>
        </p:nvPicPr>
        <p:blipFill>
          <a:blip r:embed="rId4"/>
          <a:stretch/>
        </p:blipFill>
        <p:spPr>
          <a:xfrm>
            <a:off x="6126120" y="14760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178" name="Slika 20" descr=""/>
          <p:cNvPicPr/>
          <p:nvPr/>
        </p:nvPicPr>
        <p:blipFill>
          <a:blip r:embed="rId5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0640" y="11170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28560" y="2646000"/>
            <a:ext cx="78868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D53D-F515-4B04-B3AD-331C557E59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Slika 13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511524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Slika 14" descr="C:\Users\rfiser\AppData\Local\Microsoft\Windows\INetCache\Content.Word\ppt_bg_si_hr_dvojez_main.jpg"/>
          <p:cNvPicPr/>
          <p:nvPr/>
        </p:nvPicPr>
        <p:blipFill>
          <a:blip r:embed="rId3"/>
          <a:stretch/>
        </p:blipFill>
        <p:spPr>
          <a:xfrm>
            <a:off x="826920" y="1461960"/>
            <a:ext cx="5115240" cy="795600"/>
          </a:xfrm>
          <a:prstGeom prst="rect">
            <a:avLst/>
          </a:prstGeom>
          <a:ln w="0">
            <a:noFill/>
          </a:ln>
        </p:spPr>
      </p:pic>
      <p:pic>
        <p:nvPicPr>
          <p:cNvPr id="222" name="Slika 15" descr=""/>
          <p:cNvPicPr/>
          <p:nvPr/>
        </p:nvPicPr>
        <p:blipFill>
          <a:blip r:embed="rId4"/>
          <a:stretch/>
        </p:blipFill>
        <p:spPr>
          <a:xfrm>
            <a:off x="3132000" y="847800"/>
            <a:ext cx="3562560" cy="561960"/>
          </a:xfrm>
          <a:prstGeom prst="rect">
            <a:avLst/>
          </a:prstGeom>
          <a:ln w="0">
            <a:noFill/>
          </a:ln>
        </p:spPr>
      </p:pic>
      <p:pic>
        <p:nvPicPr>
          <p:cNvPr id="223" name="Slika 16" descr=""/>
          <p:cNvPicPr/>
          <p:nvPr/>
        </p:nvPicPr>
        <p:blipFill>
          <a:blip r:embed="rId5"/>
          <a:stretch/>
        </p:blipFill>
        <p:spPr>
          <a:xfrm>
            <a:off x="6084720" y="1461960"/>
            <a:ext cx="2217960" cy="530280"/>
          </a:xfrm>
          <a:prstGeom prst="rect">
            <a:avLst/>
          </a:prstGeom>
          <a:ln w="0">
            <a:noFill/>
          </a:ln>
        </p:spPr>
      </p:pic>
      <p:pic>
        <p:nvPicPr>
          <p:cNvPr id="224" name="Slika 17" descr=""/>
          <p:cNvPicPr/>
          <p:nvPr/>
        </p:nvPicPr>
        <p:blipFill>
          <a:blip r:embed="rId6"/>
          <a:stretch/>
        </p:blipFill>
        <p:spPr>
          <a:xfrm>
            <a:off x="5834160" y="7308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225" name="Slika 18" descr=""/>
          <p:cNvPicPr/>
          <p:nvPr/>
        </p:nvPicPr>
        <p:blipFill>
          <a:blip r:embed="rId7"/>
          <a:stretch/>
        </p:blipFill>
        <p:spPr>
          <a:xfrm>
            <a:off x="755640" y="74448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226" name="Slika 19" descr=""/>
          <p:cNvPicPr/>
          <p:nvPr/>
        </p:nvPicPr>
        <p:blipFill>
          <a:blip r:embed="rId8"/>
          <a:stretch/>
        </p:blipFill>
        <p:spPr>
          <a:xfrm>
            <a:off x="4622760" y="847800"/>
            <a:ext cx="3679920" cy="561960"/>
          </a:xfrm>
          <a:prstGeom prst="rect">
            <a:avLst/>
          </a:prstGeom>
          <a:ln w="0">
            <a:noFill/>
          </a:ln>
        </p:spPr>
      </p:pic>
      <p:pic>
        <p:nvPicPr>
          <p:cNvPr id="227" name="Slika 20" descr=""/>
          <p:cNvPicPr/>
          <p:nvPr/>
        </p:nvPicPr>
        <p:blipFill>
          <a:blip r:embed="rId9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8DAC-9028-4A15-B429-E60EB20E003A}" type="slidenum"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Slika 13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5115240" cy="917640"/>
          </a:xfrm>
          <a:prstGeom prst="rect">
            <a:avLst/>
          </a:prstGeom>
          <a:ln w="0">
            <a:noFill/>
          </a:ln>
        </p:spPr>
      </p:pic>
      <p:pic>
        <p:nvPicPr>
          <p:cNvPr id="268" name="Slika 14" descr="C:\Users\rfiser\AppData\Local\Microsoft\Windows\INetCache\Content.Word\ppt_bg_si_hr_dvojez_main.jpg"/>
          <p:cNvPicPr/>
          <p:nvPr/>
        </p:nvPicPr>
        <p:blipFill>
          <a:blip r:embed="rId3"/>
          <a:stretch/>
        </p:blipFill>
        <p:spPr>
          <a:xfrm>
            <a:off x="826920" y="1461960"/>
            <a:ext cx="5115240" cy="795600"/>
          </a:xfrm>
          <a:prstGeom prst="rect">
            <a:avLst/>
          </a:prstGeom>
          <a:ln w="0">
            <a:noFill/>
          </a:ln>
        </p:spPr>
      </p:pic>
      <p:pic>
        <p:nvPicPr>
          <p:cNvPr id="269" name="Slika 15" descr=""/>
          <p:cNvPicPr/>
          <p:nvPr/>
        </p:nvPicPr>
        <p:blipFill>
          <a:blip r:embed="rId4"/>
          <a:stretch/>
        </p:blipFill>
        <p:spPr>
          <a:xfrm>
            <a:off x="3132000" y="847800"/>
            <a:ext cx="3562560" cy="561960"/>
          </a:xfrm>
          <a:prstGeom prst="rect">
            <a:avLst/>
          </a:prstGeom>
          <a:ln w="0">
            <a:noFill/>
          </a:ln>
        </p:spPr>
      </p:pic>
      <p:pic>
        <p:nvPicPr>
          <p:cNvPr id="270" name="Slika 16" descr=""/>
          <p:cNvPicPr/>
          <p:nvPr/>
        </p:nvPicPr>
        <p:blipFill>
          <a:blip r:embed="rId5"/>
          <a:stretch/>
        </p:blipFill>
        <p:spPr>
          <a:xfrm>
            <a:off x="6084720" y="1461960"/>
            <a:ext cx="2217960" cy="530280"/>
          </a:xfrm>
          <a:prstGeom prst="rect">
            <a:avLst/>
          </a:prstGeom>
          <a:ln w="0">
            <a:noFill/>
          </a:ln>
        </p:spPr>
      </p:pic>
      <p:pic>
        <p:nvPicPr>
          <p:cNvPr id="271" name="Slika 17" descr=""/>
          <p:cNvPicPr/>
          <p:nvPr/>
        </p:nvPicPr>
        <p:blipFill>
          <a:blip r:embed="rId6"/>
          <a:stretch/>
        </p:blipFill>
        <p:spPr>
          <a:xfrm>
            <a:off x="5834160" y="73080"/>
            <a:ext cx="2576520" cy="788760"/>
          </a:xfrm>
          <a:prstGeom prst="rect">
            <a:avLst/>
          </a:prstGeom>
          <a:ln w="0">
            <a:noFill/>
          </a:ln>
        </p:spPr>
      </p:pic>
      <p:pic>
        <p:nvPicPr>
          <p:cNvPr id="272" name="Slika 18" descr=""/>
          <p:cNvPicPr/>
          <p:nvPr/>
        </p:nvPicPr>
        <p:blipFill>
          <a:blip r:embed="rId7"/>
          <a:stretch/>
        </p:blipFill>
        <p:spPr>
          <a:xfrm>
            <a:off x="755640" y="744480"/>
            <a:ext cx="2522520" cy="768240"/>
          </a:xfrm>
          <a:prstGeom prst="rect">
            <a:avLst/>
          </a:prstGeom>
          <a:ln w="0">
            <a:noFill/>
          </a:ln>
        </p:spPr>
      </p:pic>
      <p:pic>
        <p:nvPicPr>
          <p:cNvPr id="273" name="Slika 19" descr=""/>
          <p:cNvPicPr/>
          <p:nvPr/>
        </p:nvPicPr>
        <p:blipFill>
          <a:blip r:embed="rId8"/>
          <a:stretch/>
        </p:blipFill>
        <p:spPr>
          <a:xfrm>
            <a:off x="4622760" y="847800"/>
            <a:ext cx="3679920" cy="561960"/>
          </a:xfrm>
          <a:prstGeom prst="rect">
            <a:avLst/>
          </a:prstGeom>
          <a:ln w="0">
            <a:noFill/>
          </a:ln>
        </p:spPr>
      </p:pic>
      <p:pic>
        <p:nvPicPr>
          <p:cNvPr id="274" name="Slika 20" descr=""/>
          <p:cNvPicPr/>
          <p:nvPr/>
        </p:nvPicPr>
        <p:blipFill>
          <a:blip r:embed="rId9"/>
          <a:stretch/>
        </p:blipFill>
        <p:spPr>
          <a:xfrm>
            <a:off x="-28440" y="5775480"/>
            <a:ext cx="9172440" cy="10634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C901-6E36-478D-8149-094F673E0E92}" type="slidenum"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imitrij.pur@gov.si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-at.eu/en2/" TargetMode="External"/><Relationship Id="rId2" Type="http://schemas.openxmlformats.org/officeDocument/2006/relationships/hyperlink" Target="http://www.si-hr.eu/si2/" TargetMode="External"/><Relationship Id="rId3" Type="http://schemas.openxmlformats.org/officeDocument/2006/relationships/hyperlink" Target="http://www.si-hu.eu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1f497d"/>
                </a:solidFill>
                <a:latin typeface="Calibri"/>
              </a:rPr>
              <a:t>5. REDNA SEJA ODBORA ZA SPREMLJANJE (Oz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1f497d"/>
                </a:solidFill>
                <a:latin typeface="Calibri"/>
              </a:rPr>
              <a:t>25. maj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1f497d"/>
                </a:solidFill>
                <a:latin typeface="Calibri"/>
              </a:rPr>
              <a:t>Predstavitev aktivnosti povezanimi z Makroregionalnimi strategijami EU in teritorialnim sodelovanjem v programskem obdobju 2014–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Dimitrij Pur, Vodja sektorja za upravljanje čezmejnih programov, namestnik  OU: Interreg SI-AT, SI-HU, SI-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mitrij.pur@gov.si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Slika 3" descr=""/>
          <p:cNvPicPr/>
          <p:nvPr/>
        </p:nvPicPr>
        <p:blipFill>
          <a:blip r:embed="rId1"/>
          <a:srcRect l="1315" t="3251" r="1759" b="3718"/>
          <a:stretch/>
        </p:blipFill>
        <p:spPr>
          <a:xfrm>
            <a:off x="1403280" y="-1440"/>
            <a:ext cx="6246720" cy="1809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24000" y="2060280"/>
            <a:ext cx="7858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Vsako leto predsedujoča država strategije organizira letni forum v sodelovanju 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Evropsko komisijo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EUSAIR Podporno toč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mednarodni projekt, VP SV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1" descr=""/>
          <p:cNvPicPr/>
          <p:nvPr/>
        </p:nvPicPr>
        <p:blipFill>
          <a:blip r:embed="rId2"/>
          <a:stretch/>
        </p:blipFill>
        <p:spPr>
          <a:xfrm>
            <a:off x="5364000" y="4773600"/>
            <a:ext cx="28371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060640"/>
            <a:ext cx="82072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Letni Forum je največji dogodek strateg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ičakuje se prek 700 udeležencev iz 8 drž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Letos je poudarek na povezljivosti jadransko-jonske makroreg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TRANSPORT in ENERGETIKA pod slogan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ur Region, Our Future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Slika 12" descr=""/>
          <p:cNvPicPr/>
          <p:nvPr/>
        </p:nvPicPr>
        <p:blipFill>
          <a:blip r:embed="rId1"/>
          <a:srcRect l="1315" t="3251" r="1759" b="3718"/>
          <a:stretch/>
        </p:blipFill>
        <p:spPr>
          <a:xfrm>
            <a:off x="1403280" y="23760"/>
            <a:ext cx="624672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79280" y="2708280"/>
          <a:ext cx="8748720" cy="2600280"/>
        </p:xfrm>
        <a:graphic>
          <a:graphicData uri="http://schemas.openxmlformats.org/drawingml/2006/table">
            <a:tbl>
              <a:tblPr/>
              <a:tblGrid>
                <a:gridCol w="3864240"/>
                <a:gridCol w="1220760"/>
                <a:gridCol w="1220760"/>
                <a:gridCol w="1222200"/>
                <a:gridCol w="1220760"/>
              </a:tblGrid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-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-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-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IT-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0824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 in EU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14.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988.3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795.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.929.9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i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bursement  (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EU  ETS avarage 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received applications on  Open  Ca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marL="2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projects in implement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</a:tbl>
          </a:graphicData>
        </a:graphic>
      </p:graphicFrame>
      <p:sp>
        <p:nvSpPr>
          <p:cNvPr id="330" name="Ograda številke diapozitiva 2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704F-5E50-4E9A-9894-0E9991337C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oljeZBesedilom 1"/>
          <p:cNvSpPr/>
          <p:nvPr/>
        </p:nvSpPr>
        <p:spPr>
          <a:xfrm>
            <a:off x="1692360" y="1268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2e75b6"/>
                </a:solidFill>
                <a:latin typeface="Calibri"/>
              </a:rPr>
              <a:t>Interreg programi čezmejnega sodelov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sl-SI" sz="2400" spc="-1" strike="noStrike">
                <a:solidFill>
                  <a:srgbClr val="2e75b6"/>
                </a:solidFill>
                <a:latin typeface="Calibri"/>
              </a:rPr>
              <a:t>Implementation reports 2017 - </a:t>
            </a:r>
            <a:r>
              <a:rPr b="1" lang="en-US" sz="2400" spc="-1" strike="noStrike">
                <a:solidFill>
                  <a:srgbClr val="2e75b6"/>
                </a:solidFill>
                <a:latin typeface="Calibri"/>
              </a:rPr>
              <a:t>Contribution of the </a:t>
            </a:r>
            <a:r>
              <a:rPr b="1" lang="sl-SI" sz="2400" spc="-1" strike="noStrike">
                <a:solidFill>
                  <a:srgbClr val="2e75b6"/>
                </a:solidFill>
                <a:latin typeface="Calibri"/>
              </a:rPr>
              <a:t>SI-AT, SI-HU, SI-HR </a:t>
            </a:r>
            <a:r>
              <a:rPr b="1" lang="en-US" sz="2400" spc="-1" strike="noStrike">
                <a:solidFill>
                  <a:srgbClr val="2e75b6"/>
                </a:solidFill>
                <a:latin typeface="Calibri"/>
              </a:rPr>
              <a:t>programme</a:t>
            </a:r>
            <a:r>
              <a:rPr b="1" lang="sl-SI" sz="2400" spc="-1" strike="noStrike">
                <a:solidFill>
                  <a:srgbClr val="2e75b6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2e75b6"/>
                </a:solidFill>
                <a:latin typeface="Calibri"/>
              </a:rPr>
              <a:t> to the</a:t>
            </a:r>
            <a:r>
              <a:rPr b="1" lang="sl-SI" sz="2400" spc="-1" strike="noStrike">
                <a:solidFill>
                  <a:srgbClr val="2e75b6"/>
                </a:solidFill>
                <a:latin typeface="Calibri"/>
              </a:rPr>
              <a:t>: </a:t>
            </a:r>
            <a:br>
              <a:rPr sz="4000"/>
            </a:br>
            <a:br>
              <a:rPr sz="4000"/>
            </a:b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-EU Strategy for the Danube Region (EUSDR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-EU Strategy for the Alpine Region (EUSALP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-EU Strategy for the Adriatic and Ionian Region (EUSAIR)</a:t>
            </a:r>
            <a:br>
              <a:rPr sz="4000"/>
            </a:b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Ograda številke diapozitiva 3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77DF-6558-4CFA-94C8-8C6B5EAB72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grada noge 4"/>
          <p:cNvSpPr/>
          <p:nvPr/>
        </p:nvSpPr>
        <p:spPr>
          <a:xfrm>
            <a:off x="3330720" y="6259680"/>
            <a:ext cx="249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584080" y="482400"/>
            <a:ext cx="3087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liennummernplatzhalter 3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AB68-597D-4AF5-9BAC-7BB12AB7AE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584080" y="482400"/>
            <a:ext cx="3087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187280" y="2349360"/>
          <a:ext cx="6359760" cy="3994200"/>
        </p:xfrm>
        <a:graphic>
          <a:graphicData uri="http://schemas.openxmlformats.org/drawingml/2006/table">
            <a:tbl>
              <a:tblPr/>
              <a:tblGrid>
                <a:gridCol w="3184560"/>
                <a:gridCol w="3175200"/>
              </a:tblGrid>
              <a:tr h="1943280">
                <a:tc>
                  <a:txBody>
                    <a:bodyPr lIns="51840" rIns="51840" tIns="0" bIns="0" anchor="t">
                      <a:noAutofit/>
                    </a:bodyPr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llar 1: "Connecting the Danube Regio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  Mobility - Waterway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 Mobility- Rail, road &amp; ai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.3 Energy (TO6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.4 Culture and Tourism (TO6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11240" indent="66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llar 2: "Protecting the Environment in the Danube Regio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 Priority Areas (with scroll bar selection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.2 Water Quality (TO6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.3 Environmental Risks (TO11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.4 Biodiversity, landscapes, air and soil quality (TO6c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920">
                <a:tc>
                  <a:txBody>
                    <a:bodyPr lIns="51840" rIns="5184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llar 3: "Building Prosperity in the Danube Regio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 Priority Areas (with scroll bar selection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.2 Knowledge society (TO1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.3 Competitiveness (TO1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.4 People &amp; Skills( TO1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llar 4: "Strengthening the Danube Regio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 Priority Areas (with scroll bar selection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2 Institutional Capacity &amp; Cooperation (TO11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 Secur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3680" y="114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e75b6"/>
                </a:solidFill>
                <a:latin typeface="Calibri"/>
              </a:rPr>
              <a:t>EUSDR </a:t>
            </a:r>
            <a:r>
              <a:rPr b="1" lang="sl-SI" sz="2500" spc="-1" strike="noStrike">
                <a:solidFill>
                  <a:srgbClr val="2e75b6"/>
                </a:solidFill>
                <a:latin typeface="Calibri"/>
              </a:rPr>
              <a:t>(SI-HU 11.2 Mio, SI-AT 11.8 Mio, SI-HR 10.2 Mio)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Ograda številke diapozitiva 3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ABE6-DEB8-4001-BD56-FB54ED794C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grada noge 4"/>
          <p:cNvSpPr/>
          <p:nvPr/>
        </p:nvSpPr>
        <p:spPr>
          <a:xfrm>
            <a:off x="3330720" y="6259680"/>
            <a:ext cx="249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584080" y="482400"/>
            <a:ext cx="3087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Predmet 8"/>
          <p:cNvGraphicFramePr/>
          <p:nvPr/>
        </p:nvGraphicFramePr>
        <p:xfrm>
          <a:off x="-905040" y="1001880"/>
          <a:ext cx="9225000" cy="60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Predme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5040" y="1001880"/>
                    <a:ext cx="922500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3680" y="114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e75b6"/>
                </a:solidFill>
                <a:latin typeface="Calibri"/>
              </a:rPr>
              <a:t>EUSALP  (SI-AT 11.1 Mio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3"/>
          <a:stretch/>
        </p:blipFill>
        <p:spPr>
          <a:xfrm>
            <a:off x="1187280" y="2077920"/>
            <a:ext cx="63914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liennummernplatzhalter 3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FD67-9BB5-44F8-9B68-EB034280EF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84080" y="482400"/>
            <a:ext cx="3087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87280" y="1844640"/>
          <a:ext cx="6359760" cy="4272120"/>
        </p:xfrm>
        <a:graphic>
          <a:graphicData uri="http://schemas.openxmlformats.org/drawingml/2006/table">
            <a:tbl>
              <a:tblPr/>
              <a:tblGrid>
                <a:gridCol w="3184560"/>
                <a:gridCol w="3175200"/>
              </a:tblGrid>
              <a:tr h="222264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Pillar: "BLUE GROWTH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.1 Blue technologi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.2 Fisheries and aquacultur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.3 Maritime and marine governance and servi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.1 Strengthening R&amp;D, Innov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.2 SMEs develop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.3 Capacity buil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Pillar: "CONNECTING THE REGIO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.1 Maritime transpor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.2 Intermodal connections to the hinter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.3 Energy networ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.1 Strengthening R&amp;D, Innov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.2  SMEs develop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.3 Capacity buil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94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Pillar: "ENVIRONMENTAL QUALITY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.1 The marin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.2 Transnational terrestrial habitats and biodivers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1 Strengthening R&amp;D, Innov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2 SMEs develop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3 Capacity buil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Pillar: " SUSTAINABLE TOURISM 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1.1 Diversified tourism offer (products and service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1.2 Sustainable and responsible tourism </a:t>
                      </a: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management (innovation and quality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2.1 Strengthening R&amp;D, Innova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2.2 SMEs develop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.2.3 Capacity building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5252"/>
                </a:solidFill>
                <a:latin typeface="Calibri Light"/>
              </a:rPr>
              <a:t> </a:t>
            </a:r>
            <a:r>
              <a:rPr b="1" lang="en-US" sz="2800" spc="-1" strike="noStrike">
                <a:solidFill>
                  <a:srgbClr val="2e75b6"/>
                </a:solidFill>
                <a:latin typeface="Calibri"/>
              </a:rPr>
              <a:t>EUSAIR</a:t>
            </a:r>
            <a:r>
              <a:rPr b="1" lang="sl-SI" sz="2800" spc="-1" strike="noStrike">
                <a:solidFill>
                  <a:srgbClr val="2e75b6"/>
                </a:solidFill>
                <a:latin typeface="Calibri"/>
              </a:rPr>
              <a:t> (SI-HR 8.5 Mio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8039160" cy="4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 Light"/>
              </a:rPr>
              <a:t>Več informacij na spletnih straneh </a:t>
            </a: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Calibri Light"/>
              </a:rPr>
              <a:t>programov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000" y="2997000"/>
            <a:ext cx="78865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www.si-at.eu/en2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si-hr.eu/si2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www.si-hu.e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mitrij.pur@gov.s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mitrij Pur, Vodja sektorja za upravljanje čezmejnih programov, namestnik  OU: Interreg SI-AT, SI-HU, SI-H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584080" y="480960"/>
            <a:ext cx="308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grada številke diapozitiva 4"/>
          <p:cNvSpPr/>
          <p:nvPr/>
        </p:nvSpPr>
        <p:spPr>
          <a:xfrm>
            <a:off x="6553080" y="6261120"/>
            <a:ext cx="2133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D802-05FA-4FBC-879C-84E3264EA2E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1:15:12Z</dcterms:created>
  <dc:creator>Dimitrij Pur</dc:creator>
  <dc:description/>
  <dc:language>en-US</dc:language>
  <cp:lastModifiedBy>Dimitrij Pur</cp:lastModifiedBy>
  <cp:lastPrinted>2018-05-24T12:44:26Z</cp:lastPrinted>
  <dcterms:modified xsi:type="dcterms:W3CDTF">2018-05-24T13:11:17Z</dcterms:modified>
  <cp:revision>23</cp:revision>
  <dc:subject/>
  <dc:title>PowerPointova predstavitev</dc:title>
</cp:coreProperties>
</file>