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A8C9-7876-42FD-BC1C-4CE1F9E5803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D96C-4C95-4A50-BF3D-92125F92719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CCFC-EEDC-48BB-ABCD-4C48623CD63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255680" y="5046840"/>
            <a:ext cx="3965760" cy="459072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770-34EA-4E2A-8A2E-0025B1DE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E08-ACB3-493F-8160-B3FE5BBB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493-C4AF-4378-BB97-27EC90D9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730-2234-4467-BBCA-B928D0E5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2B6-F75B-4FF2-895E-3A478406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FAE-A699-4CAC-A504-BD44213C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75C-8693-4701-9E04-B5C65FED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1E0-2B11-48F0-AD62-85C12406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667-4B69-444F-8E0B-94D58119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42F-A172-4A63-AC39-EBED9913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BEF-5B84-4755-BEE4-EE11963D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57D-37FB-4CF5-AC92-6883EF47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603F-9E2D-4637-BC99-054534E19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7880" y="1730160"/>
            <a:ext cx="6166080" cy="12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SPREMEMBA MERIL ZA IZBOR OPERACIJ</a:t>
            </a:r>
            <a:br>
              <a:rPr sz="2800"/>
            </a:br>
            <a:r>
              <a:rPr b="1" lang="sl-SI" sz="1400" spc="-1" strike="noStrike">
                <a:solidFill>
                  <a:srgbClr val="000000"/>
                </a:solidFill>
                <a:latin typeface="Calibri"/>
              </a:rPr>
              <a:t>V OKVIRU</a:t>
            </a:r>
            <a:br>
              <a:rPr sz="1400"/>
            </a:br>
            <a:r>
              <a:rPr b="1" lang="sl-SI" sz="1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POLITIKE ZA OBDOBJE 2014-2020</a:t>
            </a:r>
            <a:br>
              <a:rPr sz="2800"/>
            </a:br>
            <a:br>
              <a:rPr sz="2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3490920" y="44467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25.5.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927000" y="52236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REMEMBA MER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390600" y="1576440"/>
            <a:ext cx="80582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160"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premembe potrebne zaradi spremembe O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160">
              <a:lnSpc>
                <a:spcPct val="15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 1: - dodano meril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160">
              <a:lnSpc>
                <a:spcPct val="15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 2: - dodan pogoj in meril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160">
              <a:lnSpc>
                <a:spcPct val="15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 3: - dodana meril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160">
              <a:lnSpc>
                <a:spcPct val="15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 4: - dodane predvidene dejavnosti in meril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160">
              <a:lnSpc>
                <a:spcPct val="15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 7: - dodane predvidene dejavnosti, pogoji in meril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ja Močnik</cp:lastModifiedBy>
  <cp:lastPrinted>2016-05-18T14:37:24Z</cp:lastPrinted>
  <dcterms:modified xsi:type="dcterms:W3CDTF">2018-05-21T08:22:30Z</dcterms:modified>
  <cp:revision>156</cp:revision>
  <dc:subject/>
  <dc:title>PowerPoint Presentation</dc:title>
</cp:coreProperties>
</file>