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C9C-F330-44CE-A1C0-A0533EA5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E92-0445-4EFA-9CB0-59B5FC33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B18-C8C6-4AD6-AD5C-BFD8F696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D7F-EE2E-481A-A7C0-EA8ADE65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49B2-1515-4F6C-92DD-374D58FE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E0E7-D1D3-49B7-B184-BC028D25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FD67-9BA3-47EC-A325-CF710EEB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FA74-931E-40E2-86A8-5BF83CA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BB47-EA94-4E74-8B93-13FA56D9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15C5-11BB-479B-9D61-31655DC5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6163-B61E-491C-A3DC-ED97AA4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D58-10E1-4D36-B30B-5D5B91FB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ECDF-6A14-43FF-886A-DFECA5B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42E4-F23F-433D-A5BC-C78C272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CD3F-59FE-4363-9CD4-1F939550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FAD4-4B2E-429F-AFD2-A20D57B0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7DA4-07F8-495F-8562-588930A9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3F7E-0573-45FA-9A16-BD7C5628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5B90-429E-416F-8006-E0BC00AC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28799-13FC-4EAF-AADD-B5ED6549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4D96-873C-4CDF-976E-98E8FC3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2774-A1F4-48D6-B223-0165C650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DEE-1407-4621-8A1E-78D27617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2A05-48DF-4A12-9E78-59FBA81E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26B4-F61A-4C66-BF45-33E3F2B8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EC65-71E5-423B-A488-0AE2300B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66B6-D5A0-4E9A-B829-61B27B87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29C3-6650-42C5-9A1E-3093A5FC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71E1-33A7-49ED-9B73-9257C3A6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2953-DDB2-48A2-9109-18B9F91B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00F1-CDC6-47AC-BABA-919EE287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B4A9A-A8C1-4CEE-A772-25A1895F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9146-8857-4A3F-9B96-FC1A0D98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865-8DC3-4AB1-9074-BA22C773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96B7-210A-460E-974D-274AA13E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08DF-C747-4726-BAD8-A6B33286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12B2-A9EE-4CFD-8ED2-7AED6E1F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C3984-6F9E-402C-8F6D-475A0ACB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EA3E8-2E4B-4B12-9C87-757BB43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7E3D3-9E0C-4D87-A27B-80D0BDD0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CDEE-F560-437F-819A-52FD6CBE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6A94-EBE7-46EB-A734-EA5FA0CD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B33B-36C8-467A-B68C-A772494B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84A-A412-4129-A66C-FD110EDD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BF3-C31B-41A9-86FE-7DD45DAC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5C1-E5AD-46EF-AAF3-13E141A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D8A-1F33-425D-8EB2-ACF0104A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9FA-0EFD-4941-8D4C-1F3DD40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8F09-46C9-470D-BE80-DFB042D23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4EC5-F689-4934-A834-948BEC0F22A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702C-DCEC-4AC6-93E8-1CF1AD8EF5F2}" type="slidenum"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16DD-12BB-4950-88E5-7694E5508FD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5627520"/>
            <a:ext cx="9144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lovenska strategija pametne specializacije - S4</a:t>
            </a:r>
            <a:br>
              <a:rPr sz="36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imona Hočevar, SVRK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2" descr="naslovna slika 1"/>
          <p:cNvPicPr/>
          <p:nvPr/>
        </p:nvPicPr>
        <p:blipFill>
          <a:blip r:embed="rId1"/>
          <a:stretch/>
        </p:blipFill>
        <p:spPr>
          <a:xfrm>
            <a:off x="1316160" y="0"/>
            <a:ext cx="6843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191880" y="609480"/>
            <a:ext cx="40114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Calibri"/>
              </a:rPr>
              <a:t>raziskave, razvoj &amp; inovaci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55120" y="2075040"/>
            <a:ext cx="709956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grada besedila 1"/>
          <p:cNvSpPr/>
          <p:nvPr/>
        </p:nvSpPr>
        <p:spPr>
          <a:xfrm>
            <a:off x="0" y="-122400"/>
            <a:ext cx="4492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  <a:ea typeface="Arial"/>
              </a:rPr>
              <a:t>SVEŽENJ UKREPO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Ograda vsebine 4" descr=""/>
          <p:cNvPicPr/>
          <p:nvPr/>
        </p:nvPicPr>
        <p:blipFill>
          <a:blip r:embed="rId1"/>
          <a:stretch/>
        </p:blipFill>
        <p:spPr>
          <a:xfrm>
            <a:off x="-12600" y="1268280"/>
            <a:ext cx="9004320" cy="5497560"/>
          </a:xfrm>
          <a:prstGeom prst="rect">
            <a:avLst/>
          </a:prstGeom>
          <a:ln w="0">
            <a:noFill/>
          </a:ln>
        </p:spPr>
      </p:pic>
      <p:sp>
        <p:nvSpPr>
          <p:cNvPr id="695" name="PoljeZBesedilom 5"/>
          <p:cNvSpPr/>
          <p:nvPr/>
        </p:nvSpPr>
        <p:spPr>
          <a:xfrm>
            <a:off x="1757520" y="5389560"/>
            <a:ext cx="4333680" cy="398880"/>
          </a:xfrm>
          <a:prstGeom prst="rect">
            <a:avLst/>
          </a:prstGeom>
          <a:solidFill>
            <a:srgbClr val="d9d9d9"/>
          </a:solidFill>
          <a:ln cap="rnd"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ovativna javna naročila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Naslov 1"/>
          <p:cNvSpPr/>
          <p:nvPr/>
        </p:nvSpPr>
        <p:spPr>
          <a:xfrm>
            <a:off x="5823000" y="1595520"/>
            <a:ext cx="213516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Calibri"/>
                <a:ea typeface="Arial"/>
              </a:rPr>
              <a:t>RTD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Arial"/>
              </a:rPr>
              <a:t>:   </a:t>
            </a:r>
            <a:r>
              <a:rPr b="0" lang="sl-SI" sz="2700" spc="-1" strike="noStrike">
                <a:solidFill>
                  <a:srgbClr val="000000"/>
                </a:solidFill>
                <a:latin typeface="Calibri"/>
                <a:ea typeface="Arial"/>
              </a:rPr>
              <a:t>(I)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Calibri"/>
                <a:ea typeface="Arial"/>
              </a:rPr>
              <a:t>od razvoja do trg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številke diapoz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912C-761C-4C80-8FC4-43A007344B86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oljeZBesedilom 6"/>
          <p:cNvSpPr/>
          <p:nvPr/>
        </p:nvSpPr>
        <p:spPr>
          <a:xfrm>
            <a:off x="1644480" y="193500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Bazična zna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oljeZBesedilom 7"/>
          <p:cNvSpPr/>
          <p:nvPr/>
        </p:nvSpPr>
        <p:spPr>
          <a:xfrm>
            <a:off x="3924360" y="3105000"/>
            <a:ext cx="53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zboljšanje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ednarodne konkurenčnosti in odličnosti raziskav 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za sodelovanje v verigah vred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oljeZBesedilom 9"/>
          <p:cNvSpPr/>
          <p:nvPr/>
        </p:nvSpPr>
        <p:spPr>
          <a:xfrm>
            <a:off x="771480" y="360360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TRDITEV KONCEP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oljeZBesedilom 10"/>
          <p:cNvSpPr/>
          <p:nvPr/>
        </p:nvSpPr>
        <p:spPr>
          <a:xfrm>
            <a:off x="2246400" y="489744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ROTOT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oljeZBesedilom 11"/>
          <p:cNvSpPr/>
          <p:nvPr/>
        </p:nvSpPr>
        <p:spPr>
          <a:xfrm>
            <a:off x="4745160" y="6119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T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oljeZBesedilom 13"/>
          <p:cNvSpPr/>
          <p:nvPr/>
        </p:nvSpPr>
        <p:spPr>
          <a:xfrm>
            <a:off x="5189400" y="3745080"/>
            <a:ext cx="395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dpora RRI proceso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manjši investicijski projek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M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str. Plus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rojek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večji RRI projek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oljeZBesedilom 16"/>
          <p:cNvSpPr/>
          <p:nvPr/>
        </p:nvSpPr>
        <p:spPr>
          <a:xfrm>
            <a:off x="7796160" y="54021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dpora naložbam - povra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uščica dol 4"/>
          <p:cNvSpPr/>
          <p:nvPr/>
        </p:nvSpPr>
        <p:spPr>
          <a:xfrm>
            <a:off x="3098880" y="2692440"/>
            <a:ext cx="243036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263160" bIns="263160" anchor="ctr">
            <a:noAutofit/>
          </a:bodyPr>
          <a:p>
            <a:pPr algn="ctr">
              <a:lnSpc>
                <a:spcPct val="90000"/>
              </a:lnSpc>
              <a:spcAft>
                <a:spcPts val="1613"/>
              </a:spcAft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oljeZBesedilom 16"/>
          <p:cNvSpPr/>
          <p:nvPr/>
        </p:nvSpPr>
        <p:spPr>
          <a:xfrm>
            <a:off x="2662200" y="1419120"/>
            <a:ext cx="2997360" cy="703800"/>
          </a:xfrm>
          <a:prstGeom prst="rect">
            <a:avLst/>
          </a:prstGeom>
          <a:solidFill>
            <a:srgbClr val="d9d9d9"/>
          </a:solidFill>
          <a:ln cap="rnd"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Boljša izraba in razvoj raziskovalne infrastruk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oljeZBesedilom 17"/>
          <p:cNvSpPr/>
          <p:nvPr/>
        </p:nvSpPr>
        <p:spPr>
          <a:xfrm>
            <a:off x="3924360" y="490680"/>
            <a:ext cx="2879640" cy="916920"/>
          </a:xfrm>
          <a:prstGeom prst="rect">
            <a:avLst/>
          </a:prstGeom>
          <a:solidFill>
            <a:srgbClr val="d9d9d9"/>
          </a:solidFill>
          <a:ln cap="rnd"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omplementarnost z Obzorjem 2020 (teaming, ERC, twin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oljeZBesedilom 18"/>
          <p:cNvSpPr/>
          <p:nvPr/>
        </p:nvSpPr>
        <p:spPr>
          <a:xfrm>
            <a:off x="2662200" y="6481800"/>
            <a:ext cx="6481800" cy="703800"/>
          </a:xfrm>
          <a:prstGeom prst="rect">
            <a:avLst/>
          </a:prstGeom>
          <a:solidFill>
            <a:srgbClr val="d9d9d9"/>
          </a:solidFill>
          <a:ln cap="rnd"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ternacionaliza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154080" y="1149120"/>
            <a:ext cx="809928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raziskovalni potencial raziskovalcev in mednarodna mobilnost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= raziskovalci na začetku kariere 2.0; pritegniti raziskovalce (domače in tuje) iz tuj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znanje in kompetence zaposlenih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sl-SI" sz="1900" spc="-1" strike="noStrike" u="sng">
                <a:solidFill>
                  <a:srgbClr val="000000"/>
                </a:solidFill>
                <a:uFillTx/>
                <a:latin typeface="Calibri"/>
              </a:rPr>
              <a:t>Kompetenčni centri za razvoj kadrov 2.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mlada in ustvarjalna Slovenija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= odkrivanje, spodbujanje in razvoj potenciala mladih in njihovih sposobnosti, spodbujanje podjetnosti in ustvarjalnosti mladih </a:t>
            </a:r>
            <a:r>
              <a:rPr b="0" lang="sl-SI" sz="1900" spc="-1" strike="noStrike" u="sng">
                <a:solidFill>
                  <a:srgbClr val="000000"/>
                </a:solidFill>
                <a:uFillTx/>
                <a:latin typeface="Calibri"/>
              </a:rPr>
              <a:t>po celi vertikali izobraževalnega proces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 u="sng">
                <a:solidFill>
                  <a:srgbClr val="000000"/>
                </a:solidFill>
                <a:uFillTx/>
                <a:latin typeface="Calibri"/>
              </a:rPr>
              <a:t>Karierna platforma za zaposle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grada besedila 1"/>
          <p:cNvSpPr/>
          <p:nvPr/>
        </p:nvSpPr>
        <p:spPr>
          <a:xfrm>
            <a:off x="0" y="-122400"/>
            <a:ext cx="4492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  <a:ea typeface="Arial"/>
              </a:rPr>
              <a:t>SVEŽENJ UKREPO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besedila 1"/>
          <p:cNvSpPr/>
          <p:nvPr/>
        </p:nvSpPr>
        <p:spPr>
          <a:xfrm>
            <a:off x="192240" y="573120"/>
            <a:ext cx="40114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Calibri"/>
                <a:ea typeface="Arial"/>
              </a:rPr>
              <a:t>človeški viri – kadr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Ograda besedila 1"/>
          <p:cNvSpPr/>
          <p:nvPr/>
        </p:nvSpPr>
        <p:spPr>
          <a:xfrm>
            <a:off x="363600" y="3133800"/>
            <a:ext cx="401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Calibri"/>
                <a:ea typeface="Arial"/>
              </a:rPr>
              <a:t>podjetništ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2240" y="3624120"/>
            <a:ext cx="458928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ovonastala podjetja in prenos znanj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spodbujanje rasti in razvoja MS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socialne inovacij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nternacionalizacij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nakokraki trikotnik 7"/>
          <p:cNvSpPr/>
          <p:nvPr/>
        </p:nvSpPr>
        <p:spPr>
          <a:xfrm>
            <a:off x="3719520" y="2963880"/>
            <a:ext cx="5326200" cy="385776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oljeZBesedilom 8"/>
          <p:cNvSpPr/>
          <p:nvPr/>
        </p:nvSpPr>
        <p:spPr>
          <a:xfrm>
            <a:off x="4203720" y="6005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. Podjetniško-inovacijski eko-sistem: HORIZONTALEN PRI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oljeZBesedilom 9"/>
          <p:cNvSpPr/>
          <p:nvPr/>
        </p:nvSpPr>
        <p:spPr>
          <a:xfrm>
            <a:off x="5491080" y="412740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I. Verige in mreže vred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OSREDOTOČA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Dvosmerna navpična puščica 10"/>
          <p:cNvSpPr/>
          <p:nvPr/>
        </p:nvSpPr>
        <p:spPr>
          <a:xfrm>
            <a:off x="5248440" y="5049720"/>
            <a:ext cx="484200" cy="95580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Dvosmerna navpična puščica 11"/>
          <p:cNvSpPr/>
          <p:nvPr/>
        </p:nvSpPr>
        <p:spPr>
          <a:xfrm>
            <a:off x="5846760" y="5049720"/>
            <a:ext cx="484200" cy="95580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Dvosmerna navpična puščica 12"/>
          <p:cNvSpPr/>
          <p:nvPr/>
        </p:nvSpPr>
        <p:spPr>
          <a:xfrm>
            <a:off x="6451560" y="5072040"/>
            <a:ext cx="484200" cy="954000"/>
          </a:xfrm>
          <a:prstGeom prst="upDown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Dvosmerna navpična puščica 13"/>
          <p:cNvSpPr/>
          <p:nvPr/>
        </p:nvSpPr>
        <p:spPr>
          <a:xfrm>
            <a:off x="7081920" y="5049720"/>
            <a:ext cx="484200" cy="95580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282600" y="560520"/>
            <a:ext cx="83678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I kot regionalno R&amp;R vozliš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zelene tehnologije = zeleno vozliš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logistično vozliš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anguard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ndustrial Modernisation Platform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igitalisation and Safety in Tou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EIT KIC‘s &amp; HU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Twin Office 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bilateralna sodelovan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– npr. Bavarska (cluster2cluster → B2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Pilot action on industrial tran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Ograda besedila 1"/>
          <p:cNvSpPr/>
          <p:nvPr/>
        </p:nvSpPr>
        <p:spPr>
          <a:xfrm>
            <a:off x="0" y="-122400"/>
            <a:ext cx="5016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700" spc="-1" strike="noStrike">
                <a:solidFill>
                  <a:srgbClr val="990000"/>
                </a:solidFill>
                <a:latin typeface="Calibri"/>
                <a:ea typeface="Arial"/>
              </a:rPr>
              <a:t>INTERNACIONALIZACIJ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Picture 2" descr="naslovna slika 1"/>
          <p:cNvPicPr/>
          <p:nvPr/>
        </p:nvPicPr>
        <p:blipFill>
          <a:blip r:embed="rId1"/>
          <a:stretch/>
        </p:blipFill>
        <p:spPr>
          <a:xfrm>
            <a:off x="1704960" y="4487760"/>
            <a:ext cx="56466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679320" y="1275840"/>
            <a:ext cx="757584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Ustanovljena Delovna skupina državnih sekretarjev za izvajanje Slovenske strategije pametne specializacije – septemb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Objavljen razpis za podporo SRIP – oktob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Tabela prioritet S4 in pripadajočih prioritetnih področij in tehnologij (v nadaljevanju Tabela prioritet S4) ter delno potrdila akcijske načrte Strateških razvojno-inovacijskih partnerstev (SRIP) – junij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prememba S4 - področje uporabe S4 trajnostni turizem JE upravičeno do sofinanciranja raziskav, razvoja in inovacij iz naslova kohezijskih sredstev – december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premembe akcijskih načrtov Strateških razvojno-inovacijskih partnerstev (SRIP) (Mreže za prehod v krožno gospodarstvo, Trajnostna pridelava hrane, Tovarne prihodnosti, Zdravje-Medicina in Mobilnost) - april 20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grada besedila 1"/>
          <p:cNvSpPr/>
          <p:nvPr/>
        </p:nvSpPr>
        <p:spPr>
          <a:xfrm>
            <a:off x="0" y="-122400"/>
            <a:ext cx="5016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  <a:ea typeface="Arial"/>
              </a:rPr>
              <a:t>MEJN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98B2-94AD-48FE-B905-EB62B9C1F2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oljeZBesedilom 8"/>
          <p:cNvSpPr/>
          <p:nvPr/>
        </p:nvSpPr>
        <p:spPr>
          <a:xfrm>
            <a:off x="5283360" y="3589200"/>
            <a:ext cx="23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gorazd.jenko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3" descr=""/>
          <p:cNvPicPr/>
          <p:nvPr/>
        </p:nvPicPr>
        <p:blipFill>
          <a:blip r:embed="rId1"/>
          <a:stretch/>
        </p:blipFill>
        <p:spPr>
          <a:xfrm>
            <a:off x="-271440" y="-392040"/>
            <a:ext cx="3495600" cy="2293920"/>
          </a:xfrm>
          <a:prstGeom prst="rect">
            <a:avLst/>
          </a:prstGeom>
          <a:ln w="0">
            <a:noFill/>
          </a:ln>
        </p:spPr>
      </p:pic>
      <p:sp>
        <p:nvSpPr>
          <p:cNvPr id="729" name="PoljeZBesedilom 8"/>
          <p:cNvSpPr/>
          <p:nvPr/>
        </p:nvSpPr>
        <p:spPr>
          <a:xfrm>
            <a:off x="4032360" y="202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eter.wostner@gov.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oljeZBesedilom 8"/>
          <p:cNvSpPr/>
          <p:nvPr/>
        </p:nvSpPr>
        <p:spPr>
          <a:xfrm>
            <a:off x="1533600" y="377496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simona.hocevar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oljeZBesedilom 8"/>
          <p:cNvSpPr/>
          <p:nvPr/>
        </p:nvSpPr>
        <p:spPr>
          <a:xfrm>
            <a:off x="5376960" y="2541600"/>
            <a:ext cx="23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marko.hren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oljeZBesedilom 8"/>
          <p:cNvSpPr/>
          <p:nvPr/>
        </p:nvSpPr>
        <p:spPr>
          <a:xfrm>
            <a:off x="2932200" y="2771640"/>
            <a:ext cx="26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0000"/>
                </a:solidFill>
                <a:latin typeface="Calibri"/>
                <a:ea typeface="Arial"/>
              </a:rPr>
              <a:t>ekipa S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oljeZBesedilom 12"/>
          <p:cNvSpPr/>
          <p:nvPr/>
        </p:nvSpPr>
        <p:spPr>
          <a:xfrm>
            <a:off x="1395360" y="242568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ana.cvetko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oljeZBesedilom 1"/>
          <p:cNvSpPr/>
          <p:nvPr/>
        </p:nvSpPr>
        <p:spPr>
          <a:xfrm>
            <a:off x="3706920" y="0"/>
            <a:ext cx="340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  <a:ea typeface="Arial"/>
              </a:rPr>
              <a:t>HVALA ZA VAŠO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Picture 2" descr="naslovna slika 1"/>
          <p:cNvPicPr/>
          <p:nvPr/>
        </p:nvPicPr>
        <p:blipFill>
          <a:blip r:embed="rId2"/>
          <a:stretch/>
        </p:blipFill>
        <p:spPr>
          <a:xfrm>
            <a:off x="1160640" y="4113360"/>
            <a:ext cx="73468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2600" y="290520"/>
            <a:ext cx="7429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990000"/>
                </a:solidFill>
                <a:latin typeface="Calibri"/>
              </a:rPr>
              <a:t>CIL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1717200"/>
            <a:ext cx="777384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Dvig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dodane vrednosti na zaposleneg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 ravni posameznih prednostnih področ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ovečan delež visokotehnološko intenzivnih proizvodov v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izvozu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vig od 22,3% na povprečno raven EU-15 (26,5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ovečan delež izvoza storitev z visokim deležem znanja v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izvozu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d 21,4% na 33%, kar pomeni prepolovitev zaostanka do povprečja E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Dvig celotne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odjetniške aktivnosti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 sedanjih 11% na vsaj raven povprečja EU, tj. 1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*************************************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Ambicija S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na prednostnih področji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od sledilca do </a:t>
            </a:r>
            <a:r>
              <a:rPr b="1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soustvarjalca globalnih trend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B6F7-044C-4D64-A0A0-0C93E6DE20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115920" y="281160"/>
            <a:ext cx="3340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</a:rPr>
              <a:t>KAK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Diagram 1" descr=""/>
          <p:cNvPicPr/>
          <p:nvPr/>
        </p:nvPicPr>
        <p:blipFill>
          <a:blip r:embed="rId1"/>
          <a:stretch/>
        </p:blipFill>
        <p:spPr>
          <a:xfrm>
            <a:off x="195120" y="920880"/>
            <a:ext cx="894888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90000" y="-98280"/>
            <a:ext cx="317196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</a:rPr>
              <a:t>PRIORITE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Diagram 2" descr=""/>
          <p:cNvPicPr/>
          <p:nvPr/>
        </p:nvPicPr>
        <p:blipFill>
          <a:blip r:embed="rId1"/>
          <a:stretch/>
        </p:blipFill>
        <p:spPr>
          <a:xfrm>
            <a:off x="96840" y="274680"/>
            <a:ext cx="8913960" cy="6400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Rezultat iskanja slik za i feel slovenia creative green smart"/>
          <p:cNvPicPr/>
          <p:nvPr/>
        </p:nvPicPr>
        <p:blipFill>
          <a:blip r:embed="rId2"/>
          <a:stretch/>
        </p:blipFill>
        <p:spPr>
          <a:xfrm>
            <a:off x="7224840" y="5511960"/>
            <a:ext cx="1671480" cy="1123920"/>
          </a:xfrm>
          <a:prstGeom prst="rect">
            <a:avLst/>
          </a:prstGeom>
          <a:ln w="0">
            <a:noFill/>
          </a:ln>
        </p:spPr>
      </p:pic>
      <p:sp>
        <p:nvSpPr>
          <p:cNvPr id="656" name="PoljeZBesedilom 7"/>
          <p:cNvSpPr/>
          <p:nvPr/>
        </p:nvSpPr>
        <p:spPr>
          <a:xfrm>
            <a:off x="4862520" y="2928960"/>
            <a:ext cx="48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990000"/>
                </a:solidFill>
                <a:latin typeface="Calibri"/>
                <a:ea typeface="Arial"/>
              </a:rPr>
              <a:t>S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555120" y="2075040"/>
            <a:ext cx="709956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Ograda besedila 1"/>
          <p:cNvSpPr/>
          <p:nvPr/>
        </p:nvSpPr>
        <p:spPr>
          <a:xfrm>
            <a:off x="90360" y="347760"/>
            <a:ext cx="31719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700" spc="-1" strike="noStrike">
                <a:solidFill>
                  <a:srgbClr val="990000"/>
                </a:solidFill>
                <a:latin typeface="Calibri"/>
                <a:ea typeface="Arial"/>
              </a:rPr>
              <a:t>POVEZOVANJ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Diagram 4" descr=""/>
          <p:cNvPicPr/>
          <p:nvPr/>
        </p:nvPicPr>
        <p:blipFill>
          <a:blip r:embed="rId1"/>
          <a:stretch/>
        </p:blipFill>
        <p:spPr>
          <a:xfrm>
            <a:off x="585720" y="1255680"/>
            <a:ext cx="7236000" cy="5200560"/>
          </a:xfrm>
          <a:prstGeom prst="rect">
            <a:avLst/>
          </a:prstGeom>
          <a:ln w="0">
            <a:noFill/>
          </a:ln>
        </p:spPr>
      </p:pic>
      <p:sp>
        <p:nvSpPr>
          <p:cNvPr id="660" name="Elipsa 5"/>
          <p:cNvSpPr/>
          <p:nvPr/>
        </p:nvSpPr>
        <p:spPr>
          <a:xfrm>
            <a:off x="746280" y="5667480"/>
            <a:ext cx="742680" cy="753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lipsa 8"/>
          <p:cNvSpPr/>
          <p:nvPr/>
        </p:nvSpPr>
        <p:spPr>
          <a:xfrm>
            <a:off x="1488960" y="5659560"/>
            <a:ext cx="741600" cy="753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Elipsa 9"/>
          <p:cNvSpPr/>
          <p:nvPr/>
        </p:nvSpPr>
        <p:spPr>
          <a:xfrm>
            <a:off x="2230560" y="5646600"/>
            <a:ext cx="7412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lipsa 10"/>
          <p:cNvSpPr/>
          <p:nvPr/>
        </p:nvSpPr>
        <p:spPr>
          <a:xfrm>
            <a:off x="2986200" y="5646600"/>
            <a:ext cx="7412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lipsa 11"/>
          <p:cNvSpPr/>
          <p:nvPr/>
        </p:nvSpPr>
        <p:spPr>
          <a:xfrm>
            <a:off x="3727440" y="5667480"/>
            <a:ext cx="741240" cy="753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Elipsa 12"/>
          <p:cNvSpPr/>
          <p:nvPr/>
        </p:nvSpPr>
        <p:spPr>
          <a:xfrm>
            <a:off x="4468680" y="5646600"/>
            <a:ext cx="7430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lipsa 13"/>
          <p:cNvSpPr/>
          <p:nvPr/>
        </p:nvSpPr>
        <p:spPr>
          <a:xfrm>
            <a:off x="5211720" y="5646600"/>
            <a:ext cx="7412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lipsa 14"/>
          <p:cNvSpPr/>
          <p:nvPr/>
        </p:nvSpPr>
        <p:spPr>
          <a:xfrm>
            <a:off x="5952960" y="5648400"/>
            <a:ext cx="741600" cy="753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Elipsa 15"/>
          <p:cNvSpPr/>
          <p:nvPr/>
        </p:nvSpPr>
        <p:spPr>
          <a:xfrm>
            <a:off x="6694560" y="5646600"/>
            <a:ext cx="741240" cy="7542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16"/>
          <p:cNvSpPr/>
          <p:nvPr/>
        </p:nvSpPr>
        <p:spPr>
          <a:xfrm>
            <a:off x="830160" y="58561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oljeZBesedilom 17"/>
          <p:cNvSpPr/>
          <p:nvPr/>
        </p:nvSpPr>
        <p:spPr>
          <a:xfrm>
            <a:off x="1557360" y="583884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oljeZBesedilom 18"/>
          <p:cNvSpPr/>
          <p:nvPr/>
        </p:nvSpPr>
        <p:spPr>
          <a:xfrm>
            <a:off x="2313000" y="585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oljeZBesedilom 19"/>
          <p:cNvSpPr/>
          <p:nvPr/>
        </p:nvSpPr>
        <p:spPr>
          <a:xfrm>
            <a:off x="3070080" y="58388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oljeZBesedilom 20"/>
          <p:cNvSpPr/>
          <p:nvPr/>
        </p:nvSpPr>
        <p:spPr>
          <a:xfrm>
            <a:off x="3811680" y="5851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oljeZBesedilom 21"/>
          <p:cNvSpPr/>
          <p:nvPr/>
        </p:nvSpPr>
        <p:spPr>
          <a:xfrm>
            <a:off x="4552920" y="5851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oljeZBesedilom 22"/>
          <p:cNvSpPr/>
          <p:nvPr/>
        </p:nvSpPr>
        <p:spPr>
          <a:xfrm>
            <a:off x="5294160" y="5859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oljeZBesedilom 23"/>
          <p:cNvSpPr/>
          <p:nvPr/>
        </p:nvSpPr>
        <p:spPr>
          <a:xfrm>
            <a:off x="6035760" y="58388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oljeZBesedilom 24"/>
          <p:cNvSpPr/>
          <p:nvPr/>
        </p:nvSpPr>
        <p:spPr>
          <a:xfrm>
            <a:off x="6777000" y="58658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  <a:ea typeface="Arial"/>
              </a:rPr>
              <a:t>S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90000" y="-98280"/>
            <a:ext cx="317196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700" spc="-1" strike="noStrike">
                <a:solidFill>
                  <a:srgbClr val="990000"/>
                </a:solidFill>
                <a:latin typeface="Calibri"/>
              </a:rPr>
              <a:t>POVEZOVANJ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Diagram 4" descr=""/>
          <p:cNvPicPr/>
          <p:nvPr/>
        </p:nvPicPr>
        <p:blipFill>
          <a:blip r:embed="rId1"/>
          <a:stretch/>
        </p:blipFill>
        <p:spPr>
          <a:xfrm>
            <a:off x="171360" y="590400"/>
            <a:ext cx="8972640" cy="6267600"/>
          </a:xfrm>
          <a:prstGeom prst="rect">
            <a:avLst/>
          </a:prstGeom>
          <a:ln w="0">
            <a:noFill/>
          </a:ln>
        </p:spPr>
      </p:pic>
      <p:sp>
        <p:nvSpPr>
          <p:cNvPr id="680" name="PoljeZBesedilom 5"/>
          <p:cNvSpPr/>
          <p:nvPr/>
        </p:nvSpPr>
        <p:spPr>
          <a:xfrm>
            <a:off x="2755800" y="2273400"/>
            <a:ext cx="379260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990000"/>
                </a:solidFill>
                <a:latin typeface="Calibri"/>
                <a:ea typeface="Arial"/>
              </a:rPr>
              <a:t>Strateška razvojno inovacijska partnerst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500" spc="-1" strike="noStrike">
                <a:solidFill>
                  <a:srgbClr val="990000"/>
                </a:solidFill>
                <a:latin typeface="Calibri"/>
                <a:ea typeface="Arial"/>
              </a:rPr>
              <a:t>SRI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dolgoročno partnerstv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pri vzpostavljanju oz. krepitvi SI deležnikov v </a:t>
            </a:r>
            <a:r>
              <a:rPr b="1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verigah vrednosti </a:t>
            </a: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organiziranju </a:t>
            </a:r>
            <a:r>
              <a:rPr b="1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celovite podpore </a:t>
            </a: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raziskovalni in inovacijski dejavnost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s ciljem </a:t>
            </a:r>
            <a:r>
              <a:rPr b="1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prodora na globalne trge </a:t>
            </a:r>
            <a:r>
              <a:rPr b="0" lang="sl-SI" sz="1700" spc="-1" strike="noStrike">
                <a:solidFill>
                  <a:srgbClr val="000000"/>
                </a:solidFill>
                <a:latin typeface="Calibri"/>
                <a:ea typeface="Arial"/>
              </a:rPr>
              <a:t>na prednostnih področjih S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284040" y="803160"/>
            <a:ext cx="7747200" cy="589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Strategija razvoja področja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spremljanje globalnih trendov in novih tehnologij; dolgoročne opredelitve trgov; artikulacija razvojnih in tržnih priložnosti; nadaljnje osredotočanje – vpliv na razvojno politiko 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Spodbujanje skupnega razvoja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povezovanje skupnih RRI iniciativ; osredotočanje raziskovalnih kapacitet, tako javnih kot zasebnih; prenos znan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Internacionalizaci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vključevanje v mednarodna partnerstva – javna in zasebna; skupni nastopi na tujih trgih in skupno trženje; razvoj mednarodnih konzorcijev in poslovnih modelov; čezmejno in transnacionalno sodelovanj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Razvoj človeških vir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kompetenčni centri za razvoj kadrov; izobraževalni sistem = strokovno in poklicno izobraževanje, ustvarjalnost; štipendijska politik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Spodbujanje podjetništva &amp; razvoja skupnih storite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spodbujanje nastajanja novih podjetij, odprto inoviranje; spodbujanje izvirnih zamisli in pristopov; living labs – prototipiranje &amp; iteracija; standardizacija; novi poslovni mod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Calibri"/>
              </a:rPr>
              <a:t>Zastopanje interesov do države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inovativnih in zelenih javnih naročil, gospodarske diplomacije in promocije; izdaje dovoljenj in odprave regulacijskih ovir; prednostna obravnava pri izdaji soglasij za izvedbo naložb; spremembe sektorske zakonodaje in regulacijskega okol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0360" y="-98280"/>
            <a:ext cx="72374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</a:rPr>
              <a:t>Kaj dela SRIP? - FUNKCI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12920" y="777960"/>
            <a:ext cx="651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KONSISTENTNOST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skozi tehnološko-razvoje stopnje – TRL; skozi čas; glede na velikost projekt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TRATEŠKI PRISTOP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rioritete, trajnost/dolgoroč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KONVERGENCA TEHNOLOGIJ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obstoječe in prihajajoče industr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OPOLNJE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PRILAGOJEN ODZ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CELOVIT PRIST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-122760"/>
            <a:ext cx="44928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</a:rPr>
              <a:t>SVEŽENJ UKREPO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oljeZBesedilom 4"/>
          <p:cNvSpPr/>
          <p:nvPr/>
        </p:nvSpPr>
        <p:spPr>
          <a:xfrm>
            <a:off x="4213080" y="4525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NAČELA S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rcRect l="27433" t="25382" r="26553" b="20789"/>
          <a:stretch/>
        </p:blipFill>
        <p:spPr>
          <a:xfrm>
            <a:off x="2992320" y="2570040"/>
            <a:ext cx="60008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1681200" y="423720"/>
            <a:ext cx="631512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alibri"/>
              </a:rPr>
              <a:t>= celovit, prilagojen in usklajen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… </a:t>
            </a:r>
            <a:r>
              <a:rPr b="1" lang="sl-SI" sz="2300" spc="-1" strike="noStrike">
                <a:solidFill>
                  <a:srgbClr val="000000"/>
                </a:solidFill>
                <a:latin typeface="Calibri"/>
              </a:rPr>
              <a:t>razvojna država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besedila 1"/>
          <p:cNvSpPr/>
          <p:nvPr/>
        </p:nvSpPr>
        <p:spPr>
          <a:xfrm>
            <a:off x="0" y="-122400"/>
            <a:ext cx="4492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0000"/>
                </a:solidFill>
                <a:latin typeface="Calibri"/>
                <a:ea typeface="Arial"/>
              </a:rPr>
              <a:t>SVEŽENJ UKREPO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oljeZBesedilom 7"/>
          <p:cNvSpPr/>
          <p:nvPr/>
        </p:nvSpPr>
        <p:spPr>
          <a:xfrm>
            <a:off x="271440" y="816120"/>
            <a:ext cx="797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efinančni ukrepi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ovativna in zelena javna naroči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zdaja dovoljenj in odprava regulacijskih ov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gospodarska diplomacija in promo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davčne olajš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činkovito pravosod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finančni ukrepi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3200400" y="2276640"/>
          <a:ext cx="5857920" cy="4389120"/>
        </p:xfrm>
        <a:graphic>
          <a:graphicData uri="http://schemas.openxmlformats.org/drawingml/2006/table">
            <a:tbl>
              <a:tblPr/>
              <a:tblGrid>
                <a:gridCol w="1655640"/>
                <a:gridCol w="668520"/>
                <a:gridCol w="1309680"/>
                <a:gridCol w="1297080"/>
                <a:gridCol w="927000"/>
              </a:tblGrid>
              <a:tr h="5482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2016-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prečno le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ž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5.483.5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.827.8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2014-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.957.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319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lna sredst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.526.5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508.8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jetništ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7.923.1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974.3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2014-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.923.1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.974.3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lna sredst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.000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000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loveški vi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234.4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744.8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9.641.2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.547.0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6.353.8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117.9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.667.9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.555.9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.451.4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489.8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.167.9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389.3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Simona Hočevar</cp:lastModifiedBy>
  <cp:lastPrinted>2018-05-24T10:01:14Z</cp:lastPrinted>
  <dcterms:modified xsi:type="dcterms:W3CDTF">2018-05-25T08:08:05Z</dcterms:modified>
  <cp:revision>362</cp:revision>
  <dc:subject/>
  <dc:title>PowerPoint Presentation</dc:title>
</cp:coreProperties>
</file>