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dt" idx="4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ftr" idx="5"/>
          </p:nvPr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 type="sldNum" idx="6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D275C-CBA6-4FC1-B73C-C6527411D167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Ograda številke diapozitiva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EEE33-BBBD-405B-A53E-8DB09D1E6004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Ograda številke diapozitiva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DF07E-0E0D-4CC5-83F5-A0FE71FCF88C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Ograda številke diapozitiva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DD84D-7A81-4004-BCAF-017D9FCAC449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Ograda številke diapozitiva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B230A-3289-4051-920D-0FBA87284984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0A4E-6B32-4988-A740-317CFBEE5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0A70-FC9B-4DCA-BE92-B9695EFD7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D98F-19CC-4EEF-9A84-820C2EAC8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DBE5-191A-4986-9F7C-0B12575FB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9077-4781-4E6C-B69B-6BA35311E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746D-1F5F-4D4C-B014-402864672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A25A-4CDA-4D56-B25E-4425B8910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34D1-D369-4756-BDD5-66AE91D57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E28A-8632-4196-9E98-5FC938606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AEEE-D07C-4A79-B2BB-F48AC720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986B-94D7-47BC-BFC4-7E99B574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4CB3-7C34-40C3-8753-C9991E1D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4399B-AF35-48A5-AA04-63E19E2D1F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938160" y="0"/>
            <a:ext cx="784080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70c0"/>
                </a:solidFill>
                <a:latin typeface="Calibri"/>
                <a:ea typeface="Arial"/>
              </a:rPr>
              <a:t>MAKROREGIONALNE STRATEGIJE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TextBox 1"/>
          <p:cNvSpPr/>
          <p:nvPr/>
        </p:nvSpPr>
        <p:spPr>
          <a:xfrm>
            <a:off x="182520" y="1817640"/>
            <a:ext cx="71690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70c0"/>
                </a:solidFill>
                <a:latin typeface="Calibri"/>
              </a:rPr>
              <a:t>5. Redna seja OzS, </a:t>
            </a: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Čatež, 25. maj 201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Picture 4" descr=""/>
          <p:cNvPicPr/>
          <p:nvPr/>
        </p:nvPicPr>
        <p:blipFill>
          <a:blip r:embed="rId1"/>
          <a:stretch/>
        </p:blipFill>
        <p:spPr>
          <a:xfrm>
            <a:off x="7142040" y="5397480"/>
            <a:ext cx="1832040" cy="1414440"/>
          </a:xfrm>
          <a:prstGeom prst="rect">
            <a:avLst/>
          </a:prstGeom>
          <a:ln w="0">
            <a:noFill/>
          </a:ln>
        </p:spPr>
      </p:pic>
      <p:sp>
        <p:nvSpPr>
          <p:cNvPr id="573" name="TextBox 1"/>
          <p:cNvSpPr/>
          <p:nvPr/>
        </p:nvSpPr>
        <p:spPr>
          <a:xfrm>
            <a:off x="1487520" y="355680"/>
            <a:ext cx="552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70c0"/>
                </a:solidFill>
                <a:latin typeface="Calibri"/>
              </a:rPr>
              <a:t>PREGL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TextBox 2"/>
          <p:cNvSpPr/>
          <p:nvPr/>
        </p:nvSpPr>
        <p:spPr>
          <a:xfrm>
            <a:off x="601560" y="1333440"/>
            <a:ext cx="7932960" cy="52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Nacionalna koordinacija MZZ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V treh od štiri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  <a:ea typeface="Arial"/>
              </a:rPr>
              <a:t>Strategija za alpsko regij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  <a:ea typeface="Arial"/>
              </a:rPr>
              <a:t>Strategija EU za jadransko-jonsko regij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  <a:ea typeface="Arial"/>
              </a:rPr>
              <a:t>Strategija EU za Podonavsko regij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Nacionalna in mednarodna upr. struktu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4" descr=""/>
          <p:cNvPicPr/>
          <p:nvPr/>
        </p:nvPicPr>
        <p:blipFill>
          <a:blip r:embed="rId1"/>
          <a:stretch/>
        </p:blipFill>
        <p:spPr>
          <a:xfrm>
            <a:off x="7278840" y="5397480"/>
            <a:ext cx="1831680" cy="1414440"/>
          </a:xfrm>
          <a:prstGeom prst="rect">
            <a:avLst/>
          </a:prstGeom>
          <a:ln w="0">
            <a:noFill/>
          </a:ln>
        </p:spPr>
      </p:pic>
      <p:sp>
        <p:nvSpPr>
          <p:cNvPr id="576" name="TextBox 1"/>
          <p:cNvSpPr/>
          <p:nvPr/>
        </p:nvSpPr>
        <p:spPr>
          <a:xfrm>
            <a:off x="1620720" y="287280"/>
            <a:ext cx="552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70c0"/>
                </a:solidFill>
                <a:latin typeface="Calibri"/>
              </a:rPr>
              <a:t>AKTIVNOS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TextBox 2"/>
          <p:cNvSpPr/>
          <p:nvPr/>
        </p:nvSpPr>
        <p:spPr>
          <a:xfrm>
            <a:off x="601560" y="1333440"/>
            <a:ext cx="7120080" cy="52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Calibri"/>
              </a:rPr>
              <a:t>zagotavljanje sinergij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Calibri"/>
              </a:rPr>
              <a:t>Skupni horizontalni steber za vse 4 MRS -  "mediji in komuniciranje„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Calibri"/>
                <a:ea typeface="Arial"/>
              </a:rPr>
              <a:t>Izdelava stanja na področju komunikacijskih strategij + road map – Konferenca 09.2017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Picture 4" descr=""/>
          <p:cNvPicPr/>
          <p:nvPr/>
        </p:nvPicPr>
        <p:blipFill>
          <a:blip r:embed="rId1"/>
          <a:stretch/>
        </p:blipFill>
        <p:spPr>
          <a:xfrm>
            <a:off x="7142040" y="5397480"/>
            <a:ext cx="1832040" cy="1414440"/>
          </a:xfrm>
          <a:prstGeom prst="rect">
            <a:avLst/>
          </a:prstGeom>
          <a:ln w="0">
            <a:noFill/>
          </a:ln>
        </p:spPr>
      </p:pic>
      <p:sp>
        <p:nvSpPr>
          <p:cNvPr id="579" name="TextBox 1"/>
          <p:cNvSpPr/>
          <p:nvPr/>
        </p:nvSpPr>
        <p:spPr>
          <a:xfrm>
            <a:off x="1638360" y="236520"/>
            <a:ext cx="643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70c0"/>
                </a:solidFill>
                <a:latin typeface="Calibri"/>
              </a:rPr>
              <a:t>FINANCIRANJE – EKP C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TextBox 2"/>
          <p:cNvSpPr/>
          <p:nvPr/>
        </p:nvSpPr>
        <p:spPr>
          <a:xfrm>
            <a:off x="754200" y="1959120"/>
            <a:ext cx="654336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Calibri"/>
              </a:rPr>
              <a:t>3x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Calibri"/>
              </a:rPr>
              <a:t>Letno poročilo za 2017 – 22 projektov – 340 M€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Janika Gregorič Zečevič</cp:lastModifiedBy>
  <cp:lastPrinted>2017-06-09T13:25:46Z</cp:lastPrinted>
  <dcterms:modified xsi:type="dcterms:W3CDTF">2018-05-28T06:47:05Z</dcterms:modified>
  <cp:revision>187</cp:revision>
  <dc:subject/>
  <dc:title>PowerPoint Presentation</dc:title>
</cp:coreProperties>
</file>